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18.wmf" ContentType="image/x-wmf"/>
  <Override PartName="/ppt/media/image5.jpeg" ContentType="image/jpeg"/>
  <Override PartName="/ppt/media/image19.jpeg" ContentType="image/jpeg"/>
  <Override PartName="/ppt/media/image6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78DF-7E67-4EF0-999B-28AF47A6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544-34DC-495A-B97B-55A6F9C1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129-5E72-4EC5-840B-3601371D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FC4-2980-48A2-B6BA-7FC4EECD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3C9B-E570-41F5-A295-26886C7F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6392-CD02-45B9-B233-035D11DE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4AAF-F00B-4F61-B831-73238476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C7F5-7479-4B3D-B1C3-B12BA36C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0A53-7DBF-4EA4-BFBB-1379C77C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D39F-FE83-4BF9-92CB-7DEE232A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E976-C784-4B2D-849C-E1984DA2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794B-C45B-4CFB-90AC-808B116B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0CBB-B773-4D4F-B2F0-925B7165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C5D8-24E4-498D-91AA-2A6700F8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8EEB-F5A3-44EF-A633-08B9F80E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677B-F9D1-460F-8266-1F070C40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759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55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1600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759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355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1891-E76E-4857-8987-5F88D096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55FA-D55C-4DBE-B975-28D0107C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A81E-C4AE-466E-A4F3-D0625AE6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34B-1939-4F1C-846C-9CDAAD66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67D-05AF-4409-BFD8-650953B2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BD6-0124-466E-945D-066CDBCB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4D6-48DB-46EF-8E41-BA0DF4E5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27B-8EAB-48CA-AFD6-202F092E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716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0800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BCD3-1099-4355-924B-0462C8CD8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178F-1B06-4385-8510-A94193A3A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84360" y="2130480"/>
            <a:ext cx="5832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4120" y="533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6172200"/>
            <a:ext cx="8686800" cy="182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46280" y="1690560"/>
            <a:ext cx="7864200" cy="397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87480" y="115236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836640"/>
            <a:ext cx="748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IUMI Inland Hull, Fishing Vessels and Yachting Committee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3429000"/>
            <a:ext cx="511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hairman’s report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obert Galla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70360" y="575136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ptember 13-15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Yachts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– Minimal rate increases to rate maintenance.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81080" y="549360"/>
            <a:ext cx="164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979640" y="1413000"/>
          <a:ext cx="5761080" cy="3433680"/>
        </p:xfrm>
        <a:graphic>
          <a:graphicData uri="http://schemas.openxmlformats.org/drawingml/2006/table">
            <a:tbl>
              <a:tblPr/>
              <a:tblGrid>
                <a:gridCol w="2003400"/>
                <a:gridCol w="1419120"/>
                <a:gridCol w="1252800"/>
                <a:gridCol w="1085760"/>
              </a:tblGrid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Premi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x $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Claim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x $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Claim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Ratio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76,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48,1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6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32,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22,0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6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Nether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6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56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8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62,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39,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6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Portu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6,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6,7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1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Slov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1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1,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1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236,8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132,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5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482,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305,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6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494520" y="333360"/>
            <a:ext cx="27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2003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Yacht Losses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04920" y="1600200"/>
            <a:ext cx="3530520" cy="4708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780000" y="2708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65560" y="1600200"/>
            <a:ext cx="35308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Yacht Losses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9138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Aggregations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5898"/>
          <a:stretch/>
        </p:blipFill>
        <p:spPr>
          <a:xfrm>
            <a:off x="1116000" y="1268280"/>
            <a:ext cx="7777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Hurricane Losses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12880" y="1897200"/>
            <a:ext cx="637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Hurricane Losses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92360" y="1809720"/>
            <a:ext cx="64087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Hurricane Losses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08000" y="1996920"/>
            <a:ext cx="583272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Hurricane Losses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9186" r="0" b="0"/>
          <a:stretch/>
        </p:blipFill>
        <p:spPr>
          <a:xfrm>
            <a:off x="1619280" y="1135080"/>
            <a:ext cx="655308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6201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55f9"/>
                </a:solidFill>
                <a:latin typeface="Arial"/>
              </a:rPr>
              <a:t>Sustaining Profitability</a:t>
            </a:r>
            <a:endParaRPr b="0" lang="en-US" sz="36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Underwriting innov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utom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cruitmen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anaging underwriting cycl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345680" y="1628280"/>
            <a:ext cx="77979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Omar Bourhabi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orocco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Paolo Cerni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Vianney de Chalus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Robert Gallagher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  Chairman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Sven Gerhar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Eric Heymans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Harry Mulder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  Vice Chairman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etherlands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Geoffrey Parkinson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UK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Joaquim Simplicio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ortugal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Harald Teig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rway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6560" y="333360"/>
            <a:ext cx="67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Composition of Commit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24 members replied to the questionnair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36920" y="463680"/>
            <a:ext cx="50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Questionnaire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116000" y="2060640"/>
          <a:ext cx="7632720" cy="2176560"/>
        </p:xfrm>
        <a:graphic>
          <a:graphicData uri="http://schemas.openxmlformats.org/drawingml/2006/table">
            <a:tbl>
              <a:tblPr/>
              <a:tblGrid>
                <a:gridCol w="922320"/>
                <a:gridCol w="735120"/>
                <a:gridCol w="792000"/>
                <a:gridCol w="792360"/>
                <a:gridCol w="792000"/>
                <a:gridCol w="790560"/>
                <a:gridCol w="792360"/>
                <a:gridCol w="649080"/>
                <a:gridCol w="719280"/>
                <a:gridCol w="647640"/>
              </a:tblGrid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remiums x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laims x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laim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roc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2,6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3,8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,3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1,4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8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4,6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8,0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7,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4,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6,9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0,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6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4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8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ortu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,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,7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,5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,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6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lov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7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976400" y="620640"/>
            <a:ext cx="621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Fishing Vessel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16000" y="1341360"/>
            <a:ext cx="80280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yprus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No cases reported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France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8 by TL, 12 by acciden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orocco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70 by TL, 201 by acciden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Norway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7 due to drowning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ortugal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3 by acciden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outh Africa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L of vessel - 2001 – 22 , 2002 – 49 , 2003 – 55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ccidents – 2001 – 4 , 2002 – 8 , 2003 – 12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USA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explosion led to three lost live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ne crew member pulled overboard after tangled in 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fishing gear.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9840" y="333360"/>
            <a:ext cx="574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Fishing Vessel De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Yacht Demographics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252360" y="1916280"/>
            <a:ext cx="1087272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632720" cy="6191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7280" y="24919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555f9"/>
                </a:solidFill>
                <a:latin typeface="Arial"/>
              </a:rPr>
              <a:t>Rates</a:t>
            </a:r>
            <a:endParaRPr b="0" lang="en-US" sz="6000" spc="-1" strike="noStrike">
              <a:solidFill>
                <a:srgbClr val="5555f9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059280" y="1773360"/>
            <a:ext cx="3217680" cy="4321080"/>
            <a:chOff x="3059280" y="1773360"/>
            <a:chExt cx="3217680" cy="4321080"/>
          </a:xfrm>
        </p:grpSpPr>
        <p:grpSp>
          <p:nvGrpSpPr>
            <p:cNvPr id="95" name=""/>
            <p:cNvGrpSpPr/>
            <p:nvPr/>
          </p:nvGrpSpPr>
          <p:grpSpPr>
            <a:xfrm>
              <a:off x="3059280" y="1773360"/>
              <a:ext cx="3217680" cy="4321080"/>
              <a:chOff x="3059280" y="1773360"/>
              <a:chExt cx="3217680" cy="43210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3059280" y="1773360"/>
                <a:ext cx="3217680" cy="4321080"/>
                <a:chOff x="3059280" y="1773360"/>
                <a:chExt cx="3217680" cy="4321080"/>
              </a:xfrm>
            </p:grpSpPr>
            <p:pic>
              <p:nvPicPr>
                <p:cNvPr id="9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59280" y="1773360"/>
                  <a:ext cx="3217680" cy="43210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" name=""/>
                <p:cNvGrpSpPr/>
                <p:nvPr/>
              </p:nvGrpSpPr>
              <p:grpSpPr>
                <a:xfrm>
                  <a:off x="3276720" y="4076640"/>
                  <a:ext cx="2900160" cy="520560"/>
                  <a:chOff x="3276720" y="4076640"/>
                  <a:chExt cx="2900160" cy="5205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3276720" y="4076640"/>
                    <a:ext cx="2808360" cy="503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276720" y="4076640"/>
                    <a:ext cx="2900160" cy="52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Falling Rates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1" name=""/>
              <p:cNvSpPr/>
              <p:nvPr/>
            </p:nvSpPr>
            <p:spPr>
              <a:xfrm>
                <a:off x="3203640" y="4581360"/>
                <a:ext cx="2952720" cy="115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3142080" y="4797360"/>
              <a:ext cx="305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 not go beyond this point !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5640" y="522360"/>
            <a:ext cx="28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Inland Hu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985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land Hull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– Midsized accounts – flat renewals to slight increase. Large accounts – rate relief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6720" y="765000"/>
            <a:ext cx="164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Inland Hull Results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2133720"/>
          <a:ext cx="8418600" cy="244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133720"/>
                    <a:ext cx="841860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04840" y="528480"/>
            <a:ext cx="478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55f9"/>
                </a:solidFill>
                <a:latin typeface="Arial"/>
              </a:rPr>
              <a:t>Fishing Vesse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3612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shing Vessels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– Price increase    5% – 10%. Mainly due to shrinkage in capacity, and poor loss records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1080" y="620640"/>
            <a:ext cx="164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52000" y="62064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Yac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5041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9:35:30Z</dcterms:created>
  <dc:creator>EventCo</dc:creator>
  <dc:description/>
  <dc:language>en-US</dc:language>
  <cp:lastModifiedBy>Administrator</cp:lastModifiedBy>
  <dcterms:modified xsi:type="dcterms:W3CDTF">2004-09-11T08:13:00Z</dcterms:modified>
  <cp:revision>28</cp:revision>
  <dc:subject/>
  <dc:title>Speaker’s Name Speaker’s Topic 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4346873</vt:r8>
  </property>
  <property fmtid="{D5CDD505-2E9C-101B-9397-08002B2CF9AE}" pid="3" name="_AuthorEmail">
    <vt:lpwstr>ggutchigian@imu.com</vt:lpwstr>
  </property>
  <property fmtid="{D5CDD505-2E9C-101B-9397-08002B2CF9AE}" pid="4" name="_AuthorEmailDisplayName">
    <vt:lpwstr>Gutchigian, Gregory M.</vt:lpwstr>
  </property>
  <property fmtid="{D5CDD505-2E9C-101B-9397-08002B2CF9AE}" pid="5" name="_EmailSubject">
    <vt:lpwstr>Bob Gallagher IUMI 2004 PowerPoint presentation</vt:lpwstr>
  </property>
</Properties>
</file>