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00A-12A2-45E8-82B2-2B08C079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AF5-DF80-4DB5-9B94-0605B185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B49-27C5-449F-99EC-906F1BF5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0AC-6B63-4D30-AF01-9B66FB2B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4A1A-75C6-410D-8DAF-28BEE188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2C38-F89B-4292-B44A-E975CAF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9B1B-A06A-4697-B28C-B9200C0E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621-BB37-49C7-B871-BD61602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7720-1431-4C1E-A17D-BC50B3F1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A3BE-7E49-487F-AB04-FD2A0356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F0B4-F7B4-4773-AEC1-13EF080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9F4-4F4B-469B-BCD9-D5CF23F1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01B0-C57C-4248-B8AE-A64BA69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0415-F9DA-4819-92E5-ACF272D1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FB9D-8906-4D55-9CB4-3521474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1670-22D5-42DB-B03F-6E4BC636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5279-1962-4313-922D-6E14B16E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8D3-02EB-42E5-A208-277328DB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45C-9A80-43E8-B160-9C940703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FE7-CF12-4D77-B5EB-F03658A9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491-C723-4554-94AA-E93B4161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523-2658-4DDC-8C6A-274B921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B76-F4FC-4B8D-8CEB-2345BC45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E07-1B61-493A-B308-2BC426F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F1D2-6074-496A-B270-6DC6CA028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FC1E-834D-425A-951D-2F968F0CA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11280" y="2205000"/>
            <a:ext cx="5905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irman's Repo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rjo Pöyhö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54936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476280"/>
            <a:ext cx="63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Carriers' Regul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354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IUMI's website since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countries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updated yearly through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 Kurt Günthart - contact details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MI website - please jo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609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7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tion of the Committ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570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Bu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eric Denéf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Garger, Vice-Chairm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U.S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t Günt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hei Hashis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no Kneef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mbe Ovio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ig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rjo Pöyhönen, Chair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ordic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mo Spado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in Sprott, Stephen Ba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Lloyd's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ambur Srinivas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akon Stang L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623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ange of the Committee na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ility - Legal and Liability Committ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mandate - International legal initiatives and Marine Liability Insurance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5805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national legal initia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5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ITRAL/CMI Draft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Average Re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ort of the Legal and Liability Committee 200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609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CITRAL/CMI Draft Instrument for the Carriage of Goods by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93320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s of the UNCITRAL Transport Law Working Group in October 2003 and in May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inal decisions yet b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sus on certain cor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623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CITRAL/CMI Draft Instrument for the Carriage of Goods by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or-to-door transpor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iability based on to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aworthiness obligation ex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rror in navigation exclusion del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ire exclusion kep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tice of loss time 7 d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623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CITRAL/CMI Draft Instrument for the Carriage of Goods by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920" y="193320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of the UNCITRAL Transport Law Working Group in November-Decemb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finalised b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623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verage Re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MI Vancouver Conference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rk-Antwerp Rule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 Matthew Marshall's statistics up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gal and Liability Open for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General Average on Tuesday 14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609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5708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verage - The Fu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York Antwerp Rules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50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the Scene by Mr Ben Brow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ncouver Confere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r Bent Nie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by Mr Matthew Mar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Cargo and Hull Insurance by Mr Nicholas G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59500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 Open Forum, Tuesday 14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80740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egal and Liability Committee Questionnaire 200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50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Mr Massimo Spad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8972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Legal and Liability Committee pre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Administrator</cp:lastModifiedBy>
  <dcterms:modified xsi:type="dcterms:W3CDTF">2004-09-12T06:27:33Z</dcterms:modified>
  <cp:revision>25</cp:revision>
  <dc:subject/>
  <dc:title>Speaker’s Name Speaker’s Topic 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0465036</vt:r8>
  </property>
  <property fmtid="{D5CDD505-2E9C-101B-9397-08002B2CF9AE}" pid="3" name="_AuthorEmail">
    <vt:lpwstr>pirjo.poyhonen@if.fi</vt:lpwstr>
  </property>
  <property fmtid="{D5CDD505-2E9C-101B-9397-08002B2CF9AE}" pid="4" name="_AuthorEmailDisplayName">
    <vt:lpwstr>Pöyhönen Pirjo</vt:lpwstr>
  </property>
  <property fmtid="{D5CDD505-2E9C-101B-9397-08002B2CF9AE}" pid="5" name="_EmailSubject">
    <vt:lpwstr>Presentation of the IUMI Legal and Liability Committee at the Singapore Conference</vt:lpwstr>
  </property>
</Properties>
</file>