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5.wmf" ContentType="image/x-wmf"/>
  <Override PartName="/ppt/media/image15.jpeg" ContentType="image/jpeg"/>
  <Override PartName="/ppt/media/image23.jpeg" ContentType="image/jpeg"/>
  <Override PartName="/ppt/media/image10.wmf" ContentType="image/x-wmf"/>
  <Override PartName="/ppt/media/image2.png" ContentType="image/png"/>
  <Override PartName="/ppt/media/image19.jpeg" ContentType="image/jpeg"/>
  <Override PartName="/ppt/media/image3.png" ContentType="image/png"/>
  <Override PartName="/ppt/media/image11.wmf" ContentType="image/x-wmf"/>
  <Override PartName="/ppt/media/image26.png" ContentType="image/png"/>
  <Override PartName="/ppt/media/image9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28.wmf" ContentType="image/x-wmf"/>
  <Override PartName="/ppt/media/image8.wmf" ContentType="image/x-wmf"/>
  <Override PartName="/ppt/media/image13.png" ContentType="image/png"/>
  <Override PartName="/ppt/media/image33.wmf" ContentType="image/x-wmf"/>
  <Override PartName="/ppt/media/image31.wmf" ContentType="image/x-wmf"/>
  <Override PartName="/ppt/media/image7.jpeg" ContentType="image/jpeg"/>
  <Override PartName="/ppt/media/image6.png" ContentType="image/png"/>
  <Override PartName="/ppt/media/image29.png" ContentType="image/png"/>
  <Override PartName="/ppt/media/image32.wmf" ContentType="image/x-wmf"/>
  <Override PartName="/ppt/media/image22.wmf" ContentType="image/x-wmf"/>
  <Override PartName="/ppt/media/image20.jpeg" ContentType="image/jpeg"/>
  <Override PartName="/ppt/media/image34.wmf" ContentType="image/x-wmf"/>
  <Override PartName="/ppt/media/image4.wmf" ContentType="image/x-wmf"/>
  <Override PartName="/ppt/media/image1.png" ContentType="image/png"/>
  <Override PartName="/ppt/media/image14.jpeg" ContentType="image/jpeg"/>
  <Override PartName="/ppt/media/image5.wmf" ContentType="image/x-wmf"/>
  <Override PartName="/ppt/media/image16.jpeg" ContentType="image/jpeg"/>
  <Override PartName="/ppt/media/image17.png" ContentType="image/png"/>
  <Override PartName="/ppt/media/image18.jpeg" ContentType="image/jpeg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272-D212-4104-AE09-C2DEDF27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E7A-30B1-416F-8EFE-7D359E9E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343-90F2-4AE4-A275-57B64F90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88B-9845-4D1D-B013-682EAAE2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FF26-25A2-487C-BA49-3FEBE402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255B-B525-467F-AC92-CC26CCBF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F070-A761-4CEC-A344-B07EA3D9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C65E-4B0F-4B09-B001-FCD1595E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A32F-7A5E-4B5B-905A-2CDF35A9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6BD4-3067-42DD-8296-B487B721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FD5C-9D73-422B-BC71-0300DC15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DEB-9137-45C0-9DF6-7C2C14C1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F06F-FCC2-4F18-AEBF-A5A0B00A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E9A4-D583-45F5-8540-F9C7167E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707B-350E-4520-89A3-DFEF2A96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47B4-F011-4F40-899F-6189C39D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15B4-5418-4D41-B88F-44C46806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5C2-BE45-4847-A35E-9F70C9F4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577-0A66-49D1-B742-A1001A8C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2F5-22AB-40C8-B95F-0078568D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4FC-60AF-4563-BA34-D1492ADF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C33-7B4A-41AA-97D1-B8E80F30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AD2-5799-45BB-B0C7-AE1930C7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147-27F9-4B71-A3FD-2C344CB4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71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800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B672-6DA3-42E8-9D93-986FF826996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7277-FA21-4E63-948E-EB1E043CE4C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4360" y="2130480"/>
            <a:ext cx="5832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11280" y="2205000"/>
            <a:ext cx="5905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vestock Exports - The Australian Experience</a:t>
            </a:r>
            <a:br>
              <a:rPr sz="36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il Gri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2076480"/>
            <a:ext cx="6858000" cy="409572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13" descr=""/>
          <p:cNvPicPr/>
          <p:nvPr/>
        </p:nvPicPr>
        <p:blipFill>
          <a:blip r:embed="rId2"/>
          <a:srcRect l="6394" t="0" r="12792" b="0"/>
          <a:stretch/>
        </p:blipFill>
        <p:spPr>
          <a:xfrm>
            <a:off x="1371600" y="1371600"/>
            <a:ext cx="7238880" cy="5149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stock Mortality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7400" y="1600200"/>
            <a:ext cx="757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taken to improve mortality 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71440" y="2812320"/>
            <a:ext cx="7363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man training and accredit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ion of livestock vessels by AM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yage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risk manage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04040" y="3962520"/>
            <a:ext cx="1382760" cy="2438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039560" y="527292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incidents continue t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welfare lobbyists want to ban live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publicised incidents kept in public ey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2100240" y="3505320"/>
            <a:ext cx="5657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1928880"/>
            <a:ext cx="6934320" cy="3252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95280" y="5569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996 - “Uniceb” caught fire and sank in Indian Ocean. 67,000 sheep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51" descr=""/>
          <p:cNvPicPr/>
          <p:nvPr/>
        </p:nvPicPr>
        <p:blipFill>
          <a:blip r:embed="rId1"/>
          <a:stretch/>
        </p:blipFill>
        <p:spPr>
          <a:xfrm>
            <a:off x="1390680" y="1943280"/>
            <a:ext cx="7143840" cy="3390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95280" y="56833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6 - “Guernsey Express” sank en route to Japan. 1,592 cattle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243480" cy="3106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219320" y="54356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999 - “Temburong” loss of power causing ventilation failure en route to Indonesia. 829 cattle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04760" y="57520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002 - “Becrux” 880 cattle died en route to Middle Ea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1892160" y="14968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17000" y="3885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os Ta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2240" y="59425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os Ind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"/>
          <p:cNvPicPr/>
          <p:nvPr/>
        </p:nvPicPr>
        <p:blipFill>
          <a:blip r:embed="rId1"/>
          <a:stretch/>
        </p:blipFill>
        <p:spPr>
          <a:xfrm>
            <a:off x="4938840" y="32767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"/>
          <p:cNvPicPr/>
          <p:nvPr/>
        </p:nvPicPr>
        <p:blipFill>
          <a:blip r:embed="rId2"/>
          <a:stretch/>
        </p:blipFill>
        <p:spPr>
          <a:xfrm>
            <a:off x="1163520" y="1295280"/>
            <a:ext cx="36576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2002 - Australian Government banned expor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s taur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ttle sourced from southern Australia until after 31st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16200" y="2857680"/>
            <a:ext cx="3711600" cy="3543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57400" y="4648320"/>
            <a:ext cx="556272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819520" y="4687920"/>
            <a:ext cx="38098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029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029680" y="5302440"/>
            <a:ext cx="585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rmo Express” sheep on board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y destination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stock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4343400" cy="288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26440" y="1904040"/>
            <a:ext cx="35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72960" indent="-372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7,000 sheep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36160" y="2665800"/>
            <a:ext cx="75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72960" indent="-372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ising sheep” made headlines for wrong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2258640"/>
            <a:ext cx="71913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nimals leave Australia - no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sheep back was absolute last res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country s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029360" y="4495680"/>
            <a:ext cx="1352520" cy="1562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973840" y="4818240"/>
            <a:ext cx="1646280" cy="1734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500720" y="4343400"/>
            <a:ext cx="1595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6000" y="1295280"/>
            <a:ext cx="75708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s following “Cormo Express” in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olely responsible for legislation for granting export lic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licences and permits linked with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party vets responsible to AQIS in performance of du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fied vet on board all livestock ships where journey exceeds 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6000" y="1523520"/>
            <a:ext cx="757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6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ation of industry investment in research and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7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antine facility in Middle East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8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response system to manage any future export emerg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2160" y="5091120"/>
            <a:ext cx="800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has accepted these recommend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3805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stock exports and marine in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6000" y="169200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minor incident can have dramatic and expensive consequ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ualties which result in prolongation of the voyage may result in higher than normal death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devastating for any cargo vessel, more so for livestock. No lifeboats for livest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2362320" y="4091040"/>
            <a:ext cx="4967280" cy="2359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95480" y="4253040"/>
            <a:ext cx="4038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6000" y="3567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stock exports and marine in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15840" y="1600200"/>
            <a:ext cx="4522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al cover provi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eath of live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7360" y="2894760"/>
            <a:ext cx="68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warranties and ex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3458520"/>
            <a:ext cx="7580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729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ustralian accredited stockman accompanies each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29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clude loss from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29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1371600" cy="1041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05560" y="4910760"/>
            <a:ext cx="58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72960" indent="-37296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de loss due to parturient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3362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stock exports and marine in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62160" y="2133360"/>
            <a:ext cx="4800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etus cl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shipment retest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serk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7880" y="159948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s to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1351080" y="2151000"/>
            <a:ext cx="2458800" cy="1798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923200" y="419040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 may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5600" y="4586400"/>
            <a:ext cx="54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72960" indent="-372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ransits to port of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 to final destination/quaran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9240" y="569916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be aware of precise transit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of trade is in the hands of the exporters and shipping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ts will draw the attention of animal rights campaigners and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ers need volume of trade with a profitable and viable income str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234040" y="3949560"/>
            <a:ext cx="26906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44880" y="1371600"/>
            <a:ext cx="717840" cy="1916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905120" y="1447920"/>
            <a:ext cx="5562360" cy="4760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148360" y="1925640"/>
            <a:ext cx="303120" cy="533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792520" y="949320"/>
            <a:ext cx="4647960" cy="463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uising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411280" y="2205000"/>
            <a:ext cx="5905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vestock Exports - The Australian Experience</a:t>
            </a:r>
            <a:br>
              <a:rPr sz="36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il Gri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ep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5" descr=""/>
          <p:cNvPicPr/>
          <p:nvPr/>
        </p:nvPicPr>
        <p:blipFill>
          <a:blip r:embed="rId1"/>
          <a:stretch/>
        </p:blipFill>
        <p:spPr>
          <a:xfrm>
            <a:off x="914400" y="1157400"/>
            <a:ext cx="7783560" cy="54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tle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4" descr=""/>
          <p:cNvPicPr/>
          <p:nvPr/>
        </p:nvPicPr>
        <p:blipFill>
          <a:blip r:embed="rId1"/>
          <a:stretch/>
        </p:blipFill>
        <p:spPr>
          <a:xfrm>
            <a:off x="914400" y="1117440"/>
            <a:ext cx="764064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 all the animals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96080" cy="4511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 flipV="1">
            <a:off x="7010280" y="4724280"/>
            <a:ext cx="533520" cy="457200"/>
          </a:xfrm>
          <a:prstGeom prst="line">
            <a:avLst/>
          </a:prstGeom>
          <a:ln w="6336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019560" y="4190760"/>
            <a:ext cx="1523880" cy="990360"/>
          </a:xfrm>
          <a:prstGeom prst="line">
            <a:avLst/>
          </a:prstGeom>
          <a:ln w="633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314840" y="4419720"/>
            <a:ext cx="228600" cy="761760"/>
          </a:xfrm>
          <a:prstGeom prst="line">
            <a:avLst/>
          </a:prstGeom>
          <a:ln w="6336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742840" y="4267080"/>
            <a:ext cx="4800600" cy="914400"/>
          </a:xfrm>
          <a:prstGeom prst="line">
            <a:avLst/>
          </a:prstGeom>
          <a:ln w="6336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857640" y="3886200"/>
            <a:ext cx="685800" cy="1295280"/>
          </a:xfrm>
          <a:prstGeom prst="line">
            <a:avLst/>
          </a:prstGeom>
          <a:ln w="6336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510320" y="3809520"/>
            <a:ext cx="144720" cy="1357560"/>
          </a:xfrm>
          <a:prstGeom prst="line">
            <a:avLst/>
          </a:prstGeom>
          <a:ln w="6336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409720" y="4038120"/>
            <a:ext cx="2057400" cy="1143000"/>
          </a:xfrm>
          <a:prstGeom prst="line">
            <a:avLst/>
          </a:prstGeom>
          <a:ln w="6336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ssel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6000" y="1295280"/>
            <a:ext cx="757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animal exports go by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built/converte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053" descr=""/>
          <p:cNvPicPr/>
          <p:nvPr/>
        </p:nvPicPr>
        <p:blipFill>
          <a:blip r:embed="rId1"/>
          <a:stretch/>
        </p:blipFill>
        <p:spPr>
          <a:xfrm>
            <a:off x="2438280" y="2303640"/>
            <a:ext cx="4953240" cy="3716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041200" y="6094800"/>
            <a:ext cx="58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ecrux” - 2002 launch at Uljanik shipy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ssel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r livestock vessels converted from other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range in age of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gulations and compliance uneconomic for older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221520" y="3727440"/>
            <a:ext cx="1855800" cy="265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203960" y="40384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1311600">
            <a:off x="7124400" y="4114800"/>
            <a:ext cx="72396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omply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2209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28800" y="1362240"/>
            <a:ext cx="6095880" cy="4592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stock Mortality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ject 5" descr=""/>
          <p:cNvPicPr/>
          <p:nvPr/>
        </p:nvPicPr>
        <p:blipFill>
          <a:blip r:embed="rId2"/>
          <a:srcRect l="6394" t="0" r="12792" b="0"/>
          <a:stretch/>
        </p:blipFill>
        <p:spPr>
          <a:xfrm>
            <a:off x="1371600" y="1371600"/>
            <a:ext cx="72388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9:35:30Z</dcterms:created>
  <dc:creator>EventCo</dc:creator>
  <dc:description/>
  <dc:language>en-US</dc:language>
  <cp:lastModifiedBy>Logan</cp:lastModifiedBy>
  <dcterms:modified xsi:type="dcterms:W3CDTF">2004-10-03T10:44:55Z</dcterms:modified>
  <cp:revision>52</cp:revision>
  <dc:subject/>
  <dc:title>Speaker’s Name Speaker’s Topic Date</dc:title>
</cp:coreProperties>
</file>