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3.wmf" ContentType="image/x-wmf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17.wmf" ContentType="image/x-wmf"/>
  <Override PartName="/ppt/media/image9.png" ContentType="image/png"/>
  <Override PartName="/ppt/media/image14.jpeg" ContentType="image/jpeg"/>
  <Override PartName="/ppt/media/image8.png" ContentType="image/png"/>
  <Override PartName="/ppt/media/image16.wmf" ContentType="image/x-wmf"/>
  <Override PartName="/ppt/media/image30.wmf" ContentType="image/x-wmf"/>
  <Override PartName="/ppt/media/image10.png" ContentType="image/png"/>
  <Override PartName="/ppt/media/image31.wmf" ContentType="image/x-wmf"/>
  <Override PartName="/ppt/media/image11.png" ContentType="image/png"/>
  <Override PartName="/ppt/media/image4.png" ContentType="image/png"/>
  <Override PartName="/ppt/media/image12.wmf" ContentType="image/x-wmf"/>
  <Override PartName="/ppt/media/image32.wmf" ContentType="image/x-wmf"/>
  <Override PartName="/ppt/media/image33.wmf" ContentType="image/x-wmf"/>
  <Override PartName="/ppt/media/image34.wmf" ContentType="image/x-wmf"/>
  <Override PartName="/ppt/media/image35.wmf" ContentType="image/x-wmf"/>
  <Override PartName="/ppt/media/image3.jpeg" ContentType="image/jpeg"/>
  <Override PartName="/ppt/media/image15.png" ContentType="image/png"/>
  <Override PartName="/ppt/media/image36.wmf" ContentType="image/x-wmf"/>
  <Override PartName="/ppt/media/image7.png" ContentType="image/png"/>
  <Override PartName="/ppt/media/image6.png" ContentType="image/png"/>
  <Override PartName="/ppt/media/image5.png" ContentType="image/png"/>
  <Override PartName="/ppt/media/image13.jpeg" ContentType="image/jpeg"/>
  <Override PartName="/ppt/media/image2.png" ContentType="image/png"/>
  <Override PartName="/ppt/media/image29.wmf" ContentType="image/x-wmf"/>
  <Override PartName="/ppt/media/image1.png" ContentType="image/png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8617-2A54-4139-A2EB-E08F266F5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7570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16000" y="4059360"/>
            <a:ext cx="7570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A70C-9516-4B85-9E84-A9B402543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95360" y="159984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16000" y="405936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95360" y="405936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BA4E-784F-4153-98E1-58D509F64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24375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75960" y="1599840"/>
            <a:ext cx="24375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35560" y="1599840"/>
            <a:ext cx="24375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16000" y="4059360"/>
            <a:ext cx="24375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75960" y="4059360"/>
            <a:ext cx="24375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35560" y="4059360"/>
            <a:ext cx="24375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7E6A-9995-49B8-B0B8-DAB9289D4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2C8B8-7FA1-45ED-9E86-0AA2750C8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16000" y="1599840"/>
            <a:ext cx="75708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B00C3-77C9-4C40-848C-3B7681C75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7570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7E93F-8F9E-4640-82AD-6DD560A18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369432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95360" y="1599840"/>
            <a:ext cx="369432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325F0-7162-4161-8C2E-42B467A4B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EFA31-254C-4D65-B693-E43F1EE2D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D3F7A-993E-44FB-90B6-FDF2A055F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95360" y="1599840"/>
            <a:ext cx="369432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16000" y="405936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56BCE-9D53-4D6F-AC86-B05883DC8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16000" y="1599840"/>
            <a:ext cx="75708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1313-7F5F-4917-B57E-AF0180744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369432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95360" y="159984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995360" y="405936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176A6-35C2-4398-BA25-3AEA2EEDA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95360" y="159984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16000" y="4059360"/>
            <a:ext cx="7570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E1B2F-B677-405C-9E2D-EEA36748E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7570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16000" y="4059360"/>
            <a:ext cx="7570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CB93F-4B04-4BB3-9650-0297A15DA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95360" y="159984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16000" y="405936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995360" y="405936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97C6E-1BDA-440E-9BAD-96CF92148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24375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675960" y="1599840"/>
            <a:ext cx="24375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35560" y="1599840"/>
            <a:ext cx="24375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16000" y="4059360"/>
            <a:ext cx="24375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675960" y="4059360"/>
            <a:ext cx="24375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35560" y="4059360"/>
            <a:ext cx="24375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9C8A1-2B9A-40C2-9C16-5ADDD2E09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7570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3B32-5CCF-42E9-B021-FA64EBD55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369432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95360" y="1599840"/>
            <a:ext cx="369432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6957-EF59-4733-A2A1-6A72B401E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844A-7313-4941-AEBA-12D17F2A0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3901-D11B-418A-842F-B58522B74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95360" y="1599840"/>
            <a:ext cx="369432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16000" y="405936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88FF-767D-47FE-8765-DAB0818ED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369432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95360" y="159984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95360" y="405936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A49E-2A05-4D2E-9A42-441CCE223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95360" y="159984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16000" y="4059360"/>
            <a:ext cx="7570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8DC4-2100-433B-817F-D01C8E993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16000" y="1599840"/>
            <a:ext cx="7570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71640" y="63813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08000" y="6381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099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F6D3B-C0E9-481D-825C-4CB8D95BC47E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A0512-781A-4604-B21A-221AAC4BB84A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484360" y="2130480"/>
            <a:ext cx="58327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image" Target="../media/image26.wmf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34.wmf"/><Relationship Id="rId7" Type="http://schemas.openxmlformats.org/officeDocument/2006/relationships/image" Target="../media/image35.wmf"/><Relationship Id="rId8" Type="http://schemas.openxmlformats.org/officeDocument/2006/relationships/image" Target="../media/image36.wmf"/><Relationship Id="rId9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438280" y="1447920"/>
            <a:ext cx="590580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Volatility and Cyclicality of the Marine Insurance Marke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0" lang="en-AU" sz="3000" spc="-1" strike="noStrike">
                <a:solidFill>
                  <a:srgbClr val="000000"/>
                </a:solidFill>
                <a:latin typeface="Arial"/>
              </a:rPr>
              <a:t>Justin Gardner – Gen 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derwriting Cycles Present in Different Countri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7620120" cy="40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d Different Lines of Business (even Marine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486040" y="5714640"/>
            <a:ext cx="3048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urce:Almm-Tennant &amp; Weiss, International Insurance Cyc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and Rational Expect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Object 3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769644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26665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Do Cycles Exi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2"/>
          <p:cNvGrpSpPr/>
          <p:nvPr/>
        </p:nvGrpSpPr>
        <p:grpSpPr>
          <a:xfrm>
            <a:off x="1295280" y="1219320"/>
            <a:ext cx="7391520" cy="5333760"/>
            <a:chOff x="1295280" y="1219320"/>
            <a:chExt cx="7391520" cy="5333760"/>
          </a:xfrm>
        </p:grpSpPr>
        <p:pic>
          <p:nvPicPr>
            <p:cNvPr id="116" name="Picture 3" descr=""/>
            <p:cNvPicPr/>
            <p:nvPr/>
          </p:nvPicPr>
          <p:blipFill>
            <a:blip r:embed="rId1"/>
            <a:stretch/>
          </p:blipFill>
          <p:spPr>
            <a:xfrm>
              <a:off x="1295280" y="1560600"/>
              <a:ext cx="7391520" cy="499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Picture 4" descr=""/>
            <p:cNvPicPr/>
            <p:nvPr/>
          </p:nvPicPr>
          <p:blipFill>
            <a:blip r:embed="rId2"/>
            <a:stretch/>
          </p:blipFill>
          <p:spPr>
            <a:xfrm>
              <a:off x="1295280" y="1219320"/>
              <a:ext cx="7391520" cy="499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2803680" y="5099040"/>
              <a:ext cx="4449600" cy="1191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a50021"/>
                  </a:solidFill>
                  <a:latin typeface="Times New Roman"/>
                </a:rPr>
                <a:t>C</a:t>
              </a:r>
              <a:r>
                <a:rPr b="1" lang="en-US" sz="7200" spc="-1" strike="noStrike" u="sng" baseline="14000">
                  <a:solidFill>
                    <a:srgbClr val="a50021"/>
                  </a:solidFill>
                  <a:uFillTx/>
                  <a:latin typeface="Times New Roman"/>
                </a:rPr>
                <a:t>YCLE</a:t>
              </a:r>
              <a:r>
                <a:rPr b="1" lang="en-US" sz="6600" spc="-1" strike="noStrike">
                  <a:solidFill>
                    <a:srgbClr val="a50021"/>
                  </a:solidFill>
                  <a:latin typeface="Times New Roman"/>
                </a:rPr>
                <a:t>S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othesis #1 -Insurance Markets Operate Irrationally and/or Exhibit Market Imperf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othesis #2 - Rational Expectations/Institutional Intervention (aka “When Bad Things Happen to Good Underwriters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6000" y="5410080"/>
            <a:ext cx="757080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ional, regulatory, &amp; accounting 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expected shocks to surplus (Nat Cat, shifts in claims costs, or loss distribu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est rate and equity value 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Object 3" descr=""/>
          <p:cNvPicPr/>
          <p:nvPr/>
        </p:nvPicPr>
        <p:blipFill>
          <a:blip r:embed="rId1"/>
          <a:stretch/>
        </p:blipFill>
        <p:spPr>
          <a:xfrm>
            <a:off x="2057400" y="1676520"/>
            <a:ext cx="5410080" cy="37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actors Affecting Cycle Period Length (measured by change in premium volum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7570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in discount rate and stock market indexes (positive relationshi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conomic expansion of the late 80’s through the 90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lobal equity returns of 2000-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astrophe Losses (negative relationshi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per Alpha (198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urricanes “Andrew” (199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rthridge Earthquake (199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urricanes “Charley,” “Frances,” and “Ivan” ?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icy period length (positive relationshi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ng term Blue Water Hull policies of 96-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atility in underwriting result (positive relationshi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ue Water Hull and Offshore Energy Mark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Conclusions on Cy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7570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ycles are universal and will have different lengths and sever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idence seems to indicate that irrational behavior is not the only driver.  Can’t eliminate cycles by alerting others to their bad behavi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gers and Underwriters can only control their own actions and behaviors in the face of external fac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Object 2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8153280" cy="5181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agers and Underwriters are Not Helpl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57080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ices they make will either exacerbate the effects of the underwriting cycle or blunt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agement Behavi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7570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ain of underwriting cycles will be more severe when management tea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mine underwr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invest in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estimate parameter and model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 strict premium volume goals or “budge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7620120" cy="42847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 hope to avoi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ftening Market Strategy #1 – maintain rates, reducing premium volume and increasing expense rat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19680" y="5943600"/>
            <a:ext cx="1535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(amounts in mill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Object 5" descr=""/>
          <p:cNvPicPr/>
          <p:nvPr/>
        </p:nvPicPr>
        <p:blipFill>
          <a:blip r:embed="rId1"/>
          <a:stretch/>
        </p:blipFill>
        <p:spPr>
          <a:xfrm>
            <a:off x="4724280" y="2048040"/>
            <a:ext cx="857520" cy="3438360"/>
          </a:xfrm>
          <a:prstGeom prst="rect">
            <a:avLst/>
          </a:prstGeom>
          <a:ln w="0">
            <a:noFill/>
          </a:ln>
        </p:spPr>
      </p:pic>
      <p:pic>
        <p:nvPicPr>
          <p:cNvPr id="135" name="Object 10" descr=""/>
          <p:cNvPicPr/>
          <p:nvPr/>
        </p:nvPicPr>
        <p:blipFill>
          <a:blip r:embed="rId2"/>
          <a:stretch/>
        </p:blipFill>
        <p:spPr>
          <a:xfrm>
            <a:off x="1143000" y="1600200"/>
            <a:ext cx="2590920" cy="3857760"/>
          </a:xfrm>
          <a:prstGeom prst="rect">
            <a:avLst/>
          </a:prstGeom>
          <a:ln w="0">
            <a:noFill/>
          </a:ln>
        </p:spPr>
      </p:pic>
      <p:pic>
        <p:nvPicPr>
          <p:cNvPr id="136" name="Object 11" descr=""/>
          <p:cNvPicPr/>
          <p:nvPr/>
        </p:nvPicPr>
        <p:blipFill>
          <a:blip r:embed="rId3"/>
          <a:stretch/>
        </p:blipFill>
        <p:spPr>
          <a:xfrm>
            <a:off x="6400800" y="2057400"/>
            <a:ext cx="1123920" cy="34383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ftening Market Strategy #2 – cut rates to preserve premium volume and control expen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219680" y="5943600"/>
            <a:ext cx="1535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(amounts in mill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Object 35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2590560" cy="3857400"/>
          </a:xfrm>
          <a:prstGeom prst="rect">
            <a:avLst/>
          </a:prstGeom>
          <a:ln w="0">
            <a:noFill/>
          </a:ln>
        </p:spPr>
      </p:pic>
      <p:pic>
        <p:nvPicPr>
          <p:cNvPr id="140" name="Object 36" descr=""/>
          <p:cNvPicPr/>
          <p:nvPr/>
        </p:nvPicPr>
        <p:blipFill>
          <a:blip r:embed="rId2"/>
          <a:stretch/>
        </p:blipFill>
        <p:spPr>
          <a:xfrm>
            <a:off x="4572000" y="2057400"/>
            <a:ext cx="857160" cy="3438360"/>
          </a:xfrm>
          <a:prstGeom prst="rect">
            <a:avLst/>
          </a:prstGeom>
          <a:ln w="0">
            <a:noFill/>
          </a:ln>
        </p:spPr>
      </p:pic>
      <p:pic>
        <p:nvPicPr>
          <p:cNvPr id="141" name="Object 38" descr=""/>
          <p:cNvPicPr/>
          <p:nvPr/>
        </p:nvPicPr>
        <p:blipFill>
          <a:blip r:embed="rId3"/>
          <a:stretch/>
        </p:blipFill>
        <p:spPr>
          <a:xfrm>
            <a:off x="6381720" y="2057400"/>
            <a:ext cx="1085760" cy="34383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ftening Market Strategy #2 – cut rates to preserve premium volume and control expen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219680" y="5943600"/>
            <a:ext cx="1535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(amounts in mill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Object 4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2590560" cy="3857400"/>
          </a:xfrm>
          <a:prstGeom prst="rect">
            <a:avLst/>
          </a:prstGeom>
          <a:ln w="0">
            <a:noFill/>
          </a:ln>
        </p:spPr>
      </p:pic>
      <p:pic>
        <p:nvPicPr>
          <p:cNvPr id="145" name="Object 5" descr=""/>
          <p:cNvPicPr/>
          <p:nvPr/>
        </p:nvPicPr>
        <p:blipFill>
          <a:blip r:embed="rId2"/>
          <a:stretch/>
        </p:blipFill>
        <p:spPr>
          <a:xfrm>
            <a:off x="3962520" y="2048040"/>
            <a:ext cx="857160" cy="3438360"/>
          </a:xfrm>
          <a:prstGeom prst="rect">
            <a:avLst/>
          </a:prstGeom>
          <a:ln w="0">
            <a:noFill/>
          </a:ln>
        </p:spPr>
      </p:pic>
      <p:pic>
        <p:nvPicPr>
          <p:cNvPr id="146" name="Object 7" descr=""/>
          <p:cNvPicPr/>
          <p:nvPr/>
        </p:nvPicPr>
        <p:blipFill>
          <a:blip r:embed="rId3"/>
          <a:stretch/>
        </p:blipFill>
        <p:spPr>
          <a:xfrm>
            <a:off x="5181480" y="2057400"/>
            <a:ext cx="3581640" cy="266760"/>
          </a:xfrm>
          <a:prstGeom prst="rect">
            <a:avLst/>
          </a:prstGeom>
          <a:ln w="0">
            <a:noFill/>
          </a:ln>
        </p:spPr>
      </p:pic>
      <p:pic>
        <p:nvPicPr>
          <p:cNvPr id="147" name="Object 8" descr=""/>
          <p:cNvPicPr/>
          <p:nvPr/>
        </p:nvPicPr>
        <p:blipFill>
          <a:blip r:embed="rId4"/>
          <a:stretch/>
        </p:blipFill>
        <p:spPr>
          <a:xfrm>
            <a:off x="5229360" y="2305080"/>
            <a:ext cx="790560" cy="3181320"/>
          </a:xfrm>
          <a:prstGeom prst="rect">
            <a:avLst/>
          </a:prstGeom>
          <a:ln w="0">
            <a:noFill/>
          </a:ln>
        </p:spPr>
      </p:pic>
      <p:pic>
        <p:nvPicPr>
          <p:cNvPr id="148" name="Object 9" descr=""/>
          <p:cNvPicPr/>
          <p:nvPr/>
        </p:nvPicPr>
        <p:blipFill>
          <a:blip r:embed="rId5"/>
          <a:stretch/>
        </p:blipFill>
        <p:spPr>
          <a:xfrm>
            <a:off x="6315120" y="2305080"/>
            <a:ext cx="1457280" cy="3181320"/>
          </a:xfrm>
          <a:prstGeom prst="rect">
            <a:avLst/>
          </a:prstGeom>
          <a:ln w="0">
            <a:noFill/>
          </a:ln>
        </p:spPr>
      </p:pic>
      <p:pic>
        <p:nvPicPr>
          <p:cNvPr id="149" name="Object 10" descr=""/>
          <p:cNvPicPr/>
          <p:nvPr/>
        </p:nvPicPr>
        <p:blipFill>
          <a:blip r:embed="rId6"/>
          <a:stretch/>
        </p:blipFill>
        <p:spPr>
          <a:xfrm>
            <a:off x="7848720" y="2305080"/>
            <a:ext cx="799920" cy="31813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213920" y="5638680"/>
            <a:ext cx="2234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Arial"/>
              </a:rPr>
              <a:t>*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ssumes 25% rate re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1219320"/>
            <a:ext cx="751536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writing Profits and Combined Ratios Will Decline in a Softening Rate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143000" y="2666880"/>
            <a:ext cx="7242120" cy="26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5000"/>
          </a:bodyPr>
          <a:p>
            <a:pPr marL="172440" indent="-172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ior Strateg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440" indent="-853560"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aintain underwriting and pricing discipline to control loss ratio even though premium volume declines and the expense ratio incre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440" indent="-853560"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2440" indent="-172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erior Strateg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440" indent="-853560"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ut rates to maintain premium volume and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ntrol expense rat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7834320" cy="318276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Underwriters Can Blunt the Effects of Cy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derwriter Behavi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2640" y="2057400"/>
            <a:ext cx="7410600" cy="34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spcAft>
                <a:spcPts val="29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rcle of competence – appreciation of what we know and don’t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spcAft>
                <a:spcPts val="29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ience to Art ratio (80/20 not 20/8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spcAft>
                <a:spcPts val="29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lection points and trend – Looking Forward as well as back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spcAft>
                <a:spcPts val="29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s applying law of large numbers to small samples. (experience vs. exposure underwrit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43000" y="1219320"/>
            <a:ext cx="762012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 pain of underwriting cycles can be blunted if underwriters better understan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 Sample Experience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Object 4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7543800" cy="565200"/>
          </a:xfrm>
          <a:prstGeom prst="rect">
            <a:avLst/>
          </a:prstGeom>
          <a:ln w="0">
            <a:noFill/>
          </a:ln>
        </p:spPr>
      </p:pic>
      <p:pic>
        <p:nvPicPr>
          <p:cNvPr id="161" name="Object 5" descr=""/>
          <p:cNvPicPr/>
          <p:nvPr/>
        </p:nvPicPr>
        <p:blipFill>
          <a:blip r:embed="rId2"/>
          <a:stretch/>
        </p:blipFill>
        <p:spPr>
          <a:xfrm>
            <a:off x="1457280" y="3033720"/>
            <a:ext cx="1971720" cy="790560"/>
          </a:xfrm>
          <a:prstGeom prst="rect">
            <a:avLst/>
          </a:prstGeom>
          <a:ln w="0">
            <a:noFill/>
          </a:ln>
        </p:spPr>
      </p:pic>
      <p:pic>
        <p:nvPicPr>
          <p:cNvPr id="162" name="Object 6" descr=""/>
          <p:cNvPicPr/>
          <p:nvPr/>
        </p:nvPicPr>
        <p:blipFill>
          <a:blip r:embed="rId3"/>
          <a:stretch/>
        </p:blipFill>
        <p:spPr>
          <a:xfrm>
            <a:off x="3648240" y="2371680"/>
            <a:ext cx="4657680" cy="523800"/>
          </a:xfrm>
          <a:prstGeom prst="rect">
            <a:avLst/>
          </a:prstGeom>
          <a:ln w="0">
            <a:noFill/>
          </a:ln>
        </p:spPr>
      </p:pic>
      <p:pic>
        <p:nvPicPr>
          <p:cNvPr id="163" name="Object 7" descr=""/>
          <p:cNvPicPr/>
          <p:nvPr/>
        </p:nvPicPr>
        <p:blipFill>
          <a:blip r:embed="rId4"/>
          <a:stretch/>
        </p:blipFill>
        <p:spPr>
          <a:xfrm>
            <a:off x="3657600" y="3033720"/>
            <a:ext cx="2190600" cy="790560"/>
          </a:xfrm>
          <a:prstGeom prst="rect">
            <a:avLst/>
          </a:prstGeom>
          <a:ln w="0">
            <a:noFill/>
          </a:ln>
        </p:spPr>
      </p:pic>
      <p:pic>
        <p:nvPicPr>
          <p:cNvPr id="164" name="Object 8" descr=""/>
          <p:cNvPicPr/>
          <p:nvPr/>
        </p:nvPicPr>
        <p:blipFill>
          <a:blip r:embed="rId5"/>
          <a:stretch/>
        </p:blipFill>
        <p:spPr>
          <a:xfrm>
            <a:off x="6143760" y="3033720"/>
            <a:ext cx="2162160" cy="790560"/>
          </a:xfrm>
          <a:prstGeom prst="rect">
            <a:avLst/>
          </a:prstGeom>
          <a:ln w="0">
            <a:noFill/>
          </a:ln>
        </p:spPr>
      </p:pic>
      <p:pic>
        <p:nvPicPr>
          <p:cNvPr id="165" name="Object 12" descr=""/>
          <p:cNvPicPr/>
          <p:nvPr/>
        </p:nvPicPr>
        <p:blipFill>
          <a:blip r:embed="rId6"/>
          <a:stretch/>
        </p:blipFill>
        <p:spPr>
          <a:xfrm>
            <a:off x="1457280" y="4086360"/>
            <a:ext cx="1971720" cy="790560"/>
          </a:xfrm>
          <a:prstGeom prst="rect">
            <a:avLst/>
          </a:prstGeom>
          <a:ln w="0">
            <a:noFill/>
          </a:ln>
        </p:spPr>
      </p:pic>
      <p:pic>
        <p:nvPicPr>
          <p:cNvPr id="166" name="Object 13" descr=""/>
          <p:cNvPicPr/>
          <p:nvPr/>
        </p:nvPicPr>
        <p:blipFill>
          <a:blip r:embed="rId7"/>
          <a:stretch/>
        </p:blipFill>
        <p:spPr>
          <a:xfrm>
            <a:off x="4781520" y="4086360"/>
            <a:ext cx="1085760" cy="790560"/>
          </a:xfrm>
          <a:prstGeom prst="rect">
            <a:avLst/>
          </a:prstGeom>
          <a:ln w="0">
            <a:noFill/>
          </a:ln>
        </p:spPr>
      </p:pic>
      <p:pic>
        <p:nvPicPr>
          <p:cNvPr id="167" name="Object 14" descr=""/>
          <p:cNvPicPr/>
          <p:nvPr/>
        </p:nvPicPr>
        <p:blipFill>
          <a:blip r:embed="rId8"/>
          <a:stretch/>
        </p:blipFill>
        <p:spPr>
          <a:xfrm>
            <a:off x="7238880" y="4086360"/>
            <a:ext cx="108612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 is a difficult business but not a complicated on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143000" y="2286000"/>
            <a:ext cx="7620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like the situation prevailing in many other industries 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ither size nor br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am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 insurer’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fitabi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Indeed, many of the biggest and best–known companies regularly deliver mediocre results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cou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is busines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underwriting discipl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562720" y="4800600"/>
            <a:ext cx="3276360" cy="10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rren E. Buff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rkshire Hatha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1 Letter to Sharehol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143000" y="1981080"/>
            <a:ext cx="7620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urance is a lousy business…and a very challenging business to invest in.  It is a notoriously cyclical industry which regularly behaves poorl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803840" y="4494240"/>
            <a:ext cx="216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J Dow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BNR Wee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mmer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54200" y="5414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ycles - Anecdotal Evid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ycles - Anecdotal Evid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16000" y="2133360"/>
            <a:ext cx="7570800" cy="41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0">
              <a:spcBef>
                <a:spcPts val="799"/>
              </a:spcBef>
              <a:buNone/>
              <a:tabLst>
                <a:tab algn="l" pos="0"/>
                <a:tab algn="l" pos="4510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say it’s only in the rinse cycle that you find out how dirty the laundry really w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799"/>
              </a:spcBef>
              <a:buNone/>
              <a:tabLst>
                <a:tab algn="l" pos="0"/>
                <a:tab algn="l" pos="4510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we are in the rinse cycle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0" algn="just">
              <a:spcBef>
                <a:spcPts val="700"/>
              </a:spcBef>
              <a:buNone/>
              <a:tabLst>
                <a:tab algn="l" pos="0"/>
                <a:tab algn="l" pos="4510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ren E. Buff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0" algn="just">
              <a:spcBef>
                <a:spcPts val="700"/>
              </a:spcBef>
              <a:buNone/>
              <a:tabLst>
                <a:tab algn="l" pos="0"/>
                <a:tab algn="l" pos="4510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799"/>
              </a:spcBef>
              <a:buNone/>
              <a:tabLst>
                <a:tab algn="l" pos="4510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066680" y="1523880"/>
            <a:ext cx="76201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urance Companies always pledge to be “disciplined” underwriters just as investors always say they won’t overpay for stocks and bonds.  But good times are intoxicating.  Several Years of a hard market have the same effect on insurance company CEO’s as several margaritas have on teenage boys: they start acting sill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3800" y="5181480"/>
            <a:ext cx="414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vid Schi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ffs Insurance Ob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l. 16, #11 Sept 10,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54200" y="5414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ycles - Anecdotal Evid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cles – Empirical Evidence in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754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cles – Empirical Evidence in Capital Lev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7696440" cy="35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national Insurance Cycles: Rational Expectations/Institutional Intervention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an Lamm-Tenant; Mary A. Weiss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urnal of Risk and Insurance Vol. 64, No. 3 (Sep., 1997), 415-439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which I found….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4267080" cy="10303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"/>
          <p:cNvPicPr/>
          <p:nvPr/>
        </p:nvPicPr>
        <p:blipFill>
          <a:blip r:embed="rId2"/>
          <a:stretch/>
        </p:blipFill>
        <p:spPr>
          <a:xfrm>
            <a:off x="1828800" y="3733920"/>
            <a:ext cx="3124080" cy="4269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"/>
          <p:cNvPicPr/>
          <p:nvPr/>
        </p:nvPicPr>
        <p:blipFill>
          <a:blip r:embed="rId3"/>
          <a:stretch/>
        </p:blipFill>
        <p:spPr>
          <a:xfrm>
            <a:off x="1752480" y="4267080"/>
            <a:ext cx="5943600" cy="2232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"/>
          <p:cNvPicPr/>
          <p:nvPr/>
        </p:nvPicPr>
        <p:blipFill>
          <a:blip r:embed="rId4"/>
          <a:stretch/>
        </p:blipFill>
        <p:spPr>
          <a:xfrm>
            <a:off x="4038480" y="2666880"/>
            <a:ext cx="4572000" cy="1013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"/>
          <p:cNvPicPr/>
          <p:nvPr/>
        </p:nvPicPr>
        <p:blipFill>
          <a:blip r:embed="rId5"/>
          <a:stretch/>
        </p:blipFill>
        <p:spPr>
          <a:xfrm>
            <a:off x="4724280" y="533520"/>
            <a:ext cx="3962520" cy="94608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ula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9T09:35:30Z</dcterms:created>
  <dc:creator>EventCo</dc:creator>
  <dc:description/>
  <dc:language>en-US</dc:language>
  <cp:lastModifiedBy>Logan</cp:lastModifiedBy>
  <dcterms:modified xsi:type="dcterms:W3CDTF">2004-10-03T08:38:20Z</dcterms:modified>
  <cp:revision>20</cp:revision>
  <dc:subject/>
  <dc:title>Speaker’s Name Speaker’s Topic Date</dc:title>
</cp:coreProperties>
</file>