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22.jpeg" ContentType="image/jpeg"/>
  <Override PartName="/ppt/media/image9.png" ContentType="image/png"/>
  <Override PartName="/ppt/media/image23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3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400" y="6523200"/>
            <a:ext cx="9864720" cy="261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153280" y="6502320"/>
            <a:ext cx="168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ge </a:t>
            </a:r>
            <a:fld id="{FA9D2D21-A0C9-40DD-B04C-A2044E4E13E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Object 13" descr=""/>
          <p:cNvPicPr/>
          <p:nvPr/>
        </p:nvPicPr>
        <p:blipFill>
          <a:blip r:embed="rId2"/>
          <a:stretch/>
        </p:blipFill>
        <p:spPr>
          <a:xfrm>
            <a:off x="8474040" y="33480"/>
            <a:ext cx="129528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77880"/>
            <a:ext cx="9906120" cy="76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400" y="6502320"/>
            <a:ext cx="384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IUMI Conference, September 13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hyperlink" Target="http://auto.sina.com.cn/news/2002-06-14/25388.shtml" TargetMode="External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9906120" cy="2057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rnational Union of Marine Insurance (IUMI) Confer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gapo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ptember 13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Object 11" descr=""/>
          <p:cNvPicPr/>
          <p:nvPr/>
        </p:nvPicPr>
        <p:blipFill>
          <a:blip r:embed="rId1"/>
          <a:stretch/>
        </p:blipFill>
        <p:spPr>
          <a:xfrm>
            <a:off x="4081320" y="5410080"/>
            <a:ext cx="1819440" cy="9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ddress by NOL Group President and CEO, David 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4219560"/>
            <a:ext cx="8762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owth, Interdependency and Convergence – Challenges in the Container Shipping Indu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609480" y="1901880"/>
            <a:ext cx="8457840" cy="4650840"/>
            <a:chOff x="609480" y="1901880"/>
            <a:chExt cx="8457840" cy="4650840"/>
          </a:xfrm>
        </p:grpSpPr>
        <p:sp>
          <p:nvSpPr>
            <p:cNvPr id="620" name=""/>
            <p:cNvSpPr/>
            <p:nvPr/>
          </p:nvSpPr>
          <p:spPr>
            <a:xfrm>
              <a:off x="6338160" y="3434400"/>
              <a:ext cx="1420920" cy="1010520"/>
            </a:xfrm>
            <a:custGeom>
              <a:avLst/>
              <a:gdLst/>
              <a:ahLst/>
              <a:rect l="l" t="t" r="r" b="b"/>
              <a:pathLst>
                <a:path w="1377" h="983">
                  <a:moveTo>
                    <a:pt x="286" y="175"/>
                  </a:moveTo>
                  <a:lnTo>
                    <a:pt x="315" y="159"/>
                  </a:lnTo>
                  <a:lnTo>
                    <a:pt x="341" y="203"/>
                  </a:lnTo>
                  <a:lnTo>
                    <a:pt x="374" y="203"/>
                  </a:lnTo>
                  <a:lnTo>
                    <a:pt x="386" y="232"/>
                  </a:lnTo>
                  <a:lnTo>
                    <a:pt x="386" y="293"/>
                  </a:lnTo>
                  <a:lnTo>
                    <a:pt x="474" y="322"/>
                  </a:lnTo>
                  <a:lnTo>
                    <a:pt x="518" y="366"/>
                  </a:lnTo>
                  <a:lnTo>
                    <a:pt x="600" y="366"/>
                  </a:lnTo>
                  <a:lnTo>
                    <a:pt x="644" y="395"/>
                  </a:lnTo>
                  <a:lnTo>
                    <a:pt x="704" y="408"/>
                  </a:lnTo>
                  <a:lnTo>
                    <a:pt x="760" y="380"/>
                  </a:lnTo>
                  <a:lnTo>
                    <a:pt x="819" y="380"/>
                  </a:lnTo>
                  <a:lnTo>
                    <a:pt x="859" y="335"/>
                  </a:lnTo>
                  <a:lnTo>
                    <a:pt x="848" y="322"/>
                  </a:lnTo>
                  <a:lnTo>
                    <a:pt x="877" y="293"/>
                  </a:lnTo>
                  <a:lnTo>
                    <a:pt x="903" y="307"/>
                  </a:lnTo>
                  <a:lnTo>
                    <a:pt x="948" y="278"/>
                  </a:lnTo>
                  <a:lnTo>
                    <a:pt x="976" y="249"/>
                  </a:lnTo>
                  <a:lnTo>
                    <a:pt x="1034" y="249"/>
                  </a:lnTo>
                  <a:lnTo>
                    <a:pt x="1019" y="221"/>
                  </a:lnTo>
                  <a:lnTo>
                    <a:pt x="1003" y="203"/>
                  </a:lnTo>
                  <a:lnTo>
                    <a:pt x="976" y="221"/>
                  </a:lnTo>
                  <a:lnTo>
                    <a:pt x="948" y="221"/>
                  </a:lnTo>
                  <a:lnTo>
                    <a:pt x="948" y="159"/>
                  </a:lnTo>
                  <a:lnTo>
                    <a:pt x="963" y="131"/>
                  </a:lnTo>
                  <a:lnTo>
                    <a:pt x="992" y="146"/>
                  </a:lnTo>
                  <a:lnTo>
                    <a:pt x="1034" y="131"/>
                  </a:lnTo>
                  <a:lnTo>
                    <a:pt x="1047" y="73"/>
                  </a:lnTo>
                  <a:lnTo>
                    <a:pt x="1063" y="58"/>
                  </a:lnTo>
                  <a:lnTo>
                    <a:pt x="1063" y="41"/>
                  </a:lnTo>
                  <a:lnTo>
                    <a:pt x="1047" y="41"/>
                  </a:lnTo>
                  <a:lnTo>
                    <a:pt x="1063" y="12"/>
                  </a:lnTo>
                  <a:lnTo>
                    <a:pt x="1118" y="0"/>
                  </a:lnTo>
                  <a:lnTo>
                    <a:pt x="1162" y="12"/>
                  </a:lnTo>
                  <a:lnTo>
                    <a:pt x="1191" y="41"/>
                  </a:lnTo>
                  <a:lnTo>
                    <a:pt x="1222" y="146"/>
                  </a:lnTo>
                  <a:lnTo>
                    <a:pt x="1251" y="146"/>
                  </a:lnTo>
                  <a:lnTo>
                    <a:pt x="1293" y="175"/>
                  </a:lnTo>
                  <a:lnTo>
                    <a:pt x="1293" y="203"/>
                  </a:lnTo>
                  <a:lnTo>
                    <a:pt x="1322" y="203"/>
                  </a:lnTo>
                  <a:lnTo>
                    <a:pt x="1377" y="188"/>
                  </a:lnTo>
                  <a:lnTo>
                    <a:pt x="1377" y="221"/>
                  </a:lnTo>
                  <a:lnTo>
                    <a:pt x="1337" y="307"/>
                  </a:lnTo>
                  <a:lnTo>
                    <a:pt x="1322" y="293"/>
                  </a:lnTo>
                  <a:lnTo>
                    <a:pt x="1293" y="307"/>
                  </a:lnTo>
                  <a:lnTo>
                    <a:pt x="1306" y="351"/>
                  </a:lnTo>
                  <a:lnTo>
                    <a:pt x="1293" y="380"/>
                  </a:lnTo>
                  <a:lnTo>
                    <a:pt x="1277" y="380"/>
                  </a:lnTo>
                  <a:lnTo>
                    <a:pt x="1251" y="395"/>
                  </a:lnTo>
                  <a:lnTo>
                    <a:pt x="1235" y="395"/>
                  </a:lnTo>
                  <a:lnTo>
                    <a:pt x="1222" y="408"/>
                  </a:lnTo>
                  <a:lnTo>
                    <a:pt x="1207" y="408"/>
                  </a:lnTo>
                  <a:lnTo>
                    <a:pt x="1151" y="452"/>
                  </a:lnTo>
                  <a:lnTo>
                    <a:pt x="1151" y="470"/>
                  </a:lnTo>
                  <a:lnTo>
                    <a:pt x="1118" y="470"/>
                  </a:lnTo>
                  <a:lnTo>
                    <a:pt x="1078" y="498"/>
                  </a:lnTo>
                  <a:lnTo>
                    <a:pt x="1078" y="470"/>
                  </a:lnTo>
                  <a:lnTo>
                    <a:pt x="1091" y="441"/>
                  </a:lnTo>
                  <a:lnTo>
                    <a:pt x="1078" y="424"/>
                  </a:lnTo>
                  <a:lnTo>
                    <a:pt x="1034" y="470"/>
                  </a:lnTo>
                  <a:lnTo>
                    <a:pt x="1019" y="481"/>
                  </a:lnTo>
                  <a:lnTo>
                    <a:pt x="1003" y="481"/>
                  </a:lnTo>
                  <a:lnTo>
                    <a:pt x="992" y="498"/>
                  </a:lnTo>
                  <a:lnTo>
                    <a:pt x="1034" y="542"/>
                  </a:lnTo>
                  <a:lnTo>
                    <a:pt x="1063" y="527"/>
                  </a:lnTo>
                  <a:lnTo>
                    <a:pt x="1107" y="542"/>
                  </a:lnTo>
                  <a:lnTo>
                    <a:pt x="1107" y="558"/>
                  </a:lnTo>
                  <a:lnTo>
                    <a:pt x="1091" y="542"/>
                  </a:lnTo>
                  <a:lnTo>
                    <a:pt x="1063" y="558"/>
                  </a:lnTo>
                  <a:lnTo>
                    <a:pt x="1034" y="600"/>
                  </a:lnTo>
                  <a:lnTo>
                    <a:pt x="1047" y="615"/>
                  </a:lnTo>
                  <a:lnTo>
                    <a:pt x="1063" y="673"/>
                  </a:lnTo>
                  <a:lnTo>
                    <a:pt x="1091" y="690"/>
                  </a:lnTo>
                  <a:lnTo>
                    <a:pt x="1078" y="690"/>
                  </a:lnTo>
                  <a:lnTo>
                    <a:pt x="1091" y="719"/>
                  </a:lnTo>
                  <a:lnTo>
                    <a:pt x="1047" y="734"/>
                  </a:lnTo>
                  <a:lnTo>
                    <a:pt x="1091" y="734"/>
                  </a:lnTo>
                  <a:lnTo>
                    <a:pt x="1078" y="791"/>
                  </a:lnTo>
                  <a:lnTo>
                    <a:pt x="1047" y="820"/>
                  </a:lnTo>
                  <a:lnTo>
                    <a:pt x="1034" y="820"/>
                  </a:lnTo>
                  <a:lnTo>
                    <a:pt x="1034" y="849"/>
                  </a:lnTo>
                  <a:lnTo>
                    <a:pt x="1019" y="881"/>
                  </a:lnTo>
                  <a:lnTo>
                    <a:pt x="1003" y="881"/>
                  </a:lnTo>
                  <a:lnTo>
                    <a:pt x="1003" y="893"/>
                  </a:lnTo>
                  <a:lnTo>
                    <a:pt x="963" y="925"/>
                  </a:lnTo>
                  <a:lnTo>
                    <a:pt x="919" y="925"/>
                  </a:lnTo>
                  <a:lnTo>
                    <a:pt x="919" y="939"/>
                  </a:lnTo>
                  <a:lnTo>
                    <a:pt x="903" y="925"/>
                  </a:lnTo>
                  <a:lnTo>
                    <a:pt x="903" y="939"/>
                  </a:lnTo>
                  <a:lnTo>
                    <a:pt x="892" y="939"/>
                  </a:lnTo>
                  <a:lnTo>
                    <a:pt x="832" y="967"/>
                  </a:lnTo>
                  <a:lnTo>
                    <a:pt x="819" y="983"/>
                  </a:lnTo>
                  <a:lnTo>
                    <a:pt x="819" y="954"/>
                  </a:lnTo>
                  <a:lnTo>
                    <a:pt x="748" y="954"/>
                  </a:lnTo>
                  <a:lnTo>
                    <a:pt x="748" y="925"/>
                  </a:lnTo>
                  <a:lnTo>
                    <a:pt x="717" y="925"/>
                  </a:lnTo>
                  <a:lnTo>
                    <a:pt x="660" y="939"/>
                  </a:lnTo>
                  <a:lnTo>
                    <a:pt x="644" y="925"/>
                  </a:lnTo>
                  <a:lnTo>
                    <a:pt x="644" y="939"/>
                  </a:lnTo>
                  <a:lnTo>
                    <a:pt x="633" y="939"/>
                  </a:lnTo>
                  <a:lnTo>
                    <a:pt x="633" y="967"/>
                  </a:lnTo>
                  <a:lnTo>
                    <a:pt x="618" y="967"/>
                  </a:lnTo>
                  <a:lnTo>
                    <a:pt x="618" y="954"/>
                  </a:lnTo>
                  <a:lnTo>
                    <a:pt x="600" y="954"/>
                  </a:lnTo>
                  <a:lnTo>
                    <a:pt x="573" y="939"/>
                  </a:lnTo>
                  <a:lnTo>
                    <a:pt x="573" y="910"/>
                  </a:lnTo>
                  <a:lnTo>
                    <a:pt x="560" y="893"/>
                  </a:lnTo>
                  <a:lnTo>
                    <a:pt x="545" y="893"/>
                  </a:lnTo>
                  <a:lnTo>
                    <a:pt x="560" y="820"/>
                  </a:lnTo>
                  <a:lnTo>
                    <a:pt x="545" y="791"/>
                  </a:lnTo>
                  <a:lnTo>
                    <a:pt x="529" y="791"/>
                  </a:lnTo>
                  <a:lnTo>
                    <a:pt x="501" y="763"/>
                  </a:lnTo>
                  <a:lnTo>
                    <a:pt x="474" y="763"/>
                  </a:lnTo>
                  <a:lnTo>
                    <a:pt x="401" y="791"/>
                  </a:lnTo>
                  <a:lnTo>
                    <a:pt x="359" y="791"/>
                  </a:lnTo>
                  <a:lnTo>
                    <a:pt x="341" y="807"/>
                  </a:lnTo>
                  <a:lnTo>
                    <a:pt x="330" y="791"/>
                  </a:lnTo>
                  <a:lnTo>
                    <a:pt x="270" y="791"/>
                  </a:lnTo>
                  <a:lnTo>
                    <a:pt x="242" y="776"/>
                  </a:lnTo>
                  <a:lnTo>
                    <a:pt x="226" y="763"/>
                  </a:lnTo>
                  <a:lnTo>
                    <a:pt x="215" y="763"/>
                  </a:lnTo>
                  <a:lnTo>
                    <a:pt x="186" y="734"/>
                  </a:lnTo>
                  <a:lnTo>
                    <a:pt x="155" y="734"/>
                  </a:lnTo>
                  <a:lnTo>
                    <a:pt x="115" y="719"/>
                  </a:lnTo>
                  <a:lnTo>
                    <a:pt x="100" y="673"/>
                  </a:lnTo>
                  <a:lnTo>
                    <a:pt x="127" y="673"/>
                  </a:lnTo>
                  <a:lnTo>
                    <a:pt x="115" y="644"/>
                  </a:lnTo>
                  <a:lnTo>
                    <a:pt x="142" y="615"/>
                  </a:lnTo>
                  <a:lnTo>
                    <a:pt x="142" y="586"/>
                  </a:lnTo>
                  <a:lnTo>
                    <a:pt x="127" y="571"/>
                  </a:lnTo>
                  <a:lnTo>
                    <a:pt x="84" y="586"/>
                  </a:lnTo>
                  <a:lnTo>
                    <a:pt x="56" y="571"/>
                  </a:lnTo>
                  <a:lnTo>
                    <a:pt x="42" y="558"/>
                  </a:lnTo>
                  <a:lnTo>
                    <a:pt x="11" y="542"/>
                  </a:lnTo>
                  <a:lnTo>
                    <a:pt x="27" y="542"/>
                  </a:lnTo>
                  <a:lnTo>
                    <a:pt x="27" y="498"/>
                  </a:lnTo>
                  <a:lnTo>
                    <a:pt x="0" y="498"/>
                  </a:lnTo>
                  <a:lnTo>
                    <a:pt x="0" y="452"/>
                  </a:lnTo>
                  <a:lnTo>
                    <a:pt x="27" y="441"/>
                  </a:lnTo>
                  <a:lnTo>
                    <a:pt x="56" y="441"/>
                  </a:lnTo>
                  <a:lnTo>
                    <a:pt x="71" y="424"/>
                  </a:lnTo>
                  <a:lnTo>
                    <a:pt x="100" y="424"/>
                  </a:lnTo>
                  <a:lnTo>
                    <a:pt x="142" y="395"/>
                  </a:lnTo>
                  <a:lnTo>
                    <a:pt x="155" y="366"/>
                  </a:lnTo>
                  <a:lnTo>
                    <a:pt x="142" y="307"/>
                  </a:lnTo>
                  <a:lnTo>
                    <a:pt x="142" y="293"/>
                  </a:lnTo>
                  <a:lnTo>
                    <a:pt x="186" y="293"/>
                  </a:lnTo>
                  <a:lnTo>
                    <a:pt x="199" y="232"/>
                  </a:lnTo>
                  <a:lnTo>
                    <a:pt x="259" y="232"/>
                  </a:lnTo>
                  <a:lnTo>
                    <a:pt x="270" y="188"/>
                  </a:lnTo>
                  <a:lnTo>
                    <a:pt x="286" y="175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40800" y="3992040"/>
              <a:ext cx="383760" cy="38016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40800" y="3992040"/>
              <a:ext cx="383760" cy="38016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26760" y="3947760"/>
              <a:ext cx="339480" cy="27036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26760" y="3947760"/>
              <a:ext cx="339480" cy="27036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40840" y="3898080"/>
              <a:ext cx="442440" cy="42444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40840" y="3898080"/>
              <a:ext cx="442440" cy="42444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89480" y="3867840"/>
              <a:ext cx="176760" cy="13788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89480" y="3867840"/>
              <a:ext cx="176760" cy="13788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37360" y="3793680"/>
              <a:ext cx="247320" cy="12168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37360" y="3793680"/>
              <a:ext cx="247320" cy="12168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32000" y="3811320"/>
              <a:ext cx="341280" cy="22464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32000" y="3811320"/>
              <a:ext cx="341280" cy="22464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24160" y="3717360"/>
              <a:ext cx="397800" cy="27432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24160" y="3717360"/>
              <a:ext cx="397800" cy="27432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97720" y="3354480"/>
              <a:ext cx="965880" cy="51300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697720" y="3354480"/>
              <a:ext cx="965880" cy="51300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80760" y="4142520"/>
              <a:ext cx="263520" cy="27396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80760" y="4142520"/>
              <a:ext cx="263520" cy="27396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25080" y="4112280"/>
              <a:ext cx="371520" cy="36072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25080" y="4112280"/>
              <a:ext cx="371520" cy="36072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08920" y="3992040"/>
              <a:ext cx="475920" cy="48096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08920" y="3992040"/>
              <a:ext cx="475920" cy="48096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22160" y="4322520"/>
              <a:ext cx="385920" cy="37692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322160" y="4322520"/>
              <a:ext cx="385920" cy="37692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08920" y="4687560"/>
              <a:ext cx="150480" cy="15048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08920" y="4687560"/>
              <a:ext cx="150480" cy="15048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43560" y="4673520"/>
              <a:ext cx="90000" cy="15192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43560" y="4673520"/>
              <a:ext cx="90000" cy="15192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10680" y="4885560"/>
              <a:ext cx="131040" cy="15192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10680" y="4885560"/>
              <a:ext cx="131040" cy="15192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10680" y="4625280"/>
              <a:ext cx="178920" cy="27432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10680" y="4625280"/>
              <a:ext cx="178920" cy="27432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74600" y="4611240"/>
              <a:ext cx="267120" cy="22644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74600" y="4611240"/>
              <a:ext cx="267120" cy="22644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19520" y="4372200"/>
              <a:ext cx="369720" cy="28260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19520" y="4372200"/>
              <a:ext cx="369720" cy="28260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27320" y="4372200"/>
              <a:ext cx="235440" cy="39060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27320" y="4372200"/>
              <a:ext cx="235440" cy="39060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22080" y="4386240"/>
              <a:ext cx="385920" cy="46692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22080" y="4386240"/>
              <a:ext cx="385920" cy="46692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42080" y="4673520"/>
              <a:ext cx="311400" cy="19620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942080" y="4673520"/>
              <a:ext cx="311400" cy="19620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00360" y="4838040"/>
              <a:ext cx="192600" cy="21204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00360" y="4838040"/>
              <a:ext cx="192600" cy="21204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95960" y="4838040"/>
              <a:ext cx="141120" cy="13572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295960" y="4838040"/>
              <a:ext cx="141120" cy="13572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95960" y="4963680"/>
              <a:ext cx="252720" cy="25452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95960" y="4963680"/>
              <a:ext cx="252720" cy="25452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01040" y="4825440"/>
              <a:ext cx="444240" cy="43704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01040" y="4825440"/>
              <a:ext cx="444240" cy="43704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22080" y="5142240"/>
              <a:ext cx="277920" cy="22644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22080" y="5142240"/>
              <a:ext cx="277920" cy="22644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73720" y="5172120"/>
              <a:ext cx="70560" cy="17856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73720" y="5172120"/>
              <a:ext cx="70560" cy="17856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11840" y="4598640"/>
              <a:ext cx="61560" cy="442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11840" y="4598640"/>
              <a:ext cx="61560" cy="442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225040" y="3947760"/>
              <a:ext cx="1800" cy="11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53480" y="3660840"/>
              <a:ext cx="332640" cy="20700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53480" y="3660840"/>
              <a:ext cx="332640" cy="20700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37280" y="3340440"/>
              <a:ext cx="148320" cy="18216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37280" y="3340440"/>
              <a:ext cx="148320" cy="18216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15040" y="3066480"/>
              <a:ext cx="58320" cy="932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315040" y="3066480"/>
              <a:ext cx="58320" cy="932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19440" y="3009240"/>
              <a:ext cx="42480" cy="8640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19440" y="3009240"/>
              <a:ext cx="42480" cy="8640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03640" y="3583080"/>
              <a:ext cx="130680" cy="5832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03640" y="3583080"/>
              <a:ext cx="130680" cy="5832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40880" y="1901880"/>
              <a:ext cx="3826440" cy="1951920"/>
            </a:xfrm>
            <a:custGeom>
              <a:avLst/>
              <a:gdLst/>
              <a:ahLst/>
              <a:rect l="l" t="t" r="r" b="b"/>
              <a:pathLst>
                <a:path w="3710" h="1892">
                  <a:moveTo>
                    <a:pt x="1884" y="350"/>
                  </a:moveTo>
                  <a:lnTo>
                    <a:pt x="1869" y="364"/>
                  </a:lnTo>
                  <a:lnTo>
                    <a:pt x="1884" y="395"/>
                  </a:lnTo>
                  <a:lnTo>
                    <a:pt x="1825" y="423"/>
                  </a:lnTo>
                  <a:lnTo>
                    <a:pt x="1813" y="423"/>
                  </a:lnTo>
                  <a:lnTo>
                    <a:pt x="1825" y="379"/>
                  </a:lnTo>
                  <a:lnTo>
                    <a:pt x="1968" y="249"/>
                  </a:lnTo>
                  <a:lnTo>
                    <a:pt x="1968" y="159"/>
                  </a:lnTo>
                  <a:lnTo>
                    <a:pt x="1913" y="101"/>
                  </a:lnTo>
                  <a:lnTo>
                    <a:pt x="1842" y="101"/>
                  </a:lnTo>
                  <a:lnTo>
                    <a:pt x="1842" y="130"/>
                  </a:lnTo>
                  <a:lnTo>
                    <a:pt x="1798" y="130"/>
                  </a:lnTo>
                  <a:lnTo>
                    <a:pt x="1825" y="73"/>
                  </a:lnTo>
                  <a:lnTo>
                    <a:pt x="1754" y="57"/>
                  </a:lnTo>
                  <a:lnTo>
                    <a:pt x="1798" y="29"/>
                  </a:lnTo>
                  <a:lnTo>
                    <a:pt x="1754" y="0"/>
                  </a:lnTo>
                  <a:lnTo>
                    <a:pt x="1683" y="73"/>
                  </a:lnTo>
                  <a:lnTo>
                    <a:pt x="1683" y="130"/>
                  </a:lnTo>
                  <a:lnTo>
                    <a:pt x="1638" y="130"/>
                  </a:lnTo>
                  <a:lnTo>
                    <a:pt x="1510" y="159"/>
                  </a:lnTo>
                  <a:lnTo>
                    <a:pt x="1395" y="232"/>
                  </a:lnTo>
                  <a:lnTo>
                    <a:pt x="1351" y="293"/>
                  </a:lnTo>
                  <a:lnTo>
                    <a:pt x="1364" y="364"/>
                  </a:lnTo>
                  <a:lnTo>
                    <a:pt x="1207" y="395"/>
                  </a:lnTo>
                  <a:lnTo>
                    <a:pt x="1220" y="481"/>
                  </a:lnTo>
                  <a:lnTo>
                    <a:pt x="1264" y="527"/>
                  </a:lnTo>
                  <a:lnTo>
                    <a:pt x="1236" y="542"/>
                  </a:lnTo>
                  <a:lnTo>
                    <a:pt x="1192" y="481"/>
                  </a:lnTo>
                  <a:lnTo>
                    <a:pt x="1149" y="469"/>
                  </a:lnTo>
                  <a:lnTo>
                    <a:pt x="1136" y="481"/>
                  </a:lnTo>
                  <a:lnTo>
                    <a:pt x="1107" y="452"/>
                  </a:lnTo>
                  <a:lnTo>
                    <a:pt x="1076" y="423"/>
                  </a:lnTo>
                  <a:lnTo>
                    <a:pt x="1076" y="440"/>
                  </a:lnTo>
                  <a:lnTo>
                    <a:pt x="1092" y="481"/>
                  </a:lnTo>
                  <a:lnTo>
                    <a:pt x="1050" y="555"/>
                  </a:lnTo>
                  <a:lnTo>
                    <a:pt x="1076" y="615"/>
                  </a:lnTo>
                  <a:lnTo>
                    <a:pt x="1065" y="672"/>
                  </a:lnTo>
                  <a:lnTo>
                    <a:pt x="1065" y="718"/>
                  </a:lnTo>
                  <a:lnTo>
                    <a:pt x="1076" y="734"/>
                  </a:lnTo>
                  <a:lnTo>
                    <a:pt x="1092" y="806"/>
                  </a:lnTo>
                  <a:lnTo>
                    <a:pt x="1005" y="881"/>
                  </a:lnTo>
                  <a:lnTo>
                    <a:pt x="992" y="864"/>
                  </a:lnTo>
                  <a:lnTo>
                    <a:pt x="1050" y="791"/>
                  </a:lnTo>
                  <a:lnTo>
                    <a:pt x="1065" y="747"/>
                  </a:lnTo>
                  <a:lnTo>
                    <a:pt x="1036" y="718"/>
                  </a:lnTo>
                  <a:lnTo>
                    <a:pt x="1036" y="571"/>
                  </a:lnTo>
                  <a:lnTo>
                    <a:pt x="1021" y="542"/>
                  </a:lnTo>
                  <a:lnTo>
                    <a:pt x="1036" y="452"/>
                  </a:lnTo>
                  <a:lnTo>
                    <a:pt x="1005" y="440"/>
                  </a:lnTo>
                  <a:lnTo>
                    <a:pt x="1021" y="423"/>
                  </a:lnTo>
                  <a:lnTo>
                    <a:pt x="1005" y="395"/>
                  </a:lnTo>
                  <a:lnTo>
                    <a:pt x="977" y="408"/>
                  </a:lnTo>
                  <a:lnTo>
                    <a:pt x="906" y="599"/>
                  </a:lnTo>
                  <a:lnTo>
                    <a:pt x="906" y="672"/>
                  </a:lnTo>
                  <a:lnTo>
                    <a:pt x="948" y="734"/>
                  </a:lnTo>
                  <a:lnTo>
                    <a:pt x="948" y="762"/>
                  </a:lnTo>
                  <a:lnTo>
                    <a:pt x="906" y="734"/>
                  </a:lnTo>
                  <a:lnTo>
                    <a:pt x="733" y="615"/>
                  </a:lnTo>
                  <a:lnTo>
                    <a:pt x="718" y="644"/>
                  </a:lnTo>
                  <a:lnTo>
                    <a:pt x="777" y="718"/>
                  </a:lnTo>
                  <a:lnTo>
                    <a:pt x="747" y="734"/>
                  </a:lnTo>
                  <a:lnTo>
                    <a:pt x="733" y="718"/>
                  </a:lnTo>
                  <a:lnTo>
                    <a:pt x="647" y="747"/>
                  </a:lnTo>
                  <a:lnTo>
                    <a:pt x="631" y="776"/>
                  </a:lnTo>
                  <a:lnTo>
                    <a:pt x="618" y="747"/>
                  </a:lnTo>
                  <a:lnTo>
                    <a:pt x="618" y="718"/>
                  </a:lnTo>
                  <a:lnTo>
                    <a:pt x="474" y="806"/>
                  </a:lnTo>
                  <a:lnTo>
                    <a:pt x="474" y="835"/>
                  </a:lnTo>
                  <a:lnTo>
                    <a:pt x="443" y="848"/>
                  </a:lnTo>
                  <a:lnTo>
                    <a:pt x="403" y="820"/>
                  </a:lnTo>
                  <a:lnTo>
                    <a:pt x="443" y="791"/>
                  </a:lnTo>
                  <a:lnTo>
                    <a:pt x="432" y="747"/>
                  </a:lnTo>
                  <a:lnTo>
                    <a:pt x="372" y="734"/>
                  </a:lnTo>
                  <a:lnTo>
                    <a:pt x="388" y="762"/>
                  </a:lnTo>
                  <a:lnTo>
                    <a:pt x="388" y="835"/>
                  </a:lnTo>
                  <a:lnTo>
                    <a:pt x="403" y="864"/>
                  </a:lnTo>
                  <a:lnTo>
                    <a:pt x="388" y="892"/>
                  </a:lnTo>
                  <a:lnTo>
                    <a:pt x="344" y="881"/>
                  </a:lnTo>
                  <a:lnTo>
                    <a:pt x="288" y="921"/>
                  </a:lnTo>
                  <a:lnTo>
                    <a:pt x="315" y="982"/>
                  </a:lnTo>
                  <a:lnTo>
                    <a:pt x="229" y="954"/>
                  </a:lnTo>
                  <a:lnTo>
                    <a:pt x="215" y="967"/>
                  </a:lnTo>
                  <a:lnTo>
                    <a:pt x="244" y="1011"/>
                  </a:lnTo>
                  <a:lnTo>
                    <a:pt x="215" y="1011"/>
                  </a:lnTo>
                  <a:lnTo>
                    <a:pt x="173" y="982"/>
                  </a:lnTo>
                  <a:lnTo>
                    <a:pt x="173" y="892"/>
                  </a:lnTo>
                  <a:lnTo>
                    <a:pt x="129" y="864"/>
                  </a:lnTo>
                  <a:lnTo>
                    <a:pt x="114" y="835"/>
                  </a:lnTo>
                  <a:lnTo>
                    <a:pt x="144" y="848"/>
                  </a:lnTo>
                  <a:lnTo>
                    <a:pt x="259" y="892"/>
                  </a:lnTo>
                  <a:lnTo>
                    <a:pt x="332" y="848"/>
                  </a:lnTo>
                  <a:lnTo>
                    <a:pt x="315" y="806"/>
                  </a:lnTo>
                  <a:lnTo>
                    <a:pt x="229" y="718"/>
                  </a:lnTo>
                  <a:lnTo>
                    <a:pt x="144" y="689"/>
                  </a:lnTo>
                  <a:lnTo>
                    <a:pt x="144" y="672"/>
                  </a:lnTo>
                  <a:lnTo>
                    <a:pt x="114" y="661"/>
                  </a:lnTo>
                  <a:lnTo>
                    <a:pt x="85" y="672"/>
                  </a:lnTo>
                  <a:lnTo>
                    <a:pt x="41" y="718"/>
                  </a:lnTo>
                  <a:lnTo>
                    <a:pt x="41" y="762"/>
                  </a:lnTo>
                  <a:lnTo>
                    <a:pt x="73" y="791"/>
                  </a:lnTo>
                  <a:lnTo>
                    <a:pt x="56" y="835"/>
                  </a:lnTo>
                  <a:lnTo>
                    <a:pt x="73" y="910"/>
                  </a:lnTo>
                  <a:lnTo>
                    <a:pt x="56" y="954"/>
                  </a:lnTo>
                  <a:lnTo>
                    <a:pt x="85" y="998"/>
                  </a:lnTo>
                  <a:lnTo>
                    <a:pt x="73" y="1027"/>
                  </a:lnTo>
                  <a:lnTo>
                    <a:pt x="100" y="1055"/>
                  </a:lnTo>
                  <a:lnTo>
                    <a:pt x="100" y="1073"/>
                  </a:lnTo>
                  <a:lnTo>
                    <a:pt x="56" y="1145"/>
                  </a:lnTo>
                  <a:lnTo>
                    <a:pt x="14" y="1174"/>
                  </a:lnTo>
                  <a:lnTo>
                    <a:pt x="29" y="1174"/>
                  </a:lnTo>
                  <a:lnTo>
                    <a:pt x="56" y="1203"/>
                  </a:lnTo>
                  <a:lnTo>
                    <a:pt x="14" y="1247"/>
                  </a:lnTo>
                  <a:lnTo>
                    <a:pt x="0" y="1247"/>
                  </a:lnTo>
                  <a:lnTo>
                    <a:pt x="14" y="1293"/>
                  </a:lnTo>
                  <a:lnTo>
                    <a:pt x="14" y="1333"/>
                  </a:lnTo>
                  <a:lnTo>
                    <a:pt x="29" y="1366"/>
                  </a:lnTo>
                  <a:lnTo>
                    <a:pt x="73" y="1379"/>
                  </a:lnTo>
                  <a:lnTo>
                    <a:pt x="85" y="1394"/>
                  </a:lnTo>
                  <a:lnTo>
                    <a:pt x="85" y="1423"/>
                  </a:lnTo>
                  <a:lnTo>
                    <a:pt x="114" y="1467"/>
                  </a:lnTo>
                  <a:lnTo>
                    <a:pt x="129" y="1467"/>
                  </a:lnTo>
                  <a:lnTo>
                    <a:pt x="114" y="1496"/>
                  </a:lnTo>
                  <a:lnTo>
                    <a:pt x="100" y="1484"/>
                  </a:lnTo>
                  <a:lnTo>
                    <a:pt x="100" y="1496"/>
                  </a:lnTo>
                  <a:lnTo>
                    <a:pt x="114" y="1525"/>
                  </a:lnTo>
                  <a:lnTo>
                    <a:pt x="156" y="1525"/>
                  </a:lnTo>
                  <a:lnTo>
                    <a:pt x="173" y="1542"/>
                  </a:lnTo>
                  <a:lnTo>
                    <a:pt x="156" y="1542"/>
                  </a:lnTo>
                  <a:lnTo>
                    <a:pt x="173" y="1557"/>
                  </a:lnTo>
                  <a:lnTo>
                    <a:pt x="188" y="1557"/>
                  </a:lnTo>
                  <a:lnTo>
                    <a:pt x="200" y="1586"/>
                  </a:lnTo>
                  <a:lnTo>
                    <a:pt x="215" y="1599"/>
                  </a:lnTo>
                  <a:lnTo>
                    <a:pt x="229" y="1586"/>
                  </a:lnTo>
                  <a:lnTo>
                    <a:pt x="300" y="1630"/>
                  </a:lnTo>
                  <a:lnTo>
                    <a:pt x="288" y="1687"/>
                  </a:lnTo>
                  <a:lnTo>
                    <a:pt x="273" y="1672"/>
                  </a:lnTo>
                  <a:lnTo>
                    <a:pt x="259" y="1687"/>
                  </a:lnTo>
                  <a:lnTo>
                    <a:pt x="259" y="1716"/>
                  </a:lnTo>
                  <a:lnTo>
                    <a:pt x="273" y="1705"/>
                  </a:lnTo>
                  <a:lnTo>
                    <a:pt x="288" y="1716"/>
                  </a:lnTo>
                  <a:lnTo>
                    <a:pt x="244" y="1733"/>
                  </a:lnTo>
                  <a:lnTo>
                    <a:pt x="259" y="1745"/>
                  </a:lnTo>
                  <a:lnTo>
                    <a:pt x="229" y="1777"/>
                  </a:lnTo>
                  <a:lnTo>
                    <a:pt x="215" y="1777"/>
                  </a:lnTo>
                  <a:lnTo>
                    <a:pt x="229" y="1777"/>
                  </a:lnTo>
                  <a:lnTo>
                    <a:pt x="288" y="1835"/>
                  </a:lnTo>
                  <a:lnTo>
                    <a:pt x="359" y="1835"/>
                  </a:lnTo>
                  <a:lnTo>
                    <a:pt x="388" y="1850"/>
                  </a:lnTo>
                  <a:lnTo>
                    <a:pt x="415" y="1850"/>
                  </a:lnTo>
                  <a:lnTo>
                    <a:pt x="443" y="1879"/>
                  </a:lnTo>
                  <a:lnTo>
                    <a:pt x="459" y="1892"/>
                  </a:lnTo>
                  <a:lnTo>
                    <a:pt x="474" y="1892"/>
                  </a:lnTo>
                  <a:lnTo>
                    <a:pt x="488" y="1879"/>
                  </a:lnTo>
                  <a:lnTo>
                    <a:pt x="459" y="1850"/>
                  </a:lnTo>
                  <a:lnTo>
                    <a:pt x="459" y="1819"/>
                  </a:lnTo>
                  <a:lnTo>
                    <a:pt x="443" y="1791"/>
                  </a:lnTo>
                  <a:lnTo>
                    <a:pt x="474" y="1745"/>
                  </a:lnTo>
                  <a:lnTo>
                    <a:pt x="488" y="1762"/>
                  </a:lnTo>
                  <a:lnTo>
                    <a:pt x="503" y="1745"/>
                  </a:lnTo>
                  <a:lnTo>
                    <a:pt x="503" y="1733"/>
                  </a:lnTo>
                  <a:lnTo>
                    <a:pt x="488" y="1733"/>
                  </a:lnTo>
                  <a:lnTo>
                    <a:pt x="503" y="1716"/>
                  </a:lnTo>
                  <a:lnTo>
                    <a:pt x="488" y="1687"/>
                  </a:lnTo>
                  <a:lnTo>
                    <a:pt x="459" y="1687"/>
                  </a:lnTo>
                  <a:lnTo>
                    <a:pt x="443" y="1659"/>
                  </a:lnTo>
                  <a:lnTo>
                    <a:pt x="459" y="1586"/>
                  </a:lnTo>
                  <a:lnTo>
                    <a:pt x="488" y="1615"/>
                  </a:lnTo>
                  <a:lnTo>
                    <a:pt x="503" y="1615"/>
                  </a:lnTo>
                  <a:lnTo>
                    <a:pt x="488" y="1586"/>
                  </a:lnTo>
                  <a:lnTo>
                    <a:pt x="532" y="1542"/>
                  </a:lnTo>
                  <a:lnTo>
                    <a:pt x="559" y="1557"/>
                  </a:lnTo>
                  <a:lnTo>
                    <a:pt x="574" y="1542"/>
                  </a:lnTo>
                  <a:lnTo>
                    <a:pt x="603" y="1557"/>
                  </a:lnTo>
                  <a:lnTo>
                    <a:pt x="647" y="1586"/>
                  </a:lnTo>
                  <a:lnTo>
                    <a:pt x="674" y="1570"/>
                  </a:lnTo>
                  <a:lnTo>
                    <a:pt x="706" y="1570"/>
                  </a:lnTo>
                  <a:lnTo>
                    <a:pt x="718" y="1586"/>
                  </a:lnTo>
                  <a:lnTo>
                    <a:pt x="777" y="1586"/>
                  </a:lnTo>
                  <a:lnTo>
                    <a:pt x="791" y="1557"/>
                  </a:lnTo>
                  <a:lnTo>
                    <a:pt x="747" y="1542"/>
                  </a:lnTo>
                  <a:lnTo>
                    <a:pt x="777" y="1525"/>
                  </a:lnTo>
                  <a:lnTo>
                    <a:pt x="762" y="1513"/>
                  </a:lnTo>
                  <a:lnTo>
                    <a:pt x="777" y="1496"/>
                  </a:lnTo>
                  <a:lnTo>
                    <a:pt x="777" y="1452"/>
                  </a:lnTo>
                  <a:lnTo>
                    <a:pt x="806" y="1467"/>
                  </a:lnTo>
                  <a:lnTo>
                    <a:pt x="933" y="1423"/>
                  </a:lnTo>
                  <a:lnTo>
                    <a:pt x="933" y="1410"/>
                  </a:lnTo>
                  <a:lnTo>
                    <a:pt x="992" y="1410"/>
                  </a:lnTo>
                  <a:lnTo>
                    <a:pt x="1005" y="1438"/>
                  </a:lnTo>
                  <a:lnTo>
                    <a:pt x="1005" y="1452"/>
                  </a:lnTo>
                  <a:lnTo>
                    <a:pt x="1021" y="1452"/>
                  </a:lnTo>
                  <a:lnTo>
                    <a:pt x="1050" y="1467"/>
                  </a:lnTo>
                  <a:lnTo>
                    <a:pt x="1050" y="1484"/>
                  </a:lnTo>
                  <a:lnTo>
                    <a:pt x="1076" y="1484"/>
                  </a:lnTo>
                  <a:lnTo>
                    <a:pt x="1107" y="1452"/>
                  </a:lnTo>
                  <a:lnTo>
                    <a:pt x="1136" y="1438"/>
                  </a:lnTo>
                  <a:lnTo>
                    <a:pt x="1149" y="1484"/>
                  </a:lnTo>
                  <a:lnTo>
                    <a:pt x="1207" y="1586"/>
                  </a:lnTo>
                  <a:lnTo>
                    <a:pt x="1220" y="1557"/>
                  </a:lnTo>
                  <a:lnTo>
                    <a:pt x="1236" y="1586"/>
                  </a:lnTo>
                  <a:lnTo>
                    <a:pt x="1280" y="1570"/>
                  </a:lnTo>
                  <a:lnTo>
                    <a:pt x="1324" y="1615"/>
                  </a:lnTo>
                  <a:lnTo>
                    <a:pt x="1351" y="1630"/>
                  </a:lnTo>
                  <a:lnTo>
                    <a:pt x="1351" y="1615"/>
                  </a:lnTo>
                  <a:lnTo>
                    <a:pt x="1380" y="1643"/>
                  </a:lnTo>
                  <a:lnTo>
                    <a:pt x="1395" y="1630"/>
                  </a:lnTo>
                  <a:lnTo>
                    <a:pt x="1466" y="1586"/>
                  </a:lnTo>
                  <a:lnTo>
                    <a:pt x="1523" y="1599"/>
                  </a:lnTo>
                  <a:lnTo>
                    <a:pt x="1550" y="1615"/>
                  </a:lnTo>
                  <a:lnTo>
                    <a:pt x="1610" y="1615"/>
                  </a:lnTo>
                  <a:lnTo>
                    <a:pt x="1610" y="1557"/>
                  </a:lnTo>
                  <a:lnTo>
                    <a:pt x="1638" y="1542"/>
                  </a:lnTo>
                  <a:lnTo>
                    <a:pt x="1698" y="1557"/>
                  </a:lnTo>
                  <a:lnTo>
                    <a:pt x="1725" y="1599"/>
                  </a:lnTo>
                  <a:lnTo>
                    <a:pt x="1740" y="1599"/>
                  </a:lnTo>
                  <a:lnTo>
                    <a:pt x="1769" y="1586"/>
                  </a:lnTo>
                  <a:lnTo>
                    <a:pt x="1853" y="1630"/>
                  </a:lnTo>
                  <a:lnTo>
                    <a:pt x="1897" y="1643"/>
                  </a:lnTo>
                  <a:lnTo>
                    <a:pt x="1957" y="1630"/>
                  </a:lnTo>
                  <a:lnTo>
                    <a:pt x="1984" y="1599"/>
                  </a:lnTo>
                  <a:lnTo>
                    <a:pt x="2028" y="1615"/>
                  </a:lnTo>
                  <a:lnTo>
                    <a:pt x="2057" y="1630"/>
                  </a:lnTo>
                  <a:lnTo>
                    <a:pt x="2099" y="1615"/>
                  </a:lnTo>
                  <a:lnTo>
                    <a:pt x="2112" y="1557"/>
                  </a:lnTo>
                  <a:lnTo>
                    <a:pt x="2128" y="1542"/>
                  </a:lnTo>
                  <a:lnTo>
                    <a:pt x="2128" y="1525"/>
                  </a:lnTo>
                  <a:lnTo>
                    <a:pt x="2112" y="1525"/>
                  </a:lnTo>
                  <a:lnTo>
                    <a:pt x="2128" y="1496"/>
                  </a:lnTo>
                  <a:lnTo>
                    <a:pt x="2183" y="1484"/>
                  </a:lnTo>
                  <a:lnTo>
                    <a:pt x="2227" y="1496"/>
                  </a:lnTo>
                  <a:lnTo>
                    <a:pt x="2256" y="1525"/>
                  </a:lnTo>
                  <a:lnTo>
                    <a:pt x="2287" y="1630"/>
                  </a:lnTo>
                  <a:lnTo>
                    <a:pt x="2316" y="1630"/>
                  </a:lnTo>
                  <a:lnTo>
                    <a:pt x="2358" y="1659"/>
                  </a:lnTo>
                  <a:lnTo>
                    <a:pt x="2358" y="1687"/>
                  </a:lnTo>
                  <a:lnTo>
                    <a:pt x="2387" y="1687"/>
                  </a:lnTo>
                  <a:lnTo>
                    <a:pt x="2442" y="1672"/>
                  </a:lnTo>
                  <a:lnTo>
                    <a:pt x="2442" y="1705"/>
                  </a:lnTo>
                  <a:lnTo>
                    <a:pt x="2402" y="1791"/>
                  </a:lnTo>
                  <a:lnTo>
                    <a:pt x="2387" y="1777"/>
                  </a:lnTo>
                  <a:lnTo>
                    <a:pt x="2358" y="1791"/>
                  </a:lnTo>
                  <a:lnTo>
                    <a:pt x="2358" y="1864"/>
                  </a:lnTo>
                  <a:lnTo>
                    <a:pt x="2371" y="1835"/>
                  </a:lnTo>
                  <a:lnTo>
                    <a:pt x="2387" y="1835"/>
                  </a:lnTo>
                  <a:lnTo>
                    <a:pt x="2387" y="1850"/>
                  </a:lnTo>
                  <a:lnTo>
                    <a:pt x="2402" y="1864"/>
                  </a:lnTo>
                  <a:lnTo>
                    <a:pt x="2442" y="1835"/>
                  </a:lnTo>
                  <a:lnTo>
                    <a:pt x="2575" y="1672"/>
                  </a:lnTo>
                  <a:lnTo>
                    <a:pt x="2575" y="1570"/>
                  </a:lnTo>
                  <a:lnTo>
                    <a:pt x="2590" y="1542"/>
                  </a:lnTo>
                  <a:lnTo>
                    <a:pt x="2590" y="1496"/>
                  </a:lnTo>
                  <a:lnTo>
                    <a:pt x="2559" y="1452"/>
                  </a:lnTo>
                  <a:lnTo>
                    <a:pt x="2546" y="1452"/>
                  </a:lnTo>
                  <a:lnTo>
                    <a:pt x="2530" y="1484"/>
                  </a:lnTo>
                  <a:lnTo>
                    <a:pt x="2502" y="1484"/>
                  </a:lnTo>
                  <a:lnTo>
                    <a:pt x="2515" y="1452"/>
                  </a:lnTo>
                  <a:lnTo>
                    <a:pt x="2502" y="1452"/>
                  </a:lnTo>
                  <a:lnTo>
                    <a:pt x="2486" y="1438"/>
                  </a:lnTo>
                  <a:lnTo>
                    <a:pt x="2458" y="1438"/>
                  </a:lnTo>
                  <a:lnTo>
                    <a:pt x="2458" y="1423"/>
                  </a:lnTo>
                  <a:lnTo>
                    <a:pt x="2630" y="1247"/>
                  </a:lnTo>
                  <a:lnTo>
                    <a:pt x="2690" y="1231"/>
                  </a:lnTo>
                  <a:lnTo>
                    <a:pt x="2701" y="1247"/>
                  </a:lnTo>
                  <a:lnTo>
                    <a:pt x="2717" y="1231"/>
                  </a:lnTo>
                  <a:lnTo>
                    <a:pt x="2761" y="1247"/>
                  </a:lnTo>
                  <a:lnTo>
                    <a:pt x="2774" y="1218"/>
                  </a:lnTo>
                  <a:lnTo>
                    <a:pt x="2816" y="1231"/>
                  </a:lnTo>
                  <a:lnTo>
                    <a:pt x="2834" y="1231"/>
                  </a:lnTo>
                  <a:lnTo>
                    <a:pt x="2816" y="1247"/>
                  </a:lnTo>
                  <a:lnTo>
                    <a:pt x="2816" y="1260"/>
                  </a:lnTo>
                  <a:lnTo>
                    <a:pt x="2905" y="1247"/>
                  </a:lnTo>
                  <a:lnTo>
                    <a:pt x="2889" y="1231"/>
                  </a:lnTo>
                  <a:lnTo>
                    <a:pt x="2949" y="1130"/>
                  </a:lnTo>
                  <a:lnTo>
                    <a:pt x="3020" y="1113"/>
                  </a:lnTo>
                  <a:lnTo>
                    <a:pt x="3020" y="1174"/>
                  </a:lnTo>
                  <a:lnTo>
                    <a:pt x="3092" y="1130"/>
                  </a:lnTo>
                  <a:lnTo>
                    <a:pt x="3092" y="1084"/>
                  </a:lnTo>
                  <a:lnTo>
                    <a:pt x="3119" y="1084"/>
                  </a:lnTo>
                  <a:lnTo>
                    <a:pt x="3108" y="1101"/>
                  </a:lnTo>
                  <a:lnTo>
                    <a:pt x="3092" y="1174"/>
                  </a:lnTo>
                  <a:lnTo>
                    <a:pt x="3064" y="1187"/>
                  </a:lnTo>
                  <a:lnTo>
                    <a:pt x="2975" y="1293"/>
                  </a:lnTo>
                  <a:lnTo>
                    <a:pt x="2949" y="1304"/>
                  </a:lnTo>
                  <a:lnTo>
                    <a:pt x="2918" y="1410"/>
                  </a:lnTo>
                  <a:lnTo>
                    <a:pt x="2949" y="1586"/>
                  </a:lnTo>
                  <a:lnTo>
                    <a:pt x="2975" y="1557"/>
                  </a:lnTo>
                  <a:lnTo>
                    <a:pt x="3020" y="1496"/>
                  </a:lnTo>
                  <a:lnTo>
                    <a:pt x="3020" y="1452"/>
                  </a:lnTo>
                  <a:lnTo>
                    <a:pt x="3033" y="1452"/>
                  </a:lnTo>
                  <a:lnTo>
                    <a:pt x="3064" y="1438"/>
                  </a:lnTo>
                  <a:lnTo>
                    <a:pt x="3064" y="1394"/>
                  </a:lnTo>
                  <a:lnTo>
                    <a:pt x="3075" y="1379"/>
                  </a:lnTo>
                  <a:lnTo>
                    <a:pt x="3092" y="1379"/>
                  </a:lnTo>
                  <a:lnTo>
                    <a:pt x="3092" y="1321"/>
                  </a:lnTo>
                  <a:lnTo>
                    <a:pt x="3064" y="1293"/>
                  </a:lnTo>
                  <a:lnTo>
                    <a:pt x="3092" y="1247"/>
                  </a:lnTo>
                  <a:lnTo>
                    <a:pt x="3092" y="1218"/>
                  </a:lnTo>
                  <a:lnTo>
                    <a:pt x="3119" y="1218"/>
                  </a:lnTo>
                  <a:lnTo>
                    <a:pt x="3163" y="1187"/>
                  </a:lnTo>
                  <a:lnTo>
                    <a:pt x="3163" y="1218"/>
                  </a:lnTo>
                  <a:lnTo>
                    <a:pt x="3179" y="1203"/>
                  </a:lnTo>
                  <a:lnTo>
                    <a:pt x="3219" y="1187"/>
                  </a:lnTo>
                  <a:lnTo>
                    <a:pt x="3250" y="1218"/>
                  </a:lnTo>
                  <a:lnTo>
                    <a:pt x="3263" y="1187"/>
                  </a:lnTo>
                  <a:lnTo>
                    <a:pt x="3407" y="1084"/>
                  </a:lnTo>
                  <a:lnTo>
                    <a:pt x="3451" y="1101"/>
                  </a:lnTo>
                  <a:lnTo>
                    <a:pt x="3467" y="1084"/>
                  </a:lnTo>
                  <a:lnTo>
                    <a:pt x="3434" y="998"/>
                  </a:lnTo>
                  <a:lnTo>
                    <a:pt x="3422" y="998"/>
                  </a:lnTo>
                  <a:lnTo>
                    <a:pt x="3422" y="967"/>
                  </a:lnTo>
                  <a:lnTo>
                    <a:pt x="3434" y="967"/>
                  </a:lnTo>
                  <a:lnTo>
                    <a:pt x="3467" y="954"/>
                  </a:lnTo>
                  <a:lnTo>
                    <a:pt x="3493" y="921"/>
                  </a:lnTo>
                  <a:lnTo>
                    <a:pt x="3478" y="892"/>
                  </a:lnTo>
                  <a:lnTo>
                    <a:pt x="3493" y="881"/>
                  </a:lnTo>
                  <a:lnTo>
                    <a:pt x="3509" y="921"/>
                  </a:lnTo>
                  <a:lnTo>
                    <a:pt x="3538" y="921"/>
                  </a:lnTo>
                  <a:lnTo>
                    <a:pt x="3566" y="954"/>
                  </a:lnTo>
                  <a:lnTo>
                    <a:pt x="3637" y="998"/>
                  </a:lnTo>
                  <a:lnTo>
                    <a:pt x="3653" y="954"/>
                  </a:lnTo>
                  <a:lnTo>
                    <a:pt x="3653" y="921"/>
                  </a:lnTo>
                  <a:lnTo>
                    <a:pt x="3681" y="921"/>
                  </a:lnTo>
                  <a:lnTo>
                    <a:pt x="3710" y="892"/>
                  </a:lnTo>
                  <a:lnTo>
                    <a:pt x="3666" y="848"/>
                  </a:lnTo>
                  <a:lnTo>
                    <a:pt x="3593" y="835"/>
                  </a:lnTo>
                  <a:lnTo>
                    <a:pt x="3467" y="718"/>
                  </a:lnTo>
                  <a:lnTo>
                    <a:pt x="3378" y="661"/>
                  </a:lnTo>
                  <a:lnTo>
                    <a:pt x="3263" y="644"/>
                  </a:lnTo>
                  <a:lnTo>
                    <a:pt x="3263" y="718"/>
                  </a:lnTo>
                  <a:lnTo>
                    <a:pt x="3234" y="734"/>
                  </a:lnTo>
                  <a:lnTo>
                    <a:pt x="3208" y="701"/>
                  </a:lnTo>
                  <a:lnTo>
                    <a:pt x="3208" y="672"/>
                  </a:lnTo>
                  <a:lnTo>
                    <a:pt x="3219" y="672"/>
                  </a:lnTo>
                  <a:lnTo>
                    <a:pt x="3234" y="661"/>
                  </a:lnTo>
                  <a:lnTo>
                    <a:pt x="3208" y="661"/>
                  </a:lnTo>
                  <a:lnTo>
                    <a:pt x="3179" y="689"/>
                  </a:lnTo>
                  <a:lnTo>
                    <a:pt x="3108" y="672"/>
                  </a:lnTo>
                  <a:lnTo>
                    <a:pt x="3033" y="672"/>
                  </a:lnTo>
                  <a:lnTo>
                    <a:pt x="3004" y="661"/>
                  </a:lnTo>
                  <a:lnTo>
                    <a:pt x="3020" y="632"/>
                  </a:lnTo>
                  <a:lnTo>
                    <a:pt x="2993" y="586"/>
                  </a:lnTo>
                  <a:lnTo>
                    <a:pt x="2933" y="571"/>
                  </a:lnTo>
                  <a:lnTo>
                    <a:pt x="2845" y="599"/>
                  </a:lnTo>
                  <a:lnTo>
                    <a:pt x="2834" y="555"/>
                  </a:lnTo>
                  <a:lnTo>
                    <a:pt x="2805" y="555"/>
                  </a:lnTo>
                  <a:lnTo>
                    <a:pt x="2789" y="542"/>
                  </a:lnTo>
                  <a:lnTo>
                    <a:pt x="2789" y="498"/>
                  </a:lnTo>
                  <a:lnTo>
                    <a:pt x="2690" y="469"/>
                  </a:lnTo>
                  <a:lnTo>
                    <a:pt x="2575" y="440"/>
                  </a:lnTo>
                  <a:lnTo>
                    <a:pt x="2546" y="498"/>
                  </a:lnTo>
                  <a:lnTo>
                    <a:pt x="2575" y="542"/>
                  </a:lnTo>
                  <a:lnTo>
                    <a:pt x="2475" y="542"/>
                  </a:lnTo>
                  <a:lnTo>
                    <a:pt x="2442" y="555"/>
                  </a:lnTo>
                  <a:lnTo>
                    <a:pt x="2402" y="513"/>
                  </a:lnTo>
                  <a:lnTo>
                    <a:pt x="2371" y="599"/>
                  </a:lnTo>
                  <a:lnTo>
                    <a:pt x="2342" y="586"/>
                  </a:lnTo>
                  <a:lnTo>
                    <a:pt x="2316" y="527"/>
                  </a:lnTo>
                  <a:lnTo>
                    <a:pt x="2331" y="452"/>
                  </a:lnTo>
                  <a:lnTo>
                    <a:pt x="2300" y="408"/>
                  </a:lnTo>
                  <a:lnTo>
                    <a:pt x="2216" y="379"/>
                  </a:lnTo>
                  <a:lnTo>
                    <a:pt x="2183" y="379"/>
                  </a:lnTo>
                  <a:lnTo>
                    <a:pt x="2172" y="408"/>
                  </a:lnTo>
                  <a:lnTo>
                    <a:pt x="2183" y="440"/>
                  </a:lnTo>
                  <a:lnTo>
                    <a:pt x="2068" y="423"/>
                  </a:lnTo>
                  <a:lnTo>
                    <a:pt x="2084" y="379"/>
                  </a:lnTo>
                  <a:lnTo>
                    <a:pt x="2013" y="364"/>
                  </a:lnTo>
                  <a:lnTo>
                    <a:pt x="1968" y="395"/>
                  </a:lnTo>
                  <a:lnTo>
                    <a:pt x="1884" y="350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18880" y="2490840"/>
              <a:ext cx="626400" cy="74520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18880" y="2490840"/>
              <a:ext cx="626400" cy="74520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08840" y="3839760"/>
              <a:ext cx="447840" cy="18216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08840" y="3839760"/>
              <a:ext cx="447840" cy="18216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90240" y="4248360"/>
              <a:ext cx="74520" cy="2988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690240" y="4248360"/>
              <a:ext cx="74520" cy="2988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01720" y="4021920"/>
              <a:ext cx="682920" cy="72540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201720" y="4021920"/>
              <a:ext cx="682920" cy="72540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63600" y="3490920"/>
              <a:ext cx="741600" cy="36252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663600" y="3490920"/>
              <a:ext cx="741600" cy="36252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90400" y="2565360"/>
              <a:ext cx="254520" cy="57672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90400" y="2565360"/>
              <a:ext cx="254520" cy="57672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52320" y="3310560"/>
              <a:ext cx="221400" cy="19800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52320" y="3310560"/>
              <a:ext cx="221400" cy="19800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22080" y="3473280"/>
              <a:ext cx="426600" cy="29160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22080" y="3473280"/>
              <a:ext cx="426600" cy="29160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06600" y="3236040"/>
              <a:ext cx="164520" cy="10404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106600" y="3236040"/>
              <a:ext cx="164520" cy="10404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106600" y="3310560"/>
              <a:ext cx="134280" cy="1040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6600" y="3310560"/>
              <a:ext cx="134280" cy="1040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63120" y="3170880"/>
              <a:ext cx="107640" cy="7560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63120" y="3170880"/>
              <a:ext cx="107640" cy="7560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60160" y="3354480"/>
              <a:ext cx="74160" cy="4248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60160" y="3354480"/>
              <a:ext cx="74160" cy="4248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38240" y="3793680"/>
              <a:ext cx="159120" cy="6012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38240" y="3793680"/>
              <a:ext cx="159120" cy="6012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225040" y="3611520"/>
              <a:ext cx="90000" cy="1058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25040" y="3611520"/>
              <a:ext cx="90000" cy="1058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5000" y="3853800"/>
              <a:ext cx="72360" cy="7416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25000" y="3853800"/>
              <a:ext cx="72360" cy="7416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56680" y="3898080"/>
              <a:ext cx="28440" cy="29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56680" y="3898080"/>
              <a:ext cx="28440" cy="29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56680" y="3839760"/>
              <a:ext cx="132840" cy="10764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56680" y="3839760"/>
              <a:ext cx="132840" cy="10764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867200" y="2644920"/>
              <a:ext cx="295560" cy="70956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67200" y="2644920"/>
              <a:ext cx="295560" cy="70956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425120" y="3354480"/>
              <a:ext cx="60120" cy="601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25120" y="3354480"/>
              <a:ext cx="60120" cy="601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63200" y="3354480"/>
              <a:ext cx="107640" cy="15408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63200" y="3354480"/>
              <a:ext cx="107640" cy="15408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93040" y="3264120"/>
              <a:ext cx="74160" cy="10620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93040" y="3264120"/>
              <a:ext cx="74160" cy="10620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92240" y="3434400"/>
              <a:ext cx="88200" cy="10044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92240" y="3434400"/>
              <a:ext cx="88200" cy="10044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74600" y="3522600"/>
              <a:ext cx="79200" cy="6012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74600" y="3522600"/>
              <a:ext cx="79200" cy="6012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736520" y="3566880"/>
              <a:ext cx="17640" cy="1584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36520" y="3566880"/>
              <a:ext cx="17640" cy="15840"/>
            </a:xfrm>
            <a:prstGeom prst="rect">
              <a:avLst/>
            </a:prstGeom>
            <a:noFill/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42080" y="3370680"/>
              <a:ext cx="221040" cy="2260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42080" y="3370680"/>
              <a:ext cx="221040" cy="2260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54160" y="3370680"/>
              <a:ext cx="205200" cy="2901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54160" y="3370680"/>
              <a:ext cx="205200" cy="2901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25080" y="3597120"/>
              <a:ext cx="178560" cy="9000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25080" y="3597120"/>
              <a:ext cx="178560" cy="9000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25080" y="3660840"/>
              <a:ext cx="15480" cy="10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25080" y="3660840"/>
              <a:ext cx="15480" cy="10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25080" y="3660840"/>
              <a:ext cx="15480" cy="10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25080" y="3660840"/>
              <a:ext cx="15480" cy="10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54160" y="3660840"/>
              <a:ext cx="100800" cy="5652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54160" y="3660840"/>
              <a:ext cx="100800" cy="5652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99280" y="3522600"/>
              <a:ext cx="293760" cy="29880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99280" y="3522600"/>
              <a:ext cx="293760" cy="29880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94880" y="3777480"/>
              <a:ext cx="279720" cy="24408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94880" y="3777480"/>
              <a:ext cx="279720" cy="24408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94880" y="3839760"/>
              <a:ext cx="75960" cy="15192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394880" y="3839760"/>
              <a:ext cx="75960" cy="15192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766400" y="3671640"/>
              <a:ext cx="283320" cy="28800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66400" y="3671640"/>
              <a:ext cx="283320" cy="28800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76360" y="3625560"/>
              <a:ext cx="219240" cy="16812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76360" y="3625560"/>
              <a:ext cx="219240" cy="16812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76360" y="3853800"/>
              <a:ext cx="148320" cy="12024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6360" y="3853800"/>
              <a:ext cx="148320" cy="12024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37080" y="3992040"/>
              <a:ext cx="173160" cy="13284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37080" y="3992040"/>
              <a:ext cx="173160" cy="13284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19440" y="4096080"/>
              <a:ext cx="102600" cy="12168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19440" y="4096080"/>
              <a:ext cx="102600" cy="12168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37080" y="4066200"/>
              <a:ext cx="24840" cy="4608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37080" y="4066200"/>
              <a:ext cx="24840" cy="4608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00360" y="4112280"/>
              <a:ext cx="43920" cy="10584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00360" y="4112280"/>
              <a:ext cx="43920" cy="10584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22400" y="3974400"/>
              <a:ext cx="219240" cy="24372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22400" y="3974400"/>
              <a:ext cx="219240" cy="24372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656680" y="4202640"/>
              <a:ext cx="40680" cy="28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56680" y="4202640"/>
              <a:ext cx="40680" cy="28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97720" y="4202640"/>
              <a:ext cx="43920" cy="28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97720" y="4202640"/>
              <a:ext cx="43920" cy="28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19440" y="4124880"/>
              <a:ext cx="514800" cy="48636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19440" y="4124880"/>
              <a:ext cx="514800" cy="48636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789520" y="4308480"/>
              <a:ext cx="26280" cy="439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89520" y="4308480"/>
              <a:ext cx="26280" cy="439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89520" y="4308480"/>
              <a:ext cx="144720" cy="7776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89520" y="4308480"/>
              <a:ext cx="144720" cy="7776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24160" y="4292640"/>
              <a:ext cx="10080" cy="298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24160" y="4292640"/>
              <a:ext cx="10080" cy="298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47840" y="4340520"/>
              <a:ext cx="164520" cy="19764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47840" y="4340520"/>
              <a:ext cx="164520" cy="19764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610600" y="4519080"/>
              <a:ext cx="236880" cy="1238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0600" y="4519080"/>
              <a:ext cx="236880" cy="1238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85040" y="4186440"/>
              <a:ext cx="178560" cy="10584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85040" y="4186440"/>
              <a:ext cx="178560" cy="10584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63600" y="4292640"/>
              <a:ext cx="118800" cy="13644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63600" y="4292640"/>
              <a:ext cx="118800" cy="13644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64760" y="4248360"/>
              <a:ext cx="212040" cy="46908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764760" y="4248360"/>
              <a:ext cx="212040" cy="46908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00840" y="4444920"/>
              <a:ext cx="178920" cy="36612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00840" y="4444920"/>
              <a:ext cx="178920" cy="36612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57360" y="4398840"/>
              <a:ext cx="166320" cy="21204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957360" y="4398840"/>
              <a:ext cx="166320" cy="21204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02000" y="4386240"/>
              <a:ext cx="165960" cy="34488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02000" y="4386240"/>
              <a:ext cx="165960" cy="34488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02000" y="4598640"/>
              <a:ext cx="121680" cy="8856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02000" y="4598640"/>
              <a:ext cx="121680" cy="8856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957360" y="4777560"/>
              <a:ext cx="92160" cy="13572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957360" y="4777560"/>
              <a:ext cx="92160" cy="13572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8320" y="4777560"/>
              <a:ext cx="236880" cy="13572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68320" y="4777560"/>
              <a:ext cx="236880" cy="13572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272720" y="4825440"/>
              <a:ext cx="43920" cy="1224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272720" y="4825440"/>
              <a:ext cx="43920" cy="1224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50680" y="4838040"/>
              <a:ext cx="238680" cy="19980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50680" y="4838040"/>
              <a:ext cx="238680" cy="19980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70880" y="4943880"/>
              <a:ext cx="240480" cy="21204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70880" y="4943880"/>
              <a:ext cx="240480" cy="21204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11720" y="5004000"/>
              <a:ext cx="221040" cy="19656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911720" y="5004000"/>
              <a:ext cx="221040" cy="19656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66480" y="3947760"/>
              <a:ext cx="77760" cy="11808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66480" y="3947760"/>
              <a:ext cx="77760" cy="11808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24000" y="3821760"/>
              <a:ext cx="146880" cy="15228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524000" y="3821760"/>
              <a:ext cx="146880" cy="15228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06680" y="4035960"/>
              <a:ext cx="281160" cy="22608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06680" y="4035960"/>
              <a:ext cx="281160" cy="22608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780440" y="3992040"/>
              <a:ext cx="86400" cy="19440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782600" y="3992040"/>
              <a:ext cx="86400" cy="19620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89560" y="4505040"/>
              <a:ext cx="341280" cy="34812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89560" y="4505040"/>
              <a:ext cx="341280" cy="34812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96560" y="4643280"/>
              <a:ext cx="28440" cy="4572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96560" y="4643280"/>
              <a:ext cx="28440" cy="4572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66320" y="4655160"/>
              <a:ext cx="239040" cy="32040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66320" y="4655160"/>
              <a:ext cx="239040" cy="32040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216320" y="4266000"/>
              <a:ext cx="284760" cy="31320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216320" y="4266000"/>
              <a:ext cx="284760" cy="31320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216320" y="4248360"/>
              <a:ext cx="192600" cy="18036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16320" y="4248360"/>
              <a:ext cx="192600" cy="18036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203720" y="4538520"/>
              <a:ext cx="148320" cy="10440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203720" y="4538520"/>
              <a:ext cx="148320" cy="10440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16320" y="4613040"/>
              <a:ext cx="74160" cy="154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216320" y="4613040"/>
              <a:ext cx="74160" cy="154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216320" y="4643280"/>
              <a:ext cx="74160" cy="457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216320" y="4643280"/>
              <a:ext cx="74160" cy="457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260600" y="4643280"/>
              <a:ext cx="165960" cy="12348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260600" y="4643280"/>
              <a:ext cx="165960" cy="12348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306680" y="4703400"/>
              <a:ext cx="57960" cy="7560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306680" y="4703400"/>
              <a:ext cx="57960" cy="7560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34760" y="4731480"/>
              <a:ext cx="106200" cy="10764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334760" y="4731480"/>
              <a:ext cx="106200" cy="10764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485240" y="4579560"/>
              <a:ext cx="176760" cy="13788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485240" y="4579560"/>
              <a:ext cx="176760" cy="13788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601880" y="4673520"/>
              <a:ext cx="46080" cy="11988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601880" y="4673520"/>
              <a:ext cx="46080" cy="11988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33560" y="4643280"/>
              <a:ext cx="58320" cy="14976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33560" y="4643280"/>
              <a:ext cx="58320" cy="14976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25080" y="4885560"/>
              <a:ext cx="43920" cy="3168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825080" y="4885560"/>
              <a:ext cx="43920" cy="3168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869360" y="4853520"/>
              <a:ext cx="180360" cy="21564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869360" y="4853520"/>
              <a:ext cx="180360" cy="21564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83360" y="4963680"/>
              <a:ext cx="43920" cy="403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83360" y="4963680"/>
              <a:ext cx="43920" cy="403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99200" y="5004000"/>
              <a:ext cx="28440" cy="4752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299200" y="5004000"/>
              <a:ext cx="28440" cy="4752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84840" y="5354280"/>
              <a:ext cx="311760" cy="30096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84840" y="5354280"/>
              <a:ext cx="311760" cy="30096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84840" y="5080320"/>
              <a:ext cx="295560" cy="30240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4840" y="5080320"/>
              <a:ext cx="295560" cy="30240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901040" y="5051880"/>
              <a:ext cx="10800" cy="2844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01040" y="5051880"/>
              <a:ext cx="10800" cy="2844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989600" y="5476680"/>
              <a:ext cx="385560" cy="34668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989600" y="5476680"/>
              <a:ext cx="385560" cy="34668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78160" y="5369040"/>
              <a:ext cx="221040" cy="2260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78160" y="5369040"/>
              <a:ext cx="221040" cy="2260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96960" y="5324400"/>
              <a:ext cx="192600" cy="16812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96960" y="5324400"/>
              <a:ext cx="192600" cy="16812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15040" y="5189760"/>
              <a:ext cx="250920" cy="40500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15040" y="5189760"/>
              <a:ext cx="250920" cy="40500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27640" y="5582880"/>
              <a:ext cx="29880" cy="3204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27640" y="5582880"/>
              <a:ext cx="29880" cy="3204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041000" y="2793600"/>
              <a:ext cx="249480" cy="17892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041000" y="2793600"/>
              <a:ext cx="249480" cy="17892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625000" y="5230800"/>
              <a:ext cx="164520" cy="33768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25000" y="5230800"/>
              <a:ext cx="164520" cy="33768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85000" y="4899600"/>
              <a:ext cx="15840" cy="298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85000" y="4899600"/>
              <a:ext cx="15840" cy="298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917040" y="4963680"/>
              <a:ext cx="14040" cy="29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17040" y="4963680"/>
              <a:ext cx="14040" cy="29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69200" y="4703400"/>
              <a:ext cx="61920" cy="8964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69200" y="4703400"/>
              <a:ext cx="61920" cy="8964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150680" y="4462560"/>
              <a:ext cx="61560" cy="4248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50680" y="4462560"/>
              <a:ext cx="61560" cy="4248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21400" y="4324680"/>
              <a:ext cx="43920" cy="7560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21400" y="4324680"/>
              <a:ext cx="43920" cy="7560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46400" y="4085640"/>
              <a:ext cx="56520" cy="8820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46400" y="4085640"/>
              <a:ext cx="56520" cy="8820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02920" y="4085640"/>
              <a:ext cx="56520" cy="280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02920" y="4085640"/>
              <a:ext cx="56520" cy="280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70880" y="3853800"/>
              <a:ext cx="253080" cy="24228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670880" y="3853800"/>
              <a:ext cx="253080" cy="24228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879680" y="3717360"/>
              <a:ext cx="144720" cy="13644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879680" y="3717360"/>
              <a:ext cx="144720" cy="13644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235360" y="3537000"/>
              <a:ext cx="29880" cy="295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235360" y="3537000"/>
              <a:ext cx="29880" cy="295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430120" y="3188520"/>
              <a:ext cx="26280" cy="28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30120" y="3188520"/>
              <a:ext cx="26280" cy="28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23960" y="3396960"/>
              <a:ext cx="61560" cy="32004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923960" y="3396960"/>
              <a:ext cx="61560" cy="32004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817600" y="1977840"/>
              <a:ext cx="399960" cy="55728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817600" y="1977840"/>
              <a:ext cx="399960" cy="55728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743440" y="2595600"/>
              <a:ext cx="46080" cy="6336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43440" y="2595600"/>
              <a:ext cx="46080" cy="6336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40960" y="3216600"/>
              <a:ext cx="29880" cy="475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40960" y="3216600"/>
              <a:ext cx="29880" cy="475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40920" y="3340440"/>
              <a:ext cx="15840" cy="2988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40920" y="3340440"/>
              <a:ext cx="15840" cy="2988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69360" y="3322800"/>
              <a:ext cx="31680" cy="3168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869360" y="3322800"/>
              <a:ext cx="31680" cy="3168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69360" y="3370680"/>
              <a:ext cx="31680" cy="1584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9360" y="3370680"/>
              <a:ext cx="31680" cy="1584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453560" y="3216600"/>
              <a:ext cx="194400" cy="35028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53560" y="3216600"/>
              <a:ext cx="194400" cy="35028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810680" y="3811320"/>
              <a:ext cx="14400" cy="5652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10680" y="3811320"/>
              <a:ext cx="14400" cy="5652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796640" y="3867840"/>
              <a:ext cx="43920" cy="7956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96640" y="3867840"/>
              <a:ext cx="43920" cy="7956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01040" y="3961800"/>
              <a:ext cx="72360" cy="4392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901040" y="3961800"/>
              <a:ext cx="72360" cy="4392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106600" y="3961800"/>
              <a:ext cx="47520" cy="43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106600" y="3961800"/>
              <a:ext cx="47520" cy="43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57880" y="4037760"/>
              <a:ext cx="61560" cy="2844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57880" y="4037760"/>
              <a:ext cx="61560" cy="2844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662360" y="3899520"/>
              <a:ext cx="29880" cy="284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62360" y="3899520"/>
              <a:ext cx="29880" cy="284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58680" y="5202360"/>
              <a:ext cx="946440" cy="755640"/>
            </a:xfrm>
            <a:custGeom>
              <a:avLst/>
              <a:gdLst/>
              <a:ahLst/>
              <a:rect l="l" t="t" r="r" b="b"/>
              <a:pathLst>
                <a:path w="919" h="736">
                  <a:moveTo>
                    <a:pt x="40" y="588"/>
                  </a:moveTo>
                  <a:lnTo>
                    <a:pt x="84" y="621"/>
                  </a:lnTo>
                  <a:lnTo>
                    <a:pt x="111" y="621"/>
                  </a:lnTo>
                  <a:lnTo>
                    <a:pt x="155" y="575"/>
                  </a:lnTo>
                  <a:lnTo>
                    <a:pt x="226" y="575"/>
                  </a:lnTo>
                  <a:lnTo>
                    <a:pt x="244" y="560"/>
                  </a:lnTo>
                  <a:lnTo>
                    <a:pt x="299" y="531"/>
                  </a:lnTo>
                  <a:lnTo>
                    <a:pt x="414" y="516"/>
                  </a:lnTo>
                  <a:lnTo>
                    <a:pt x="474" y="544"/>
                  </a:lnTo>
                  <a:lnTo>
                    <a:pt x="474" y="560"/>
                  </a:lnTo>
                  <a:lnTo>
                    <a:pt x="485" y="560"/>
                  </a:lnTo>
                  <a:lnTo>
                    <a:pt x="518" y="621"/>
                  </a:lnTo>
                  <a:lnTo>
                    <a:pt x="558" y="544"/>
                  </a:lnTo>
                  <a:lnTo>
                    <a:pt x="558" y="575"/>
                  </a:lnTo>
                  <a:lnTo>
                    <a:pt x="545" y="621"/>
                  </a:lnTo>
                  <a:lnTo>
                    <a:pt x="558" y="621"/>
                  </a:lnTo>
                  <a:lnTo>
                    <a:pt x="558" y="588"/>
                  </a:lnTo>
                  <a:lnTo>
                    <a:pt x="573" y="621"/>
                  </a:lnTo>
                  <a:lnTo>
                    <a:pt x="558" y="632"/>
                  </a:lnTo>
                  <a:lnTo>
                    <a:pt x="589" y="632"/>
                  </a:lnTo>
                  <a:lnTo>
                    <a:pt x="602" y="661"/>
                  </a:lnTo>
                  <a:lnTo>
                    <a:pt x="602" y="678"/>
                  </a:lnTo>
                  <a:lnTo>
                    <a:pt x="618" y="694"/>
                  </a:lnTo>
                  <a:lnTo>
                    <a:pt x="644" y="707"/>
                  </a:lnTo>
                  <a:lnTo>
                    <a:pt x="673" y="707"/>
                  </a:lnTo>
                  <a:lnTo>
                    <a:pt x="689" y="722"/>
                  </a:lnTo>
                  <a:lnTo>
                    <a:pt x="717" y="694"/>
                  </a:lnTo>
                  <a:lnTo>
                    <a:pt x="717" y="707"/>
                  </a:lnTo>
                  <a:lnTo>
                    <a:pt x="733" y="707"/>
                  </a:lnTo>
                  <a:lnTo>
                    <a:pt x="733" y="722"/>
                  </a:lnTo>
                  <a:lnTo>
                    <a:pt x="760" y="736"/>
                  </a:lnTo>
                  <a:lnTo>
                    <a:pt x="788" y="694"/>
                  </a:lnTo>
                  <a:lnTo>
                    <a:pt x="832" y="694"/>
                  </a:lnTo>
                  <a:lnTo>
                    <a:pt x="848" y="632"/>
                  </a:lnTo>
                  <a:lnTo>
                    <a:pt x="903" y="502"/>
                  </a:lnTo>
                  <a:lnTo>
                    <a:pt x="919" y="441"/>
                  </a:lnTo>
                  <a:lnTo>
                    <a:pt x="903" y="368"/>
                  </a:lnTo>
                  <a:lnTo>
                    <a:pt x="877" y="326"/>
                  </a:lnTo>
                  <a:lnTo>
                    <a:pt x="859" y="311"/>
                  </a:lnTo>
                  <a:lnTo>
                    <a:pt x="848" y="282"/>
                  </a:lnTo>
                  <a:lnTo>
                    <a:pt x="832" y="267"/>
                  </a:lnTo>
                  <a:lnTo>
                    <a:pt x="832" y="282"/>
                  </a:lnTo>
                  <a:lnTo>
                    <a:pt x="804" y="238"/>
                  </a:lnTo>
                  <a:lnTo>
                    <a:pt x="760" y="192"/>
                  </a:lnTo>
                  <a:lnTo>
                    <a:pt x="744" y="148"/>
                  </a:lnTo>
                  <a:lnTo>
                    <a:pt x="733" y="134"/>
                  </a:lnTo>
                  <a:lnTo>
                    <a:pt x="733" y="104"/>
                  </a:lnTo>
                  <a:lnTo>
                    <a:pt x="717" y="90"/>
                  </a:lnTo>
                  <a:lnTo>
                    <a:pt x="689" y="90"/>
                  </a:lnTo>
                  <a:lnTo>
                    <a:pt x="673" y="0"/>
                  </a:lnTo>
                  <a:lnTo>
                    <a:pt x="660" y="0"/>
                  </a:lnTo>
                  <a:lnTo>
                    <a:pt x="644" y="29"/>
                  </a:lnTo>
                  <a:lnTo>
                    <a:pt x="644" y="104"/>
                  </a:lnTo>
                  <a:lnTo>
                    <a:pt x="633" y="163"/>
                  </a:lnTo>
                  <a:lnTo>
                    <a:pt x="602" y="163"/>
                  </a:lnTo>
                  <a:lnTo>
                    <a:pt x="545" y="119"/>
                  </a:lnTo>
                  <a:lnTo>
                    <a:pt x="529" y="119"/>
                  </a:lnTo>
                  <a:lnTo>
                    <a:pt x="529" y="104"/>
                  </a:lnTo>
                  <a:lnTo>
                    <a:pt x="501" y="104"/>
                  </a:lnTo>
                  <a:lnTo>
                    <a:pt x="518" y="62"/>
                  </a:lnTo>
                  <a:lnTo>
                    <a:pt x="529" y="62"/>
                  </a:lnTo>
                  <a:lnTo>
                    <a:pt x="545" y="29"/>
                  </a:lnTo>
                  <a:lnTo>
                    <a:pt x="529" y="29"/>
                  </a:lnTo>
                  <a:lnTo>
                    <a:pt x="518" y="46"/>
                  </a:lnTo>
                  <a:lnTo>
                    <a:pt x="518" y="29"/>
                  </a:lnTo>
                  <a:lnTo>
                    <a:pt x="501" y="29"/>
                  </a:lnTo>
                  <a:lnTo>
                    <a:pt x="430" y="18"/>
                  </a:lnTo>
                  <a:lnTo>
                    <a:pt x="445" y="29"/>
                  </a:lnTo>
                  <a:lnTo>
                    <a:pt x="401" y="29"/>
                  </a:lnTo>
                  <a:lnTo>
                    <a:pt x="385" y="46"/>
                  </a:lnTo>
                  <a:lnTo>
                    <a:pt x="385" y="62"/>
                  </a:lnTo>
                  <a:lnTo>
                    <a:pt x="374" y="62"/>
                  </a:lnTo>
                  <a:lnTo>
                    <a:pt x="374" y="104"/>
                  </a:lnTo>
                  <a:lnTo>
                    <a:pt x="343" y="90"/>
                  </a:lnTo>
                  <a:lnTo>
                    <a:pt x="343" y="104"/>
                  </a:lnTo>
                  <a:lnTo>
                    <a:pt x="343" y="90"/>
                  </a:lnTo>
                  <a:lnTo>
                    <a:pt x="330" y="75"/>
                  </a:lnTo>
                  <a:lnTo>
                    <a:pt x="315" y="75"/>
                  </a:lnTo>
                  <a:lnTo>
                    <a:pt x="286" y="90"/>
                  </a:lnTo>
                  <a:lnTo>
                    <a:pt x="270" y="90"/>
                  </a:lnTo>
                  <a:lnTo>
                    <a:pt x="259" y="134"/>
                  </a:lnTo>
                  <a:lnTo>
                    <a:pt x="226" y="134"/>
                  </a:lnTo>
                  <a:lnTo>
                    <a:pt x="244" y="148"/>
                  </a:lnTo>
                  <a:lnTo>
                    <a:pt x="226" y="163"/>
                  </a:lnTo>
                  <a:lnTo>
                    <a:pt x="226" y="134"/>
                  </a:lnTo>
                  <a:lnTo>
                    <a:pt x="199" y="163"/>
                  </a:lnTo>
                  <a:lnTo>
                    <a:pt x="215" y="177"/>
                  </a:lnTo>
                  <a:lnTo>
                    <a:pt x="171" y="209"/>
                  </a:lnTo>
                  <a:lnTo>
                    <a:pt x="71" y="238"/>
                  </a:lnTo>
                  <a:lnTo>
                    <a:pt x="27" y="282"/>
                  </a:lnTo>
                  <a:lnTo>
                    <a:pt x="11" y="267"/>
                  </a:lnTo>
                  <a:lnTo>
                    <a:pt x="11" y="311"/>
                  </a:lnTo>
                  <a:lnTo>
                    <a:pt x="0" y="311"/>
                  </a:lnTo>
                  <a:lnTo>
                    <a:pt x="27" y="383"/>
                  </a:lnTo>
                  <a:lnTo>
                    <a:pt x="11" y="355"/>
                  </a:lnTo>
                  <a:lnTo>
                    <a:pt x="11" y="383"/>
                  </a:lnTo>
                  <a:lnTo>
                    <a:pt x="0" y="368"/>
                  </a:lnTo>
                  <a:lnTo>
                    <a:pt x="40" y="458"/>
                  </a:lnTo>
                  <a:lnTo>
                    <a:pt x="56" y="516"/>
                  </a:lnTo>
                  <a:lnTo>
                    <a:pt x="56" y="560"/>
                  </a:lnTo>
                  <a:lnTo>
                    <a:pt x="40" y="575"/>
                  </a:lnTo>
                  <a:lnTo>
                    <a:pt x="40" y="588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56840" y="5218560"/>
              <a:ext cx="28440" cy="1224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656840" y="5218560"/>
              <a:ext cx="28440" cy="1224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805520" y="5855400"/>
              <a:ext cx="28080" cy="158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805520" y="5855400"/>
              <a:ext cx="28080" cy="158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000280" y="6005880"/>
              <a:ext cx="86400" cy="9000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000280" y="6005880"/>
              <a:ext cx="86400" cy="9000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651160" y="5823720"/>
              <a:ext cx="128880" cy="21564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651160" y="5823720"/>
              <a:ext cx="128880" cy="21564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502840" y="6005880"/>
              <a:ext cx="192960" cy="19656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502840" y="6005880"/>
              <a:ext cx="192960" cy="19656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840720" y="4811400"/>
              <a:ext cx="253080" cy="26856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840720" y="4811400"/>
              <a:ext cx="253080" cy="26856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80120" y="5080320"/>
              <a:ext cx="204840" cy="6372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80120" y="5080320"/>
              <a:ext cx="204840" cy="6372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84960" y="5144040"/>
              <a:ext cx="31680" cy="144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84960" y="5144040"/>
              <a:ext cx="31680" cy="144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331040" y="5144040"/>
              <a:ext cx="178560" cy="1188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31040" y="5144040"/>
              <a:ext cx="178560" cy="1188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389360" y="5172120"/>
              <a:ext cx="43920" cy="176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89360" y="5172120"/>
              <a:ext cx="43920" cy="176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91960" y="5144040"/>
              <a:ext cx="90000" cy="4572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91960" y="5144040"/>
              <a:ext cx="90000" cy="4572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746840" y="5069520"/>
              <a:ext cx="12240" cy="4428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46840" y="5069520"/>
              <a:ext cx="12240" cy="4428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80120" y="4975920"/>
              <a:ext cx="31680" cy="4752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80120" y="4975920"/>
              <a:ext cx="31680" cy="4752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24040" y="5004000"/>
              <a:ext cx="14040" cy="1944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24040" y="5004000"/>
              <a:ext cx="14040" cy="19440"/>
            </a:xfrm>
            <a:prstGeom prst="rect">
              <a:avLst/>
            </a:prstGeom>
            <a:noFill/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9360" y="4899600"/>
              <a:ext cx="148680" cy="18036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389360" y="4899600"/>
              <a:ext cx="148680" cy="18036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82320" y="4885560"/>
              <a:ext cx="31680" cy="7776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82320" y="4885560"/>
              <a:ext cx="31680" cy="7776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53880" y="5023800"/>
              <a:ext cx="28440" cy="140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53880" y="5023800"/>
              <a:ext cx="28440" cy="140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598520" y="5004000"/>
              <a:ext cx="72000" cy="334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598520" y="5004000"/>
              <a:ext cx="72000" cy="334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21400" y="4490640"/>
              <a:ext cx="88200" cy="13788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421400" y="4490640"/>
              <a:ext cx="88200" cy="13788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346880" y="4673520"/>
              <a:ext cx="58320" cy="7416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346880" y="4673520"/>
              <a:ext cx="58320" cy="7416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21400" y="4628880"/>
              <a:ext cx="28080" cy="262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421400" y="4628880"/>
              <a:ext cx="28080" cy="262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524000" y="4643280"/>
              <a:ext cx="29880" cy="6012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524000" y="4643280"/>
              <a:ext cx="29880" cy="6012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465680" y="4655160"/>
              <a:ext cx="57960" cy="7596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465680" y="4655160"/>
              <a:ext cx="57960" cy="7596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65680" y="4703400"/>
              <a:ext cx="104040" cy="10764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465680" y="4703400"/>
              <a:ext cx="104040" cy="10764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242680" y="5644800"/>
              <a:ext cx="56520" cy="5832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242680" y="5644800"/>
              <a:ext cx="56520" cy="5832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72720" y="4400280"/>
              <a:ext cx="12240" cy="3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60160" y="3823560"/>
              <a:ext cx="46080" cy="9180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60160" y="3823560"/>
              <a:ext cx="46080" cy="9180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134680" y="3765240"/>
              <a:ext cx="148680" cy="10260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34680" y="3765240"/>
              <a:ext cx="148680" cy="10260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989600" y="3615120"/>
              <a:ext cx="144720" cy="10224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989600" y="3615120"/>
              <a:ext cx="144720" cy="10224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29480" y="3673080"/>
              <a:ext cx="60120" cy="4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929480" y="3673080"/>
              <a:ext cx="60120" cy="4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929480" y="3687120"/>
              <a:ext cx="130680" cy="13644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929480" y="3687120"/>
              <a:ext cx="130680" cy="13644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032080" y="3793680"/>
              <a:ext cx="45720" cy="460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032080" y="3793680"/>
              <a:ext cx="45720" cy="460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049720" y="3701880"/>
              <a:ext cx="104040" cy="13788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049720" y="3701880"/>
              <a:ext cx="104040" cy="13788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092200" y="3823560"/>
              <a:ext cx="61920" cy="4392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092200" y="3823560"/>
              <a:ext cx="61920" cy="4392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973760" y="3717360"/>
              <a:ext cx="86400" cy="9360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973760" y="3717360"/>
              <a:ext cx="86400" cy="9360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884840" y="3522600"/>
              <a:ext cx="164880" cy="9216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84840" y="3522600"/>
              <a:ext cx="164880" cy="9216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748880" y="2292480"/>
              <a:ext cx="430200" cy="37872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748880" y="2292480"/>
              <a:ext cx="430200" cy="37872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8800" y="2310840"/>
              <a:ext cx="641880" cy="739440"/>
            </a:xfrm>
            <a:custGeom>
              <a:avLst/>
              <a:gdLst/>
              <a:ahLst/>
              <a:rect l="l" t="t" r="r" b="b"/>
              <a:pathLst>
                <a:path w="622" h="717">
                  <a:moveTo>
                    <a:pt x="0" y="156"/>
                  </a:moveTo>
                  <a:lnTo>
                    <a:pt x="58" y="257"/>
                  </a:lnTo>
                  <a:lnTo>
                    <a:pt x="85" y="269"/>
                  </a:lnTo>
                  <a:lnTo>
                    <a:pt x="167" y="284"/>
                  </a:lnTo>
                  <a:lnTo>
                    <a:pt x="181" y="284"/>
                  </a:lnTo>
                  <a:lnTo>
                    <a:pt x="221" y="295"/>
                  </a:lnTo>
                  <a:lnTo>
                    <a:pt x="236" y="295"/>
                  </a:lnTo>
                  <a:lnTo>
                    <a:pt x="248" y="257"/>
                  </a:lnTo>
                  <a:lnTo>
                    <a:pt x="263" y="284"/>
                  </a:lnTo>
                  <a:lnTo>
                    <a:pt x="305" y="324"/>
                  </a:lnTo>
                  <a:lnTo>
                    <a:pt x="290" y="355"/>
                  </a:lnTo>
                  <a:lnTo>
                    <a:pt x="317" y="339"/>
                  </a:lnTo>
                  <a:lnTo>
                    <a:pt x="332" y="366"/>
                  </a:lnTo>
                  <a:lnTo>
                    <a:pt x="359" y="393"/>
                  </a:lnTo>
                  <a:lnTo>
                    <a:pt x="374" y="437"/>
                  </a:lnTo>
                  <a:lnTo>
                    <a:pt x="332" y="506"/>
                  </a:lnTo>
                  <a:lnTo>
                    <a:pt x="344" y="535"/>
                  </a:lnTo>
                  <a:lnTo>
                    <a:pt x="332" y="550"/>
                  </a:lnTo>
                  <a:lnTo>
                    <a:pt x="263" y="535"/>
                  </a:lnTo>
                  <a:lnTo>
                    <a:pt x="263" y="565"/>
                  </a:lnTo>
                  <a:lnTo>
                    <a:pt x="248" y="565"/>
                  </a:lnTo>
                  <a:lnTo>
                    <a:pt x="248" y="608"/>
                  </a:lnTo>
                  <a:lnTo>
                    <a:pt x="290" y="608"/>
                  </a:lnTo>
                  <a:lnTo>
                    <a:pt x="305" y="592"/>
                  </a:lnTo>
                  <a:lnTo>
                    <a:pt x="332" y="592"/>
                  </a:lnTo>
                  <a:lnTo>
                    <a:pt x="386" y="634"/>
                  </a:lnTo>
                  <a:lnTo>
                    <a:pt x="386" y="648"/>
                  </a:lnTo>
                  <a:lnTo>
                    <a:pt x="444" y="690"/>
                  </a:lnTo>
                  <a:lnTo>
                    <a:pt x="468" y="705"/>
                  </a:lnTo>
                  <a:lnTo>
                    <a:pt x="511" y="717"/>
                  </a:lnTo>
                  <a:lnTo>
                    <a:pt x="511" y="705"/>
                  </a:lnTo>
                  <a:lnTo>
                    <a:pt x="455" y="648"/>
                  </a:lnTo>
                  <a:lnTo>
                    <a:pt x="455" y="619"/>
                  </a:lnTo>
                  <a:lnTo>
                    <a:pt x="526" y="678"/>
                  </a:lnTo>
                  <a:lnTo>
                    <a:pt x="553" y="678"/>
                  </a:lnTo>
                  <a:lnTo>
                    <a:pt x="553" y="634"/>
                  </a:lnTo>
                  <a:lnTo>
                    <a:pt x="538" y="619"/>
                  </a:lnTo>
                  <a:lnTo>
                    <a:pt x="538" y="592"/>
                  </a:lnTo>
                  <a:lnTo>
                    <a:pt x="495" y="550"/>
                  </a:lnTo>
                  <a:lnTo>
                    <a:pt x="484" y="521"/>
                  </a:lnTo>
                  <a:lnTo>
                    <a:pt x="495" y="495"/>
                  </a:lnTo>
                  <a:lnTo>
                    <a:pt x="526" y="521"/>
                  </a:lnTo>
                  <a:lnTo>
                    <a:pt x="538" y="550"/>
                  </a:lnTo>
                  <a:lnTo>
                    <a:pt x="564" y="565"/>
                  </a:lnTo>
                  <a:lnTo>
                    <a:pt x="564" y="535"/>
                  </a:lnTo>
                  <a:lnTo>
                    <a:pt x="595" y="535"/>
                  </a:lnTo>
                  <a:lnTo>
                    <a:pt x="622" y="479"/>
                  </a:lnTo>
                  <a:lnTo>
                    <a:pt x="538" y="393"/>
                  </a:lnTo>
                  <a:lnTo>
                    <a:pt x="495" y="393"/>
                  </a:lnTo>
                  <a:lnTo>
                    <a:pt x="468" y="366"/>
                  </a:lnTo>
                  <a:lnTo>
                    <a:pt x="468" y="339"/>
                  </a:lnTo>
                  <a:lnTo>
                    <a:pt x="495" y="324"/>
                  </a:lnTo>
                  <a:lnTo>
                    <a:pt x="468" y="295"/>
                  </a:lnTo>
                  <a:lnTo>
                    <a:pt x="484" y="284"/>
                  </a:lnTo>
                  <a:lnTo>
                    <a:pt x="468" y="242"/>
                  </a:lnTo>
                  <a:lnTo>
                    <a:pt x="428" y="226"/>
                  </a:lnTo>
                  <a:lnTo>
                    <a:pt x="401" y="182"/>
                  </a:lnTo>
                  <a:lnTo>
                    <a:pt x="374" y="171"/>
                  </a:lnTo>
                  <a:lnTo>
                    <a:pt x="344" y="156"/>
                  </a:lnTo>
                  <a:lnTo>
                    <a:pt x="332" y="100"/>
                  </a:lnTo>
                  <a:lnTo>
                    <a:pt x="305" y="100"/>
                  </a:lnTo>
                  <a:lnTo>
                    <a:pt x="263" y="85"/>
                  </a:lnTo>
                  <a:lnTo>
                    <a:pt x="236" y="100"/>
                  </a:lnTo>
                  <a:lnTo>
                    <a:pt x="208" y="100"/>
                  </a:lnTo>
                  <a:lnTo>
                    <a:pt x="181" y="129"/>
                  </a:lnTo>
                  <a:lnTo>
                    <a:pt x="194" y="85"/>
                  </a:lnTo>
                  <a:lnTo>
                    <a:pt x="181" y="58"/>
                  </a:lnTo>
                  <a:lnTo>
                    <a:pt x="181" y="0"/>
                  </a:lnTo>
                  <a:lnTo>
                    <a:pt x="154" y="0"/>
                  </a:lnTo>
                  <a:lnTo>
                    <a:pt x="100" y="73"/>
                  </a:lnTo>
                  <a:lnTo>
                    <a:pt x="85" y="129"/>
                  </a:lnTo>
                  <a:lnTo>
                    <a:pt x="100" y="171"/>
                  </a:lnTo>
                  <a:lnTo>
                    <a:pt x="69" y="144"/>
                  </a:lnTo>
                  <a:lnTo>
                    <a:pt x="69" y="73"/>
                  </a:lnTo>
                  <a:lnTo>
                    <a:pt x="100" y="31"/>
                  </a:lnTo>
                  <a:lnTo>
                    <a:pt x="127" y="0"/>
                  </a:lnTo>
                  <a:lnTo>
                    <a:pt x="58" y="0"/>
                  </a:lnTo>
                  <a:lnTo>
                    <a:pt x="16" y="58"/>
                  </a:lnTo>
                  <a:lnTo>
                    <a:pt x="0" y="113"/>
                  </a:lnTo>
                  <a:lnTo>
                    <a:pt x="0" y="156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16400" y="3583080"/>
              <a:ext cx="1348200" cy="741600"/>
            </a:xfrm>
            <a:custGeom>
              <a:avLst/>
              <a:gdLst/>
              <a:ahLst/>
              <a:rect l="l" t="t" r="r" b="b"/>
              <a:pathLst>
                <a:path w="1308" h="718">
                  <a:moveTo>
                    <a:pt x="44" y="13"/>
                  </a:moveTo>
                  <a:lnTo>
                    <a:pt x="662" y="13"/>
                  </a:lnTo>
                  <a:lnTo>
                    <a:pt x="674" y="0"/>
                  </a:lnTo>
                  <a:lnTo>
                    <a:pt x="691" y="29"/>
                  </a:lnTo>
                  <a:lnTo>
                    <a:pt x="718" y="29"/>
                  </a:lnTo>
                  <a:lnTo>
                    <a:pt x="746" y="57"/>
                  </a:lnTo>
                  <a:lnTo>
                    <a:pt x="791" y="57"/>
                  </a:lnTo>
                  <a:lnTo>
                    <a:pt x="733" y="103"/>
                  </a:lnTo>
                  <a:lnTo>
                    <a:pt x="762" y="86"/>
                  </a:lnTo>
                  <a:lnTo>
                    <a:pt x="777" y="103"/>
                  </a:lnTo>
                  <a:lnTo>
                    <a:pt x="817" y="86"/>
                  </a:lnTo>
                  <a:lnTo>
                    <a:pt x="817" y="103"/>
                  </a:lnTo>
                  <a:lnTo>
                    <a:pt x="833" y="86"/>
                  </a:lnTo>
                  <a:lnTo>
                    <a:pt x="848" y="103"/>
                  </a:lnTo>
                  <a:lnTo>
                    <a:pt x="906" y="103"/>
                  </a:lnTo>
                  <a:lnTo>
                    <a:pt x="921" y="115"/>
                  </a:lnTo>
                  <a:lnTo>
                    <a:pt x="921" y="132"/>
                  </a:lnTo>
                  <a:lnTo>
                    <a:pt x="848" y="132"/>
                  </a:lnTo>
                  <a:lnTo>
                    <a:pt x="833" y="176"/>
                  </a:lnTo>
                  <a:lnTo>
                    <a:pt x="848" y="161"/>
                  </a:lnTo>
                  <a:lnTo>
                    <a:pt x="833" y="220"/>
                  </a:lnTo>
                  <a:lnTo>
                    <a:pt x="833" y="262"/>
                  </a:lnTo>
                  <a:lnTo>
                    <a:pt x="848" y="262"/>
                  </a:lnTo>
                  <a:lnTo>
                    <a:pt x="862" y="249"/>
                  </a:lnTo>
                  <a:lnTo>
                    <a:pt x="862" y="189"/>
                  </a:lnTo>
                  <a:lnTo>
                    <a:pt x="877" y="161"/>
                  </a:lnTo>
                  <a:lnTo>
                    <a:pt x="892" y="147"/>
                  </a:lnTo>
                  <a:lnTo>
                    <a:pt x="892" y="132"/>
                  </a:lnTo>
                  <a:lnTo>
                    <a:pt x="933" y="147"/>
                  </a:lnTo>
                  <a:lnTo>
                    <a:pt x="933" y="176"/>
                  </a:lnTo>
                  <a:lnTo>
                    <a:pt x="921" y="205"/>
                  </a:lnTo>
                  <a:lnTo>
                    <a:pt x="950" y="189"/>
                  </a:lnTo>
                  <a:lnTo>
                    <a:pt x="950" y="220"/>
                  </a:lnTo>
                  <a:lnTo>
                    <a:pt x="965" y="220"/>
                  </a:lnTo>
                  <a:lnTo>
                    <a:pt x="933" y="262"/>
                  </a:lnTo>
                  <a:lnTo>
                    <a:pt x="977" y="262"/>
                  </a:lnTo>
                  <a:lnTo>
                    <a:pt x="1036" y="220"/>
                  </a:lnTo>
                  <a:lnTo>
                    <a:pt x="1036" y="205"/>
                  </a:lnTo>
                  <a:lnTo>
                    <a:pt x="1092" y="205"/>
                  </a:lnTo>
                  <a:lnTo>
                    <a:pt x="1092" y="176"/>
                  </a:lnTo>
                  <a:lnTo>
                    <a:pt x="1120" y="161"/>
                  </a:lnTo>
                  <a:lnTo>
                    <a:pt x="1191" y="161"/>
                  </a:lnTo>
                  <a:lnTo>
                    <a:pt x="1224" y="147"/>
                  </a:lnTo>
                  <a:lnTo>
                    <a:pt x="1251" y="75"/>
                  </a:lnTo>
                  <a:lnTo>
                    <a:pt x="1264" y="86"/>
                  </a:lnTo>
                  <a:lnTo>
                    <a:pt x="1280" y="75"/>
                  </a:lnTo>
                  <a:lnTo>
                    <a:pt x="1280" y="86"/>
                  </a:lnTo>
                  <a:lnTo>
                    <a:pt x="1295" y="132"/>
                  </a:lnTo>
                  <a:lnTo>
                    <a:pt x="1308" y="147"/>
                  </a:lnTo>
                  <a:lnTo>
                    <a:pt x="1308" y="161"/>
                  </a:lnTo>
                  <a:lnTo>
                    <a:pt x="1295" y="176"/>
                  </a:lnTo>
                  <a:lnTo>
                    <a:pt x="1264" y="176"/>
                  </a:lnTo>
                  <a:lnTo>
                    <a:pt x="1207" y="234"/>
                  </a:lnTo>
                  <a:lnTo>
                    <a:pt x="1224" y="262"/>
                  </a:lnTo>
                  <a:lnTo>
                    <a:pt x="1236" y="249"/>
                  </a:lnTo>
                  <a:lnTo>
                    <a:pt x="1236" y="278"/>
                  </a:lnTo>
                  <a:lnTo>
                    <a:pt x="1191" y="262"/>
                  </a:lnTo>
                  <a:lnTo>
                    <a:pt x="1165" y="278"/>
                  </a:lnTo>
                  <a:lnTo>
                    <a:pt x="1149" y="295"/>
                  </a:lnTo>
                  <a:lnTo>
                    <a:pt x="1136" y="352"/>
                  </a:lnTo>
                  <a:lnTo>
                    <a:pt x="1120" y="335"/>
                  </a:lnTo>
                  <a:lnTo>
                    <a:pt x="1120" y="352"/>
                  </a:lnTo>
                  <a:lnTo>
                    <a:pt x="1107" y="396"/>
                  </a:lnTo>
                  <a:lnTo>
                    <a:pt x="1107" y="368"/>
                  </a:lnTo>
                  <a:lnTo>
                    <a:pt x="1092" y="352"/>
                  </a:lnTo>
                  <a:lnTo>
                    <a:pt x="1092" y="324"/>
                  </a:lnTo>
                  <a:lnTo>
                    <a:pt x="1076" y="352"/>
                  </a:lnTo>
                  <a:lnTo>
                    <a:pt x="1107" y="440"/>
                  </a:lnTo>
                  <a:lnTo>
                    <a:pt x="1092" y="469"/>
                  </a:lnTo>
                  <a:lnTo>
                    <a:pt x="1036" y="498"/>
                  </a:lnTo>
                  <a:lnTo>
                    <a:pt x="992" y="544"/>
                  </a:lnTo>
                  <a:lnTo>
                    <a:pt x="977" y="573"/>
                  </a:lnTo>
                  <a:lnTo>
                    <a:pt x="1005" y="674"/>
                  </a:lnTo>
                  <a:lnTo>
                    <a:pt x="1005" y="718"/>
                  </a:lnTo>
                  <a:lnTo>
                    <a:pt x="992" y="718"/>
                  </a:lnTo>
                  <a:lnTo>
                    <a:pt x="950" y="674"/>
                  </a:lnTo>
                  <a:lnTo>
                    <a:pt x="950" y="617"/>
                  </a:lnTo>
                  <a:lnTo>
                    <a:pt x="921" y="588"/>
                  </a:lnTo>
                  <a:lnTo>
                    <a:pt x="892" y="601"/>
                  </a:lnTo>
                  <a:lnTo>
                    <a:pt x="892" y="588"/>
                  </a:lnTo>
                  <a:lnTo>
                    <a:pt x="806" y="588"/>
                  </a:lnTo>
                  <a:lnTo>
                    <a:pt x="791" y="601"/>
                  </a:lnTo>
                  <a:lnTo>
                    <a:pt x="806" y="617"/>
                  </a:lnTo>
                  <a:lnTo>
                    <a:pt x="762" y="617"/>
                  </a:lnTo>
                  <a:lnTo>
                    <a:pt x="746" y="601"/>
                  </a:lnTo>
                  <a:lnTo>
                    <a:pt x="706" y="601"/>
                  </a:lnTo>
                  <a:lnTo>
                    <a:pt x="674" y="617"/>
                  </a:lnTo>
                  <a:lnTo>
                    <a:pt x="618" y="661"/>
                  </a:lnTo>
                  <a:lnTo>
                    <a:pt x="618" y="703"/>
                  </a:lnTo>
                  <a:lnTo>
                    <a:pt x="574" y="689"/>
                  </a:lnTo>
                  <a:lnTo>
                    <a:pt x="518" y="601"/>
                  </a:lnTo>
                  <a:lnTo>
                    <a:pt x="503" y="601"/>
                  </a:lnTo>
                  <a:lnTo>
                    <a:pt x="489" y="617"/>
                  </a:lnTo>
                  <a:lnTo>
                    <a:pt x="474" y="617"/>
                  </a:lnTo>
                  <a:lnTo>
                    <a:pt x="447" y="601"/>
                  </a:lnTo>
                  <a:lnTo>
                    <a:pt x="447" y="573"/>
                  </a:lnTo>
                  <a:lnTo>
                    <a:pt x="415" y="544"/>
                  </a:lnTo>
                  <a:lnTo>
                    <a:pt x="300" y="559"/>
                  </a:lnTo>
                  <a:lnTo>
                    <a:pt x="215" y="527"/>
                  </a:lnTo>
                  <a:lnTo>
                    <a:pt x="173" y="527"/>
                  </a:lnTo>
                  <a:lnTo>
                    <a:pt x="156" y="498"/>
                  </a:lnTo>
                  <a:lnTo>
                    <a:pt x="144" y="498"/>
                  </a:lnTo>
                  <a:lnTo>
                    <a:pt x="144" y="486"/>
                  </a:lnTo>
                  <a:lnTo>
                    <a:pt x="85" y="469"/>
                  </a:lnTo>
                  <a:lnTo>
                    <a:pt x="85" y="454"/>
                  </a:lnTo>
                  <a:lnTo>
                    <a:pt x="56" y="425"/>
                  </a:lnTo>
                  <a:lnTo>
                    <a:pt x="56" y="396"/>
                  </a:lnTo>
                  <a:lnTo>
                    <a:pt x="44" y="396"/>
                  </a:lnTo>
                  <a:lnTo>
                    <a:pt x="44" y="381"/>
                  </a:lnTo>
                  <a:lnTo>
                    <a:pt x="56" y="381"/>
                  </a:lnTo>
                  <a:lnTo>
                    <a:pt x="56" y="368"/>
                  </a:lnTo>
                  <a:lnTo>
                    <a:pt x="29" y="368"/>
                  </a:lnTo>
                  <a:lnTo>
                    <a:pt x="44" y="368"/>
                  </a:lnTo>
                  <a:lnTo>
                    <a:pt x="14" y="335"/>
                  </a:lnTo>
                  <a:lnTo>
                    <a:pt x="14" y="324"/>
                  </a:lnTo>
                  <a:lnTo>
                    <a:pt x="0" y="306"/>
                  </a:lnTo>
                  <a:lnTo>
                    <a:pt x="14" y="262"/>
                  </a:lnTo>
                  <a:lnTo>
                    <a:pt x="0" y="220"/>
                  </a:lnTo>
                  <a:lnTo>
                    <a:pt x="14" y="115"/>
                  </a:lnTo>
                  <a:lnTo>
                    <a:pt x="0" y="42"/>
                  </a:lnTo>
                  <a:lnTo>
                    <a:pt x="29" y="42"/>
                  </a:lnTo>
                  <a:lnTo>
                    <a:pt x="29" y="75"/>
                  </a:lnTo>
                  <a:lnTo>
                    <a:pt x="44" y="75"/>
                  </a:lnTo>
                  <a:lnTo>
                    <a:pt x="44" y="13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9480" y="2475360"/>
              <a:ext cx="874080" cy="921600"/>
            </a:xfrm>
            <a:custGeom>
              <a:avLst/>
              <a:gdLst/>
              <a:ahLst/>
              <a:rect l="l" t="t" r="r" b="b"/>
              <a:pathLst>
                <a:path w="848" h="897">
                  <a:moveTo>
                    <a:pt x="848" y="868"/>
                  </a:moveTo>
                  <a:lnTo>
                    <a:pt x="848" y="824"/>
                  </a:lnTo>
                  <a:lnTo>
                    <a:pt x="804" y="795"/>
                  </a:lnTo>
                  <a:lnTo>
                    <a:pt x="763" y="705"/>
                  </a:lnTo>
                  <a:lnTo>
                    <a:pt x="748" y="705"/>
                  </a:lnTo>
                  <a:lnTo>
                    <a:pt x="733" y="663"/>
                  </a:lnTo>
                  <a:lnTo>
                    <a:pt x="704" y="676"/>
                  </a:lnTo>
                  <a:lnTo>
                    <a:pt x="689" y="692"/>
                  </a:lnTo>
                  <a:lnTo>
                    <a:pt x="648" y="648"/>
                  </a:lnTo>
                  <a:lnTo>
                    <a:pt x="648" y="632"/>
                  </a:lnTo>
                  <a:lnTo>
                    <a:pt x="604" y="648"/>
                  </a:lnTo>
                  <a:lnTo>
                    <a:pt x="604" y="117"/>
                  </a:lnTo>
                  <a:lnTo>
                    <a:pt x="560" y="89"/>
                  </a:lnTo>
                  <a:lnTo>
                    <a:pt x="518" y="106"/>
                  </a:lnTo>
                  <a:lnTo>
                    <a:pt x="489" y="89"/>
                  </a:lnTo>
                  <a:lnTo>
                    <a:pt x="460" y="89"/>
                  </a:lnTo>
                  <a:lnTo>
                    <a:pt x="416" y="60"/>
                  </a:lnTo>
                  <a:lnTo>
                    <a:pt x="359" y="60"/>
                  </a:lnTo>
                  <a:lnTo>
                    <a:pt x="345" y="31"/>
                  </a:lnTo>
                  <a:lnTo>
                    <a:pt x="301" y="31"/>
                  </a:lnTo>
                  <a:lnTo>
                    <a:pt x="286" y="16"/>
                  </a:lnTo>
                  <a:lnTo>
                    <a:pt x="259" y="0"/>
                  </a:lnTo>
                  <a:lnTo>
                    <a:pt x="230" y="31"/>
                  </a:lnTo>
                  <a:lnTo>
                    <a:pt x="201" y="44"/>
                  </a:lnTo>
                  <a:lnTo>
                    <a:pt x="159" y="77"/>
                  </a:lnTo>
                  <a:lnTo>
                    <a:pt x="142" y="77"/>
                  </a:lnTo>
                  <a:lnTo>
                    <a:pt x="115" y="106"/>
                  </a:lnTo>
                  <a:lnTo>
                    <a:pt x="102" y="163"/>
                  </a:lnTo>
                  <a:lnTo>
                    <a:pt x="42" y="179"/>
                  </a:lnTo>
                  <a:lnTo>
                    <a:pt x="31" y="207"/>
                  </a:lnTo>
                  <a:lnTo>
                    <a:pt x="86" y="251"/>
                  </a:lnTo>
                  <a:lnTo>
                    <a:pt x="102" y="280"/>
                  </a:lnTo>
                  <a:lnTo>
                    <a:pt x="130" y="326"/>
                  </a:lnTo>
                  <a:lnTo>
                    <a:pt x="130" y="337"/>
                  </a:lnTo>
                  <a:lnTo>
                    <a:pt x="86" y="337"/>
                  </a:lnTo>
                  <a:lnTo>
                    <a:pt x="86" y="309"/>
                  </a:lnTo>
                  <a:lnTo>
                    <a:pt x="71" y="309"/>
                  </a:lnTo>
                  <a:lnTo>
                    <a:pt x="15" y="337"/>
                  </a:lnTo>
                  <a:lnTo>
                    <a:pt x="0" y="366"/>
                  </a:lnTo>
                  <a:lnTo>
                    <a:pt x="31" y="383"/>
                  </a:lnTo>
                  <a:lnTo>
                    <a:pt x="31" y="412"/>
                  </a:lnTo>
                  <a:lnTo>
                    <a:pt x="58" y="427"/>
                  </a:lnTo>
                  <a:lnTo>
                    <a:pt x="115" y="427"/>
                  </a:lnTo>
                  <a:lnTo>
                    <a:pt x="142" y="412"/>
                  </a:lnTo>
                  <a:lnTo>
                    <a:pt x="142" y="427"/>
                  </a:lnTo>
                  <a:lnTo>
                    <a:pt x="159" y="456"/>
                  </a:lnTo>
                  <a:lnTo>
                    <a:pt x="142" y="485"/>
                  </a:lnTo>
                  <a:lnTo>
                    <a:pt x="115" y="485"/>
                  </a:lnTo>
                  <a:lnTo>
                    <a:pt x="102" y="500"/>
                  </a:lnTo>
                  <a:lnTo>
                    <a:pt x="71" y="500"/>
                  </a:lnTo>
                  <a:lnTo>
                    <a:pt x="42" y="575"/>
                  </a:lnTo>
                  <a:lnTo>
                    <a:pt x="86" y="663"/>
                  </a:lnTo>
                  <a:lnTo>
                    <a:pt x="102" y="663"/>
                  </a:lnTo>
                  <a:lnTo>
                    <a:pt x="130" y="648"/>
                  </a:lnTo>
                  <a:lnTo>
                    <a:pt x="130" y="692"/>
                  </a:lnTo>
                  <a:lnTo>
                    <a:pt x="142" y="705"/>
                  </a:lnTo>
                  <a:lnTo>
                    <a:pt x="186" y="705"/>
                  </a:lnTo>
                  <a:lnTo>
                    <a:pt x="201" y="721"/>
                  </a:lnTo>
                  <a:lnTo>
                    <a:pt x="201" y="705"/>
                  </a:lnTo>
                  <a:lnTo>
                    <a:pt x="230" y="705"/>
                  </a:lnTo>
                  <a:lnTo>
                    <a:pt x="230" y="766"/>
                  </a:lnTo>
                  <a:lnTo>
                    <a:pt x="159" y="824"/>
                  </a:lnTo>
                  <a:lnTo>
                    <a:pt x="115" y="839"/>
                  </a:lnTo>
                  <a:lnTo>
                    <a:pt x="102" y="855"/>
                  </a:lnTo>
                  <a:lnTo>
                    <a:pt x="58" y="883"/>
                  </a:lnTo>
                  <a:lnTo>
                    <a:pt x="71" y="897"/>
                  </a:lnTo>
                  <a:lnTo>
                    <a:pt x="142" y="855"/>
                  </a:lnTo>
                  <a:lnTo>
                    <a:pt x="201" y="824"/>
                  </a:lnTo>
                  <a:lnTo>
                    <a:pt x="246" y="778"/>
                  </a:lnTo>
                  <a:lnTo>
                    <a:pt x="316" y="721"/>
                  </a:lnTo>
                  <a:lnTo>
                    <a:pt x="330" y="705"/>
                  </a:lnTo>
                  <a:lnTo>
                    <a:pt x="301" y="692"/>
                  </a:lnTo>
                  <a:lnTo>
                    <a:pt x="345" y="648"/>
                  </a:lnTo>
                  <a:lnTo>
                    <a:pt x="345" y="619"/>
                  </a:lnTo>
                  <a:lnTo>
                    <a:pt x="389" y="590"/>
                  </a:lnTo>
                  <a:lnTo>
                    <a:pt x="401" y="590"/>
                  </a:lnTo>
                  <a:lnTo>
                    <a:pt x="374" y="619"/>
                  </a:lnTo>
                  <a:lnTo>
                    <a:pt x="359" y="663"/>
                  </a:lnTo>
                  <a:lnTo>
                    <a:pt x="374" y="676"/>
                  </a:lnTo>
                  <a:lnTo>
                    <a:pt x="359" y="692"/>
                  </a:lnTo>
                  <a:lnTo>
                    <a:pt x="374" y="692"/>
                  </a:lnTo>
                  <a:lnTo>
                    <a:pt x="416" y="663"/>
                  </a:lnTo>
                  <a:lnTo>
                    <a:pt x="430" y="663"/>
                  </a:lnTo>
                  <a:lnTo>
                    <a:pt x="445" y="632"/>
                  </a:lnTo>
                  <a:lnTo>
                    <a:pt x="430" y="604"/>
                  </a:lnTo>
                  <a:lnTo>
                    <a:pt x="474" y="619"/>
                  </a:lnTo>
                  <a:lnTo>
                    <a:pt x="533" y="648"/>
                  </a:lnTo>
                  <a:lnTo>
                    <a:pt x="574" y="648"/>
                  </a:lnTo>
                  <a:lnTo>
                    <a:pt x="618" y="663"/>
                  </a:lnTo>
                  <a:lnTo>
                    <a:pt x="633" y="663"/>
                  </a:lnTo>
                  <a:lnTo>
                    <a:pt x="633" y="676"/>
                  </a:lnTo>
                  <a:lnTo>
                    <a:pt x="704" y="738"/>
                  </a:lnTo>
                  <a:lnTo>
                    <a:pt x="748" y="824"/>
                  </a:lnTo>
                  <a:lnTo>
                    <a:pt x="733" y="749"/>
                  </a:lnTo>
                  <a:lnTo>
                    <a:pt x="719" y="738"/>
                  </a:lnTo>
                  <a:lnTo>
                    <a:pt x="733" y="738"/>
                  </a:lnTo>
                  <a:lnTo>
                    <a:pt x="733" y="705"/>
                  </a:lnTo>
                  <a:lnTo>
                    <a:pt x="748" y="778"/>
                  </a:lnTo>
                  <a:lnTo>
                    <a:pt x="763" y="766"/>
                  </a:lnTo>
                  <a:lnTo>
                    <a:pt x="792" y="795"/>
                  </a:lnTo>
                  <a:lnTo>
                    <a:pt x="763" y="778"/>
                  </a:lnTo>
                  <a:lnTo>
                    <a:pt x="763" y="824"/>
                  </a:lnTo>
                  <a:lnTo>
                    <a:pt x="775" y="811"/>
                  </a:lnTo>
                  <a:lnTo>
                    <a:pt x="775" y="839"/>
                  </a:lnTo>
                  <a:lnTo>
                    <a:pt x="804" y="883"/>
                  </a:lnTo>
                  <a:lnTo>
                    <a:pt x="804" y="855"/>
                  </a:lnTo>
                  <a:lnTo>
                    <a:pt x="792" y="824"/>
                  </a:lnTo>
                  <a:lnTo>
                    <a:pt x="804" y="824"/>
                  </a:lnTo>
                  <a:lnTo>
                    <a:pt x="804" y="839"/>
                  </a:lnTo>
                  <a:lnTo>
                    <a:pt x="819" y="868"/>
                  </a:lnTo>
                  <a:lnTo>
                    <a:pt x="834" y="883"/>
                  </a:lnTo>
                  <a:lnTo>
                    <a:pt x="848" y="868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30120" y="2246760"/>
              <a:ext cx="2001600" cy="1606680"/>
            </a:xfrm>
            <a:custGeom>
              <a:avLst/>
              <a:gdLst/>
              <a:ahLst/>
              <a:rect l="l" t="t" r="r" b="b"/>
              <a:pathLst>
                <a:path w="1940" h="1557">
                  <a:moveTo>
                    <a:pt x="1410" y="1484"/>
                  </a:moveTo>
                  <a:lnTo>
                    <a:pt x="1410" y="1515"/>
                  </a:lnTo>
                  <a:lnTo>
                    <a:pt x="1351" y="1529"/>
                  </a:lnTo>
                  <a:lnTo>
                    <a:pt x="1339" y="1544"/>
                  </a:lnTo>
                  <a:lnTo>
                    <a:pt x="1307" y="1557"/>
                  </a:lnTo>
                  <a:lnTo>
                    <a:pt x="1339" y="1515"/>
                  </a:lnTo>
                  <a:lnTo>
                    <a:pt x="1324" y="1515"/>
                  </a:lnTo>
                  <a:lnTo>
                    <a:pt x="1351" y="1500"/>
                  </a:lnTo>
                  <a:lnTo>
                    <a:pt x="1351" y="1442"/>
                  </a:lnTo>
                  <a:lnTo>
                    <a:pt x="1379" y="1471"/>
                  </a:lnTo>
                  <a:lnTo>
                    <a:pt x="1395" y="1456"/>
                  </a:lnTo>
                  <a:lnTo>
                    <a:pt x="1366" y="1427"/>
                  </a:lnTo>
                  <a:lnTo>
                    <a:pt x="1295" y="1410"/>
                  </a:lnTo>
                  <a:lnTo>
                    <a:pt x="1280" y="1398"/>
                  </a:lnTo>
                  <a:lnTo>
                    <a:pt x="1266" y="1352"/>
                  </a:lnTo>
                  <a:lnTo>
                    <a:pt x="1251" y="1352"/>
                  </a:lnTo>
                  <a:lnTo>
                    <a:pt x="1236" y="1324"/>
                  </a:lnTo>
                  <a:lnTo>
                    <a:pt x="1207" y="1308"/>
                  </a:lnTo>
                  <a:lnTo>
                    <a:pt x="1165" y="1352"/>
                  </a:lnTo>
                  <a:lnTo>
                    <a:pt x="1120" y="1352"/>
                  </a:lnTo>
                  <a:lnTo>
                    <a:pt x="1092" y="1324"/>
                  </a:lnTo>
                  <a:lnTo>
                    <a:pt x="1065" y="1324"/>
                  </a:lnTo>
                  <a:lnTo>
                    <a:pt x="1048" y="1295"/>
                  </a:lnTo>
                  <a:lnTo>
                    <a:pt x="1036" y="1308"/>
                  </a:lnTo>
                  <a:lnTo>
                    <a:pt x="403" y="1308"/>
                  </a:lnTo>
                  <a:lnTo>
                    <a:pt x="388" y="1295"/>
                  </a:lnTo>
                  <a:lnTo>
                    <a:pt x="303" y="1235"/>
                  </a:lnTo>
                  <a:lnTo>
                    <a:pt x="288" y="1190"/>
                  </a:lnTo>
                  <a:lnTo>
                    <a:pt x="273" y="1178"/>
                  </a:lnTo>
                  <a:lnTo>
                    <a:pt x="230" y="1132"/>
                  </a:lnTo>
                  <a:lnTo>
                    <a:pt x="244" y="1117"/>
                  </a:lnTo>
                  <a:lnTo>
                    <a:pt x="244" y="1044"/>
                  </a:lnTo>
                  <a:lnTo>
                    <a:pt x="200" y="1015"/>
                  </a:lnTo>
                  <a:lnTo>
                    <a:pt x="159" y="925"/>
                  </a:lnTo>
                  <a:lnTo>
                    <a:pt x="144" y="925"/>
                  </a:lnTo>
                  <a:lnTo>
                    <a:pt x="129" y="883"/>
                  </a:lnTo>
                  <a:lnTo>
                    <a:pt x="100" y="896"/>
                  </a:lnTo>
                  <a:lnTo>
                    <a:pt x="85" y="912"/>
                  </a:lnTo>
                  <a:lnTo>
                    <a:pt x="44" y="868"/>
                  </a:lnTo>
                  <a:lnTo>
                    <a:pt x="44" y="852"/>
                  </a:lnTo>
                  <a:lnTo>
                    <a:pt x="0" y="868"/>
                  </a:lnTo>
                  <a:lnTo>
                    <a:pt x="0" y="337"/>
                  </a:lnTo>
                  <a:lnTo>
                    <a:pt x="29" y="337"/>
                  </a:lnTo>
                  <a:lnTo>
                    <a:pt x="115" y="399"/>
                  </a:lnTo>
                  <a:lnTo>
                    <a:pt x="115" y="366"/>
                  </a:lnTo>
                  <a:lnTo>
                    <a:pt x="129" y="354"/>
                  </a:lnTo>
                  <a:lnTo>
                    <a:pt x="159" y="337"/>
                  </a:lnTo>
                  <a:lnTo>
                    <a:pt x="171" y="354"/>
                  </a:lnTo>
                  <a:lnTo>
                    <a:pt x="259" y="297"/>
                  </a:lnTo>
                  <a:lnTo>
                    <a:pt x="259" y="326"/>
                  </a:lnTo>
                  <a:lnTo>
                    <a:pt x="288" y="326"/>
                  </a:lnTo>
                  <a:lnTo>
                    <a:pt x="303" y="280"/>
                  </a:lnTo>
                  <a:lnTo>
                    <a:pt x="330" y="309"/>
                  </a:lnTo>
                  <a:lnTo>
                    <a:pt x="330" y="337"/>
                  </a:lnTo>
                  <a:lnTo>
                    <a:pt x="359" y="354"/>
                  </a:lnTo>
                  <a:lnTo>
                    <a:pt x="374" y="326"/>
                  </a:lnTo>
                  <a:lnTo>
                    <a:pt x="374" y="354"/>
                  </a:lnTo>
                  <a:lnTo>
                    <a:pt x="403" y="354"/>
                  </a:lnTo>
                  <a:lnTo>
                    <a:pt x="403" y="326"/>
                  </a:lnTo>
                  <a:lnTo>
                    <a:pt x="447" y="326"/>
                  </a:lnTo>
                  <a:lnTo>
                    <a:pt x="474" y="354"/>
                  </a:lnTo>
                  <a:lnTo>
                    <a:pt x="503" y="366"/>
                  </a:lnTo>
                  <a:lnTo>
                    <a:pt x="530" y="383"/>
                  </a:lnTo>
                  <a:lnTo>
                    <a:pt x="562" y="383"/>
                  </a:lnTo>
                  <a:lnTo>
                    <a:pt x="603" y="399"/>
                  </a:lnTo>
                  <a:lnTo>
                    <a:pt x="603" y="427"/>
                  </a:lnTo>
                  <a:lnTo>
                    <a:pt x="589" y="441"/>
                  </a:lnTo>
                  <a:lnTo>
                    <a:pt x="589" y="456"/>
                  </a:lnTo>
                  <a:lnTo>
                    <a:pt x="633" y="471"/>
                  </a:lnTo>
                  <a:lnTo>
                    <a:pt x="706" y="441"/>
                  </a:lnTo>
                  <a:lnTo>
                    <a:pt x="748" y="471"/>
                  </a:lnTo>
                  <a:lnTo>
                    <a:pt x="748" y="441"/>
                  </a:lnTo>
                  <a:lnTo>
                    <a:pt x="733" y="427"/>
                  </a:lnTo>
                  <a:lnTo>
                    <a:pt x="748" y="412"/>
                  </a:lnTo>
                  <a:lnTo>
                    <a:pt x="806" y="383"/>
                  </a:lnTo>
                  <a:lnTo>
                    <a:pt x="821" y="427"/>
                  </a:lnTo>
                  <a:lnTo>
                    <a:pt x="892" y="456"/>
                  </a:lnTo>
                  <a:lnTo>
                    <a:pt x="936" y="471"/>
                  </a:lnTo>
                  <a:lnTo>
                    <a:pt x="965" y="471"/>
                  </a:lnTo>
                  <a:lnTo>
                    <a:pt x="965" y="427"/>
                  </a:lnTo>
                  <a:lnTo>
                    <a:pt x="977" y="412"/>
                  </a:lnTo>
                  <a:lnTo>
                    <a:pt x="936" y="383"/>
                  </a:lnTo>
                  <a:lnTo>
                    <a:pt x="965" y="366"/>
                  </a:lnTo>
                  <a:lnTo>
                    <a:pt x="977" y="326"/>
                  </a:lnTo>
                  <a:lnTo>
                    <a:pt x="1007" y="366"/>
                  </a:lnTo>
                  <a:lnTo>
                    <a:pt x="1036" y="399"/>
                  </a:lnTo>
                  <a:lnTo>
                    <a:pt x="1007" y="427"/>
                  </a:lnTo>
                  <a:lnTo>
                    <a:pt x="1007" y="456"/>
                  </a:lnTo>
                  <a:lnTo>
                    <a:pt x="1021" y="471"/>
                  </a:lnTo>
                  <a:lnTo>
                    <a:pt x="1036" y="441"/>
                  </a:lnTo>
                  <a:lnTo>
                    <a:pt x="1065" y="412"/>
                  </a:lnTo>
                  <a:lnTo>
                    <a:pt x="1048" y="383"/>
                  </a:lnTo>
                  <a:lnTo>
                    <a:pt x="1065" y="354"/>
                  </a:lnTo>
                  <a:lnTo>
                    <a:pt x="1007" y="297"/>
                  </a:lnTo>
                  <a:lnTo>
                    <a:pt x="1021" y="207"/>
                  </a:lnTo>
                  <a:lnTo>
                    <a:pt x="1048" y="192"/>
                  </a:lnTo>
                  <a:lnTo>
                    <a:pt x="1048" y="117"/>
                  </a:lnTo>
                  <a:lnTo>
                    <a:pt x="1036" y="44"/>
                  </a:lnTo>
                  <a:lnTo>
                    <a:pt x="1036" y="15"/>
                  </a:lnTo>
                  <a:lnTo>
                    <a:pt x="1092" y="0"/>
                  </a:lnTo>
                  <a:lnTo>
                    <a:pt x="1136" y="15"/>
                  </a:lnTo>
                  <a:lnTo>
                    <a:pt x="1151" y="29"/>
                  </a:lnTo>
                  <a:lnTo>
                    <a:pt x="1107" y="117"/>
                  </a:lnTo>
                  <a:lnTo>
                    <a:pt x="1092" y="117"/>
                  </a:lnTo>
                  <a:lnTo>
                    <a:pt x="1065" y="134"/>
                  </a:lnTo>
                  <a:lnTo>
                    <a:pt x="1080" y="163"/>
                  </a:lnTo>
                  <a:lnTo>
                    <a:pt x="1065" y="178"/>
                  </a:lnTo>
                  <a:lnTo>
                    <a:pt x="1120" y="309"/>
                  </a:lnTo>
                  <a:lnTo>
                    <a:pt x="1107" y="337"/>
                  </a:lnTo>
                  <a:lnTo>
                    <a:pt x="1120" y="354"/>
                  </a:lnTo>
                  <a:lnTo>
                    <a:pt x="1165" y="412"/>
                  </a:lnTo>
                  <a:lnTo>
                    <a:pt x="1180" y="366"/>
                  </a:lnTo>
                  <a:lnTo>
                    <a:pt x="1207" y="399"/>
                  </a:lnTo>
                  <a:lnTo>
                    <a:pt x="1191" y="456"/>
                  </a:lnTo>
                  <a:lnTo>
                    <a:pt x="1222" y="485"/>
                  </a:lnTo>
                  <a:lnTo>
                    <a:pt x="1236" y="485"/>
                  </a:lnTo>
                  <a:lnTo>
                    <a:pt x="1236" y="456"/>
                  </a:lnTo>
                  <a:lnTo>
                    <a:pt x="1266" y="441"/>
                  </a:lnTo>
                  <a:lnTo>
                    <a:pt x="1266" y="326"/>
                  </a:lnTo>
                  <a:lnTo>
                    <a:pt x="1295" y="326"/>
                  </a:lnTo>
                  <a:lnTo>
                    <a:pt x="1324" y="337"/>
                  </a:lnTo>
                  <a:lnTo>
                    <a:pt x="1324" y="366"/>
                  </a:lnTo>
                  <a:lnTo>
                    <a:pt x="1351" y="366"/>
                  </a:lnTo>
                  <a:lnTo>
                    <a:pt x="1351" y="412"/>
                  </a:lnTo>
                  <a:lnTo>
                    <a:pt x="1324" y="427"/>
                  </a:lnTo>
                  <a:lnTo>
                    <a:pt x="1324" y="456"/>
                  </a:lnTo>
                  <a:lnTo>
                    <a:pt x="1351" y="471"/>
                  </a:lnTo>
                  <a:lnTo>
                    <a:pt x="1351" y="500"/>
                  </a:lnTo>
                  <a:lnTo>
                    <a:pt x="1295" y="557"/>
                  </a:lnTo>
                  <a:lnTo>
                    <a:pt x="1266" y="546"/>
                  </a:lnTo>
                  <a:lnTo>
                    <a:pt x="1266" y="529"/>
                  </a:lnTo>
                  <a:lnTo>
                    <a:pt x="1236" y="529"/>
                  </a:lnTo>
                  <a:lnTo>
                    <a:pt x="1251" y="557"/>
                  </a:lnTo>
                  <a:lnTo>
                    <a:pt x="1222" y="586"/>
                  </a:lnTo>
                  <a:lnTo>
                    <a:pt x="1222" y="619"/>
                  </a:lnTo>
                  <a:lnTo>
                    <a:pt x="1191" y="676"/>
                  </a:lnTo>
                  <a:lnTo>
                    <a:pt x="1165" y="676"/>
                  </a:lnTo>
                  <a:lnTo>
                    <a:pt x="1136" y="705"/>
                  </a:lnTo>
                  <a:lnTo>
                    <a:pt x="1151" y="738"/>
                  </a:lnTo>
                  <a:lnTo>
                    <a:pt x="1107" y="749"/>
                  </a:lnTo>
                  <a:lnTo>
                    <a:pt x="1107" y="778"/>
                  </a:lnTo>
                  <a:lnTo>
                    <a:pt x="1092" y="778"/>
                  </a:lnTo>
                  <a:lnTo>
                    <a:pt x="1080" y="795"/>
                  </a:lnTo>
                  <a:lnTo>
                    <a:pt x="1048" y="868"/>
                  </a:lnTo>
                  <a:lnTo>
                    <a:pt x="1048" y="912"/>
                  </a:lnTo>
                  <a:lnTo>
                    <a:pt x="1065" y="925"/>
                  </a:lnTo>
                  <a:lnTo>
                    <a:pt x="1092" y="925"/>
                  </a:lnTo>
                  <a:lnTo>
                    <a:pt x="1107" y="1015"/>
                  </a:lnTo>
                  <a:lnTo>
                    <a:pt x="1136" y="998"/>
                  </a:lnTo>
                  <a:lnTo>
                    <a:pt x="1180" y="1015"/>
                  </a:lnTo>
                  <a:lnTo>
                    <a:pt x="1207" y="1044"/>
                  </a:lnTo>
                  <a:lnTo>
                    <a:pt x="1266" y="1075"/>
                  </a:lnTo>
                  <a:lnTo>
                    <a:pt x="1324" y="1075"/>
                  </a:lnTo>
                  <a:lnTo>
                    <a:pt x="1339" y="1088"/>
                  </a:lnTo>
                  <a:lnTo>
                    <a:pt x="1339" y="1178"/>
                  </a:lnTo>
                  <a:lnTo>
                    <a:pt x="1395" y="1235"/>
                  </a:lnTo>
                  <a:lnTo>
                    <a:pt x="1424" y="1207"/>
                  </a:lnTo>
                  <a:lnTo>
                    <a:pt x="1395" y="1103"/>
                  </a:lnTo>
                  <a:lnTo>
                    <a:pt x="1424" y="1088"/>
                  </a:lnTo>
                  <a:lnTo>
                    <a:pt x="1450" y="1044"/>
                  </a:lnTo>
                  <a:lnTo>
                    <a:pt x="1439" y="958"/>
                  </a:lnTo>
                  <a:lnTo>
                    <a:pt x="1410" y="925"/>
                  </a:lnTo>
                  <a:lnTo>
                    <a:pt x="1424" y="912"/>
                  </a:lnTo>
                  <a:lnTo>
                    <a:pt x="1439" y="912"/>
                  </a:lnTo>
                  <a:lnTo>
                    <a:pt x="1439" y="852"/>
                  </a:lnTo>
                  <a:lnTo>
                    <a:pt x="1424" y="839"/>
                  </a:lnTo>
                  <a:lnTo>
                    <a:pt x="1439" y="795"/>
                  </a:lnTo>
                  <a:lnTo>
                    <a:pt x="1424" y="778"/>
                  </a:lnTo>
                  <a:lnTo>
                    <a:pt x="1424" y="766"/>
                  </a:lnTo>
                  <a:lnTo>
                    <a:pt x="1439" y="749"/>
                  </a:lnTo>
                  <a:lnTo>
                    <a:pt x="1481" y="766"/>
                  </a:lnTo>
                  <a:lnTo>
                    <a:pt x="1523" y="749"/>
                  </a:lnTo>
                  <a:lnTo>
                    <a:pt x="1581" y="795"/>
                  </a:lnTo>
                  <a:lnTo>
                    <a:pt x="1565" y="810"/>
                  </a:lnTo>
                  <a:lnTo>
                    <a:pt x="1581" y="824"/>
                  </a:lnTo>
                  <a:lnTo>
                    <a:pt x="1625" y="824"/>
                  </a:lnTo>
                  <a:lnTo>
                    <a:pt x="1625" y="912"/>
                  </a:lnTo>
                  <a:lnTo>
                    <a:pt x="1669" y="958"/>
                  </a:lnTo>
                  <a:lnTo>
                    <a:pt x="1725" y="896"/>
                  </a:lnTo>
                  <a:lnTo>
                    <a:pt x="1713" y="883"/>
                  </a:lnTo>
                  <a:lnTo>
                    <a:pt x="1725" y="852"/>
                  </a:lnTo>
                  <a:lnTo>
                    <a:pt x="1813" y="998"/>
                  </a:lnTo>
                  <a:lnTo>
                    <a:pt x="1798" y="1015"/>
                  </a:lnTo>
                  <a:lnTo>
                    <a:pt x="1798" y="1044"/>
                  </a:lnTo>
                  <a:lnTo>
                    <a:pt x="1824" y="1059"/>
                  </a:lnTo>
                  <a:lnTo>
                    <a:pt x="1824" y="1075"/>
                  </a:lnTo>
                  <a:lnTo>
                    <a:pt x="1857" y="1088"/>
                  </a:lnTo>
                  <a:lnTo>
                    <a:pt x="1869" y="1088"/>
                  </a:lnTo>
                  <a:lnTo>
                    <a:pt x="1897" y="1103"/>
                  </a:lnTo>
                  <a:lnTo>
                    <a:pt x="1869" y="1117"/>
                  </a:lnTo>
                  <a:lnTo>
                    <a:pt x="1897" y="1117"/>
                  </a:lnTo>
                  <a:lnTo>
                    <a:pt x="1897" y="1149"/>
                  </a:lnTo>
                  <a:lnTo>
                    <a:pt x="1913" y="1149"/>
                  </a:lnTo>
                  <a:lnTo>
                    <a:pt x="1928" y="1161"/>
                  </a:lnTo>
                  <a:lnTo>
                    <a:pt x="1928" y="1178"/>
                  </a:lnTo>
                  <a:lnTo>
                    <a:pt x="1940" y="1207"/>
                  </a:lnTo>
                  <a:lnTo>
                    <a:pt x="1913" y="1222"/>
                  </a:lnTo>
                  <a:lnTo>
                    <a:pt x="1869" y="1235"/>
                  </a:lnTo>
                  <a:lnTo>
                    <a:pt x="1840" y="1280"/>
                  </a:lnTo>
                  <a:lnTo>
                    <a:pt x="1798" y="1280"/>
                  </a:lnTo>
                  <a:lnTo>
                    <a:pt x="1753" y="1264"/>
                  </a:lnTo>
                  <a:lnTo>
                    <a:pt x="1682" y="1280"/>
                  </a:lnTo>
                  <a:lnTo>
                    <a:pt x="1669" y="1308"/>
                  </a:lnTo>
                  <a:lnTo>
                    <a:pt x="1654" y="1308"/>
                  </a:lnTo>
                  <a:lnTo>
                    <a:pt x="1625" y="1324"/>
                  </a:lnTo>
                  <a:lnTo>
                    <a:pt x="1581" y="1381"/>
                  </a:lnTo>
                  <a:lnTo>
                    <a:pt x="1598" y="1381"/>
                  </a:lnTo>
                  <a:lnTo>
                    <a:pt x="1638" y="1337"/>
                  </a:lnTo>
                  <a:lnTo>
                    <a:pt x="1682" y="1308"/>
                  </a:lnTo>
                  <a:lnTo>
                    <a:pt x="1740" y="1308"/>
                  </a:lnTo>
                  <a:lnTo>
                    <a:pt x="1740" y="1337"/>
                  </a:lnTo>
                  <a:lnTo>
                    <a:pt x="1713" y="1352"/>
                  </a:lnTo>
                  <a:lnTo>
                    <a:pt x="1698" y="1352"/>
                  </a:lnTo>
                  <a:lnTo>
                    <a:pt x="1713" y="1370"/>
                  </a:lnTo>
                  <a:lnTo>
                    <a:pt x="1725" y="1352"/>
                  </a:lnTo>
                  <a:lnTo>
                    <a:pt x="1725" y="1398"/>
                  </a:lnTo>
                  <a:lnTo>
                    <a:pt x="1740" y="1410"/>
                  </a:lnTo>
                  <a:lnTo>
                    <a:pt x="1769" y="1427"/>
                  </a:lnTo>
                  <a:lnTo>
                    <a:pt x="1798" y="1427"/>
                  </a:lnTo>
                  <a:lnTo>
                    <a:pt x="1798" y="1410"/>
                  </a:lnTo>
                  <a:lnTo>
                    <a:pt x="1824" y="1381"/>
                  </a:lnTo>
                  <a:lnTo>
                    <a:pt x="1824" y="1410"/>
                  </a:lnTo>
                  <a:lnTo>
                    <a:pt x="1840" y="1410"/>
                  </a:lnTo>
                  <a:lnTo>
                    <a:pt x="1824" y="1427"/>
                  </a:lnTo>
                  <a:lnTo>
                    <a:pt x="1813" y="1442"/>
                  </a:lnTo>
                  <a:lnTo>
                    <a:pt x="1740" y="1471"/>
                  </a:lnTo>
                  <a:lnTo>
                    <a:pt x="1713" y="1500"/>
                  </a:lnTo>
                  <a:lnTo>
                    <a:pt x="1698" y="1471"/>
                  </a:lnTo>
                  <a:lnTo>
                    <a:pt x="1740" y="1442"/>
                  </a:lnTo>
                  <a:lnTo>
                    <a:pt x="1725" y="1442"/>
                  </a:lnTo>
                  <a:lnTo>
                    <a:pt x="1725" y="1427"/>
                  </a:lnTo>
                  <a:lnTo>
                    <a:pt x="1698" y="1442"/>
                  </a:lnTo>
                  <a:lnTo>
                    <a:pt x="1682" y="1442"/>
                  </a:lnTo>
                  <a:lnTo>
                    <a:pt x="1669" y="1427"/>
                  </a:lnTo>
                  <a:lnTo>
                    <a:pt x="1654" y="1381"/>
                  </a:lnTo>
                  <a:lnTo>
                    <a:pt x="1654" y="1370"/>
                  </a:lnTo>
                  <a:lnTo>
                    <a:pt x="1638" y="1381"/>
                  </a:lnTo>
                  <a:lnTo>
                    <a:pt x="1625" y="1370"/>
                  </a:lnTo>
                  <a:lnTo>
                    <a:pt x="1598" y="1442"/>
                  </a:lnTo>
                  <a:lnTo>
                    <a:pt x="1565" y="1456"/>
                  </a:lnTo>
                  <a:lnTo>
                    <a:pt x="1494" y="1456"/>
                  </a:lnTo>
                  <a:lnTo>
                    <a:pt x="1466" y="1471"/>
                  </a:lnTo>
                  <a:lnTo>
                    <a:pt x="1450" y="1484"/>
                  </a:lnTo>
                  <a:lnTo>
                    <a:pt x="1410" y="1484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46360" y="4429080"/>
              <a:ext cx="15480" cy="1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759400" y="4035960"/>
              <a:ext cx="12240" cy="12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74280" y="3701880"/>
              <a:ext cx="194760" cy="15192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74280" y="3701880"/>
              <a:ext cx="194760" cy="15192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75640" y="3597120"/>
              <a:ext cx="174960" cy="900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75640" y="3597120"/>
              <a:ext cx="174960" cy="900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79040" y="3811320"/>
              <a:ext cx="105840" cy="4248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79040" y="3811320"/>
              <a:ext cx="105840" cy="4248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685240" y="3765240"/>
              <a:ext cx="58320" cy="2844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685240" y="3765240"/>
              <a:ext cx="58320" cy="2844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759400" y="5369040"/>
              <a:ext cx="194400" cy="108972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59400" y="5369040"/>
              <a:ext cx="194400" cy="108972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04040" y="6416280"/>
              <a:ext cx="116640" cy="11664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04040" y="6416280"/>
              <a:ext cx="116640" cy="11664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0680" y="6416280"/>
              <a:ext cx="88200" cy="13644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20680" y="6416280"/>
              <a:ext cx="88200" cy="13644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818080" y="5476680"/>
              <a:ext cx="458280" cy="92340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818080" y="5476680"/>
              <a:ext cx="458280" cy="92340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101040" y="6370200"/>
              <a:ext cx="74520" cy="460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101040" y="6370200"/>
              <a:ext cx="74520" cy="460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818080" y="3867840"/>
              <a:ext cx="42480" cy="194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18080" y="3867840"/>
              <a:ext cx="42480" cy="194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26520" y="3566880"/>
              <a:ext cx="58320" cy="298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026520" y="3566880"/>
              <a:ext cx="58320" cy="298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026520" y="3671640"/>
              <a:ext cx="58320" cy="457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26520" y="3671640"/>
              <a:ext cx="58320" cy="457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47120" y="3508560"/>
              <a:ext cx="143280" cy="17856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147120" y="3508560"/>
              <a:ext cx="143280" cy="17856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794960" y="4124880"/>
              <a:ext cx="695520" cy="473760"/>
            </a:xfrm>
            <a:custGeom>
              <a:avLst/>
              <a:gdLst/>
              <a:ahLst/>
              <a:rect l="l" t="t" r="r" b="b"/>
              <a:pathLst>
                <a:path w="675" h="457">
                  <a:moveTo>
                    <a:pt x="445" y="176"/>
                  </a:moveTo>
                  <a:lnTo>
                    <a:pt x="430" y="208"/>
                  </a:lnTo>
                  <a:lnTo>
                    <a:pt x="430" y="266"/>
                  </a:lnTo>
                  <a:lnTo>
                    <a:pt x="445" y="281"/>
                  </a:lnTo>
                  <a:lnTo>
                    <a:pt x="445" y="294"/>
                  </a:lnTo>
                  <a:lnTo>
                    <a:pt x="474" y="354"/>
                  </a:lnTo>
                  <a:lnTo>
                    <a:pt x="518" y="367"/>
                  </a:lnTo>
                  <a:lnTo>
                    <a:pt x="560" y="354"/>
                  </a:lnTo>
                  <a:lnTo>
                    <a:pt x="589" y="354"/>
                  </a:lnTo>
                  <a:lnTo>
                    <a:pt x="573" y="354"/>
                  </a:lnTo>
                  <a:lnTo>
                    <a:pt x="589" y="339"/>
                  </a:lnTo>
                  <a:lnTo>
                    <a:pt x="604" y="294"/>
                  </a:lnTo>
                  <a:lnTo>
                    <a:pt x="618" y="294"/>
                  </a:lnTo>
                  <a:lnTo>
                    <a:pt x="660" y="281"/>
                  </a:lnTo>
                  <a:lnTo>
                    <a:pt x="675" y="294"/>
                  </a:lnTo>
                  <a:lnTo>
                    <a:pt x="660" y="354"/>
                  </a:lnTo>
                  <a:lnTo>
                    <a:pt x="660" y="367"/>
                  </a:lnTo>
                  <a:lnTo>
                    <a:pt x="644" y="354"/>
                  </a:lnTo>
                  <a:lnTo>
                    <a:pt x="633" y="367"/>
                  </a:lnTo>
                  <a:lnTo>
                    <a:pt x="589" y="367"/>
                  </a:lnTo>
                  <a:lnTo>
                    <a:pt x="573" y="383"/>
                  </a:lnTo>
                  <a:lnTo>
                    <a:pt x="604" y="411"/>
                  </a:lnTo>
                  <a:lnTo>
                    <a:pt x="573" y="411"/>
                  </a:lnTo>
                  <a:lnTo>
                    <a:pt x="560" y="457"/>
                  </a:lnTo>
                  <a:lnTo>
                    <a:pt x="518" y="411"/>
                  </a:lnTo>
                  <a:lnTo>
                    <a:pt x="489" y="411"/>
                  </a:lnTo>
                  <a:lnTo>
                    <a:pt x="474" y="429"/>
                  </a:lnTo>
                  <a:lnTo>
                    <a:pt x="430" y="411"/>
                  </a:lnTo>
                  <a:lnTo>
                    <a:pt x="359" y="383"/>
                  </a:lnTo>
                  <a:lnTo>
                    <a:pt x="345" y="367"/>
                  </a:lnTo>
                  <a:lnTo>
                    <a:pt x="301" y="367"/>
                  </a:lnTo>
                  <a:lnTo>
                    <a:pt x="274" y="339"/>
                  </a:lnTo>
                  <a:lnTo>
                    <a:pt x="259" y="310"/>
                  </a:lnTo>
                  <a:lnTo>
                    <a:pt x="274" y="294"/>
                  </a:lnTo>
                  <a:lnTo>
                    <a:pt x="259" y="266"/>
                  </a:lnTo>
                  <a:lnTo>
                    <a:pt x="201" y="191"/>
                  </a:lnTo>
                  <a:lnTo>
                    <a:pt x="171" y="176"/>
                  </a:lnTo>
                  <a:lnTo>
                    <a:pt x="171" y="162"/>
                  </a:lnTo>
                  <a:lnTo>
                    <a:pt x="142" y="134"/>
                  </a:lnTo>
                  <a:lnTo>
                    <a:pt x="142" y="118"/>
                  </a:lnTo>
                  <a:lnTo>
                    <a:pt x="127" y="118"/>
                  </a:lnTo>
                  <a:lnTo>
                    <a:pt x="115" y="90"/>
                  </a:lnTo>
                  <a:lnTo>
                    <a:pt x="86" y="32"/>
                  </a:lnTo>
                  <a:lnTo>
                    <a:pt x="71" y="32"/>
                  </a:lnTo>
                  <a:lnTo>
                    <a:pt x="42" y="17"/>
                  </a:lnTo>
                  <a:lnTo>
                    <a:pt x="56" y="61"/>
                  </a:lnTo>
                  <a:lnTo>
                    <a:pt x="127" y="162"/>
                  </a:lnTo>
                  <a:lnTo>
                    <a:pt x="142" y="220"/>
                  </a:lnTo>
                  <a:lnTo>
                    <a:pt x="159" y="220"/>
                  </a:lnTo>
                  <a:lnTo>
                    <a:pt x="171" y="237"/>
                  </a:lnTo>
                  <a:lnTo>
                    <a:pt x="159" y="252"/>
                  </a:lnTo>
                  <a:lnTo>
                    <a:pt x="142" y="237"/>
                  </a:lnTo>
                  <a:lnTo>
                    <a:pt x="100" y="208"/>
                  </a:lnTo>
                  <a:lnTo>
                    <a:pt x="115" y="191"/>
                  </a:lnTo>
                  <a:lnTo>
                    <a:pt x="100" y="162"/>
                  </a:lnTo>
                  <a:lnTo>
                    <a:pt x="56" y="147"/>
                  </a:lnTo>
                  <a:lnTo>
                    <a:pt x="42" y="118"/>
                  </a:lnTo>
                  <a:lnTo>
                    <a:pt x="56" y="134"/>
                  </a:lnTo>
                  <a:lnTo>
                    <a:pt x="71" y="103"/>
                  </a:lnTo>
                  <a:lnTo>
                    <a:pt x="27" y="7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127" y="32"/>
                  </a:lnTo>
                  <a:lnTo>
                    <a:pt x="242" y="17"/>
                  </a:lnTo>
                  <a:lnTo>
                    <a:pt x="274" y="46"/>
                  </a:lnTo>
                  <a:lnTo>
                    <a:pt x="274" y="74"/>
                  </a:lnTo>
                  <a:lnTo>
                    <a:pt x="301" y="90"/>
                  </a:lnTo>
                  <a:lnTo>
                    <a:pt x="316" y="90"/>
                  </a:lnTo>
                  <a:lnTo>
                    <a:pt x="330" y="74"/>
                  </a:lnTo>
                  <a:lnTo>
                    <a:pt x="345" y="74"/>
                  </a:lnTo>
                  <a:lnTo>
                    <a:pt x="401" y="162"/>
                  </a:lnTo>
                  <a:lnTo>
                    <a:pt x="445" y="176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48000" y="4490640"/>
              <a:ext cx="10800" cy="5832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48000" y="4490640"/>
              <a:ext cx="10800" cy="5832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375640" y="4505040"/>
              <a:ext cx="82800" cy="1076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75640" y="4505040"/>
              <a:ext cx="82800" cy="1076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32160" y="4566960"/>
              <a:ext cx="146880" cy="5796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32160" y="4566960"/>
              <a:ext cx="146880" cy="5796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419920" y="4598640"/>
              <a:ext cx="54360" cy="262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19920" y="4598640"/>
              <a:ext cx="54360" cy="262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90480" y="4579560"/>
              <a:ext cx="8856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90480" y="4579560"/>
              <a:ext cx="8856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520720" y="4673520"/>
              <a:ext cx="75960" cy="74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20720" y="4673520"/>
              <a:ext cx="75960" cy="74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96680" y="4717440"/>
              <a:ext cx="72360" cy="6012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96680" y="4717440"/>
              <a:ext cx="72360" cy="6012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69400" y="4717440"/>
              <a:ext cx="57960" cy="6012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69400" y="4717440"/>
              <a:ext cx="57960" cy="6012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655000" y="4717440"/>
              <a:ext cx="14400" cy="140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55000" y="4717440"/>
              <a:ext cx="14400" cy="140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46160" y="4462560"/>
              <a:ext cx="90000" cy="5652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46160" y="4462560"/>
              <a:ext cx="90000" cy="5652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87840" y="4462560"/>
              <a:ext cx="57960" cy="424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787840" y="4462560"/>
              <a:ext cx="57960" cy="424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685240" y="4643280"/>
              <a:ext cx="268560" cy="39420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85240" y="4643280"/>
              <a:ext cx="268560" cy="39420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39520" y="4913640"/>
              <a:ext cx="132120" cy="15408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639520" y="4913640"/>
              <a:ext cx="132120" cy="15408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23320" y="4943880"/>
              <a:ext cx="297360" cy="43884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23320" y="4943880"/>
              <a:ext cx="297360" cy="43884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04480" y="5172120"/>
              <a:ext cx="270720" cy="33264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904480" y="5172120"/>
              <a:ext cx="270720" cy="33264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071160" y="5418360"/>
              <a:ext cx="187200" cy="20844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071160" y="5418360"/>
              <a:ext cx="187200" cy="20844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157920" y="5703120"/>
              <a:ext cx="132120" cy="12024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157920" y="5703120"/>
              <a:ext cx="132120" cy="12024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804040" y="4825440"/>
              <a:ext cx="918000" cy="967680"/>
            </a:xfrm>
            <a:custGeom>
              <a:avLst/>
              <a:gdLst/>
              <a:ahLst/>
              <a:rect l="l" t="t" r="r" b="b"/>
              <a:pathLst>
                <a:path w="892" h="940">
                  <a:moveTo>
                    <a:pt x="516" y="28"/>
                  </a:moveTo>
                  <a:lnTo>
                    <a:pt x="505" y="28"/>
                  </a:lnTo>
                  <a:lnTo>
                    <a:pt x="476" y="59"/>
                  </a:lnTo>
                  <a:lnTo>
                    <a:pt x="461" y="72"/>
                  </a:lnTo>
                  <a:lnTo>
                    <a:pt x="445" y="59"/>
                  </a:lnTo>
                  <a:lnTo>
                    <a:pt x="417" y="59"/>
                  </a:lnTo>
                  <a:lnTo>
                    <a:pt x="405" y="72"/>
                  </a:lnTo>
                  <a:lnTo>
                    <a:pt x="390" y="72"/>
                  </a:lnTo>
                  <a:lnTo>
                    <a:pt x="346" y="88"/>
                  </a:lnTo>
                  <a:lnTo>
                    <a:pt x="334" y="88"/>
                  </a:lnTo>
                  <a:lnTo>
                    <a:pt x="317" y="59"/>
                  </a:lnTo>
                  <a:lnTo>
                    <a:pt x="317" y="0"/>
                  </a:lnTo>
                  <a:lnTo>
                    <a:pt x="301" y="0"/>
                  </a:lnTo>
                  <a:lnTo>
                    <a:pt x="290" y="15"/>
                  </a:lnTo>
                  <a:lnTo>
                    <a:pt x="246" y="28"/>
                  </a:lnTo>
                  <a:lnTo>
                    <a:pt x="202" y="15"/>
                  </a:lnTo>
                  <a:lnTo>
                    <a:pt x="217" y="28"/>
                  </a:lnTo>
                  <a:lnTo>
                    <a:pt x="217" y="59"/>
                  </a:lnTo>
                  <a:lnTo>
                    <a:pt x="230" y="72"/>
                  </a:lnTo>
                  <a:lnTo>
                    <a:pt x="190" y="101"/>
                  </a:lnTo>
                  <a:lnTo>
                    <a:pt x="175" y="101"/>
                  </a:lnTo>
                  <a:lnTo>
                    <a:pt x="159" y="88"/>
                  </a:lnTo>
                  <a:lnTo>
                    <a:pt x="146" y="72"/>
                  </a:lnTo>
                  <a:lnTo>
                    <a:pt x="87" y="72"/>
                  </a:lnTo>
                  <a:lnTo>
                    <a:pt x="87" y="88"/>
                  </a:lnTo>
                  <a:lnTo>
                    <a:pt x="102" y="101"/>
                  </a:lnTo>
                  <a:lnTo>
                    <a:pt x="87" y="101"/>
                  </a:lnTo>
                  <a:lnTo>
                    <a:pt x="102" y="145"/>
                  </a:lnTo>
                  <a:lnTo>
                    <a:pt x="87" y="206"/>
                  </a:lnTo>
                  <a:lnTo>
                    <a:pt x="31" y="235"/>
                  </a:lnTo>
                  <a:lnTo>
                    <a:pt x="0" y="293"/>
                  </a:lnTo>
                  <a:lnTo>
                    <a:pt x="16" y="337"/>
                  </a:lnTo>
                  <a:lnTo>
                    <a:pt x="42" y="354"/>
                  </a:lnTo>
                  <a:lnTo>
                    <a:pt x="75" y="337"/>
                  </a:lnTo>
                  <a:lnTo>
                    <a:pt x="75" y="365"/>
                  </a:lnTo>
                  <a:lnTo>
                    <a:pt x="131" y="365"/>
                  </a:lnTo>
                  <a:lnTo>
                    <a:pt x="159" y="337"/>
                  </a:lnTo>
                  <a:lnTo>
                    <a:pt x="190" y="337"/>
                  </a:lnTo>
                  <a:lnTo>
                    <a:pt x="190" y="383"/>
                  </a:lnTo>
                  <a:lnTo>
                    <a:pt x="202" y="394"/>
                  </a:lnTo>
                  <a:lnTo>
                    <a:pt x="290" y="427"/>
                  </a:lnTo>
                  <a:lnTo>
                    <a:pt x="301" y="455"/>
                  </a:lnTo>
                  <a:lnTo>
                    <a:pt x="301" y="469"/>
                  </a:lnTo>
                  <a:lnTo>
                    <a:pt x="317" y="499"/>
                  </a:lnTo>
                  <a:lnTo>
                    <a:pt x="346" y="499"/>
                  </a:lnTo>
                  <a:lnTo>
                    <a:pt x="346" y="513"/>
                  </a:lnTo>
                  <a:lnTo>
                    <a:pt x="361" y="542"/>
                  </a:lnTo>
                  <a:lnTo>
                    <a:pt x="361" y="632"/>
                  </a:lnTo>
                  <a:lnTo>
                    <a:pt x="405" y="647"/>
                  </a:lnTo>
                  <a:lnTo>
                    <a:pt x="417" y="647"/>
                  </a:lnTo>
                  <a:lnTo>
                    <a:pt x="417" y="676"/>
                  </a:lnTo>
                  <a:lnTo>
                    <a:pt x="445" y="691"/>
                  </a:lnTo>
                  <a:lnTo>
                    <a:pt x="434" y="720"/>
                  </a:lnTo>
                  <a:lnTo>
                    <a:pt x="445" y="720"/>
                  </a:lnTo>
                  <a:lnTo>
                    <a:pt x="461" y="766"/>
                  </a:lnTo>
                  <a:lnTo>
                    <a:pt x="434" y="777"/>
                  </a:lnTo>
                  <a:lnTo>
                    <a:pt x="374" y="852"/>
                  </a:lnTo>
                  <a:lnTo>
                    <a:pt x="390" y="852"/>
                  </a:lnTo>
                  <a:lnTo>
                    <a:pt x="405" y="867"/>
                  </a:lnTo>
                  <a:lnTo>
                    <a:pt x="417" y="867"/>
                  </a:lnTo>
                  <a:lnTo>
                    <a:pt x="461" y="896"/>
                  </a:lnTo>
                  <a:lnTo>
                    <a:pt x="476" y="909"/>
                  </a:lnTo>
                  <a:lnTo>
                    <a:pt x="461" y="940"/>
                  </a:lnTo>
                  <a:lnTo>
                    <a:pt x="489" y="909"/>
                  </a:lnTo>
                  <a:lnTo>
                    <a:pt x="516" y="881"/>
                  </a:lnTo>
                  <a:lnTo>
                    <a:pt x="549" y="823"/>
                  </a:lnTo>
                  <a:lnTo>
                    <a:pt x="576" y="794"/>
                  </a:lnTo>
                  <a:lnTo>
                    <a:pt x="576" y="733"/>
                  </a:lnTo>
                  <a:lnTo>
                    <a:pt x="589" y="704"/>
                  </a:lnTo>
                  <a:lnTo>
                    <a:pt x="620" y="691"/>
                  </a:lnTo>
                  <a:lnTo>
                    <a:pt x="664" y="660"/>
                  </a:lnTo>
                  <a:lnTo>
                    <a:pt x="720" y="660"/>
                  </a:lnTo>
                  <a:lnTo>
                    <a:pt x="720" y="647"/>
                  </a:lnTo>
                  <a:lnTo>
                    <a:pt x="748" y="632"/>
                  </a:lnTo>
                  <a:lnTo>
                    <a:pt x="748" y="618"/>
                  </a:lnTo>
                  <a:lnTo>
                    <a:pt x="775" y="574"/>
                  </a:lnTo>
                  <a:lnTo>
                    <a:pt x="775" y="542"/>
                  </a:lnTo>
                  <a:lnTo>
                    <a:pt x="792" y="528"/>
                  </a:lnTo>
                  <a:lnTo>
                    <a:pt x="792" y="427"/>
                  </a:lnTo>
                  <a:lnTo>
                    <a:pt x="863" y="337"/>
                  </a:lnTo>
                  <a:lnTo>
                    <a:pt x="892" y="293"/>
                  </a:lnTo>
                  <a:lnTo>
                    <a:pt x="879" y="235"/>
                  </a:lnTo>
                  <a:lnTo>
                    <a:pt x="835" y="235"/>
                  </a:lnTo>
                  <a:lnTo>
                    <a:pt x="764" y="174"/>
                  </a:lnTo>
                  <a:lnTo>
                    <a:pt x="735" y="191"/>
                  </a:lnTo>
                  <a:lnTo>
                    <a:pt x="693" y="174"/>
                  </a:lnTo>
                  <a:lnTo>
                    <a:pt x="664" y="174"/>
                  </a:lnTo>
                  <a:lnTo>
                    <a:pt x="664" y="145"/>
                  </a:lnTo>
                  <a:lnTo>
                    <a:pt x="649" y="145"/>
                  </a:lnTo>
                  <a:lnTo>
                    <a:pt x="589" y="134"/>
                  </a:lnTo>
                  <a:lnTo>
                    <a:pt x="576" y="145"/>
                  </a:lnTo>
                  <a:lnTo>
                    <a:pt x="576" y="116"/>
                  </a:lnTo>
                  <a:lnTo>
                    <a:pt x="534" y="116"/>
                  </a:lnTo>
                  <a:lnTo>
                    <a:pt x="534" y="145"/>
                  </a:lnTo>
                  <a:lnTo>
                    <a:pt x="516" y="134"/>
                  </a:lnTo>
                  <a:lnTo>
                    <a:pt x="505" y="145"/>
                  </a:lnTo>
                  <a:lnTo>
                    <a:pt x="516" y="116"/>
                  </a:lnTo>
                  <a:lnTo>
                    <a:pt x="549" y="88"/>
                  </a:lnTo>
                  <a:lnTo>
                    <a:pt x="549" y="72"/>
                  </a:lnTo>
                  <a:lnTo>
                    <a:pt x="534" y="72"/>
                  </a:lnTo>
                  <a:lnTo>
                    <a:pt x="516" y="28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58720" y="4811400"/>
              <a:ext cx="63720" cy="8820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58720" y="4811400"/>
              <a:ext cx="63720" cy="8820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175560" y="4811400"/>
              <a:ext cx="82800" cy="8820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75560" y="4811400"/>
              <a:ext cx="82800" cy="8820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01040" y="4747680"/>
              <a:ext cx="100800" cy="16596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101040" y="4747680"/>
              <a:ext cx="100800" cy="16596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18080" y="4655160"/>
              <a:ext cx="309600" cy="27432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18080" y="4655160"/>
              <a:ext cx="309600" cy="27432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87840" y="6039720"/>
              <a:ext cx="29880" cy="5652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787840" y="6039720"/>
              <a:ext cx="29880" cy="5652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99280" y="4490640"/>
              <a:ext cx="44280" cy="2844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699280" y="4490640"/>
              <a:ext cx="44280" cy="2844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550600" y="4372200"/>
              <a:ext cx="236880" cy="9000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550600" y="4372200"/>
              <a:ext cx="236880" cy="9000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99280" y="4324680"/>
              <a:ext cx="14400" cy="475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699280" y="4324680"/>
              <a:ext cx="14400" cy="475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0480" y="2822040"/>
              <a:ext cx="164520" cy="16812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490480" y="2822040"/>
              <a:ext cx="164520" cy="16812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27720" y="2689200"/>
              <a:ext cx="43920" cy="7416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727720" y="2689200"/>
              <a:ext cx="43920" cy="7416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427040" y="3396960"/>
              <a:ext cx="42480" cy="9360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27040" y="3396960"/>
              <a:ext cx="42480" cy="9360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27480" y="3535200"/>
              <a:ext cx="120240" cy="9000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527480" y="3535200"/>
              <a:ext cx="120240" cy="9000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89480" y="4400280"/>
              <a:ext cx="10800" cy="1584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89480" y="4400280"/>
              <a:ext cx="10800" cy="1584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30520" y="4416480"/>
              <a:ext cx="15840" cy="12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62200" y="4429080"/>
              <a:ext cx="12240" cy="15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74440" y="4444920"/>
              <a:ext cx="29880" cy="457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74440" y="4444920"/>
              <a:ext cx="29880" cy="457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Globalisation of National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" y="10666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dependence of economies around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41320" y="6172200"/>
            <a:ext cx="686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ata Source: CEIC, US Government Export Portal, European Newswire, Global In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74800" y="1868400"/>
            <a:ext cx="2546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3 FDI and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port Fig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3747960" y="1860480"/>
            <a:ext cx="2511720" cy="4056120"/>
            <a:chOff x="3747960" y="1860480"/>
            <a:chExt cx="2511720" cy="4056120"/>
          </a:xfrm>
        </p:grpSpPr>
        <p:sp>
          <p:nvSpPr>
            <p:cNvPr id="1104" name=""/>
            <p:cNvSpPr/>
            <p:nvPr/>
          </p:nvSpPr>
          <p:spPr>
            <a:xfrm>
              <a:off x="3747960" y="5183280"/>
              <a:ext cx="204012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sia-US</a:t>
              </a:r>
              <a:br>
                <a:rPr sz="1400"/>
              </a:b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FDI: US$13.4b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ort: 9.4m TE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773520" y="1860480"/>
              <a:ext cx="198576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US-Asia</a:t>
              </a:r>
              <a:br>
                <a:rPr sz="1400"/>
              </a:b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FDI: US$22.4b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ort: 3.6m TE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72000" y="2895480"/>
              <a:ext cx="16876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U-Asia</a:t>
              </a:r>
              <a:br>
                <a:rPr sz="1400"/>
              </a:b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FDI: US$16.3b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ort: 2.9m TE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72000" y="4146480"/>
              <a:ext cx="16876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sia-EU</a:t>
              </a:r>
              <a:br>
                <a:rPr sz="1400"/>
              </a:b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FDI: US$7.3b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ort: 6.3m TE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5337000" y="3581280"/>
            <a:ext cx="758880" cy="319320"/>
          </a:xfrm>
          <a:prstGeom prst="rightArrow">
            <a:avLst>
              <a:gd name="adj1" fmla="val 50000"/>
              <a:gd name="adj2" fmla="val 59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5032440" y="3860640"/>
            <a:ext cx="758880" cy="319320"/>
          </a:xfrm>
          <a:prstGeom prst="rightArrow">
            <a:avLst>
              <a:gd name="adj1" fmla="val 50000"/>
              <a:gd name="adj2" fmla="val 59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2179800" y="2649240"/>
            <a:ext cx="5626080" cy="898560"/>
          </a:xfrm>
          <a:custGeom>
            <a:avLst/>
            <a:gdLst>
              <a:gd name="textAreaLeft" fmla="*/ 1165320 w 5626080"/>
              <a:gd name="textAreaRight" fmla="*/ 3898080 w 5626080"/>
              <a:gd name="textAreaTop" fmla="*/ 120240 h 898560"/>
              <a:gd name="textAreaBottom" fmla="*/ 778320 h 8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48" hR="21600" stAng="10800000" swAng="-5400000"/>
                <a:lnTo>
                  <a:pt x="10492" y="21600"/>
                </a:lnTo>
                <a:arcTo wR="8948" hR="21600" stAng="5400000" swAng="-2971236"/>
                <a:lnTo>
                  <a:pt x="21088" y="7200"/>
                </a:lnTo>
                <a:lnTo>
                  <a:pt x="18668" y="0"/>
                </a:lnTo>
                <a:lnTo>
                  <a:pt x="15224" y="7200"/>
                </a:lnTo>
                <a:lnTo>
                  <a:pt x="17384" y="7200"/>
                </a:lnTo>
                <a:arcTo wR="8948" hR="21600" stAng="2428764" swAng="2847961"/>
                <a:lnTo>
                  <a:pt x="9720" y="21519"/>
                </a:lnTo>
                <a:arcTo wR="8948" hR="21600" stAng="5523275" swAng="5276725"/>
                <a:close/>
              </a:path>
              <a:path fill="darkenLess" w="21600" h="21600">
                <a:moveTo>
                  <a:pt x="0" y="0"/>
                </a:moveTo>
                <a:arcTo wR="8948" hR="21600" stAng="10800000" swAng="-5400000"/>
                <a:lnTo>
                  <a:pt x="10492" y="21600"/>
                </a:lnTo>
                <a:arcTo wR="8948" hR="21600" stAng="5400000" swAng="123275"/>
                <a:lnTo>
                  <a:pt x="9720" y="21519"/>
                </a:lnTo>
                <a:arcTo wR="8948" hR="21600" stAng="5523275" swAng="527672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1676520" y="4226040"/>
            <a:ext cx="5626080" cy="898560"/>
          </a:xfrm>
          <a:custGeom>
            <a:avLst/>
            <a:gdLst>
              <a:gd name="textAreaLeft" fmla="*/ 1165680 w 5626080"/>
              <a:gd name="textAreaRight" fmla="*/ 3898440 w 5626080"/>
              <a:gd name="textAreaTop" fmla="*/ 120240 h 898560"/>
              <a:gd name="textAreaBottom" fmla="*/ 778320 h 8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48" hR="21600" stAng="10800000" swAng="-5400000"/>
                <a:lnTo>
                  <a:pt x="10492" y="21600"/>
                </a:lnTo>
                <a:arcTo wR="8948" hR="21600" stAng="5400000" swAng="-2971236"/>
                <a:lnTo>
                  <a:pt x="21088" y="7200"/>
                </a:lnTo>
                <a:lnTo>
                  <a:pt x="18668" y="0"/>
                </a:lnTo>
                <a:lnTo>
                  <a:pt x="15224" y="7200"/>
                </a:lnTo>
                <a:lnTo>
                  <a:pt x="17384" y="7200"/>
                </a:lnTo>
                <a:arcTo wR="8948" hR="21600" stAng="2428764" swAng="2847961"/>
                <a:lnTo>
                  <a:pt x="9720" y="21519"/>
                </a:lnTo>
                <a:arcTo wR="8948" hR="21600" stAng="5523275" swAng="5276725"/>
                <a:close/>
              </a:path>
              <a:path fill="darkenLess" w="21600" h="21600">
                <a:moveTo>
                  <a:pt x="0" y="0"/>
                </a:moveTo>
                <a:arcTo wR="8948" hR="21600" stAng="10800000" swAng="-5400000"/>
                <a:lnTo>
                  <a:pt x="10492" y="21600"/>
                </a:lnTo>
                <a:arcTo wR="8948" hR="21600" stAng="5400000" swAng="123275"/>
                <a:lnTo>
                  <a:pt x="9720" y="21519"/>
                </a:lnTo>
                <a:arcTo wR="8948" hR="21600" stAng="5523275" swAng="527672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990720" y="421956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Increase in Volat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33520" y="1981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he Global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990720" y="274320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Dominance of Market Econom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990720" y="3489480"/>
            <a:ext cx="769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Globalisation of National Econom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Increase in Vola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57200" y="11430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reats and risks magnified by glob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712880" y="1784520"/>
            <a:ext cx="6109920" cy="3360600"/>
            <a:chOff x="1712880" y="1784520"/>
            <a:chExt cx="6109920" cy="3360600"/>
          </a:xfrm>
        </p:grpSpPr>
        <p:sp>
          <p:nvSpPr>
            <p:cNvPr id="1119" name=""/>
            <p:cNvSpPr/>
            <p:nvPr/>
          </p:nvSpPr>
          <p:spPr>
            <a:xfrm>
              <a:off x="5851440" y="2891520"/>
              <a:ext cx="1026360" cy="730080"/>
            </a:xfrm>
            <a:custGeom>
              <a:avLst/>
              <a:gdLst/>
              <a:ahLst/>
              <a:rect l="l" t="t" r="r" b="b"/>
              <a:pathLst>
                <a:path w="1377" h="983">
                  <a:moveTo>
                    <a:pt x="286" y="175"/>
                  </a:moveTo>
                  <a:lnTo>
                    <a:pt x="315" y="159"/>
                  </a:lnTo>
                  <a:lnTo>
                    <a:pt x="341" y="203"/>
                  </a:lnTo>
                  <a:lnTo>
                    <a:pt x="374" y="203"/>
                  </a:lnTo>
                  <a:lnTo>
                    <a:pt x="386" y="232"/>
                  </a:lnTo>
                  <a:lnTo>
                    <a:pt x="386" y="293"/>
                  </a:lnTo>
                  <a:lnTo>
                    <a:pt x="474" y="322"/>
                  </a:lnTo>
                  <a:lnTo>
                    <a:pt x="518" y="366"/>
                  </a:lnTo>
                  <a:lnTo>
                    <a:pt x="600" y="366"/>
                  </a:lnTo>
                  <a:lnTo>
                    <a:pt x="644" y="395"/>
                  </a:lnTo>
                  <a:lnTo>
                    <a:pt x="704" y="408"/>
                  </a:lnTo>
                  <a:lnTo>
                    <a:pt x="760" y="380"/>
                  </a:lnTo>
                  <a:lnTo>
                    <a:pt x="819" y="380"/>
                  </a:lnTo>
                  <a:lnTo>
                    <a:pt x="859" y="335"/>
                  </a:lnTo>
                  <a:lnTo>
                    <a:pt x="848" y="322"/>
                  </a:lnTo>
                  <a:lnTo>
                    <a:pt x="877" y="293"/>
                  </a:lnTo>
                  <a:lnTo>
                    <a:pt x="903" y="307"/>
                  </a:lnTo>
                  <a:lnTo>
                    <a:pt x="948" y="278"/>
                  </a:lnTo>
                  <a:lnTo>
                    <a:pt x="976" y="249"/>
                  </a:lnTo>
                  <a:lnTo>
                    <a:pt x="1034" y="249"/>
                  </a:lnTo>
                  <a:lnTo>
                    <a:pt x="1019" y="221"/>
                  </a:lnTo>
                  <a:lnTo>
                    <a:pt x="1003" y="203"/>
                  </a:lnTo>
                  <a:lnTo>
                    <a:pt x="976" y="221"/>
                  </a:lnTo>
                  <a:lnTo>
                    <a:pt x="948" y="221"/>
                  </a:lnTo>
                  <a:lnTo>
                    <a:pt x="948" y="159"/>
                  </a:lnTo>
                  <a:lnTo>
                    <a:pt x="963" y="131"/>
                  </a:lnTo>
                  <a:lnTo>
                    <a:pt x="992" y="146"/>
                  </a:lnTo>
                  <a:lnTo>
                    <a:pt x="1034" y="131"/>
                  </a:lnTo>
                  <a:lnTo>
                    <a:pt x="1047" y="73"/>
                  </a:lnTo>
                  <a:lnTo>
                    <a:pt x="1063" y="58"/>
                  </a:lnTo>
                  <a:lnTo>
                    <a:pt x="1063" y="41"/>
                  </a:lnTo>
                  <a:lnTo>
                    <a:pt x="1047" y="41"/>
                  </a:lnTo>
                  <a:lnTo>
                    <a:pt x="1063" y="12"/>
                  </a:lnTo>
                  <a:lnTo>
                    <a:pt x="1118" y="0"/>
                  </a:lnTo>
                  <a:lnTo>
                    <a:pt x="1162" y="12"/>
                  </a:lnTo>
                  <a:lnTo>
                    <a:pt x="1191" y="41"/>
                  </a:lnTo>
                  <a:lnTo>
                    <a:pt x="1222" y="146"/>
                  </a:lnTo>
                  <a:lnTo>
                    <a:pt x="1251" y="146"/>
                  </a:lnTo>
                  <a:lnTo>
                    <a:pt x="1293" y="175"/>
                  </a:lnTo>
                  <a:lnTo>
                    <a:pt x="1293" y="203"/>
                  </a:lnTo>
                  <a:lnTo>
                    <a:pt x="1322" y="203"/>
                  </a:lnTo>
                  <a:lnTo>
                    <a:pt x="1377" y="188"/>
                  </a:lnTo>
                  <a:lnTo>
                    <a:pt x="1377" y="221"/>
                  </a:lnTo>
                  <a:lnTo>
                    <a:pt x="1337" y="307"/>
                  </a:lnTo>
                  <a:lnTo>
                    <a:pt x="1322" y="293"/>
                  </a:lnTo>
                  <a:lnTo>
                    <a:pt x="1293" y="307"/>
                  </a:lnTo>
                  <a:lnTo>
                    <a:pt x="1306" y="351"/>
                  </a:lnTo>
                  <a:lnTo>
                    <a:pt x="1293" y="380"/>
                  </a:lnTo>
                  <a:lnTo>
                    <a:pt x="1277" y="380"/>
                  </a:lnTo>
                  <a:lnTo>
                    <a:pt x="1251" y="395"/>
                  </a:lnTo>
                  <a:lnTo>
                    <a:pt x="1235" y="395"/>
                  </a:lnTo>
                  <a:lnTo>
                    <a:pt x="1222" y="408"/>
                  </a:lnTo>
                  <a:lnTo>
                    <a:pt x="1207" y="408"/>
                  </a:lnTo>
                  <a:lnTo>
                    <a:pt x="1151" y="452"/>
                  </a:lnTo>
                  <a:lnTo>
                    <a:pt x="1151" y="470"/>
                  </a:lnTo>
                  <a:lnTo>
                    <a:pt x="1118" y="470"/>
                  </a:lnTo>
                  <a:lnTo>
                    <a:pt x="1078" y="498"/>
                  </a:lnTo>
                  <a:lnTo>
                    <a:pt x="1078" y="470"/>
                  </a:lnTo>
                  <a:lnTo>
                    <a:pt x="1091" y="441"/>
                  </a:lnTo>
                  <a:lnTo>
                    <a:pt x="1078" y="424"/>
                  </a:lnTo>
                  <a:lnTo>
                    <a:pt x="1034" y="470"/>
                  </a:lnTo>
                  <a:lnTo>
                    <a:pt x="1019" y="481"/>
                  </a:lnTo>
                  <a:lnTo>
                    <a:pt x="1003" y="481"/>
                  </a:lnTo>
                  <a:lnTo>
                    <a:pt x="992" y="498"/>
                  </a:lnTo>
                  <a:lnTo>
                    <a:pt x="1034" y="542"/>
                  </a:lnTo>
                  <a:lnTo>
                    <a:pt x="1063" y="527"/>
                  </a:lnTo>
                  <a:lnTo>
                    <a:pt x="1107" y="542"/>
                  </a:lnTo>
                  <a:lnTo>
                    <a:pt x="1107" y="558"/>
                  </a:lnTo>
                  <a:lnTo>
                    <a:pt x="1091" y="542"/>
                  </a:lnTo>
                  <a:lnTo>
                    <a:pt x="1063" y="558"/>
                  </a:lnTo>
                  <a:lnTo>
                    <a:pt x="1034" y="600"/>
                  </a:lnTo>
                  <a:lnTo>
                    <a:pt x="1047" y="615"/>
                  </a:lnTo>
                  <a:lnTo>
                    <a:pt x="1063" y="673"/>
                  </a:lnTo>
                  <a:lnTo>
                    <a:pt x="1091" y="690"/>
                  </a:lnTo>
                  <a:lnTo>
                    <a:pt x="1078" y="690"/>
                  </a:lnTo>
                  <a:lnTo>
                    <a:pt x="1091" y="719"/>
                  </a:lnTo>
                  <a:lnTo>
                    <a:pt x="1047" y="734"/>
                  </a:lnTo>
                  <a:lnTo>
                    <a:pt x="1091" y="734"/>
                  </a:lnTo>
                  <a:lnTo>
                    <a:pt x="1078" y="791"/>
                  </a:lnTo>
                  <a:lnTo>
                    <a:pt x="1047" y="820"/>
                  </a:lnTo>
                  <a:lnTo>
                    <a:pt x="1034" y="820"/>
                  </a:lnTo>
                  <a:lnTo>
                    <a:pt x="1034" y="849"/>
                  </a:lnTo>
                  <a:lnTo>
                    <a:pt x="1019" y="881"/>
                  </a:lnTo>
                  <a:lnTo>
                    <a:pt x="1003" y="881"/>
                  </a:lnTo>
                  <a:lnTo>
                    <a:pt x="1003" y="893"/>
                  </a:lnTo>
                  <a:lnTo>
                    <a:pt x="963" y="925"/>
                  </a:lnTo>
                  <a:lnTo>
                    <a:pt x="919" y="925"/>
                  </a:lnTo>
                  <a:lnTo>
                    <a:pt x="919" y="939"/>
                  </a:lnTo>
                  <a:lnTo>
                    <a:pt x="903" y="925"/>
                  </a:lnTo>
                  <a:lnTo>
                    <a:pt x="903" y="939"/>
                  </a:lnTo>
                  <a:lnTo>
                    <a:pt x="892" y="939"/>
                  </a:lnTo>
                  <a:lnTo>
                    <a:pt x="832" y="967"/>
                  </a:lnTo>
                  <a:lnTo>
                    <a:pt x="819" y="983"/>
                  </a:lnTo>
                  <a:lnTo>
                    <a:pt x="819" y="954"/>
                  </a:lnTo>
                  <a:lnTo>
                    <a:pt x="748" y="954"/>
                  </a:lnTo>
                  <a:lnTo>
                    <a:pt x="748" y="925"/>
                  </a:lnTo>
                  <a:lnTo>
                    <a:pt x="717" y="925"/>
                  </a:lnTo>
                  <a:lnTo>
                    <a:pt x="660" y="939"/>
                  </a:lnTo>
                  <a:lnTo>
                    <a:pt x="644" y="925"/>
                  </a:lnTo>
                  <a:lnTo>
                    <a:pt x="644" y="939"/>
                  </a:lnTo>
                  <a:lnTo>
                    <a:pt x="633" y="939"/>
                  </a:lnTo>
                  <a:lnTo>
                    <a:pt x="633" y="967"/>
                  </a:lnTo>
                  <a:lnTo>
                    <a:pt x="618" y="967"/>
                  </a:lnTo>
                  <a:lnTo>
                    <a:pt x="618" y="954"/>
                  </a:lnTo>
                  <a:lnTo>
                    <a:pt x="600" y="954"/>
                  </a:lnTo>
                  <a:lnTo>
                    <a:pt x="573" y="939"/>
                  </a:lnTo>
                  <a:lnTo>
                    <a:pt x="573" y="910"/>
                  </a:lnTo>
                  <a:lnTo>
                    <a:pt x="560" y="893"/>
                  </a:lnTo>
                  <a:lnTo>
                    <a:pt x="545" y="893"/>
                  </a:lnTo>
                  <a:lnTo>
                    <a:pt x="560" y="820"/>
                  </a:lnTo>
                  <a:lnTo>
                    <a:pt x="545" y="791"/>
                  </a:lnTo>
                  <a:lnTo>
                    <a:pt x="529" y="791"/>
                  </a:lnTo>
                  <a:lnTo>
                    <a:pt x="501" y="763"/>
                  </a:lnTo>
                  <a:lnTo>
                    <a:pt x="474" y="763"/>
                  </a:lnTo>
                  <a:lnTo>
                    <a:pt x="401" y="791"/>
                  </a:lnTo>
                  <a:lnTo>
                    <a:pt x="359" y="791"/>
                  </a:lnTo>
                  <a:lnTo>
                    <a:pt x="341" y="807"/>
                  </a:lnTo>
                  <a:lnTo>
                    <a:pt x="330" y="791"/>
                  </a:lnTo>
                  <a:lnTo>
                    <a:pt x="270" y="791"/>
                  </a:lnTo>
                  <a:lnTo>
                    <a:pt x="242" y="776"/>
                  </a:lnTo>
                  <a:lnTo>
                    <a:pt x="226" y="763"/>
                  </a:lnTo>
                  <a:lnTo>
                    <a:pt x="215" y="763"/>
                  </a:lnTo>
                  <a:lnTo>
                    <a:pt x="186" y="734"/>
                  </a:lnTo>
                  <a:lnTo>
                    <a:pt x="155" y="734"/>
                  </a:lnTo>
                  <a:lnTo>
                    <a:pt x="115" y="719"/>
                  </a:lnTo>
                  <a:lnTo>
                    <a:pt x="100" y="673"/>
                  </a:lnTo>
                  <a:lnTo>
                    <a:pt x="127" y="673"/>
                  </a:lnTo>
                  <a:lnTo>
                    <a:pt x="115" y="644"/>
                  </a:lnTo>
                  <a:lnTo>
                    <a:pt x="142" y="615"/>
                  </a:lnTo>
                  <a:lnTo>
                    <a:pt x="142" y="586"/>
                  </a:lnTo>
                  <a:lnTo>
                    <a:pt x="127" y="571"/>
                  </a:lnTo>
                  <a:lnTo>
                    <a:pt x="84" y="586"/>
                  </a:lnTo>
                  <a:lnTo>
                    <a:pt x="56" y="571"/>
                  </a:lnTo>
                  <a:lnTo>
                    <a:pt x="42" y="558"/>
                  </a:lnTo>
                  <a:lnTo>
                    <a:pt x="11" y="542"/>
                  </a:lnTo>
                  <a:lnTo>
                    <a:pt x="27" y="542"/>
                  </a:lnTo>
                  <a:lnTo>
                    <a:pt x="27" y="498"/>
                  </a:lnTo>
                  <a:lnTo>
                    <a:pt x="0" y="498"/>
                  </a:lnTo>
                  <a:lnTo>
                    <a:pt x="0" y="452"/>
                  </a:lnTo>
                  <a:lnTo>
                    <a:pt x="27" y="441"/>
                  </a:lnTo>
                  <a:lnTo>
                    <a:pt x="56" y="441"/>
                  </a:lnTo>
                  <a:lnTo>
                    <a:pt x="71" y="424"/>
                  </a:lnTo>
                  <a:lnTo>
                    <a:pt x="100" y="424"/>
                  </a:lnTo>
                  <a:lnTo>
                    <a:pt x="142" y="395"/>
                  </a:lnTo>
                  <a:lnTo>
                    <a:pt x="155" y="366"/>
                  </a:lnTo>
                  <a:lnTo>
                    <a:pt x="142" y="307"/>
                  </a:lnTo>
                  <a:lnTo>
                    <a:pt x="142" y="293"/>
                  </a:lnTo>
                  <a:lnTo>
                    <a:pt x="186" y="293"/>
                  </a:lnTo>
                  <a:lnTo>
                    <a:pt x="199" y="232"/>
                  </a:lnTo>
                  <a:lnTo>
                    <a:pt x="259" y="232"/>
                  </a:lnTo>
                  <a:lnTo>
                    <a:pt x="270" y="188"/>
                  </a:lnTo>
                  <a:lnTo>
                    <a:pt x="286" y="175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36520" y="3294360"/>
              <a:ext cx="277200" cy="27504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36520" y="3294360"/>
              <a:ext cx="277200" cy="27504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626440" y="3262680"/>
              <a:ext cx="245160" cy="19548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626440" y="3262680"/>
              <a:ext cx="245160" cy="19548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347440" y="3227040"/>
              <a:ext cx="319680" cy="30672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347440" y="3227040"/>
              <a:ext cx="319680" cy="30672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43800" y="3205080"/>
              <a:ext cx="127800" cy="9972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43800" y="3205080"/>
              <a:ext cx="127800" cy="9972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78720" y="3151440"/>
              <a:ext cx="178560" cy="8784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78720" y="3151440"/>
              <a:ext cx="178560" cy="8784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485680" y="3164400"/>
              <a:ext cx="246600" cy="16236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485680" y="3164400"/>
              <a:ext cx="246600" cy="16236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552280" y="3096360"/>
              <a:ext cx="287280" cy="19800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552280" y="3096360"/>
              <a:ext cx="287280" cy="19800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88480" y="2834280"/>
              <a:ext cx="697680" cy="37080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88480" y="2834280"/>
              <a:ext cx="697680" cy="37080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15160" y="3403080"/>
              <a:ext cx="190440" cy="19836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015160" y="3403080"/>
              <a:ext cx="190440" cy="19836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758480" y="3381480"/>
              <a:ext cx="268200" cy="26100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758480" y="3381480"/>
              <a:ext cx="268200" cy="26100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57520" y="3294360"/>
              <a:ext cx="343800" cy="34776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57520" y="3294360"/>
              <a:ext cx="343800" cy="34776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94880" y="3533760"/>
              <a:ext cx="278640" cy="27216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94880" y="3533760"/>
              <a:ext cx="278640" cy="27216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57520" y="3796920"/>
              <a:ext cx="108720" cy="10872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457520" y="3796920"/>
              <a:ext cx="108720" cy="10872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54720" y="3786840"/>
              <a:ext cx="65160" cy="10980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54720" y="3786840"/>
              <a:ext cx="65160" cy="10980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748040" y="3940200"/>
              <a:ext cx="94680" cy="11016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748040" y="3940200"/>
              <a:ext cx="94680" cy="11016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748040" y="3752280"/>
              <a:ext cx="129240" cy="19836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48040" y="3752280"/>
              <a:ext cx="129240" cy="19836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49400" y="3742200"/>
              <a:ext cx="192960" cy="16344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649400" y="3742200"/>
              <a:ext cx="192960" cy="16344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09800" y="3569760"/>
              <a:ext cx="267120" cy="20412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609800" y="3569760"/>
              <a:ext cx="267120" cy="20412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832280" y="3569760"/>
              <a:ext cx="169920" cy="28224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32280" y="3569760"/>
              <a:ext cx="169920" cy="28224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73040" y="3579840"/>
              <a:ext cx="278640" cy="33732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73040" y="3579840"/>
              <a:ext cx="278640" cy="33732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42720" y="3786840"/>
              <a:ext cx="224640" cy="14184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42720" y="3786840"/>
              <a:ext cx="224640" cy="14184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173920" y="3905640"/>
              <a:ext cx="138960" cy="15336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173920" y="3905640"/>
              <a:ext cx="138960" cy="15336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98320" y="3905640"/>
              <a:ext cx="101880" cy="9828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098320" y="3905640"/>
              <a:ext cx="101880" cy="9828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98320" y="3996720"/>
              <a:ext cx="182520" cy="18396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98320" y="3996720"/>
              <a:ext cx="182520" cy="18396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13200" y="3896640"/>
              <a:ext cx="320760" cy="31608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813200" y="3896640"/>
              <a:ext cx="320760" cy="31608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973040" y="4125960"/>
              <a:ext cx="200880" cy="16344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973040" y="4125960"/>
              <a:ext cx="200880" cy="16344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154840" y="4147560"/>
              <a:ext cx="50760" cy="12888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154840" y="4147560"/>
              <a:ext cx="50760" cy="12888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820760" y="3733200"/>
              <a:ext cx="4464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820760" y="3733200"/>
              <a:ext cx="4464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47200" y="3262680"/>
              <a:ext cx="1440" cy="8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67720" y="3055320"/>
              <a:ext cx="240120" cy="14940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67720" y="3055320"/>
              <a:ext cx="240120" cy="14940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356520" y="2824200"/>
              <a:ext cx="107280" cy="13140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356520" y="2824200"/>
              <a:ext cx="107280" cy="13140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112360" y="2625840"/>
              <a:ext cx="42120" cy="676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112360" y="2625840"/>
              <a:ext cx="42120" cy="676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187600" y="2584800"/>
              <a:ext cx="30600" cy="6264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87600" y="2584800"/>
              <a:ext cx="30600" cy="6264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887360" y="2999160"/>
              <a:ext cx="94320" cy="4176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887360" y="2999160"/>
              <a:ext cx="94320" cy="4176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058720" y="1784520"/>
              <a:ext cx="2764080" cy="1410480"/>
            </a:xfrm>
            <a:custGeom>
              <a:avLst/>
              <a:gdLst/>
              <a:ahLst/>
              <a:rect l="l" t="t" r="r" b="b"/>
              <a:pathLst>
                <a:path w="3710" h="1892">
                  <a:moveTo>
                    <a:pt x="1884" y="350"/>
                  </a:moveTo>
                  <a:lnTo>
                    <a:pt x="1869" y="364"/>
                  </a:lnTo>
                  <a:lnTo>
                    <a:pt x="1884" y="395"/>
                  </a:lnTo>
                  <a:lnTo>
                    <a:pt x="1825" y="423"/>
                  </a:lnTo>
                  <a:lnTo>
                    <a:pt x="1813" y="423"/>
                  </a:lnTo>
                  <a:lnTo>
                    <a:pt x="1825" y="379"/>
                  </a:lnTo>
                  <a:lnTo>
                    <a:pt x="1968" y="249"/>
                  </a:lnTo>
                  <a:lnTo>
                    <a:pt x="1968" y="159"/>
                  </a:lnTo>
                  <a:lnTo>
                    <a:pt x="1913" y="101"/>
                  </a:lnTo>
                  <a:lnTo>
                    <a:pt x="1842" y="101"/>
                  </a:lnTo>
                  <a:lnTo>
                    <a:pt x="1842" y="130"/>
                  </a:lnTo>
                  <a:lnTo>
                    <a:pt x="1798" y="130"/>
                  </a:lnTo>
                  <a:lnTo>
                    <a:pt x="1825" y="73"/>
                  </a:lnTo>
                  <a:lnTo>
                    <a:pt x="1754" y="57"/>
                  </a:lnTo>
                  <a:lnTo>
                    <a:pt x="1798" y="29"/>
                  </a:lnTo>
                  <a:lnTo>
                    <a:pt x="1754" y="0"/>
                  </a:lnTo>
                  <a:lnTo>
                    <a:pt x="1683" y="73"/>
                  </a:lnTo>
                  <a:lnTo>
                    <a:pt x="1683" y="130"/>
                  </a:lnTo>
                  <a:lnTo>
                    <a:pt x="1638" y="130"/>
                  </a:lnTo>
                  <a:lnTo>
                    <a:pt x="1510" y="159"/>
                  </a:lnTo>
                  <a:lnTo>
                    <a:pt x="1395" y="232"/>
                  </a:lnTo>
                  <a:lnTo>
                    <a:pt x="1351" y="293"/>
                  </a:lnTo>
                  <a:lnTo>
                    <a:pt x="1364" y="364"/>
                  </a:lnTo>
                  <a:lnTo>
                    <a:pt x="1207" y="395"/>
                  </a:lnTo>
                  <a:lnTo>
                    <a:pt x="1220" y="481"/>
                  </a:lnTo>
                  <a:lnTo>
                    <a:pt x="1264" y="527"/>
                  </a:lnTo>
                  <a:lnTo>
                    <a:pt x="1236" y="542"/>
                  </a:lnTo>
                  <a:lnTo>
                    <a:pt x="1192" y="481"/>
                  </a:lnTo>
                  <a:lnTo>
                    <a:pt x="1149" y="469"/>
                  </a:lnTo>
                  <a:lnTo>
                    <a:pt x="1136" y="481"/>
                  </a:lnTo>
                  <a:lnTo>
                    <a:pt x="1107" y="452"/>
                  </a:lnTo>
                  <a:lnTo>
                    <a:pt x="1076" y="423"/>
                  </a:lnTo>
                  <a:lnTo>
                    <a:pt x="1076" y="440"/>
                  </a:lnTo>
                  <a:lnTo>
                    <a:pt x="1092" y="481"/>
                  </a:lnTo>
                  <a:lnTo>
                    <a:pt x="1050" y="555"/>
                  </a:lnTo>
                  <a:lnTo>
                    <a:pt x="1076" y="615"/>
                  </a:lnTo>
                  <a:lnTo>
                    <a:pt x="1065" y="672"/>
                  </a:lnTo>
                  <a:lnTo>
                    <a:pt x="1065" y="718"/>
                  </a:lnTo>
                  <a:lnTo>
                    <a:pt x="1076" y="734"/>
                  </a:lnTo>
                  <a:lnTo>
                    <a:pt x="1092" y="806"/>
                  </a:lnTo>
                  <a:lnTo>
                    <a:pt x="1005" y="881"/>
                  </a:lnTo>
                  <a:lnTo>
                    <a:pt x="992" y="864"/>
                  </a:lnTo>
                  <a:lnTo>
                    <a:pt x="1050" y="791"/>
                  </a:lnTo>
                  <a:lnTo>
                    <a:pt x="1065" y="747"/>
                  </a:lnTo>
                  <a:lnTo>
                    <a:pt x="1036" y="718"/>
                  </a:lnTo>
                  <a:lnTo>
                    <a:pt x="1036" y="571"/>
                  </a:lnTo>
                  <a:lnTo>
                    <a:pt x="1021" y="542"/>
                  </a:lnTo>
                  <a:lnTo>
                    <a:pt x="1036" y="452"/>
                  </a:lnTo>
                  <a:lnTo>
                    <a:pt x="1005" y="440"/>
                  </a:lnTo>
                  <a:lnTo>
                    <a:pt x="1021" y="423"/>
                  </a:lnTo>
                  <a:lnTo>
                    <a:pt x="1005" y="395"/>
                  </a:lnTo>
                  <a:lnTo>
                    <a:pt x="977" y="408"/>
                  </a:lnTo>
                  <a:lnTo>
                    <a:pt x="906" y="599"/>
                  </a:lnTo>
                  <a:lnTo>
                    <a:pt x="906" y="672"/>
                  </a:lnTo>
                  <a:lnTo>
                    <a:pt x="948" y="734"/>
                  </a:lnTo>
                  <a:lnTo>
                    <a:pt x="948" y="762"/>
                  </a:lnTo>
                  <a:lnTo>
                    <a:pt x="906" y="734"/>
                  </a:lnTo>
                  <a:lnTo>
                    <a:pt x="733" y="615"/>
                  </a:lnTo>
                  <a:lnTo>
                    <a:pt x="718" y="644"/>
                  </a:lnTo>
                  <a:lnTo>
                    <a:pt x="777" y="718"/>
                  </a:lnTo>
                  <a:lnTo>
                    <a:pt x="747" y="734"/>
                  </a:lnTo>
                  <a:lnTo>
                    <a:pt x="733" y="718"/>
                  </a:lnTo>
                  <a:lnTo>
                    <a:pt x="647" y="747"/>
                  </a:lnTo>
                  <a:lnTo>
                    <a:pt x="631" y="776"/>
                  </a:lnTo>
                  <a:lnTo>
                    <a:pt x="618" y="747"/>
                  </a:lnTo>
                  <a:lnTo>
                    <a:pt x="618" y="718"/>
                  </a:lnTo>
                  <a:lnTo>
                    <a:pt x="474" y="806"/>
                  </a:lnTo>
                  <a:lnTo>
                    <a:pt x="474" y="835"/>
                  </a:lnTo>
                  <a:lnTo>
                    <a:pt x="443" y="848"/>
                  </a:lnTo>
                  <a:lnTo>
                    <a:pt x="403" y="820"/>
                  </a:lnTo>
                  <a:lnTo>
                    <a:pt x="443" y="791"/>
                  </a:lnTo>
                  <a:lnTo>
                    <a:pt x="432" y="747"/>
                  </a:lnTo>
                  <a:lnTo>
                    <a:pt x="372" y="734"/>
                  </a:lnTo>
                  <a:lnTo>
                    <a:pt x="388" y="762"/>
                  </a:lnTo>
                  <a:lnTo>
                    <a:pt x="388" y="835"/>
                  </a:lnTo>
                  <a:lnTo>
                    <a:pt x="403" y="864"/>
                  </a:lnTo>
                  <a:lnTo>
                    <a:pt x="388" y="892"/>
                  </a:lnTo>
                  <a:lnTo>
                    <a:pt x="344" y="881"/>
                  </a:lnTo>
                  <a:lnTo>
                    <a:pt x="288" y="921"/>
                  </a:lnTo>
                  <a:lnTo>
                    <a:pt x="315" y="982"/>
                  </a:lnTo>
                  <a:lnTo>
                    <a:pt x="229" y="954"/>
                  </a:lnTo>
                  <a:lnTo>
                    <a:pt x="215" y="967"/>
                  </a:lnTo>
                  <a:lnTo>
                    <a:pt x="244" y="1011"/>
                  </a:lnTo>
                  <a:lnTo>
                    <a:pt x="215" y="1011"/>
                  </a:lnTo>
                  <a:lnTo>
                    <a:pt x="173" y="982"/>
                  </a:lnTo>
                  <a:lnTo>
                    <a:pt x="173" y="892"/>
                  </a:lnTo>
                  <a:lnTo>
                    <a:pt x="129" y="864"/>
                  </a:lnTo>
                  <a:lnTo>
                    <a:pt x="114" y="835"/>
                  </a:lnTo>
                  <a:lnTo>
                    <a:pt x="144" y="848"/>
                  </a:lnTo>
                  <a:lnTo>
                    <a:pt x="259" y="892"/>
                  </a:lnTo>
                  <a:lnTo>
                    <a:pt x="332" y="848"/>
                  </a:lnTo>
                  <a:lnTo>
                    <a:pt x="315" y="806"/>
                  </a:lnTo>
                  <a:lnTo>
                    <a:pt x="229" y="718"/>
                  </a:lnTo>
                  <a:lnTo>
                    <a:pt x="144" y="689"/>
                  </a:lnTo>
                  <a:lnTo>
                    <a:pt x="144" y="672"/>
                  </a:lnTo>
                  <a:lnTo>
                    <a:pt x="114" y="661"/>
                  </a:lnTo>
                  <a:lnTo>
                    <a:pt x="85" y="672"/>
                  </a:lnTo>
                  <a:lnTo>
                    <a:pt x="41" y="718"/>
                  </a:lnTo>
                  <a:lnTo>
                    <a:pt x="41" y="762"/>
                  </a:lnTo>
                  <a:lnTo>
                    <a:pt x="73" y="791"/>
                  </a:lnTo>
                  <a:lnTo>
                    <a:pt x="56" y="835"/>
                  </a:lnTo>
                  <a:lnTo>
                    <a:pt x="73" y="910"/>
                  </a:lnTo>
                  <a:lnTo>
                    <a:pt x="56" y="954"/>
                  </a:lnTo>
                  <a:lnTo>
                    <a:pt x="85" y="998"/>
                  </a:lnTo>
                  <a:lnTo>
                    <a:pt x="73" y="1027"/>
                  </a:lnTo>
                  <a:lnTo>
                    <a:pt x="100" y="1055"/>
                  </a:lnTo>
                  <a:lnTo>
                    <a:pt x="100" y="1073"/>
                  </a:lnTo>
                  <a:lnTo>
                    <a:pt x="56" y="1145"/>
                  </a:lnTo>
                  <a:lnTo>
                    <a:pt x="14" y="1174"/>
                  </a:lnTo>
                  <a:lnTo>
                    <a:pt x="29" y="1174"/>
                  </a:lnTo>
                  <a:lnTo>
                    <a:pt x="56" y="1203"/>
                  </a:lnTo>
                  <a:lnTo>
                    <a:pt x="14" y="1247"/>
                  </a:lnTo>
                  <a:lnTo>
                    <a:pt x="0" y="1247"/>
                  </a:lnTo>
                  <a:lnTo>
                    <a:pt x="14" y="1293"/>
                  </a:lnTo>
                  <a:lnTo>
                    <a:pt x="14" y="1333"/>
                  </a:lnTo>
                  <a:lnTo>
                    <a:pt x="29" y="1366"/>
                  </a:lnTo>
                  <a:lnTo>
                    <a:pt x="73" y="1379"/>
                  </a:lnTo>
                  <a:lnTo>
                    <a:pt x="85" y="1394"/>
                  </a:lnTo>
                  <a:lnTo>
                    <a:pt x="85" y="1423"/>
                  </a:lnTo>
                  <a:lnTo>
                    <a:pt x="114" y="1467"/>
                  </a:lnTo>
                  <a:lnTo>
                    <a:pt x="129" y="1467"/>
                  </a:lnTo>
                  <a:lnTo>
                    <a:pt x="114" y="1496"/>
                  </a:lnTo>
                  <a:lnTo>
                    <a:pt x="100" y="1484"/>
                  </a:lnTo>
                  <a:lnTo>
                    <a:pt x="100" y="1496"/>
                  </a:lnTo>
                  <a:lnTo>
                    <a:pt x="114" y="1525"/>
                  </a:lnTo>
                  <a:lnTo>
                    <a:pt x="156" y="1525"/>
                  </a:lnTo>
                  <a:lnTo>
                    <a:pt x="173" y="1542"/>
                  </a:lnTo>
                  <a:lnTo>
                    <a:pt x="156" y="1542"/>
                  </a:lnTo>
                  <a:lnTo>
                    <a:pt x="173" y="1557"/>
                  </a:lnTo>
                  <a:lnTo>
                    <a:pt x="188" y="1557"/>
                  </a:lnTo>
                  <a:lnTo>
                    <a:pt x="200" y="1586"/>
                  </a:lnTo>
                  <a:lnTo>
                    <a:pt x="215" y="1599"/>
                  </a:lnTo>
                  <a:lnTo>
                    <a:pt x="229" y="1586"/>
                  </a:lnTo>
                  <a:lnTo>
                    <a:pt x="300" y="1630"/>
                  </a:lnTo>
                  <a:lnTo>
                    <a:pt x="288" y="1687"/>
                  </a:lnTo>
                  <a:lnTo>
                    <a:pt x="273" y="1672"/>
                  </a:lnTo>
                  <a:lnTo>
                    <a:pt x="259" y="1687"/>
                  </a:lnTo>
                  <a:lnTo>
                    <a:pt x="259" y="1716"/>
                  </a:lnTo>
                  <a:lnTo>
                    <a:pt x="273" y="1705"/>
                  </a:lnTo>
                  <a:lnTo>
                    <a:pt x="288" y="1716"/>
                  </a:lnTo>
                  <a:lnTo>
                    <a:pt x="244" y="1733"/>
                  </a:lnTo>
                  <a:lnTo>
                    <a:pt x="259" y="1745"/>
                  </a:lnTo>
                  <a:lnTo>
                    <a:pt x="229" y="1777"/>
                  </a:lnTo>
                  <a:lnTo>
                    <a:pt x="215" y="1777"/>
                  </a:lnTo>
                  <a:lnTo>
                    <a:pt x="229" y="1777"/>
                  </a:lnTo>
                  <a:lnTo>
                    <a:pt x="288" y="1835"/>
                  </a:lnTo>
                  <a:lnTo>
                    <a:pt x="359" y="1835"/>
                  </a:lnTo>
                  <a:lnTo>
                    <a:pt x="388" y="1850"/>
                  </a:lnTo>
                  <a:lnTo>
                    <a:pt x="415" y="1850"/>
                  </a:lnTo>
                  <a:lnTo>
                    <a:pt x="443" y="1879"/>
                  </a:lnTo>
                  <a:lnTo>
                    <a:pt x="459" y="1892"/>
                  </a:lnTo>
                  <a:lnTo>
                    <a:pt x="474" y="1892"/>
                  </a:lnTo>
                  <a:lnTo>
                    <a:pt x="488" y="1879"/>
                  </a:lnTo>
                  <a:lnTo>
                    <a:pt x="459" y="1850"/>
                  </a:lnTo>
                  <a:lnTo>
                    <a:pt x="459" y="1819"/>
                  </a:lnTo>
                  <a:lnTo>
                    <a:pt x="443" y="1791"/>
                  </a:lnTo>
                  <a:lnTo>
                    <a:pt x="474" y="1745"/>
                  </a:lnTo>
                  <a:lnTo>
                    <a:pt x="488" y="1762"/>
                  </a:lnTo>
                  <a:lnTo>
                    <a:pt x="503" y="1745"/>
                  </a:lnTo>
                  <a:lnTo>
                    <a:pt x="503" y="1733"/>
                  </a:lnTo>
                  <a:lnTo>
                    <a:pt x="488" y="1733"/>
                  </a:lnTo>
                  <a:lnTo>
                    <a:pt x="503" y="1716"/>
                  </a:lnTo>
                  <a:lnTo>
                    <a:pt x="488" y="1687"/>
                  </a:lnTo>
                  <a:lnTo>
                    <a:pt x="459" y="1687"/>
                  </a:lnTo>
                  <a:lnTo>
                    <a:pt x="443" y="1659"/>
                  </a:lnTo>
                  <a:lnTo>
                    <a:pt x="459" y="1586"/>
                  </a:lnTo>
                  <a:lnTo>
                    <a:pt x="488" y="1615"/>
                  </a:lnTo>
                  <a:lnTo>
                    <a:pt x="503" y="1615"/>
                  </a:lnTo>
                  <a:lnTo>
                    <a:pt x="488" y="1586"/>
                  </a:lnTo>
                  <a:lnTo>
                    <a:pt x="532" y="1542"/>
                  </a:lnTo>
                  <a:lnTo>
                    <a:pt x="559" y="1557"/>
                  </a:lnTo>
                  <a:lnTo>
                    <a:pt x="574" y="1542"/>
                  </a:lnTo>
                  <a:lnTo>
                    <a:pt x="603" y="1557"/>
                  </a:lnTo>
                  <a:lnTo>
                    <a:pt x="647" y="1586"/>
                  </a:lnTo>
                  <a:lnTo>
                    <a:pt x="674" y="1570"/>
                  </a:lnTo>
                  <a:lnTo>
                    <a:pt x="706" y="1570"/>
                  </a:lnTo>
                  <a:lnTo>
                    <a:pt x="718" y="1586"/>
                  </a:lnTo>
                  <a:lnTo>
                    <a:pt x="777" y="1586"/>
                  </a:lnTo>
                  <a:lnTo>
                    <a:pt x="791" y="1557"/>
                  </a:lnTo>
                  <a:lnTo>
                    <a:pt x="747" y="1542"/>
                  </a:lnTo>
                  <a:lnTo>
                    <a:pt x="777" y="1525"/>
                  </a:lnTo>
                  <a:lnTo>
                    <a:pt x="762" y="1513"/>
                  </a:lnTo>
                  <a:lnTo>
                    <a:pt x="777" y="1496"/>
                  </a:lnTo>
                  <a:lnTo>
                    <a:pt x="777" y="1452"/>
                  </a:lnTo>
                  <a:lnTo>
                    <a:pt x="806" y="1467"/>
                  </a:lnTo>
                  <a:lnTo>
                    <a:pt x="933" y="1423"/>
                  </a:lnTo>
                  <a:lnTo>
                    <a:pt x="933" y="1410"/>
                  </a:lnTo>
                  <a:lnTo>
                    <a:pt x="992" y="1410"/>
                  </a:lnTo>
                  <a:lnTo>
                    <a:pt x="1005" y="1438"/>
                  </a:lnTo>
                  <a:lnTo>
                    <a:pt x="1005" y="1452"/>
                  </a:lnTo>
                  <a:lnTo>
                    <a:pt x="1021" y="1452"/>
                  </a:lnTo>
                  <a:lnTo>
                    <a:pt x="1050" y="1467"/>
                  </a:lnTo>
                  <a:lnTo>
                    <a:pt x="1050" y="1484"/>
                  </a:lnTo>
                  <a:lnTo>
                    <a:pt x="1076" y="1484"/>
                  </a:lnTo>
                  <a:lnTo>
                    <a:pt x="1107" y="1452"/>
                  </a:lnTo>
                  <a:lnTo>
                    <a:pt x="1136" y="1438"/>
                  </a:lnTo>
                  <a:lnTo>
                    <a:pt x="1149" y="1484"/>
                  </a:lnTo>
                  <a:lnTo>
                    <a:pt x="1207" y="1586"/>
                  </a:lnTo>
                  <a:lnTo>
                    <a:pt x="1220" y="1557"/>
                  </a:lnTo>
                  <a:lnTo>
                    <a:pt x="1236" y="1586"/>
                  </a:lnTo>
                  <a:lnTo>
                    <a:pt x="1280" y="1570"/>
                  </a:lnTo>
                  <a:lnTo>
                    <a:pt x="1324" y="1615"/>
                  </a:lnTo>
                  <a:lnTo>
                    <a:pt x="1351" y="1630"/>
                  </a:lnTo>
                  <a:lnTo>
                    <a:pt x="1351" y="1615"/>
                  </a:lnTo>
                  <a:lnTo>
                    <a:pt x="1380" y="1643"/>
                  </a:lnTo>
                  <a:lnTo>
                    <a:pt x="1395" y="1630"/>
                  </a:lnTo>
                  <a:lnTo>
                    <a:pt x="1466" y="1586"/>
                  </a:lnTo>
                  <a:lnTo>
                    <a:pt x="1523" y="1599"/>
                  </a:lnTo>
                  <a:lnTo>
                    <a:pt x="1550" y="1615"/>
                  </a:lnTo>
                  <a:lnTo>
                    <a:pt x="1610" y="1615"/>
                  </a:lnTo>
                  <a:lnTo>
                    <a:pt x="1610" y="1557"/>
                  </a:lnTo>
                  <a:lnTo>
                    <a:pt x="1638" y="1542"/>
                  </a:lnTo>
                  <a:lnTo>
                    <a:pt x="1698" y="1557"/>
                  </a:lnTo>
                  <a:lnTo>
                    <a:pt x="1725" y="1599"/>
                  </a:lnTo>
                  <a:lnTo>
                    <a:pt x="1740" y="1599"/>
                  </a:lnTo>
                  <a:lnTo>
                    <a:pt x="1769" y="1586"/>
                  </a:lnTo>
                  <a:lnTo>
                    <a:pt x="1853" y="1630"/>
                  </a:lnTo>
                  <a:lnTo>
                    <a:pt x="1897" y="1643"/>
                  </a:lnTo>
                  <a:lnTo>
                    <a:pt x="1957" y="1630"/>
                  </a:lnTo>
                  <a:lnTo>
                    <a:pt x="1984" y="1599"/>
                  </a:lnTo>
                  <a:lnTo>
                    <a:pt x="2028" y="1615"/>
                  </a:lnTo>
                  <a:lnTo>
                    <a:pt x="2057" y="1630"/>
                  </a:lnTo>
                  <a:lnTo>
                    <a:pt x="2099" y="1615"/>
                  </a:lnTo>
                  <a:lnTo>
                    <a:pt x="2112" y="1557"/>
                  </a:lnTo>
                  <a:lnTo>
                    <a:pt x="2128" y="1542"/>
                  </a:lnTo>
                  <a:lnTo>
                    <a:pt x="2128" y="1525"/>
                  </a:lnTo>
                  <a:lnTo>
                    <a:pt x="2112" y="1525"/>
                  </a:lnTo>
                  <a:lnTo>
                    <a:pt x="2128" y="1496"/>
                  </a:lnTo>
                  <a:lnTo>
                    <a:pt x="2183" y="1484"/>
                  </a:lnTo>
                  <a:lnTo>
                    <a:pt x="2227" y="1496"/>
                  </a:lnTo>
                  <a:lnTo>
                    <a:pt x="2256" y="1525"/>
                  </a:lnTo>
                  <a:lnTo>
                    <a:pt x="2287" y="1630"/>
                  </a:lnTo>
                  <a:lnTo>
                    <a:pt x="2316" y="1630"/>
                  </a:lnTo>
                  <a:lnTo>
                    <a:pt x="2358" y="1659"/>
                  </a:lnTo>
                  <a:lnTo>
                    <a:pt x="2358" y="1687"/>
                  </a:lnTo>
                  <a:lnTo>
                    <a:pt x="2387" y="1687"/>
                  </a:lnTo>
                  <a:lnTo>
                    <a:pt x="2442" y="1672"/>
                  </a:lnTo>
                  <a:lnTo>
                    <a:pt x="2442" y="1705"/>
                  </a:lnTo>
                  <a:lnTo>
                    <a:pt x="2402" y="1791"/>
                  </a:lnTo>
                  <a:lnTo>
                    <a:pt x="2387" y="1777"/>
                  </a:lnTo>
                  <a:lnTo>
                    <a:pt x="2358" y="1791"/>
                  </a:lnTo>
                  <a:lnTo>
                    <a:pt x="2358" y="1864"/>
                  </a:lnTo>
                  <a:lnTo>
                    <a:pt x="2371" y="1835"/>
                  </a:lnTo>
                  <a:lnTo>
                    <a:pt x="2387" y="1835"/>
                  </a:lnTo>
                  <a:lnTo>
                    <a:pt x="2387" y="1850"/>
                  </a:lnTo>
                  <a:lnTo>
                    <a:pt x="2402" y="1864"/>
                  </a:lnTo>
                  <a:lnTo>
                    <a:pt x="2442" y="1835"/>
                  </a:lnTo>
                  <a:lnTo>
                    <a:pt x="2575" y="1672"/>
                  </a:lnTo>
                  <a:lnTo>
                    <a:pt x="2575" y="1570"/>
                  </a:lnTo>
                  <a:lnTo>
                    <a:pt x="2590" y="1542"/>
                  </a:lnTo>
                  <a:lnTo>
                    <a:pt x="2590" y="1496"/>
                  </a:lnTo>
                  <a:lnTo>
                    <a:pt x="2559" y="1452"/>
                  </a:lnTo>
                  <a:lnTo>
                    <a:pt x="2546" y="1452"/>
                  </a:lnTo>
                  <a:lnTo>
                    <a:pt x="2530" y="1484"/>
                  </a:lnTo>
                  <a:lnTo>
                    <a:pt x="2502" y="1484"/>
                  </a:lnTo>
                  <a:lnTo>
                    <a:pt x="2515" y="1452"/>
                  </a:lnTo>
                  <a:lnTo>
                    <a:pt x="2502" y="1452"/>
                  </a:lnTo>
                  <a:lnTo>
                    <a:pt x="2486" y="1438"/>
                  </a:lnTo>
                  <a:lnTo>
                    <a:pt x="2458" y="1438"/>
                  </a:lnTo>
                  <a:lnTo>
                    <a:pt x="2458" y="1423"/>
                  </a:lnTo>
                  <a:lnTo>
                    <a:pt x="2630" y="1247"/>
                  </a:lnTo>
                  <a:lnTo>
                    <a:pt x="2690" y="1231"/>
                  </a:lnTo>
                  <a:lnTo>
                    <a:pt x="2701" y="1247"/>
                  </a:lnTo>
                  <a:lnTo>
                    <a:pt x="2717" y="1231"/>
                  </a:lnTo>
                  <a:lnTo>
                    <a:pt x="2761" y="1247"/>
                  </a:lnTo>
                  <a:lnTo>
                    <a:pt x="2774" y="1218"/>
                  </a:lnTo>
                  <a:lnTo>
                    <a:pt x="2816" y="1231"/>
                  </a:lnTo>
                  <a:lnTo>
                    <a:pt x="2834" y="1231"/>
                  </a:lnTo>
                  <a:lnTo>
                    <a:pt x="2816" y="1247"/>
                  </a:lnTo>
                  <a:lnTo>
                    <a:pt x="2816" y="1260"/>
                  </a:lnTo>
                  <a:lnTo>
                    <a:pt x="2905" y="1247"/>
                  </a:lnTo>
                  <a:lnTo>
                    <a:pt x="2889" y="1231"/>
                  </a:lnTo>
                  <a:lnTo>
                    <a:pt x="2949" y="1130"/>
                  </a:lnTo>
                  <a:lnTo>
                    <a:pt x="3020" y="1113"/>
                  </a:lnTo>
                  <a:lnTo>
                    <a:pt x="3020" y="1174"/>
                  </a:lnTo>
                  <a:lnTo>
                    <a:pt x="3092" y="1130"/>
                  </a:lnTo>
                  <a:lnTo>
                    <a:pt x="3092" y="1084"/>
                  </a:lnTo>
                  <a:lnTo>
                    <a:pt x="3119" y="1084"/>
                  </a:lnTo>
                  <a:lnTo>
                    <a:pt x="3108" y="1101"/>
                  </a:lnTo>
                  <a:lnTo>
                    <a:pt x="3092" y="1174"/>
                  </a:lnTo>
                  <a:lnTo>
                    <a:pt x="3064" y="1187"/>
                  </a:lnTo>
                  <a:lnTo>
                    <a:pt x="2975" y="1293"/>
                  </a:lnTo>
                  <a:lnTo>
                    <a:pt x="2949" y="1304"/>
                  </a:lnTo>
                  <a:lnTo>
                    <a:pt x="2918" y="1410"/>
                  </a:lnTo>
                  <a:lnTo>
                    <a:pt x="2949" y="1586"/>
                  </a:lnTo>
                  <a:lnTo>
                    <a:pt x="2975" y="1557"/>
                  </a:lnTo>
                  <a:lnTo>
                    <a:pt x="3020" y="1496"/>
                  </a:lnTo>
                  <a:lnTo>
                    <a:pt x="3020" y="1452"/>
                  </a:lnTo>
                  <a:lnTo>
                    <a:pt x="3033" y="1452"/>
                  </a:lnTo>
                  <a:lnTo>
                    <a:pt x="3064" y="1438"/>
                  </a:lnTo>
                  <a:lnTo>
                    <a:pt x="3064" y="1394"/>
                  </a:lnTo>
                  <a:lnTo>
                    <a:pt x="3075" y="1379"/>
                  </a:lnTo>
                  <a:lnTo>
                    <a:pt x="3092" y="1379"/>
                  </a:lnTo>
                  <a:lnTo>
                    <a:pt x="3092" y="1321"/>
                  </a:lnTo>
                  <a:lnTo>
                    <a:pt x="3064" y="1293"/>
                  </a:lnTo>
                  <a:lnTo>
                    <a:pt x="3092" y="1247"/>
                  </a:lnTo>
                  <a:lnTo>
                    <a:pt x="3092" y="1218"/>
                  </a:lnTo>
                  <a:lnTo>
                    <a:pt x="3119" y="1218"/>
                  </a:lnTo>
                  <a:lnTo>
                    <a:pt x="3163" y="1187"/>
                  </a:lnTo>
                  <a:lnTo>
                    <a:pt x="3163" y="1218"/>
                  </a:lnTo>
                  <a:lnTo>
                    <a:pt x="3179" y="1203"/>
                  </a:lnTo>
                  <a:lnTo>
                    <a:pt x="3219" y="1187"/>
                  </a:lnTo>
                  <a:lnTo>
                    <a:pt x="3250" y="1218"/>
                  </a:lnTo>
                  <a:lnTo>
                    <a:pt x="3263" y="1187"/>
                  </a:lnTo>
                  <a:lnTo>
                    <a:pt x="3407" y="1084"/>
                  </a:lnTo>
                  <a:lnTo>
                    <a:pt x="3451" y="1101"/>
                  </a:lnTo>
                  <a:lnTo>
                    <a:pt x="3467" y="1084"/>
                  </a:lnTo>
                  <a:lnTo>
                    <a:pt x="3434" y="998"/>
                  </a:lnTo>
                  <a:lnTo>
                    <a:pt x="3422" y="998"/>
                  </a:lnTo>
                  <a:lnTo>
                    <a:pt x="3422" y="967"/>
                  </a:lnTo>
                  <a:lnTo>
                    <a:pt x="3434" y="967"/>
                  </a:lnTo>
                  <a:lnTo>
                    <a:pt x="3467" y="954"/>
                  </a:lnTo>
                  <a:lnTo>
                    <a:pt x="3493" y="921"/>
                  </a:lnTo>
                  <a:lnTo>
                    <a:pt x="3478" y="892"/>
                  </a:lnTo>
                  <a:lnTo>
                    <a:pt x="3493" y="881"/>
                  </a:lnTo>
                  <a:lnTo>
                    <a:pt x="3509" y="921"/>
                  </a:lnTo>
                  <a:lnTo>
                    <a:pt x="3538" y="921"/>
                  </a:lnTo>
                  <a:lnTo>
                    <a:pt x="3566" y="954"/>
                  </a:lnTo>
                  <a:lnTo>
                    <a:pt x="3637" y="998"/>
                  </a:lnTo>
                  <a:lnTo>
                    <a:pt x="3653" y="954"/>
                  </a:lnTo>
                  <a:lnTo>
                    <a:pt x="3653" y="921"/>
                  </a:lnTo>
                  <a:lnTo>
                    <a:pt x="3681" y="921"/>
                  </a:lnTo>
                  <a:lnTo>
                    <a:pt x="3710" y="892"/>
                  </a:lnTo>
                  <a:lnTo>
                    <a:pt x="3666" y="848"/>
                  </a:lnTo>
                  <a:lnTo>
                    <a:pt x="3593" y="835"/>
                  </a:lnTo>
                  <a:lnTo>
                    <a:pt x="3467" y="718"/>
                  </a:lnTo>
                  <a:lnTo>
                    <a:pt x="3378" y="661"/>
                  </a:lnTo>
                  <a:lnTo>
                    <a:pt x="3263" y="644"/>
                  </a:lnTo>
                  <a:lnTo>
                    <a:pt x="3263" y="718"/>
                  </a:lnTo>
                  <a:lnTo>
                    <a:pt x="3234" y="734"/>
                  </a:lnTo>
                  <a:lnTo>
                    <a:pt x="3208" y="701"/>
                  </a:lnTo>
                  <a:lnTo>
                    <a:pt x="3208" y="672"/>
                  </a:lnTo>
                  <a:lnTo>
                    <a:pt x="3219" y="672"/>
                  </a:lnTo>
                  <a:lnTo>
                    <a:pt x="3234" y="661"/>
                  </a:lnTo>
                  <a:lnTo>
                    <a:pt x="3208" y="661"/>
                  </a:lnTo>
                  <a:lnTo>
                    <a:pt x="3179" y="689"/>
                  </a:lnTo>
                  <a:lnTo>
                    <a:pt x="3108" y="672"/>
                  </a:lnTo>
                  <a:lnTo>
                    <a:pt x="3033" y="672"/>
                  </a:lnTo>
                  <a:lnTo>
                    <a:pt x="3004" y="661"/>
                  </a:lnTo>
                  <a:lnTo>
                    <a:pt x="3020" y="632"/>
                  </a:lnTo>
                  <a:lnTo>
                    <a:pt x="2993" y="586"/>
                  </a:lnTo>
                  <a:lnTo>
                    <a:pt x="2933" y="571"/>
                  </a:lnTo>
                  <a:lnTo>
                    <a:pt x="2845" y="599"/>
                  </a:lnTo>
                  <a:lnTo>
                    <a:pt x="2834" y="555"/>
                  </a:lnTo>
                  <a:lnTo>
                    <a:pt x="2805" y="555"/>
                  </a:lnTo>
                  <a:lnTo>
                    <a:pt x="2789" y="542"/>
                  </a:lnTo>
                  <a:lnTo>
                    <a:pt x="2789" y="498"/>
                  </a:lnTo>
                  <a:lnTo>
                    <a:pt x="2690" y="469"/>
                  </a:lnTo>
                  <a:lnTo>
                    <a:pt x="2575" y="440"/>
                  </a:lnTo>
                  <a:lnTo>
                    <a:pt x="2546" y="498"/>
                  </a:lnTo>
                  <a:lnTo>
                    <a:pt x="2575" y="542"/>
                  </a:lnTo>
                  <a:lnTo>
                    <a:pt x="2475" y="542"/>
                  </a:lnTo>
                  <a:lnTo>
                    <a:pt x="2442" y="555"/>
                  </a:lnTo>
                  <a:lnTo>
                    <a:pt x="2402" y="513"/>
                  </a:lnTo>
                  <a:lnTo>
                    <a:pt x="2371" y="599"/>
                  </a:lnTo>
                  <a:lnTo>
                    <a:pt x="2342" y="586"/>
                  </a:lnTo>
                  <a:lnTo>
                    <a:pt x="2316" y="527"/>
                  </a:lnTo>
                  <a:lnTo>
                    <a:pt x="2331" y="452"/>
                  </a:lnTo>
                  <a:lnTo>
                    <a:pt x="2300" y="408"/>
                  </a:lnTo>
                  <a:lnTo>
                    <a:pt x="2216" y="379"/>
                  </a:lnTo>
                  <a:lnTo>
                    <a:pt x="2183" y="379"/>
                  </a:lnTo>
                  <a:lnTo>
                    <a:pt x="2172" y="408"/>
                  </a:lnTo>
                  <a:lnTo>
                    <a:pt x="2183" y="440"/>
                  </a:lnTo>
                  <a:lnTo>
                    <a:pt x="2068" y="423"/>
                  </a:lnTo>
                  <a:lnTo>
                    <a:pt x="2084" y="379"/>
                  </a:lnTo>
                  <a:lnTo>
                    <a:pt x="2013" y="364"/>
                  </a:lnTo>
                  <a:lnTo>
                    <a:pt x="1968" y="395"/>
                  </a:lnTo>
                  <a:lnTo>
                    <a:pt x="1884" y="350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81440" y="2210040"/>
              <a:ext cx="452520" cy="53820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81440" y="2210040"/>
              <a:ext cx="452520" cy="53820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035320" y="3184560"/>
              <a:ext cx="323280" cy="13140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035320" y="3184560"/>
              <a:ext cx="323280" cy="13140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05600" y="3480120"/>
              <a:ext cx="53640" cy="2160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105600" y="3480120"/>
              <a:ext cx="53640" cy="2160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752800" y="3316320"/>
              <a:ext cx="493200" cy="52416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752800" y="3316320"/>
              <a:ext cx="493200" cy="52416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086520" y="2932920"/>
              <a:ext cx="535680" cy="26208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086520" y="2932920"/>
              <a:ext cx="535680" cy="26208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950000" y="2263680"/>
              <a:ext cx="183960" cy="41688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50000" y="2263680"/>
              <a:ext cx="183960" cy="41688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94640" y="2802240"/>
              <a:ext cx="159840" cy="14292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94640" y="2802240"/>
              <a:ext cx="159840" cy="14292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973040" y="2919600"/>
              <a:ext cx="308160" cy="21096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73040" y="2919600"/>
              <a:ext cx="308160" cy="21096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61520" y="2748600"/>
              <a:ext cx="118800" cy="7524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961520" y="2748600"/>
              <a:ext cx="118800" cy="7524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61520" y="2802240"/>
              <a:ext cx="96840" cy="752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961520" y="2802240"/>
              <a:ext cx="96840" cy="752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002560" y="2701080"/>
              <a:ext cx="77760" cy="5508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002560" y="2701080"/>
              <a:ext cx="77760" cy="5508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928040" y="2834280"/>
              <a:ext cx="53640" cy="3060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928040" y="2834280"/>
              <a:ext cx="53640" cy="3060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73640" y="3151440"/>
              <a:ext cx="114840" cy="4320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73640" y="3151440"/>
              <a:ext cx="114840" cy="4320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047200" y="3019680"/>
              <a:ext cx="65160" cy="7668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047200" y="3019680"/>
              <a:ext cx="65160" cy="7668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336280" y="3195000"/>
              <a:ext cx="52200" cy="536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6280" y="3195000"/>
              <a:ext cx="52200" cy="536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58960" y="3227040"/>
              <a:ext cx="20520" cy="216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58960" y="3227040"/>
              <a:ext cx="20520" cy="216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358960" y="3184560"/>
              <a:ext cx="95760" cy="7776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358960" y="3184560"/>
              <a:ext cx="95760" cy="7776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788720" y="2321280"/>
              <a:ext cx="213480" cy="51264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788720" y="2321280"/>
              <a:ext cx="213480" cy="51264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469400" y="2834280"/>
              <a:ext cx="43200" cy="4320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69400" y="2834280"/>
              <a:ext cx="43200" cy="4320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4400" y="2834280"/>
              <a:ext cx="77760" cy="1112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424400" y="2834280"/>
              <a:ext cx="77760" cy="1112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735080" y="2768760"/>
              <a:ext cx="53640" cy="7668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735080" y="2768760"/>
              <a:ext cx="53640" cy="7668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662360" y="2891520"/>
              <a:ext cx="63720" cy="7308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662360" y="2891520"/>
              <a:ext cx="63720" cy="7308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649400" y="2955600"/>
              <a:ext cx="57240" cy="4320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49400" y="2955600"/>
              <a:ext cx="57240" cy="4320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694400" y="2987640"/>
              <a:ext cx="12600" cy="11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694400" y="2987640"/>
              <a:ext cx="12600" cy="11520"/>
            </a:xfrm>
            <a:prstGeom prst="rect">
              <a:avLst/>
            </a:prstGeom>
            <a:noFill/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842720" y="2845800"/>
              <a:ext cx="159480" cy="16344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842720" y="2845800"/>
              <a:ext cx="159480" cy="16344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707000" y="2845800"/>
              <a:ext cx="148320" cy="20952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707000" y="2845800"/>
              <a:ext cx="148320" cy="20952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758480" y="3009240"/>
              <a:ext cx="128880" cy="6516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58480" y="3009240"/>
              <a:ext cx="128880" cy="6516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758480" y="3055320"/>
              <a:ext cx="11160" cy="7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758480" y="3055320"/>
              <a:ext cx="11160" cy="7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758480" y="3055320"/>
              <a:ext cx="11160" cy="7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758480" y="3055320"/>
              <a:ext cx="11160" cy="7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7000" y="3055320"/>
              <a:ext cx="72720" cy="4068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07000" y="3055320"/>
              <a:ext cx="72720" cy="4068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23040" y="2955600"/>
              <a:ext cx="212040" cy="21600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23040" y="2955600"/>
              <a:ext cx="212040" cy="21600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447440" y="3139920"/>
              <a:ext cx="201960" cy="17604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447440" y="3139920"/>
              <a:ext cx="201960" cy="17604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447440" y="3184560"/>
              <a:ext cx="55080" cy="10980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447440" y="3184560"/>
              <a:ext cx="55080" cy="10980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716000" y="3062880"/>
              <a:ext cx="204480" cy="20844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716000" y="3062880"/>
              <a:ext cx="204480" cy="20844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939920" y="3030120"/>
              <a:ext cx="158400" cy="12132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9920" y="3030120"/>
              <a:ext cx="158400" cy="12132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39920" y="3195000"/>
              <a:ext cx="107280" cy="8640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39920" y="3195000"/>
              <a:ext cx="107280" cy="8640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00560" y="3294360"/>
              <a:ext cx="124920" cy="9576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00560" y="3294360"/>
              <a:ext cx="124920" cy="9576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87600" y="3369960"/>
              <a:ext cx="74160" cy="8784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7600" y="3369960"/>
              <a:ext cx="74160" cy="8784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200560" y="3348360"/>
              <a:ext cx="17640" cy="3276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00560" y="3348360"/>
              <a:ext cx="17640" cy="3276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73920" y="3381480"/>
              <a:ext cx="31680" cy="7668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173920" y="3381480"/>
              <a:ext cx="31680" cy="7668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62120" y="3281760"/>
              <a:ext cx="158400" cy="17640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62120" y="3281760"/>
              <a:ext cx="158400" cy="17640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58960" y="3446640"/>
              <a:ext cx="29520" cy="205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58960" y="3446640"/>
              <a:ext cx="29520" cy="205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88480" y="3446640"/>
              <a:ext cx="31680" cy="2052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388480" y="3446640"/>
              <a:ext cx="31680" cy="2052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187600" y="3390480"/>
              <a:ext cx="371880" cy="35172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187600" y="3390480"/>
              <a:ext cx="371880" cy="35172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455080" y="3523680"/>
              <a:ext cx="19080" cy="316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455080" y="3523680"/>
              <a:ext cx="19080" cy="316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455080" y="3523680"/>
              <a:ext cx="104400" cy="5616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455080" y="3523680"/>
              <a:ext cx="104400" cy="5616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552280" y="3511800"/>
              <a:ext cx="7200" cy="216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552280" y="3511800"/>
              <a:ext cx="7200" cy="216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497200" y="3546360"/>
              <a:ext cx="118800" cy="14292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497200" y="3546360"/>
              <a:ext cx="118800" cy="14292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325840" y="3675960"/>
              <a:ext cx="171000" cy="8928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325840" y="3675960"/>
              <a:ext cx="171000" cy="8928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957640" y="3435480"/>
              <a:ext cx="128880" cy="7632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957640" y="3435480"/>
              <a:ext cx="128880" cy="7632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086520" y="3511800"/>
              <a:ext cx="85680" cy="9828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086520" y="3511800"/>
              <a:ext cx="85680" cy="9828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159600" y="3480120"/>
              <a:ext cx="153360" cy="33840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159600" y="3480120"/>
              <a:ext cx="153360" cy="33840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57880" y="3621960"/>
              <a:ext cx="129240" cy="26460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57880" y="3621960"/>
              <a:ext cx="129240" cy="26460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98920" y="3588840"/>
              <a:ext cx="120240" cy="15336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98920" y="3588840"/>
              <a:ext cx="120240" cy="15336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330960" y="3579840"/>
              <a:ext cx="119880" cy="24912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30960" y="3579840"/>
              <a:ext cx="119880" cy="24912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30960" y="3733200"/>
              <a:ext cx="87840" cy="6372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330960" y="3733200"/>
              <a:ext cx="87840" cy="6372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298920" y="3862440"/>
              <a:ext cx="66600" cy="9828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98920" y="3862440"/>
              <a:ext cx="66600" cy="9828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450840" y="3862440"/>
              <a:ext cx="171000" cy="9828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450840" y="3862440"/>
              <a:ext cx="171000" cy="9828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526440" y="3896640"/>
              <a:ext cx="31680" cy="864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526440" y="3896640"/>
              <a:ext cx="31680" cy="864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438240" y="3905640"/>
              <a:ext cx="172440" cy="14436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438240" y="3905640"/>
              <a:ext cx="172440" cy="14436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14080" y="3982680"/>
              <a:ext cx="173880" cy="15336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814080" y="3982680"/>
              <a:ext cx="173880" cy="15336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987960" y="4026240"/>
              <a:ext cx="159480" cy="14148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987960" y="4026240"/>
              <a:ext cx="159480" cy="14148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738480" y="3262680"/>
              <a:ext cx="56160" cy="8568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738480" y="3262680"/>
              <a:ext cx="56160" cy="8568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07880" y="3171600"/>
              <a:ext cx="105840" cy="10980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707880" y="3171600"/>
              <a:ext cx="105840" cy="10980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383720" y="3326760"/>
              <a:ext cx="203040" cy="16344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383720" y="3326760"/>
              <a:ext cx="203040" cy="16344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726080" y="3294360"/>
              <a:ext cx="62280" cy="14076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727520" y="3294360"/>
              <a:ext cx="62280" cy="14184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166000" y="3665520"/>
              <a:ext cx="246600" cy="25200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166000" y="3665520"/>
              <a:ext cx="246600" cy="25200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315760" y="3765240"/>
              <a:ext cx="20520" cy="3312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315760" y="3765240"/>
              <a:ext cx="20520" cy="3312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293800" y="3774240"/>
              <a:ext cx="172800" cy="23112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293800" y="3774240"/>
              <a:ext cx="172800" cy="23112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318560" y="3492720"/>
              <a:ext cx="205560" cy="22608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318560" y="3492720"/>
              <a:ext cx="205560" cy="22608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318560" y="3480120"/>
              <a:ext cx="138960" cy="13032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318560" y="3480120"/>
              <a:ext cx="138960" cy="13032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309560" y="3689640"/>
              <a:ext cx="107280" cy="7524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309560" y="3689640"/>
              <a:ext cx="107280" cy="7524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318560" y="3743280"/>
              <a:ext cx="53640" cy="11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318560" y="3743280"/>
              <a:ext cx="53640" cy="11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318560" y="3765240"/>
              <a:ext cx="53640" cy="331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318560" y="3765240"/>
              <a:ext cx="53640" cy="331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350240" y="3765240"/>
              <a:ext cx="119880" cy="8928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350240" y="3765240"/>
              <a:ext cx="119880" cy="8928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83720" y="3808800"/>
              <a:ext cx="41760" cy="5508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383720" y="3808800"/>
              <a:ext cx="41760" cy="5508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403880" y="3829320"/>
              <a:ext cx="76680" cy="7776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403880" y="3829320"/>
              <a:ext cx="76680" cy="7776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512600" y="3719160"/>
              <a:ext cx="127800" cy="9972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512600" y="3719160"/>
              <a:ext cx="127800" cy="9972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597200" y="3786840"/>
              <a:ext cx="33120" cy="8676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597200" y="3786840"/>
              <a:ext cx="33120" cy="8676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19880" y="3765240"/>
              <a:ext cx="42120" cy="10872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619880" y="3765240"/>
              <a:ext cx="42120" cy="10872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758480" y="3940200"/>
              <a:ext cx="31680" cy="2304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758480" y="3940200"/>
              <a:ext cx="31680" cy="2304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790160" y="3917520"/>
              <a:ext cx="130320" cy="15588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790160" y="3917520"/>
              <a:ext cx="130320" cy="15588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089320" y="3996720"/>
              <a:ext cx="31680" cy="295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089320" y="3996720"/>
              <a:ext cx="31680" cy="295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100840" y="4026240"/>
              <a:ext cx="20520" cy="3420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100840" y="4026240"/>
              <a:ext cx="20520" cy="3420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01680" y="4279320"/>
              <a:ext cx="225000" cy="21744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801680" y="4279320"/>
              <a:ext cx="225000" cy="21744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801680" y="4080960"/>
              <a:ext cx="213480" cy="21888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01680" y="4080960"/>
              <a:ext cx="213480" cy="21888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813200" y="4060800"/>
              <a:ext cx="7560" cy="2016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813200" y="4060800"/>
              <a:ext cx="7560" cy="2016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77280" y="4367520"/>
              <a:ext cx="278280" cy="25056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877280" y="4367520"/>
              <a:ext cx="278280" cy="25056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941000" y="4289400"/>
              <a:ext cx="159480" cy="16380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941000" y="4289400"/>
              <a:ext cx="159480" cy="16380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026680" y="4257720"/>
              <a:ext cx="138960" cy="12132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026680" y="4257720"/>
              <a:ext cx="138960" cy="12132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12360" y="4160520"/>
              <a:ext cx="181440" cy="29268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112360" y="4160520"/>
              <a:ext cx="181440" cy="29268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121360" y="4444200"/>
              <a:ext cx="21600" cy="2268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121360" y="4444200"/>
              <a:ext cx="21600" cy="2268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191840" y="2428920"/>
              <a:ext cx="180000" cy="12888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91840" y="2428920"/>
              <a:ext cx="180000" cy="12888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336280" y="4189680"/>
              <a:ext cx="118800" cy="24444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336280" y="4189680"/>
              <a:ext cx="118800" cy="24444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246360" y="3950640"/>
              <a:ext cx="11520" cy="216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246360" y="3950640"/>
              <a:ext cx="11520" cy="216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269400" y="3996720"/>
              <a:ext cx="10080" cy="2160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269400" y="3996720"/>
              <a:ext cx="10080" cy="2160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945760" y="3808800"/>
              <a:ext cx="44640" cy="6516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945760" y="3808800"/>
              <a:ext cx="44640" cy="6516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438240" y="3634560"/>
              <a:ext cx="44640" cy="306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438240" y="3634560"/>
              <a:ext cx="44640" cy="306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34080" y="3534840"/>
              <a:ext cx="31680" cy="550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34080" y="3534840"/>
              <a:ext cx="31680" cy="550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796440" y="3362400"/>
              <a:ext cx="40680" cy="640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796440" y="3362400"/>
              <a:ext cx="40680" cy="640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837120" y="3362400"/>
              <a:ext cx="40680" cy="205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837120" y="3362400"/>
              <a:ext cx="40680" cy="205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814080" y="3195000"/>
              <a:ext cx="182880" cy="17496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814080" y="3195000"/>
              <a:ext cx="182880" cy="17496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64920" y="3096360"/>
              <a:ext cx="104400" cy="9828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64920" y="3096360"/>
              <a:ext cx="104400" cy="9828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221960" y="2965680"/>
              <a:ext cx="21600" cy="216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221960" y="2965680"/>
              <a:ext cx="21600" cy="216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362720" y="2713680"/>
              <a:ext cx="19080" cy="205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362720" y="2713680"/>
              <a:ext cx="19080" cy="205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96960" y="2864880"/>
              <a:ext cx="44640" cy="23112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96960" y="2864880"/>
              <a:ext cx="44640" cy="23112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475240" y="1839240"/>
              <a:ext cx="288720" cy="40248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475240" y="1839240"/>
              <a:ext cx="288720" cy="40248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421600" y="2285640"/>
              <a:ext cx="33120" cy="4608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421600" y="2285640"/>
              <a:ext cx="33120" cy="4608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480920" y="2734560"/>
              <a:ext cx="21600" cy="3420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80920" y="2734560"/>
              <a:ext cx="21600" cy="3420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769640" y="2824200"/>
              <a:ext cx="11520" cy="216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769640" y="2824200"/>
              <a:ext cx="11520" cy="216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790160" y="2811240"/>
              <a:ext cx="22680" cy="2268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90160" y="2811240"/>
              <a:ext cx="22680" cy="2268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90160" y="2845800"/>
              <a:ext cx="22680" cy="111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790160" y="2845800"/>
              <a:ext cx="22680" cy="111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489920" y="2734560"/>
              <a:ext cx="140400" cy="25308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489920" y="2734560"/>
              <a:ext cx="140400" cy="25308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748040" y="3164400"/>
              <a:ext cx="10080" cy="4068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748040" y="3164400"/>
              <a:ext cx="10080" cy="4068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737600" y="3205080"/>
              <a:ext cx="31680" cy="5724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737600" y="3205080"/>
              <a:ext cx="31680" cy="5724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813200" y="3273120"/>
              <a:ext cx="52200" cy="316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13200" y="3273120"/>
              <a:ext cx="52200" cy="316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961520" y="3273120"/>
              <a:ext cx="34200" cy="316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961520" y="3273120"/>
              <a:ext cx="34200" cy="316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142960" y="3327840"/>
              <a:ext cx="44640" cy="2052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142960" y="3327840"/>
              <a:ext cx="44640" cy="2052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640760" y="3228120"/>
              <a:ext cx="21600" cy="205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640760" y="3228120"/>
              <a:ext cx="21600" cy="205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16360" y="4169520"/>
              <a:ext cx="683640" cy="545760"/>
            </a:xfrm>
            <a:custGeom>
              <a:avLst/>
              <a:gdLst/>
              <a:ahLst/>
              <a:rect l="l" t="t" r="r" b="b"/>
              <a:pathLst>
                <a:path w="919" h="736">
                  <a:moveTo>
                    <a:pt x="40" y="588"/>
                  </a:moveTo>
                  <a:lnTo>
                    <a:pt x="84" y="621"/>
                  </a:lnTo>
                  <a:lnTo>
                    <a:pt x="111" y="621"/>
                  </a:lnTo>
                  <a:lnTo>
                    <a:pt x="155" y="575"/>
                  </a:lnTo>
                  <a:lnTo>
                    <a:pt x="226" y="575"/>
                  </a:lnTo>
                  <a:lnTo>
                    <a:pt x="244" y="560"/>
                  </a:lnTo>
                  <a:lnTo>
                    <a:pt x="299" y="531"/>
                  </a:lnTo>
                  <a:lnTo>
                    <a:pt x="414" y="516"/>
                  </a:lnTo>
                  <a:lnTo>
                    <a:pt x="474" y="544"/>
                  </a:lnTo>
                  <a:lnTo>
                    <a:pt x="474" y="560"/>
                  </a:lnTo>
                  <a:lnTo>
                    <a:pt x="485" y="560"/>
                  </a:lnTo>
                  <a:lnTo>
                    <a:pt x="518" y="621"/>
                  </a:lnTo>
                  <a:lnTo>
                    <a:pt x="558" y="544"/>
                  </a:lnTo>
                  <a:lnTo>
                    <a:pt x="558" y="575"/>
                  </a:lnTo>
                  <a:lnTo>
                    <a:pt x="545" y="621"/>
                  </a:lnTo>
                  <a:lnTo>
                    <a:pt x="558" y="621"/>
                  </a:lnTo>
                  <a:lnTo>
                    <a:pt x="558" y="588"/>
                  </a:lnTo>
                  <a:lnTo>
                    <a:pt x="573" y="621"/>
                  </a:lnTo>
                  <a:lnTo>
                    <a:pt x="558" y="632"/>
                  </a:lnTo>
                  <a:lnTo>
                    <a:pt x="589" y="632"/>
                  </a:lnTo>
                  <a:lnTo>
                    <a:pt x="602" y="661"/>
                  </a:lnTo>
                  <a:lnTo>
                    <a:pt x="602" y="678"/>
                  </a:lnTo>
                  <a:lnTo>
                    <a:pt x="618" y="694"/>
                  </a:lnTo>
                  <a:lnTo>
                    <a:pt x="644" y="707"/>
                  </a:lnTo>
                  <a:lnTo>
                    <a:pt x="673" y="707"/>
                  </a:lnTo>
                  <a:lnTo>
                    <a:pt x="689" y="722"/>
                  </a:lnTo>
                  <a:lnTo>
                    <a:pt x="717" y="694"/>
                  </a:lnTo>
                  <a:lnTo>
                    <a:pt x="717" y="707"/>
                  </a:lnTo>
                  <a:lnTo>
                    <a:pt x="733" y="707"/>
                  </a:lnTo>
                  <a:lnTo>
                    <a:pt x="733" y="722"/>
                  </a:lnTo>
                  <a:lnTo>
                    <a:pt x="760" y="736"/>
                  </a:lnTo>
                  <a:lnTo>
                    <a:pt x="788" y="694"/>
                  </a:lnTo>
                  <a:lnTo>
                    <a:pt x="832" y="694"/>
                  </a:lnTo>
                  <a:lnTo>
                    <a:pt x="848" y="632"/>
                  </a:lnTo>
                  <a:lnTo>
                    <a:pt x="903" y="502"/>
                  </a:lnTo>
                  <a:lnTo>
                    <a:pt x="919" y="441"/>
                  </a:lnTo>
                  <a:lnTo>
                    <a:pt x="903" y="368"/>
                  </a:lnTo>
                  <a:lnTo>
                    <a:pt x="877" y="326"/>
                  </a:lnTo>
                  <a:lnTo>
                    <a:pt x="859" y="311"/>
                  </a:lnTo>
                  <a:lnTo>
                    <a:pt x="848" y="282"/>
                  </a:lnTo>
                  <a:lnTo>
                    <a:pt x="832" y="267"/>
                  </a:lnTo>
                  <a:lnTo>
                    <a:pt x="832" y="282"/>
                  </a:lnTo>
                  <a:lnTo>
                    <a:pt x="804" y="238"/>
                  </a:lnTo>
                  <a:lnTo>
                    <a:pt x="760" y="192"/>
                  </a:lnTo>
                  <a:lnTo>
                    <a:pt x="744" y="148"/>
                  </a:lnTo>
                  <a:lnTo>
                    <a:pt x="733" y="134"/>
                  </a:lnTo>
                  <a:lnTo>
                    <a:pt x="733" y="104"/>
                  </a:lnTo>
                  <a:lnTo>
                    <a:pt x="717" y="90"/>
                  </a:lnTo>
                  <a:lnTo>
                    <a:pt x="689" y="90"/>
                  </a:lnTo>
                  <a:lnTo>
                    <a:pt x="673" y="0"/>
                  </a:lnTo>
                  <a:lnTo>
                    <a:pt x="660" y="0"/>
                  </a:lnTo>
                  <a:lnTo>
                    <a:pt x="644" y="29"/>
                  </a:lnTo>
                  <a:lnTo>
                    <a:pt x="644" y="104"/>
                  </a:lnTo>
                  <a:lnTo>
                    <a:pt x="633" y="163"/>
                  </a:lnTo>
                  <a:lnTo>
                    <a:pt x="602" y="163"/>
                  </a:lnTo>
                  <a:lnTo>
                    <a:pt x="545" y="119"/>
                  </a:lnTo>
                  <a:lnTo>
                    <a:pt x="529" y="119"/>
                  </a:lnTo>
                  <a:lnTo>
                    <a:pt x="529" y="104"/>
                  </a:lnTo>
                  <a:lnTo>
                    <a:pt x="501" y="104"/>
                  </a:lnTo>
                  <a:lnTo>
                    <a:pt x="518" y="62"/>
                  </a:lnTo>
                  <a:lnTo>
                    <a:pt x="529" y="62"/>
                  </a:lnTo>
                  <a:lnTo>
                    <a:pt x="545" y="29"/>
                  </a:lnTo>
                  <a:lnTo>
                    <a:pt x="529" y="29"/>
                  </a:lnTo>
                  <a:lnTo>
                    <a:pt x="518" y="46"/>
                  </a:lnTo>
                  <a:lnTo>
                    <a:pt x="518" y="29"/>
                  </a:lnTo>
                  <a:lnTo>
                    <a:pt x="501" y="29"/>
                  </a:lnTo>
                  <a:lnTo>
                    <a:pt x="430" y="18"/>
                  </a:lnTo>
                  <a:lnTo>
                    <a:pt x="445" y="29"/>
                  </a:lnTo>
                  <a:lnTo>
                    <a:pt x="401" y="29"/>
                  </a:lnTo>
                  <a:lnTo>
                    <a:pt x="385" y="46"/>
                  </a:lnTo>
                  <a:lnTo>
                    <a:pt x="385" y="62"/>
                  </a:lnTo>
                  <a:lnTo>
                    <a:pt x="374" y="62"/>
                  </a:lnTo>
                  <a:lnTo>
                    <a:pt x="374" y="104"/>
                  </a:lnTo>
                  <a:lnTo>
                    <a:pt x="343" y="90"/>
                  </a:lnTo>
                  <a:lnTo>
                    <a:pt x="343" y="104"/>
                  </a:lnTo>
                  <a:lnTo>
                    <a:pt x="343" y="90"/>
                  </a:lnTo>
                  <a:lnTo>
                    <a:pt x="330" y="75"/>
                  </a:lnTo>
                  <a:lnTo>
                    <a:pt x="315" y="75"/>
                  </a:lnTo>
                  <a:lnTo>
                    <a:pt x="286" y="90"/>
                  </a:lnTo>
                  <a:lnTo>
                    <a:pt x="270" y="90"/>
                  </a:lnTo>
                  <a:lnTo>
                    <a:pt x="259" y="134"/>
                  </a:lnTo>
                  <a:lnTo>
                    <a:pt x="226" y="134"/>
                  </a:lnTo>
                  <a:lnTo>
                    <a:pt x="244" y="148"/>
                  </a:lnTo>
                  <a:lnTo>
                    <a:pt x="226" y="163"/>
                  </a:lnTo>
                  <a:lnTo>
                    <a:pt x="226" y="134"/>
                  </a:lnTo>
                  <a:lnTo>
                    <a:pt x="199" y="163"/>
                  </a:lnTo>
                  <a:lnTo>
                    <a:pt x="215" y="177"/>
                  </a:lnTo>
                  <a:lnTo>
                    <a:pt x="171" y="209"/>
                  </a:lnTo>
                  <a:lnTo>
                    <a:pt x="71" y="238"/>
                  </a:lnTo>
                  <a:lnTo>
                    <a:pt x="27" y="282"/>
                  </a:lnTo>
                  <a:lnTo>
                    <a:pt x="11" y="267"/>
                  </a:lnTo>
                  <a:lnTo>
                    <a:pt x="11" y="311"/>
                  </a:lnTo>
                  <a:lnTo>
                    <a:pt x="0" y="311"/>
                  </a:lnTo>
                  <a:lnTo>
                    <a:pt x="27" y="383"/>
                  </a:lnTo>
                  <a:lnTo>
                    <a:pt x="11" y="355"/>
                  </a:lnTo>
                  <a:lnTo>
                    <a:pt x="11" y="383"/>
                  </a:lnTo>
                  <a:lnTo>
                    <a:pt x="0" y="368"/>
                  </a:lnTo>
                  <a:lnTo>
                    <a:pt x="40" y="458"/>
                  </a:lnTo>
                  <a:lnTo>
                    <a:pt x="56" y="516"/>
                  </a:lnTo>
                  <a:lnTo>
                    <a:pt x="56" y="560"/>
                  </a:lnTo>
                  <a:lnTo>
                    <a:pt x="40" y="575"/>
                  </a:lnTo>
                  <a:lnTo>
                    <a:pt x="40" y="588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804000" y="4180680"/>
              <a:ext cx="20520" cy="864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04000" y="4180680"/>
              <a:ext cx="20520" cy="864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911280" y="4641120"/>
              <a:ext cx="20160" cy="1152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911280" y="4641120"/>
              <a:ext cx="20160" cy="1152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052040" y="4749840"/>
              <a:ext cx="62280" cy="651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052040" y="4749840"/>
              <a:ext cx="62280" cy="651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22200" y="4618440"/>
              <a:ext cx="93240" cy="15588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22200" y="4618440"/>
              <a:ext cx="93240" cy="15588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14920" y="4749840"/>
              <a:ext cx="139320" cy="14148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14920" y="4749840"/>
              <a:ext cx="139320" cy="14148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214320" y="3886560"/>
              <a:ext cx="182880" cy="19404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214320" y="3886560"/>
              <a:ext cx="182880" cy="19404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387120" y="4080960"/>
              <a:ext cx="147960" cy="4608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387120" y="4080960"/>
              <a:ext cx="147960" cy="4608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535440" y="4127040"/>
              <a:ext cx="22680" cy="144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535440" y="4127040"/>
              <a:ext cx="22680" cy="144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568560" y="4127040"/>
              <a:ext cx="128880" cy="864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568560" y="4127040"/>
              <a:ext cx="128880" cy="864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10680" y="4147560"/>
              <a:ext cx="31680" cy="126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610680" y="4147560"/>
              <a:ext cx="31680" cy="126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684840" y="4127040"/>
              <a:ext cx="65160" cy="3312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684840" y="4127040"/>
              <a:ext cx="65160" cy="3312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869160" y="4073400"/>
              <a:ext cx="8640" cy="3168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869160" y="4073400"/>
              <a:ext cx="8640" cy="3168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387120" y="4005720"/>
              <a:ext cx="22680" cy="342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387120" y="4005720"/>
              <a:ext cx="22680" cy="342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419160" y="4026240"/>
              <a:ext cx="10080" cy="136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419160" y="4026240"/>
              <a:ext cx="10080" cy="13680"/>
            </a:xfrm>
            <a:prstGeom prst="rect">
              <a:avLst/>
            </a:prstGeom>
            <a:noFill/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10680" y="3950640"/>
              <a:ext cx="107280" cy="12996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610680" y="3950640"/>
              <a:ext cx="107280" cy="12996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750360" y="3940200"/>
              <a:ext cx="22680" cy="5616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750360" y="3940200"/>
              <a:ext cx="22680" cy="5616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729480" y="4039920"/>
              <a:ext cx="20520" cy="104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729480" y="4039920"/>
              <a:ext cx="20520" cy="104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761880" y="4026240"/>
              <a:ext cx="51840" cy="2412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761880" y="4026240"/>
              <a:ext cx="51840" cy="2412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634080" y="3655080"/>
              <a:ext cx="63720" cy="997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634080" y="3655080"/>
              <a:ext cx="63720" cy="997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580080" y="3786840"/>
              <a:ext cx="42120" cy="5364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580080" y="3786840"/>
              <a:ext cx="42120" cy="5364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634080" y="3754800"/>
              <a:ext cx="20160" cy="19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634080" y="3754800"/>
              <a:ext cx="20160" cy="19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707880" y="3765240"/>
              <a:ext cx="21600" cy="4320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07880" y="3765240"/>
              <a:ext cx="21600" cy="4320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665760" y="3774240"/>
              <a:ext cx="41760" cy="5508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665760" y="3774240"/>
              <a:ext cx="41760" cy="5508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665760" y="3808800"/>
              <a:ext cx="75240" cy="7776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665760" y="3808800"/>
              <a:ext cx="75240" cy="7776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059800" y="4488840"/>
              <a:ext cx="40680" cy="4212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059800" y="4488840"/>
              <a:ext cx="40680" cy="4212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526440" y="3589920"/>
              <a:ext cx="8640" cy="252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928040" y="3173040"/>
              <a:ext cx="33120" cy="6624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28040" y="3173040"/>
              <a:ext cx="33120" cy="6624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81680" y="3130920"/>
              <a:ext cx="107280" cy="7416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81680" y="3130920"/>
              <a:ext cx="107280" cy="7416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877280" y="3022200"/>
              <a:ext cx="104400" cy="7416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877280" y="3022200"/>
              <a:ext cx="104400" cy="7416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33720" y="3064320"/>
              <a:ext cx="43200" cy="3168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33720" y="3064320"/>
              <a:ext cx="43200" cy="3168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833720" y="3074760"/>
              <a:ext cx="94320" cy="9828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833720" y="3074760"/>
              <a:ext cx="94320" cy="9828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07880" y="3151440"/>
              <a:ext cx="32760" cy="327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907880" y="3151440"/>
              <a:ext cx="32760" cy="327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920840" y="3084840"/>
              <a:ext cx="75240" cy="9972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920840" y="3084840"/>
              <a:ext cx="75240" cy="9972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951080" y="3173040"/>
              <a:ext cx="4464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951080" y="3173040"/>
              <a:ext cx="4464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65760" y="3096360"/>
              <a:ext cx="62280" cy="6768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865760" y="3096360"/>
              <a:ext cx="62280" cy="6768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801680" y="2955600"/>
              <a:ext cx="119160" cy="6624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801680" y="2955600"/>
              <a:ext cx="119160" cy="6624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535840" y="2066760"/>
              <a:ext cx="310680" cy="27360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535840" y="2066760"/>
              <a:ext cx="310680" cy="27360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048840" y="2079720"/>
              <a:ext cx="463680" cy="534240"/>
            </a:xfrm>
            <a:custGeom>
              <a:avLst/>
              <a:gdLst/>
              <a:ahLst/>
              <a:rect l="l" t="t" r="r" b="b"/>
              <a:pathLst>
                <a:path w="622" h="717">
                  <a:moveTo>
                    <a:pt x="0" y="156"/>
                  </a:moveTo>
                  <a:lnTo>
                    <a:pt x="58" y="257"/>
                  </a:lnTo>
                  <a:lnTo>
                    <a:pt x="85" y="269"/>
                  </a:lnTo>
                  <a:lnTo>
                    <a:pt x="167" y="284"/>
                  </a:lnTo>
                  <a:lnTo>
                    <a:pt x="181" y="284"/>
                  </a:lnTo>
                  <a:lnTo>
                    <a:pt x="221" y="295"/>
                  </a:lnTo>
                  <a:lnTo>
                    <a:pt x="236" y="295"/>
                  </a:lnTo>
                  <a:lnTo>
                    <a:pt x="248" y="257"/>
                  </a:lnTo>
                  <a:lnTo>
                    <a:pt x="263" y="284"/>
                  </a:lnTo>
                  <a:lnTo>
                    <a:pt x="305" y="324"/>
                  </a:lnTo>
                  <a:lnTo>
                    <a:pt x="290" y="355"/>
                  </a:lnTo>
                  <a:lnTo>
                    <a:pt x="317" y="339"/>
                  </a:lnTo>
                  <a:lnTo>
                    <a:pt x="332" y="366"/>
                  </a:lnTo>
                  <a:lnTo>
                    <a:pt x="359" y="393"/>
                  </a:lnTo>
                  <a:lnTo>
                    <a:pt x="374" y="437"/>
                  </a:lnTo>
                  <a:lnTo>
                    <a:pt x="332" y="506"/>
                  </a:lnTo>
                  <a:lnTo>
                    <a:pt x="344" y="535"/>
                  </a:lnTo>
                  <a:lnTo>
                    <a:pt x="332" y="550"/>
                  </a:lnTo>
                  <a:lnTo>
                    <a:pt x="263" y="535"/>
                  </a:lnTo>
                  <a:lnTo>
                    <a:pt x="263" y="565"/>
                  </a:lnTo>
                  <a:lnTo>
                    <a:pt x="248" y="565"/>
                  </a:lnTo>
                  <a:lnTo>
                    <a:pt x="248" y="608"/>
                  </a:lnTo>
                  <a:lnTo>
                    <a:pt x="290" y="608"/>
                  </a:lnTo>
                  <a:lnTo>
                    <a:pt x="305" y="592"/>
                  </a:lnTo>
                  <a:lnTo>
                    <a:pt x="332" y="592"/>
                  </a:lnTo>
                  <a:lnTo>
                    <a:pt x="386" y="634"/>
                  </a:lnTo>
                  <a:lnTo>
                    <a:pt x="386" y="648"/>
                  </a:lnTo>
                  <a:lnTo>
                    <a:pt x="444" y="690"/>
                  </a:lnTo>
                  <a:lnTo>
                    <a:pt x="468" y="705"/>
                  </a:lnTo>
                  <a:lnTo>
                    <a:pt x="511" y="717"/>
                  </a:lnTo>
                  <a:lnTo>
                    <a:pt x="511" y="705"/>
                  </a:lnTo>
                  <a:lnTo>
                    <a:pt x="455" y="648"/>
                  </a:lnTo>
                  <a:lnTo>
                    <a:pt x="455" y="619"/>
                  </a:lnTo>
                  <a:lnTo>
                    <a:pt x="526" y="678"/>
                  </a:lnTo>
                  <a:lnTo>
                    <a:pt x="553" y="678"/>
                  </a:lnTo>
                  <a:lnTo>
                    <a:pt x="553" y="634"/>
                  </a:lnTo>
                  <a:lnTo>
                    <a:pt x="538" y="619"/>
                  </a:lnTo>
                  <a:lnTo>
                    <a:pt x="538" y="592"/>
                  </a:lnTo>
                  <a:lnTo>
                    <a:pt x="495" y="550"/>
                  </a:lnTo>
                  <a:lnTo>
                    <a:pt x="484" y="521"/>
                  </a:lnTo>
                  <a:lnTo>
                    <a:pt x="495" y="495"/>
                  </a:lnTo>
                  <a:lnTo>
                    <a:pt x="526" y="521"/>
                  </a:lnTo>
                  <a:lnTo>
                    <a:pt x="538" y="550"/>
                  </a:lnTo>
                  <a:lnTo>
                    <a:pt x="564" y="565"/>
                  </a:lnTo>
                  <a:lnTo>
                    <a:pt x="564" y="535"/>
                  </a:lnTo>
                  <a:lnTo>
                    <a:pt x="595" y="535"/>
                  </a:lnTo>
                  <a:lnTo>
                    <a:pt x="622" y="479"/>
                  </a:lnTo>
                  <a:lnTo>
                    <a:pt x="538" y="393"/>
                  </a:lnTo>
                  <a:lnTo>
                    <a:pt x="495" y="393"/>
                  </a:lnTo>
                  <a:lnTo>
                    <a:pt x="468" y="366"/>
                  </a:lnTo>
                  <a:lnTo>
                    <a:pt x="468" y="339"/>
                  </a:lnTo>
                  <a:lnTo>
                    <a:pt x="495" y="324"/>
                  </a:lnTo>
                  <a:lnTo>
                    <a:pt x="468" y="295"/>
                  </a:lnTo>
                  <a:lnTo>
                    <a:pt x="484" y="284"/>
                  </a:lnTo>
                  <a:lnTo>
                    <a:pt x="468" y="242"/>
                  </a:lnTo>
                  <a:lnTo>
                    <a:pt x="428" y="226"/>
                  </a:lnTo>
                  <a:lnTo>
                    <a:pt x="401" y="182"/>
                  </a:lnTo>
                  <a:lnTo>
                    <a:pt x="374" y="171"/>
                  </a:lnTo>
                  <a:lnTo>
                    <a:pt x="344" y="156"/>
                  </a:lnTo>
                  <a:lnTo>
                    <a:pt x="332" y="100"/>
                  </a:lnTo>
                  <a:lnTo>
                    <a:pt x="305" y="100"/>
                  </a:lnTo>
                  <a:lnTo>
                    <a:pt x="263" y="85"/>
                  </a:lnTo>
                  <a:lnTo>
                    <a:pt x="236" y="100"/>
                  </a:lnTo>
                  <a:lnTo>
                    <a:pt x="208" y="100"/>
                  </a:lnTo>
                  <a:lnTo>
                    <a:pt x="181" y="129"/>
                  </a:lnTo>
                  <a:lnTo>
                    <a:pt x="194" y="85"/>
                  </a:lnTo>
                  <a:lnTo>
                    <a:pt x="181" y="58"/>
                  </a:lnTo>
                  <a:lnTo>
                    <a:pt x="181" y="0"/>
                  </a:lnTo>
                  <a:lnTo>
                    <a:pt x="154" y="0"/>
                  </a:lnTo>
                  <a:lnTo>
                    <a:pt x="100" y="73"/>
                  </a:lnTo>
                  <a:lnTo>
                    <a:pt x="85" y="129"/>
                  </a:lnTo>
                  <a:lnTo>
                    <a:pt x="100" y="171"/>
                  </a:lnTo>
                  <a:lnTo>
                    <a:pt x="69" y="144"/>
                  </a:lnTo>
                  <a:lnTo>
                    <a:pt x="69" y="73"/>
                  </a:lnTo>
                  <a:lnTo>
                    <a:pt x="100" y="31"/>
                  </a:lnTo>
                  <a:lnTo>
                    <a:pt x="127" y="0"/>
                  </a:lnTo>
                  <a:lnTo>
                    <a:pt x="58" y="0"/>
                  </a:lnTo>
                  <a:lnTo>
                    <a:pt x="16" y="58"/>
                  </a:lnTo>
                  <a:lnTo>
                    <a:pt x="0" y="113"/>
                  </a:lnTo>
                  <a:lnTo>
                    <a:pt x="0" y="156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440080" y="2999160"/>
              <a:ext cx="974160" cy="535320"/>
            </a:xfrm>
            <a:custGeom>
              <a:avLst/>
              <a:gdLst/>
              <a:ahLst/>
              <a:rect l="l" t="t" r="r" b="b"/>
              <a:pathLst>
                <a:path w="1308" h="718">
                  <a:moveTo>
                    <a:pt x="44" y="13"/>
                  </a:moveTo>
                  <a:lnTo>
                    <a:pt x="662" y="13"/>
                  </a:lnTo>
                  <a:lnTo>
                    <a:pt x="674" y="0"/>
                  </a:lnTo>
                  <a:lnTo>
                    <a:pt x="691" y="29"/>
                  </a:lnTo>
                  <a:lnTo>
                    <a:pt x="718" y="29"/>
                  </a:lnTo>
                  <a:lnTo>
                    <a:pt x="746" y="57"/>
                  </a:lnTo>
                  <a:lnTo>
                    <a:pt x="791" y="57"/>
                  </a:lnTo>
                  <a:lnTo>
                    <a:pt x="733" y="103"/>
                  </a:lnTo>
                  <a:lnTo>
                    <a:pt x="762" y="86"/>
                  </a:lnTo>
                  <a:lnTo>
                    <a:pt x="777" y="103"/>
                  </a:lnTo>
                  <a:lnTo>
                    <a:pt x="817" y="86"/>
                  </a:lnTo>
                  <a:lnTo>
                    <a:pt x="817" y="103"/>
                  </a:lnTo>
                  <a:lnTo>
                    <a:pt x="833" y="86"/>
                  </a:lnTo>
                  <a:lnTo>
                    <a:pt x="848" y="103"/>
                  </a:lnTo>
                  <a:lnTo>
                    <a:pt x="906" y="103"/>
                  </a:lnTo>
                  <a:lnTo>
                    <a:pt x="921" y="115"/>
                  </a:lnTo>
                  <a:lnTo>
                    <a:pt x="921" y="132"/>
                  </a:lnTo>
                  <a:lnTo>
                    <a:pt x="848" y="132"/>
                  </a:lnTo>
                  <a:lnTo>
                    <a:pt x="833" y="176"/>
                  </a:lnTo>
                  <a:lnTo>
                    <a:pt x="848" y="161"/>
                  </a:lnTo>
                  <a:lnTo>
                    <a:pt x="833" y="220"/>
                  </a:lnTo>
                  <a:lnTo>
                    <a:pt x="833" y="262"/>
                  </a:lnTo>
                  <a:lnTo>
                    <a:pt x="848" y="262"/>
                  </a:lnTo>
                  <a:lnTo>
                    <a:pt x="862" y="249"/>
                  </a:lnTo>
                  <a:lnTo>
                    <a:pt x="862" y="189"/>
                  </a:lnTo>
                  <a:lnTo>
                    <a:pt x="877" y="161"/>
                  </a:lnTo>
                  <a:lnTo>
                    <a:pt x="892" y="147"/>
                  </a:lnTo>
                  <a:lnTo>
                    <a:pt x="892" y="132"/>
                  </a:lnTo>
                  <a:lnTo>
                    <a:pt x="933" y="147"/>
                  </a:lnTo>
                  <a:lnTo>
                    <a:pt x="933" y="176"/>
                  </a:lnTo>
                  <a:lnTo>
                    <a:pt x="921" y="205"/>
                  </a:lnTo>
                  <a:lnTo>
                    <a:pt x="950" y="189"/>
                  </a:lnTo>
                  <a:lnTo>
                    <a:pt x="950" y="220"/>
                  </a:lnTo>
                  <a:lnTo>
                    <a:pt x="965" y="220"/>
                  </a:lnTo>
                  <a:lnTo>
                    <a:pt x="933" y="262"/>
                  </a:lnTo>
                  <a:lnTo>
                    <a:pt x="977" y="262"/>
                  </a:lnTo>
                  <a:lnTo>
                    <a:pt x="1036" y="220"/>
                  </a:lnTo>
                  <a:lnTo>
                    <a:pt x="1036" y="205"/>
                  </a:lnTo>
                  <a:lnTo>
                    <a:pt x="1092" y="205"/>
                  </a:lnTo>
                  <a:lnTo>
                    <a:pt x="1092" y="176"/>
                  </a:lnTo>
                  <a:lnTo>
                    <a:pt x="1120" y="161"/>
                  </a:lnTo>
                  <a:lnTo>
                    <a:pt x="1191" y="161"/>
                  </a:lnTo>
                  <a:lnTo>
                    <a:pt x="1224" y="147"/>
                  </a:lnTo>
                  <a:lnTo>
                    <a:pt x="1251" y="75"/>
                  </a:lnTo>
                  <a:lnTo>
                    <a:pt x="1264" y="86"/>
                  </a:lnTo>
                  <a:lnTo>
                    <a:pt x="1280" y="75"/>
                  </a:lnTo>
                  <a:lnTo>
                    <a:pt x="1280" y="86"/>
                  </a:lnTo>
                  <a:lnTo>
                    <a:pt x="1295" y="132"/>
                  </a:lnTo>
                  <a:lnTo>
                    <a:pt x="1308" y="147"/>
                  </a:lnTo>
                  <a:lnTo>
                    <a:pt x="1308" y="161"/>
                  </a:lnTo>
                  <a:lnTo>
                    <a:pt x="1295" y="176"/>
                  </a:lnTo>
                  <a:lnTo>
                    <a:pt x="1264" y="176"/>
                  </a:lnTo>
                  <a:lnTo>
                    <a:pt x="1207" y="234"/>
                  </a:lnTo>
                  <a:lnTo>
                    <a:pt x="1224" y="262"/>
                  </a:lnTo>
                  <a:lnTo>
                    <a:pt x="1236" y="249"/>
                  </a:lnTo>
                  <a:lnTo>
                    <a:pt x="1236" y="278"/>
                  </a:lnTo>
                  <a:lnTo>
                    <a:pt x="1191" y="262"/>
                  </a:lnTo>
                  <a:lnTo>
                    <a:pt x="1165" y="278"/>
                  </a:lnTo>
                  <a:lnTo>
                    <a:pt x="1149" y="295"/>
                  </a:lnTo>
                  <a:lnTo>
                    <a:pt x="1136" y="352"/>
                  </a:lnTo>
                  <a:lnTo>
                    <a:pt x="1120" y="335"/>
                  </a:lnTo>
                  <a:lnTo>
                    <a:pt x="1120" y="352"/>
                  </a:lnTo>
                  <a:lnTo>
                    <a:pt x="1107" y="396"/>
                  </a:lnTo>
                  <a:lnTo>
                    <a:pt x="1107" y="368"/>
                  </a:lnTo>
                  <a:lnTo>
                    <a:pt x="1092" y="352"/>
                  </a:lnTo>
                  <a:lnTo>
                    <a:pt x="1092" y="324"/>
                  </a:lnTo>
                  <a:lnTo>
                    <a:pt x="1076" y="352"/>
                  </a:lnTo>
                  <a:lnTo>
                    <a:pt x="1107" y="440"/>
                  </a:lnTo>
                  <a:lnTo>
                    <a:pt x="1092" y="469"/>
                  </a:lnTo>
                  <a:lnTo>
                    <a:pt x="1036" y="498"/>
                  </a:lnTo>
                  <a:lnTo>
                    <a:pt x="992" y="544"/>
                  </a:lnTo>
                  <a:lnTo>
                    <a:pt x="977" y="573"/>
                  </a:lnTo>
                  <a:lnTo>
                    <a:pt x="1005" y="674"/>
                  </a:lnTo>
                  <a:lnTo>
                    <a:pt x="1005" y="718"/>
                  </a:lnTo>
                  <a:lnTo>
                    <a:pt x="992" y="718"/>
                  </a:lnTo>
                  <a:lnTo>
                    <a:pt x="950" y="674"/>
                  </a:lnTo>
                  <a:lnTo>
                    <a:pt x="950" y="617"/>
                  </a:lnTo>
                  <a:lnTo>
                    <a:pt x="921" y="588"/>
                  </a:lnTo>
                  <a:lnTo>
                    <a:pt x="892" y="601"/>
                  </a:lnTo>
                  <a:lnTo>
                    <a:pt x="892" y="588"/>
                  </a:lnTo>
                  <a:lnTo>
                    <a:pt x="806" y="588"/>
                  </a:lnTo>
                  <a:lnTo>
                    <a:pt x="791" y="601"/>
                  </a:lnTo>
                  <a:lnTo>
                    <a:pt x="806" y="617"/>
                  </a:lnTo>
                  <a:lnTo>
                    <a:pt x="762" y="617"/>
                  </a:lnTo>
                  <a:lnTo>
                    <a:pt x="746" y="601"/>
                  </a:lnTo>
                  <a:lnTo>
                    <a:pt x="706" y="601"/>
                  </a:lnTo>
                  <a:lnTo>
                    <a:pt x="674" y="617"/>
                  </a:lnTo>
                  <a:lnTo>
                    <a:pt x="618" y="661"/>
                  </a:lnTo>
                  <a:lnTo>
                    <a:pt x="618" y="703"/>
                  </a:lnTo>
                  <a:lnTo>
                    <a:pt x="574" y="689"/>
                  </a:lnTo>
                  <a:lnTo>
                    <a:pt x="518" y="601"/>
                  </a:lnTo>
                  <a:lnTo>
                    <a:pt x="503" y="601"/>
                  </a:lnTo>
                  <a:lnTo>
                    <a:pt x="489" y="617"/>
                  </a:lnTo>
                  <a:lnTo>
                    <a:pt x="474" y="617"/>
                  </a:lnTo>
                  <a:lnTo>
                    <a:pt x="447" y="601"/>
                  </a:lnTo>
                  <a:lnTo>
                    <a:pt x="447" y="573"/>
                  </a:lnTo>
                  <a:lnTo>
                    <a:pt x="415" y="544"/>
                  </a:lnTo>
                  <a:lnTo>
                    <a:pt x="300" y="559"/>
                  </a:lnTo>
                  <a:lnTo>
                    <a:pt x="215" y="527"/>
                  </a:lnTo>
                  <a:lnTo>
                    <a:pt x="173" y="527"/>
                  </a:lnTo>
                  <a:lnTo>
                    <a:pt x="156" y="498"/>
                  </a:lnTo>
                  <a:lnTo>
                    <a:pt x="144" y="498"/>
                  </a:lnTo>
                  <a:lnTo>
                    <a:pt x="144" y="486"/>
                  </a:lnTo>
                  <a:lnTo>
                    <a:pt x="85" y="469"/>
                  </a:lnTo>
                  <a:lnTo>
                    <a:pt x="85" y="454"/>
                  </a:lnTo>
                  <a:lnTo>
                    <a:pt x="56" y="425"/>
                  </a:lnTo>
                  <a:lnTo>
                    <a:pt x="56" y="396"/>
                  </a:lnTo>
                  <a:lnTo>
                    <a:pt x="44" y="396"/>
                  </a:lnTo>
                  <a:lnTo>
                    <a:pt x="44" y="381"/>
                  </a:lnTo>
                  <a:lnTo>
                    <a:pt x="56" y="381"/>
                  </a:lnTo>
                  <a:lnTo>
                    <a:pt x="56" y="368"/>
                  </a:lnTo>
                  <a:lnTo>
                    <a:pt x="29" y="368"/>
                  </a:lnTo>
                  <a:lnTo>
                    <a:pt x="44" y="368"/>
                  </a:lnTo>
                  <a:lnTo>
                    <a:pt x="14" y="335"/>
                  </a:lnTo>
                  <a:lnTo>
                    <a:pt x="14" y="324"/>
                  </a:lnTo>
                  <a:lnTo>
                    <a:pt x="0" y="306"/>
                  </a:lnTo>
                  <a:lnTo>
                    <a:pt x="14" y="262"/>
                  </a:lnTo>
                  <a:lnTo>
                    <a:pt x="0" y="220"/>
                  </a:lnTo>
                  <a:lnTo>
                    <a:pt x="14" y="115"/>
                  </a:lnTo>
                  <a:lnTo>
                    <a:pt x="0" y="42"/>
                  </a:lnTo>
                  <a:lnTo>
                    <a:pt x="29" y="42"/>
                  </a:lnTo>
                  <a:lnTo>
                    <a:pt x="29" y="75"/>
                  </a:lnTo>
                  <a:lnTo>
                    <a:pt x="44" y="75"/>
                  </a:lnTo>
                  <a:lnTo>
                    <a:pt x="44" y="13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712880" y="2198520"/>
              <a:ext cx="631440" cy="666360"/>
            </a:xfrm>
            <a:custGeom>
              <a:avLst/>
              <a:gdLst/>
              <a:ahLst/>
              <a:rect l="l" t="t" r="r" b="b"/>
              <a:pathLst>
                <a:path w="848" h="897">
                  <a:moveTo>
                    <a:pt x="848" y="868"/>
                  </a:moveTo>
                  <a:lnTo>
                    <a:pt x="848" y="824"/>
                  </a:lnTo>
                  <a:lnTo>
                    <a:pt x="804" y="795"/>
                  </a:lnTo>
                  <a:lnTo>
                    <a:pt x="763" y="705"/>
                  </a:lnTo>
                  <a:lnTo>
                    <a:pt x="748" y="705"/>
                  </a:lnTo>
                  <a:lnTo>
                    <a:pt x="733" y="663"/>
                  </a:lnTo>
                  <a:lnTo>
                    <a:pt x="704" y="676"/>
                  </a:lnTo>
                  <a:lnTo>
                    <a:pt x="689" y="692"/>
                  </a:lnTo>
                  <a:lnTo>
                    <a:pt x="648" y="648"/>
                  </a:lnTo>
                  <a:lnTo>
                    <a:pt x="648" y="632"/>
                  </a:lnTo>
                  <a:lnTo>
                    <a:pt x="604" y="648"/>
                  </a:lnTo>
                  <a:lnTo>
                    <a:pt x="604" y="117"/>
                  </a:lnTo>
                  <a:lnTo>
                    <a:pt x="560" y="89"/>
                  </a:lnTo>
                  <a:lnTo>
                    <a:pt x="518" y="106"/>
                  </a:lnTo>
                  <a:lnTo>
                    <a:pt x="489" y="89"/>
                  </a:lnTo>
                  <a:lnTo>
                    <a:pt x="460" y="89"/>
                  </a:lnTo>
                  <a:lnTo>
                    <a:pt x="416" y="60"/>
                  </a:lnTo>
                  <a:lnTo>
                    <a:pt x="359" y="60"/>
                  </a:lnTo>
                  <a:lnTo>
                    <a:pt x="345" y="31"/>
                  </a:lnTo>
                  <a:lnTo>
                    <a:pt x="301" y="31"/>
                  </a:lnTo>
                  <a:lnTo>
                    <a:pt x="286" y="16"/>
                  </a:lnTo>
                  <a:lnTo>
                    <a:pt x="259" y="0"/>
                  </a:lnTo>
                  <a:lnTo>
                    <a:pt x="230" y="31"/>
                  </a:lnTo>
                  <a:lnTo>
                    <a:pt x="201" y="44"/>
                  </a:lnTo>
                  <a:lnTo>
                    <a:pt x="159" y="77"/>
                  </a:lnTo>
                  <a:lnTo>
                    <a:pt x="142" y="77"/>
                  </a:lnTo>
                  <a:lnTo>
                    <a:pt x="115" y="106"/>
                  </a:lnTo>
                  <a:lnTo>
                    <a:pt x="102" y="163"/>
                  </a:lnTo>
                  <a:lnTo>
                    <a:pt x="42" y="179"/>
                  </a:lnTo>
                  <a:lnTo>
                    <a:pt x="31" y="207"/>
                  </a:lnTo>
                  <a:lnTo>
                    <a:pt x="86" y="251"/>
                  </a:lnTo>
                  <a:lnTo>
                    <a:pt x="102" y="280"/>
                  </a:lnTo>
                  <a:lnTo>
                    <a:pt x="130" y="326"/>
                  </a:lnTo>
                  <a:lnTo>
                    <a:pt x="130" y="337"/>
                  </a:lnTo>
                  <a:lnTo>
                    <a:pt x="86" y="337"/>
                  </a:lnTo>
                  <a:lnTo>
                    <a:pt x="86" y="309"/>
                  </a:lnTo>
                  <a:lnTo>
                    <a:pt x="71" y="309"/>
                  </a:lnTo>
                  <a:lnTo>
                    <a:pt x="15" y="337"/>
                  </a:lnTo>
                  <a:lnTo>
                    <a:pt x="0" y="366"/>
                  </a:lnTo>
                  <a:lnTo>
                    <a:pt x="31" y="383"/>
                  </a:lnTo>
                  <a:lnTo>
                    <a:pt x="31" y="412"/>
                  </a:lnTo>
                  <a:lnTo>
                    <a:pt x="58" y="427"/>
                  </a:lnTo>
                  <a:lnTo>
                    <a:pt x="115" y="427"/>
                  </a:lnTo>
                  <a:lnTo>
                    <a:pt x="142" y="412"/>
                  </a:lnTo>
                  <a:lnTo>
                    <a:pt x="142" y="427"/>
                  </a:lnTo>
                  <a:lnTo>
                    <a:pt x="159" y="456"/>
                  </a:lnTo>
                  <a:lnTo>
                    <a:pt x="142" y="485"/>
                  </a:lnTo>
                  <a:lnTo>
                    <a:pt x="115" y="485"/>
                  </a:lnTo>
                  <a:lnTo>
                    <a:pt x="102" y="500"/>
                  </a:lnTo>
                  <a:lnTo>
                    <a:pt x="71" y="500"/>
                  </a:lnTo>
                  <a:lnTo>
                    <a:pt x="42" y="575"/>
                  </a:lnTo>
                  <a:lnTo>
                    <a:pt x="86" y="663"/>
                  </a:lnTo>
                  <a:lnTo>
                    <a:pt x="102" y="663"/>
                  </a:lnTo>
                  <a:lnTo>
                    <a:pt x="130" y="648"/>
                  </a:lnTo>
                  <a:lnTo>
                    <a:pt x="130" y="692"/>
                  </a:lnTo>
                  <a:lnTo>
                    <a:pt x="142" y="705"/>
                  </a:lnTo>
                  <a:lnTo>
                    <a:pt x="186" y="705"/>
                  </a:lnTo>
                  <a:lnTo>
                    <a:pt x="201" y="721"/>
                  </a:lnTo>
                  <a:lnTo>
                    <a:pt x="201" y="705"/>
                  </a:lnTo>
                  <a:lnTo>
                    <a:pt x="230" y="705"/>
                  </a:lnTo>
                  <a:lnTo>
                    <a:pt x="230" y="766"/>
                  </a:lnTo>
                  <a:lnTo>
                    <a:pt x="159" y="824"/>
                  </a:lnTo>
                  <a:lnTo>
                    <a:pt x="115" y="839"/>
                  </a:lnTo>
                  <a:lnTo>
                    <a:pt x="102" y="855"/>
                  </a:lnTo>
                  <a:lnTo>
                    <a:pt x="58" y="883"/>
                  </a:lnTo>
                  <a:lnTo>
                    <a:pt x="71" y="897"/>
                  </a:lnTo>
                  <a:lnTo>
                    <a:pt x="142" y="855"/>
                  </a:lnTo>
                  <a:lnTo>
                    <a:pt x="201" y="824"/>
                  </a:lnTo>
                  <a:lnTo>
                    <a:pt x="246" y="778"/>
                  </a:lnTo>
                  <a:lnTo>
                    <a:pt x="316" y="721"/>
                  </a:lnTo>
                  <a:lnTo>
                    <a:pt x="330" y="705"/>
                  </a:lnTo>
                  <a:lnTo>
                    <a:pt x="301" y="692"/>
                  </a:lnTo>
                  <a:lnTo>
                    <a:pt x="345" y="648"/>
                  </a:lnTo>
                  <a:lnTo>
                    <a:pt x="345" y="619"/>
                  </a:lnTo>
                  <a:lnTo>
                    <a:pt x="389" y="590"/>
                  </a:lnTo>
                  <a:lnTo>
                    <a:pt x="401" y="590"/>
                  </a:lnTo>
                  <a:lnTo>
                    <a:pt x="374" y="619"/>
                  </a:lnTo>
                  <a:lnTo>
                    <a:pt x="359" y="663"/>
                  </a:lnTo>
                  <a:lnTo>
                    <a:pt x="374" y="676"/>
                  </a:lnTo>
                  <a:lnTo>
                    <a:pt x="359" y="692"/>
                  </a:lnTo>
                  <a:lnTo>
                    <a:pt x="374" y="692"/>
                  </a:lnTo>
                  <a:lnTo>
                    <a:pt x="416" y="663"/>
                  </a:lnTo>
                  <a:lnTo>
                    <a:pt x="430" y="663"/>
                  </a:lnTo>
                  <a:lnTo>
                    <a:pt x="445" y="632"/>
                  </a:lnTo>
                  <a:lnTo>
                    <a:pt x="430" y="604"/>
                  </a:lnTo>
                  <a:lnTo>
                    <a:pt x="474" y="619"/>
                  </a:lnTo>
                  <a:lnTo>
                    <a:pt x="533" y="648"/>
                  </a:lnTo>
                  <a:lnTo>
                    <a:pt x="574" y="648"/>
                  </a:lnTo>
                  <a:lnTo>
                    <a:pt x="618" y="663"/>
                  </a:lnTo>
                  <a:lnTo>
                    <a:pt x="633" y="663"/>
                  </a:lnTo>
                  <a:lnTo>
                    <a:pt x="633" y="676"/>
                  </a:lnTo>
                  <a:lnTo>
                    <a:pt x="704" y="738"/>
                  </a:lnTo>
                  <a:lnTo>
                    <a:pt x="748" y="824"/>
                  </a:lnTo>
                  <a:lnTo>
                    <a:pt x="733" y="749"/>
                  </a:lnTo>
                  <a:lnTo>
                    <a:pt x="719" y="738"/>
                  </a:lnTo>
                  <a:lnTo>
                    <a:pt x="733" y="738"/>
                  </a:lnTo>
                  <a:lnTo>
                    <a:pt x="733" y="705"/>
                  </a:lnTo>
                  <a:lnTo>
                    <a:pt x="748" y="778"/>
                  </a:lnTo>
                  <a:lnTo>
                    <a:pt x="763" y="766"/>
                  </a:lnTo>
                  <a:lnTo>
                    <a:pt x="792" y="795"/>
                  </a:lnTo>
                  <a:lnTo>
                    <a:pt x="763" y="778"/>
                  </a:lnTo>
                  <a:lnTo>
                    <a:pt x="763" y="824"/>
                  </a:lnTo>
                  <a:lnTo>
                    <a:pt x="775" y="811"/>
                  </a:lnTo>
                  <a:lnTo>
                    <a:pt x="775" y="839"/>
                  </a:lnTo>
                  <a:lnTo>
                    <a:pt x="804" y="883"/>
                  </a:lnTo>
                  <a:lnTo>
                    <a:pt x="804" y="855"/>
                  </a:lnTo>
                  <a:lnTo>
                    <a:pt x="792" y="824"/>
                  </a:lnTo>
                  <a:lnTo>
                    <a:pt x="804" y="824"/>
                  </a:lnTo>
                  <a:lnTo>
                    <a:pt x="804" y="839"/>
                  </a:lnTo>
                  <a:lnTo>
                    <a:pt x="819" y="868"/>
                  </a:lnTo>
                  <a:lnTo>
                    <a:pt x="834" y="883"/>
                  </a:lnTo>
                  <a:lnTo>
                    <a:pt x="848" y="868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61080" y="2033640"/>
              <a:ext cx="1446120" cy="1161360"/>
            </a:xfrm>
            <a:custGeom>
              <a:avLst/>
              <a:gdLst/>
              <a:ahLst/>
              <a:rect l="l" t="t" r="r" b="b"/>
              <a:pathLst>
                <a:path w="1940" h="1557">
                  <a:moveTo>
                    <a:pt x="1410" y="1484"/>
                  </a:moveTo>
                  <a:lnTo>
                    <a:pt x="1410" y="1515"/>
                  </a:lnTo>
                  <a:lnTo>
                    <a:pt x="1351" y="1529"/>
                  </a:lnTo>
                  <a:lnTo>
                    <a:pt x="1339" y="1544"/>
                  </a:lnTo>
                  <a:lnTo>
                    <a:pt x="1307" y="1557"/>
                  </a:lnTo>
                  <a:lnTo>
                    <a:pt x="1339" y="1515"/>
                  </a:lnTo>
                  <a:lnTo>
                    <a:pt x="1324" y="1515"/>
                  </a:lnTo>
                  <a:lnTo>
                    <a:pt x="1351" y="1500"/>
                  </a:lnTo>
                  <a:lnTo>
                    <a:pt x="1351" y="1442"/>
                  </a:lnTo>
                  <a:lnTo>
                    <a:pt x="1379" y="1471"/>
                  </a:lnTo>
                  <a:lnTo>
                    <a:pt x="1395" y="1456"/>
                  </a:lnTo>
                  <a:lnTo>
                    <a:pt x="1366" y="1427"/>
                  </a:lnTo>
                  <a:lnTo>
                    <a:pt x="1295" y="1410"/>
                  </a:lnTo>
                  <a:lnTo>
                    <a:pt x="1280" y="1398"/>
                  </a:lnTo>
                  <a:lnTo>
                    <a:pt x="1266" y="1352"/>
                  </a:lnTo>
                  <a:lnTo>
                    <a:pt x="1251" y="1352"/>
                  </a:lnTo>
                  <a:lnTo>
                    <a:pt x="1236" y="1324"/>
                  </a:lnTo>
                  <a:lnTo>
                    <a:pt x="1207" y="1308"/>
                  </a:lnTo>
                  <a:lnTo>
                    <a:pt x="1165" y="1352"/>
                  </a:lnTo>
                  <a:lnTo>
                    <a:pt x="1120" y="1352"/>
                  </a:lnTo>
                  <a:lnTo>
                    <a:pt x="1092" y="1324"/>
                  </a:lnTo>
                  <a:lnTo>
                    <a:pt x="1065" y="1324"/>
                  </a:lnTo>
                  <a:lnTo>
                    <a:pt x="1048" y="1295"/>
                  </a:lnTo>
                  <a:lnTo>
                    <a:pt x="1036" y="1308"/>
                  </a:lnTo>
                  <a:lnTo>
                    <a:pt x="403" y="1308"/>
                  </a:lnTo>
                  <a:lnTo>
                    <a:pt x="388" y="1295"/>
                  </a:lnTo>
                  <a:lnTo>
                    <a:pt x="303" y="1235"/>
                  </a:lnTo>
                  <a:lnTo>
                    <a:pt x="288" y="1190"/>
                  </a:lnTo>
                  <a:lnTo>
                    <a:pt x="273" y="1178"/>
                  </a:lnTo>
                  <a:lnTo>
                    <a:pt x="230" y="1132"/>
                  </a:lnTo>
                  <a:lnTo>
                    <a:pt x="244" y="1117"/>
                  </a:lnTo>
                  <a:lnTo>
                    <a:pt x="244" y="1044"/>
                  </a:lnTo>
                  <a:lnTo>
                    <a:pt x="200" y="1015"/>
                  </a:lnTo>
                  <a:lnTo>
                    <a:pt x="159" y="925"/>
                  </a:lnTo>
                  <a:lnTo>
                    <a:pt x="144" y="925"/>
                  </a:lnTo>
                  <a:lnTo>
                    <a:pt x="129" y="883"/>
                  </a:lnTo>
                  <a:lnTo>
                    <a:pt x="100" y="896"/>
                  </a:lnTo>
                  <a:lnTo>
                    <a:pt x="85" y="912"/>
                  </a:lnTo>
                  <a:lnTo>
                    <a:pt x="44" y="868"/>
                  </a:lnTo>
                  <a:lnTo>
                    <a:pt x="44" y="852"/>
                  </a:lnTo>
                  <a:lnTo>
                    <a:pt x="0" y="868"/>
                  </a:lnTo>
                  <a:lnTo>
                    <a:pt x="0" y="337"/>
                  </a:lnTo>
                  <a:lnTo>
                    <a:pt x="29" y="337"/>
                  </a:lnTo>
                  <a:lnTo>
                    <a:pt x="115" y="399"/>
                  </a:lnTo>
                  <a:lnTo>
                    <a:pt x="115" y="366"/>
                  </a:lnTo>
                  <a:lnTo>
                    <a:pt x="129" y="354"/>
                  </a:lnTo>
                  <a:lnTo>
                    <a:pt x="159" y="337"/>
                  </a:lnTo>
                  <a:lnTo>
                    <a:pt x="171" y="354"/>
                  </a:lnTo>
                  <a:lnTo>
                    <a:pt x="259" y="297"/>
                  </a:lnTo>
                  <a:lnTo>
                    <a:pt x="259" y="326"/>
                  </a:lnTo>
                  <a:lnTo>
                    <a:pt x="288" y="326"/>
                  </a:lnTo>
                  <a:lnTo>
                    <a:pt x="303" y="280"/>
                  </a:lnTo>
                  <a:lnTo>
                    <a:pt x="330" y="309"/>
                  </a:lnTo>
                  <a:lnTo>
                    <a:pt x="330" y="337"/>
                  </a:lnTo>
                  <a:lnTo>
                    <a:pt x="359" y="354"/>
                  </a:lnTo>
                  <a:lnTo>
                    <a:pt x="374" y="326"/>
                  </a:lnTo>
                  <a:lnTo>
                    <a:pt x="374" y="354"/>
                  </a:lnTo>
                  <a:lnTo>
                    <a:pt x="403" y="354"/>
                  </a:lnTo>
                  <a:lnTo>
                    <a:pt x="403" y="326"/>
                  </a:lnTo>
                  <a:lnTo>
                    <a:pt x="447" y="326"/>
                  </a:lnTo>
                  <a:lnTo>
                    <a:pt x="474" y="354"/>
                  </a:lnTo>
                  <a:lnTo>
                    <a:pt x="503" y="366"/>
                  </a:lnTo>
                  <a:lnTo>
                    <a:pt x="530" y="383"/>
                  </a:lnTo>
                  <a:lnTo>
                    <a:pt x="562" y="383"/>
                  </a:lnTo>
                  <a:lnTo>
                    <a:pt x="603" y="399"/>
                  </a:lnTo>
                  <a:lnTo>
                    <a:pt x="603" y="427"/>
                  </a:lnTo>
                  <a:lnTo>
                    <a:pt x="589" y="441"/>
                  </a:lnTo>
                  <a:lnTo>
                    <a:pt x="589" y="456"/>
                  </a:lnTo>
                  <a:lnTo>
                    <a:pt x="633" y="471"/>
                  </a:lnTo>
                  <a:lnTo>
                    <a:pt x="706" y="441"/>
                  </a:lnTo>
                  <a:lnTo>
                    <a:pt x="748" y="471"/>
                  </a:lnTo>
                  <a:lnTo>
                    <a:pt x="748" y="441"/>
                  </a:lnTo>
                  <a:lnTo>
                    <a:pt x="733" y="427"/>
                  </a:lnTo>
                  <a:lnTo>
                    <a:pt x="748" y="412"/>
                  </a:lnTo>
                  <a:lnTo>
                    <a:pt x="806" y="383"/>
                  </a:lnTo>
                  <a:lnTo>
                    <a:pt x="821" y="427"/>
                  </a:lnTo>
                  <a:lnTo>
                    <a:pt x="892" y="456"/>
                  </a:lnTo>
                  <a:lnTo>
                    <a:pt x="936" y="471"/>
                  </a:lnTo>
                  <a:lnTo>
                    <a:pt x="965" y="471"/>
                  </a:lnTo>
                  <a:lnTo>
                    <a:pt x="965" y="427"/>
                  </a:lnTo>
                  <a:lnTo>
                    <a:pt x="977" y="412"/>
                  </a:lnTo>
                  <a:lnTo>
                    <a:pt x="936" y="383"/>
                  </a:lnTo>
                  <a:lnTo>
                    <a:pt x="965" y="366"/>
                  </a:lnTo>
                  <a:lnTo>
                    <a:pt x="977" y="326"/>
                  </a:lnTo>
                  <a:lnTo>
                    <a:pt x="1007" y="366"/>
                  </a:lnTo>
                  <a:lnTo>
                    <a:pt x="1036" y="399"/>
                  </a:lnTo>
                  <a:lnTo>
                    <a:pt x="1007" y="427"/>
                  </a:lnTo>
                  <a:lnTo>
                    <a:pt x="1007" y="456"/>
                  </a:lnTo>
                  <a:lnTo>
                    <a:pt x="1021" y="471"/>
                  </a:lnTo>
                  <a:lnTo>
                    <a:pt x="1036" y="441"/>
                  </a:lnTo>
                  <a:lnTo>
                    <a:pt x="1065" y="412"/>
                  </a:lnTo>
                  <a:lnTo>
                    <a:pt x="1048" y="383"/>
                  </a:lnTo>
                  <a:lnTo>
                    <a:pt x="1065" y="354"/>
                  </a:lnTo>
                  <a:lnTo>
                    <a:pt x="1007" y="297"/>
                  </a:lnTo>
                  <a:lnTo>
                    <a:pt x="1021" y="207"/>
                  </a:lnTo>
                  <a:lnTo>
                    <a:pt x="1048" y="192"/>
                  </a:lnTo>
                  <a:lnTo>
                    <a:pt x="1048" y="117"/>
                  </a:lnTo>
                  <a:lnTo>
                    <a:pt x="1036" y="44"/>
                  </a:lnTo>
                  <a:lnTo>
                    <a:pt x="1036" y="15"/>
                  </a:lnTo>
                  <a:lnTo>
                    <a:pt x="1092" y="0"/>
                  </a:lnTo>
                  <a:lnTo>
                    <a:pt x="1136" y="15"/>
                  </a:lnTo>
                  <a:lnTo>
                    <a:pt x="1151" y="29"/>
                  </a:lnTo>
                  <a:lnTo>
                    <a:pt x="1107" y="117"/>
                  </a:lnTo>
                  <a:lnTo>
                    <a:pt x="1092" y="117"/>
                  </a:lnTo>
                  <a:lnTo>
                    <a:pt x="1065" y="134"/>
                  </a:lnTo>
                  <a:lnTo>
                    <a:pt x="1080" y="163"/>
                  </a:lnTo>
                  <a:lnTo>
                    <a:pt x="1065" y="178"/>
                  </a:lnTo>
                  <a:lnTo>
                    <a:pt x="1120" y="309"/>
                  </a:lnTo>
                  <a:lnTo>
                    <a:pt x="1107" y="337"/>
                  </a:lnTo>
                  <a:lnTo>
                    <a:pt x="1120" y="354"/>
                  </a:lnTo>
                  <a:lnTo>
                    <a:pt x="1165" y="412"/>
                  </a:lnTo>
                  <a:lnTo>
                    <a:pt x="1180" y="366"/>
                  </a:lnTo>
                  <a:lnTo>
                    <a:pt x="1207" y="399"/>
                  </a:lnTo>
                  <a:lnTo>
                    <a:pt x="1191" y="456"/>
                  </a:lnTo>
                  <a:lnTo>
                    <a:pt x="1222" y="485"/>
                  </a:lnTo>
                  <a:lnTo>
                    <a:pt x="1236" y="485"/>
                  </a:lnTo>
                  <a:lnTo>
                    <a:pt x="1236" y="456"/>
                  </a:lnTo>
                  <a:lnTo>
                    <a:pt x="1266" y="441"/>
                  </a:lnTo>
                  <a:lnTo>
                    <a:pt x="1266" y="326"/>
                  </a:lnTo>
                  <a:lnTo>
                    <a:pt x="1295" y="326"/>
                  </a:lnTo>
                  <a:lnTo>
                    <a:pt x="1324" y="337"/>
                  </a:lnTo>
                  <a:lnTo>
                    <a:pt x="1324" y="366"/>
                  </a:lnTo>
                  <a:lnTo>
                    <a:pt x="1351" y="366"/>
                  </a:lnTo>
                  <a:lnTo>
                    <a:pt x="1351" y="412"/>
                  </a:lnTo>
                  <a:lnTo>
                    <a:pt x="1324" y="427"/>
                  </a:lnTo>
                  <a:lnTo>
                    <a:pt x="1324" y="456"/>
                  </a:lnTo>
                  <a:lnTo>
                    <a:pt x="1351" y="471"/>
                  </a:lnTo>
                  <a:lnTo>
                    <a:pt x="1351" y="500"/>
                  </a:lnTo>
                  <a:lnTo>
                    <a:pt x="1295" y="557"/>
                  </a:lnTo>
                  <a:lnTo>
                    <a:pt x="1266" y="546"/>
                  </a:lnTo>
                  <a:lnTo>
                    <a:pt x="1266" y="529"/>
                  </a:lnTo>
                  <a:lnTo>
                    <a:pt x="1236" y="529"/>
                  </a:lnTo>
                  <a:lnTo>
                    <a:pt x="1251" y="557"/>
                  </a:lnTo>
                  <a:lnTo>
                    <a:pt x="1222" y="586"/>
                  </a:lnTo>
                  <a:lnTo>
                    <a:pt x="1222" y="619"/>
                  </a:lnTo>
                  <a:lnTo>
                    <a:pt x="1191" y="676"/>
                  </a:lnTo>
                  <a:lnTo>
                    <a:pt x="1165" y="676"/>
                  </a:lnTo>
                  <a:lnTo>
                    <a:pt x="1136" y="705"/>
                  </a:lnTo>
                  <a:lnTo>
                    <a:pt x="1151" y="738"/>
                  </a:lnTo>
                  <a:lnTo>
                    <a:pt x="1107" y="749"/>
                  </a:lnTo>
                  <a:lnTo>
                    <a:pt x="1107" y="778"/>
                  </a:lnTo>
                  <a:lnTo>
                    <a:pt x="1092" y="778"/>
                  </a:lnTo>
                  <a:lnTo>
                    <a:pt x="1080" y="795"/>
                  </a:lnTo>
                  <a:lnTo>
                    <a:pt x="1048" y="868"/>
                  </a:lnTo>
                  <a:lnTo>
                    <a:pt x="1048" y="912"/>
                  </a:lnTo>
                  <a:lnTo>
                    <a:pt x="1065" y="925"/>
                  </a:lnTo>
                  <a:lnTo>
                    <a:pt x="1092" y="925"/>
                  </a:lnTo>
                  <a:lnTo>
                    <a:pt x="1107" y="1015"/>
                  </a:lnTo>
                  <a:lnTo>
                    <a:pt x="1136" y="998"/>
                  </a:lnTo>
                  <a:lnTo>
                    <a:pt x="1180" y="1015"/>
                  </a:lnTo>
                  <a:lnTo>
                    <a:pt x="1207" y="1044"/>
                  </a:lnTo>
                  <a:lnTo>
                    <a:pt x="1266" y="1075"/>
                  </a:lnTo>
                  <a:lnTo>
                    <a:pt x="1324" y="1075"/>
                  </a:lnTo>
                  <a:lnTo>
                    <a:pt x="1339" y="1088"/>
                  </a:lnTo>
                  <a:lnTo>
                    <a:pt x="1339" y="1178"/>
                  </a:lnTo>
                  <a:lnTo>
                    <a:pt x="1395" y="1235"/>
                  </a:lnTo>
                  <a:lnTo>
                    <a:pt x="1424" y="1207"/>
                  </a:lnTo>
                  <a:lnTo>
                    <a:pt x="1395" y="1103"/>
                  </a:lnTo>
                  <a:lnTo>
                    <a:pt x="1424" y="1088"/>
                  </a:lnTo>
                  <a:lnTo>
                    <a:pt x="1450" y="1044"/>
                  </a:lnTo>
                  <a:lnTo>
                    <a:pt x="1439" y="958"/>
                  </a:lnTo>
                  <a:lnTo>
                    <a:pt x="1410" y="925"/>
                  </a:lnTo>
                  <a:lnTo>
                    <a:pt x="1424" y="912"/>
                  </a:lnTo>
                  <a:lnTo>
                    <a:pt x="1439" y="912"/>
                  </a:lnTo>
                  <a:lnTo>
                    <a:pt x="1439" y="852"/>
                  </a:lnTo>
                  <a:lnTo>
                    <a:pt x="1424" y="839"/>
                  </a:lnTo>
                  <a:lnTo>
                    <a:pt x="1439" y="795"/>
                  </a:lnTo>
                  <a:lnTo>
                    <a:pt x="1424" y="778"/>
                  </a:lnTo>
                  <a:lnTo>
                    <a:pt x="1424" y="766"/>
                  </a:lnTo>
                  <a:lnTo>
                    <a:pt x="1439" y="749"/>
                  </a:lnTo>
                  <a:lnTo>
                    <a:pt x="1481" y="766"/>
                  </a:lnTo>
                  <a:lnTo>
                    <a:pt x="1523" y="749"/>
                  </a:lnTo>
                  <a:lnTo>
                    <a:pt x="1581" y="795"/>
                  </a:lnTo>
                  <a:lnTo>
                    <a:pt x="1565" y="810"/>
                  </a:lnTo>
                  <a:lnTo>
                    <a:pt x="1581" y="824"/>
                  </a:lnTo>
                  <a:lnTo>
                    <a:pt x="1625" y="824"/>
                  </a:lnTo>
                  <a:lnTo>
                    <a:pt x="1625" y="912"/>
                  </a:lnTo>
                  <a:lnTo>
                    <a:pt x="1669" y="958"/>
                  </a:lnTo>
                  <a:lnTo>
                    <a:pt x="1725" y="896"/>
                  </a:lnTo>
                  <a:lnTo>
                    <a:pt x="1713" y="883"/>
                  </a:lnTo>
                  <a:lnTo>
                    <a:pt x="1725" y="852"/>
                  </a:lnTo>
                  <a:lnTo>
                    <a:pt x="1813" y="998"/>
                  </a:lnTo>
                  <a:lnTo>
                    <a:pt x="1798" y="1015"/>
                  </a:lnTo>
                  <a:lnTo>
                    <a:pt x="1798" y="1044"/>
                  </a:lnTo>
                  <a:lnTo>
                    <a:pt x="1824" y="1059"/>
                  </a:lnTo>
                  <a:lnTo>
                    <a:pt x="1824" y="1075"/>
                  </a:lnTo>
                  <a:lnTo>
                    <a:pt x="1857" y="1088"/>
                  </a:lnTo>
                  <a:lnTo>
                    <a:pt x="1869" y="1088"/>
                  </a:lnTo>
                  <a:lnTo>
                    <a:pt x="1897" y="1103"/>
                  </a:lnTo>
                  <a:lnTo>
                    <a:pt x="1869" y="1117"/>
                  </a:lnTo>
                  <a:lnTo>
                    <a:pt x="1897" y="1117"/>
                  </a:lnTo>
                  <a:lnTo>
                    <a:pt x="1897" y="1149"/>
                  </a:lnTo>
                  <a:lnTo>
                    <a:pt x="1913" y="1149"/>
                  </a:lnTo>
                  <a:lnTo>
                    <a:pt x="1928" y="1161"/>
                  </a:lnTo>
                  <a:lnTo>
                    <a:pt x="1928" y="1178"/>
                  </a:lnTo>
                  <a:lnTo>
                    <a:pt x="1940" y="1207"/>
                  </a:lnTo>
                  <a:lnTo>
                    <a:pt x="1913" y="1222"/>
                  </a:lnTo>
                  <a:lnTo>
                    <a:pt x="1869" y="1235"/>
                  </a:lnTo>
                  <a:lnTo>
                    <a:pt x="1840" y="1280"/>
                  </a:lnTo>
                  <a:lnTo>
                    <a:pt x="1798" y="1280"/>
                  </a:lnTo>
                  <a:lnTo>
                    <a:pt x="1753" y="1264"/>
                  </a:lnTo>
                  <a:lnTo>
                    <a:pt x="1682" y="1280"/>
                  </a:lnTo>
                  <a:lnTo>
                    <a:pt x="1669" y="1308"/>
                  </a:lnTo>
                  <a:lnTo>
                    <a:pt x="1654" y="1308"/>
                  </a:lnTo>
                  <a:lnTo>
                    <a:pt x="1625" y="1324"/>
                  </a:lnTo>
                  <a:lnTo>
                    <a:pt x="1581" y="1381"/>
                  </a:lnTo>
                  <a:lnTo>
                    <a:pt x="1598" y="1381"/>
                  </a:lnTo>
                  <a:lnTo>
                    <a:pt x="1638" y="1337"/>
                  </a:lnTo>
                  <a:lnTo>
                    <a:pt x="1682" y="1308"/>
                  </a:lnTo>
                  <a:lnTo>
                    <a:pt x="1740" y="1308"/>
                  </a:lnTo>
                  <a:lnTo>
                    <a:pt x="1740" y="1337"/>
                  </a:lnTo>
                  <a:lnTo>
                    <a:pt x="1713" y="1352"/>
                  </a:lnTo>
                  <a:lnTo>
                    <a:pt x="1698" y="1352"/>
                  </a:lnTo>
                  <a:lnTo>
                    <a:pt x="1713" y="1370"/>
                  </a:lnTo>
                  <a:lnTo>
                    <a:pt x="1725" y="1352"/>
                  </a:lnTo>
                  <a:lnTo>
                    <a:pt x="1725" y="1398"/>
                  </a:lnTo>
                  <a:lnTo>
                    <a:pt x="1740" y="1410"/>
                  </a:lnTo>
                  <a:lnTo>
                    <a:pt x="1769" y="1427"/>
                  </a:lnTo>
                  <a:lnTo>
                    <a:pt x="1798" y="1427"/>
                  </a:lnTo>
                  <a:lnTo>
                    <a:pt x="1798" y="1410"/>
                  </a:lnTo>
                  <a:lnTo>
                    <a:pt x="1824" y="1381"/>
                  </a:lnTo>
                  <a:lnTo>
                    <a:pt x="1824" y="1410"/>
                  </a:lnTo>
                  <a:lnTo>
                    <a:pt x="1840" y="1410"/>
                  </a:lnTo>
                  <a:lnTo>
                    <a:pt x="1824" y="1427"/>
                  </a:lnTo>
                  <a:lnTo>
                    <a:pt x="1813" y="1442"/>
                  </a:lnTo>
                  <a:lnTo>
                    <a:pt x="1740" y="1471"/>
                  </a:lnTo>
                  <a:lnTo>
                    <a:pt x="1713" y="1500"/>
                  </a:lnTo>
                  <a:lnTo>
                    <a:pt x="1698" y="1471"/>
                  </a:lnTo>
                  <a:lnTo>
                    <a:pt x="1740" y="1442"/>
                  </a:lnTo>
                  <a:lnTo>
                    <a:pt x="1725" y="1442"/>
                  </a:lnTo>
                  <a:lnTo>
                    <a:pt x="1725" y="1427"/>
                  </a:lnTo>
                  <a:lnTo>
                    <a:pt x="1698" y="1442"/>
                  </a:lnTo>
                  <a:lnTo>
                    <a:pt x="1682" y="1442"/>
                  </a:lnTo>
                  <a:lnTo>
                    <a:pt x="1669" y="1427"/>
                  </a:lnTo>
                  <a:lnTo>
                    <a:pt x="1654" y="1381"/>
                  </a:lnTo>
                  <a:lnTo>
                    <a:pt x="1654" y="1370"/>
                  </a:lnTo>
                  <a:lnTo>
                    <a:pt x="1638" y="1381"/>
                  </a:lnTo>
                  <a:lnTo>
                    <a:pt x="1625" y="1370"/>
                  </a:lnTo>
                  <a:lnTo>
                    <a:pt x="1598" y="1442"/>
                  </a:lnTo>
                  <a:lnTo>
                    <a:pt x="1565" y="1456"/>
                  </a:lnTo>
                  <a:lnTo>
                    <a:pt x="1494" y="1456"/>
                  </a:lnTo>
                  <a:lnTo>
                    <a:pt x="1466" y="1471"/>
                  </a:lnTo>
                  <a:lnTo>
                    <a:pt x="1450" y="1484"/>
                  </a:lnTo>
                  <a:lnTo>
                    <a:pt x="1410" y="1484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883880" y="3610440"/>
              <a:ext cx="11160" cy="10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3265920" y="3326760"/>
              <a:ext cx="8640" cy="8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060000" y="3084840"/>
              <a:ext cx="140760" cy="11016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060000" y="3084840"/>
              <a:ext cx="140760" cy="11016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988720" y="3009240"/>
              <a:ext cx="126360" cy="6516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988720" y="3009240"/>
              <a:ext cx="126360" cy="6516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135600" y="3164400"/>
              <a:ext cx="76320" cy="3060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135600" y="3164400"/>
              <a:ext cx="76320" cy="3060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212280" y="3130920"/>
              <a:ext cx="42120" cy="20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212280" y="3130920"/>
              <a:ext cx="42120" cy="20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265920" y="4289400"/>
              <a:ext cx="140400" cy="78768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265920" y="4289400"/>
              <a:ext cx="140400" cy="78768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297960" y="5046840"/>
              <a:ext cx="84240" cy="8424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297960" y="5046840"/>
              <a:ext cx="84240" cy="8424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382560" y="5046840"/>
              <a:ext cx="63720" cy="9828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382560" y="5046840"/>
              <a:ext cx="63720" cy="9828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308400" y="4367520"/>
              <a:ext cx="330840" cy="66744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308400" y="4367520"/>
              <a:ext cx="330840" cy="66744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512520" y="5013360"/>
              <a:ext cx="53640" cy="3312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512520" y="5013360"/>
              <a:ext cx="53640" cy="3312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308400" y="3205080"/>
              <a:ext cx="30600" cy="13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08400" y="3205080"/>
              <a:ext cx="30600" cy="13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458880" y="2987640"/>
              <a:ext cx="42120" cy="2160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458880" y="2987640"/>
              <a:ext cx="42120" cy="2160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58880" y="3062880"/>
              <a:ext cx="42120" cy="331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58880" y="3062880"/>
              <a:ext cx="42120" cy="331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46000" y="2945520"/>
              <a:ext cx="103320" cy="12888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46000" y="2945520"/>
              <a:ext cx="103320" cy="12888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569320" y="3390480"/>
              <a:ext cx="502200" cy="342720"/>
            </a:xfrm>
            <a:custGeom>
              <a:avLst/>
              <a:gdLst/>
              <a:ahLst/>
              <a:rect l="l" t="t" r="r" b="b"/>
              <a:pathLst>
                <a:path w="675" h="457">
                  <a:moveTo>
                    <a:pt x="445" y="176"/>
                  </a:moveTo>
                  <a:lnTo>
                    <a:pt x="430" y="208"/>
                  </a:lnTo>
                  <a:lnTo>
                    <a:pt x="430" y="266"/>
                  </a:lnTo>
                  <a:lnTo>
                    <a:pt x="445" y="281"/>
                  </a:lnTo>
                  <a:lnTo>
                    <a:pt x="445" y="294"/>
                  </a:lnTo>
                  <a:lnTo>
                    <a:pt x="474" y="354"/>
                  </a:lnTo>
                  <a:lnTo>
                    <a:pt x="518" y="367"/>
                  </a:lnTo>
                  <a:lnTo>
                    <a:pt x="560" y="354"/>
                  </a:lnTo>
                  <a:lnTo>
                    <a:pt x="589" y="354"/>
                  </a:lnTo>
                  <a:lnTo>
                    <a:pt x="573" y="354"/>
                  </a:lnTo>
                  <a:lnTo>
                    <a:pt x="589" y="339"/>
                  </a:lnTo>
                  <a:lnTo>
                    <a:pt x="604" y="294"/>
                  </a:lnTo>
                  <a:lnTo>
                    <a:pt x="618" y="294"/>
                  </a:lnTo>
                  <a:lnTo>
                    <a:pt x="660" y="281"/>
                  </a:lnTo>
                  <a:lnTo>
                    <a:pt x="675" y="294"/>
                  </a:lnTo>
                  <a:lnTo>
                    <a:pt x="660" y="354"/>
                  </a:lnTo>
                  <a:lnTo>
                    <a:pt x="660" y="367"/>
                  </a:lnTo>
                  <a:lnTo>
                    <a:pt x="644" y="354"/>
                  </a:lnTo>
                  <a:lnTo>
                    <a:pt x="633" y="367"/>
                  </a:lnTo>
                  <a:lnTo>
                    <a:pt x="589" y="367"/>
                  </a:lnTo>
                  <a:lnTo>
                    <a:pt x="573" y="383"/>
                  </a:lnTo>
                  <a:lnTo>
                    <a:pt x="604" y="411"/>
                  </a:lnTo>
                  <a:lnTo>
                    <a:pt x="573" y="411"/>
                  </a:lnTo>
                  <a:lnTo>
                    <a:pt x="560" y="457"/>
                  </a:lnTo>
                  <a:lnTo>
                    <a:pt x="518" y="411"/>
                  </a:lnTo>
                  <a:lnTo>
                    <a:pt x="489" y="411"/>
                  </a:lnTo>
                  <a:lnTo>
                    <a:pt x="474" y="429"/>
                  </a:lnTo>
                  <a:lnTo>
                    <a:pt x="430" y="411"/>
                  </a:lnTo>
                  <a:lnTo>
                    <a:pt x="359" y="383"/>
                  </a:lnTo>
                  <a:lnTo>
                    <a:pt x="345" y="367"/>
                  </a:lnTo>
                  <a:lnTo>
                    <a:pt x="301" y="367"/>
                  </a:lnTo>
                  <a:lnTo>
                    <a:pt x="274" y="339"/>
                  </a:lnTo>
                  <a:lnTo>
                    <a:pt x="259" y="310"/>
                  </a:lnTo>
                  <a:lnTo>
                    <a:pt x="274" y="294"/>
                  </a:lnTo>
                  <a:lnTo>
                    <a:pt x="259" y="266"/>
                  </a:lnTo>
                  <a:lnTo>
                    <a:pt x="201" y="191"/>
                  </a:lnTo>
                  <a:lnTo>
                    <a:pt x="171" y="176"/>
                  </a:lnTo>
                  <a:lnTo>
                    <a:pt x="171" y="162"/>
                  </a:lnTo>
                  <a:lnTo>
                    <a:pt x="142" y="134"/>
                  </a:lnTo>
                  <a:lnTo>
                    <a:pt x="142" y="118"/>
                  </a:lnTo>
                  <a:lnTo>
                    <a:pt x="127" y="118"/>
                  </a:lnTo>
                  <a:lnTo>
                    <a:pt x="115" y="90"/>
                  </a:lnTo>
                  <a:lnTo>
                    <a:pt x="86" y="32"/>
                  </a:lnTo>
                  <a:lnTo>
                    <a:pt x="71" y="32"/>
                  </a:lnTo>
                  <a:lnTo>
                    <a:pt x="42" y="17"/>
                  </a:lnTo>
                  <a:lnTo>
                    <a:pt x="56" y="61"/>
                  </a:lnTo>
                  <a:lnTo>
                    <a:pt x="127" y="162"/>
                  </a:lnTo>
                  <a:lnTo>
                    <a:pt x="142" y="220"/>
                  </a:lnTo>
                  <a:lnTo>
                    <a:pt x="159" y="220"/>
                  </a:lnTo>
                  <a:lnTo>
                    <a:pt x="171" y="237"/>
                  </a:lnTo>
                  <a:lnTo>
                    <a:pt x="159" y="252"/>
                  </a:lnTo>
                  <a:lnTo>
                    <a:pt x="142" y="237"/>
                  </a:lnTo>
                  <a:lnTo>
                    <a:pt x="100" y="208"/>
                  </a:lnTo>
                  <a:lnTo>
                    <a:pt x="115" y="191"/>
                  </a:lnTo>
                  <a:lnTo>
                    <a:pt x="100" y="162"/>
                  </a:lnTo>
                  <a:lnTo>
                    <a:pt x="56" y="147"/>
                  </a:lnTo>
                  <a:lnTo>
                    <a:pt x="42" y="118"/>
                  </a:lnTo>
                  <a:lnTo>
                    <a:pt x="56" y="134"/>
                  </a:lnTo>
                  <a:lnTo>
                    <a:pt x="71" y="103"/>
                  </a:lnTo>
                  <a:lnTo>
                    <a:pt x="27" y="7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127" y="32"/>
                  </a:lnTo>
                  <a:lnTo>
                    <a:pt x="242" y="17"/>
                  </a:lnTo>
                  <a:lnTo>
                    <a:pt x="274" y="46"/>
                  </a:lnTo>
                  <a:lnTo>
                    <a:pt x="274" y="74"/>
                  </a:lnTo>
                  <a:lnTo>
                    <a:pt x="301" y="90"/>
                  </a:lnTo>
                  <a:lnTo>
                    <a:pt x="316" y="90"/>
                  </a:lnTo>
                  <a:lnTo>
                    <a:pt x="330" y="74"/>
                  </a:lnTo>
                  <a:lnTo>
                    <a:pt x="345" y="74"/>
                  </a:lnTo>
                  <a:lnTo>
                    <a:pt x="401" y="162"/>
                  </a:lnTo>
                  <a:lnTo>
                    <a:pt x="445" y="176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040920" y="3655080"/>
              <a:ext cx="7560" cy="4212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040920" y="3655080"/>
              <a:ext cx="7560" cy="4212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988720" y="3665520"/>
              <a:ext cx="59760" cy="7776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988720" y="3665520"/>
              <a:ext cx="59760" cy="7776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29760" y="3710160"/>
              <a:ext cx="105840" cy="4176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029760" y="3710160"/>
              <a:ext cx="105840" cy="4176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020760" y="3733200"/>
              <a:ext cx="39240" cy="190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020760" y="3733200"/>
              <a:ext cx="39240" cy="190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071520" y="3719160"/>
              <a:ext cx="63720" cy="7920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071520" y="3719160"/>
              <a:ext cx="63720" cy="7920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093480" y="3786840"/>
              <a:ext cx="55080" cy="5364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093480" y="3786840"/>
              <a:ext cx="55080" cy="5364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148560" y="3818880"/>
              <a:ext cx="52200" cy="4320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148560" y="3818880"/>
              <a:ext cx="52200" cy="4320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201120" y="3818880"/>
              <a:ext cx="41760" cy="4320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201120" y="3818880"/>
              <a:ext cx="41760" cy="4320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90680" y="3818880"/>
              <a:ext cx="10080" cy="104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190680" y="3818880"/>
              <a:ext cx="10080" cy="104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328560" y="3634560"/>
              <a:ext cx="65160" cy="4104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328560" y="3634560"/>
              <a:ext cx="65160" cy="4104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286440" y="3634560"/>
              <a:ext cx="41760" cy="306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286440" y="3634560"/>
              <a:ext cx="41760" cy="306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212280" y="3765240"/>
              <a:ext cx="194040" cy="28512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12280" y="3765240"/>
              <a:ext cx="194040" cy="28512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179160" y="3960720"/>
              <a:ext cx="95400" cy="11124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179160" y="3960720"/>
              <a:ext cx="95400" cy="11124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167640" y="3982680"/>
              <a:ext cx="214560" cy="31716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167640" y="3982680"/>
              <a:ext cx="214560" cy="31716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371040" y="4147560"/>
              <a:ext cx="195480" cy="24012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371040" y="4147560"/>
              <a:ext cx="195480" cy="24012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491280" y="4325400"/>
              <a:ext cx="135360" cy="15048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491280" y="4325400"/>
              <a:ext cx="135360" cy="15048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553920" y="4531320"/>
              <a:ext cx="95400" cy="8676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553920" y="4531320"/>
              <a:ext cx="95400" cy="8676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297960" y="3896640"/>
              <a:ext cx="663120" cy="699480"/>
            </a:xfrm>
            <a:custGeom>
              <a:avLst/>
              <a:gdLst/>
              <a:ahLst/>
              <a:rect l="l" t="t" r="r" b="b"/>
              <a:pathLst>
                <a:path w="892" h="940">
                  <a:moveTo>
                    <a:pt x="516" y="28"/>
                  </a:moveTo>
                  <a:lnTo>
                    <a:pt x="505" y="28"/>
                  </a:lnTo>
                  <a:lnTo>
                    <a:pt x="476" y="59"/>
                  </a:lnTo>
                  <a:lnTo>
                    <a:pt x="461" y="72"/>
                  </a:lnTo>
                  <a:lnTo>
                    <a:pt x="445" y="59"/>
                  </a:lnTo>
                  <a:lnTo>
                    <a:pt x="417" y="59"/>
                  </a:lnTo>
                  <a:lnTo>
                    <a:pt x="405" y="72"/>
                  </a:lnTo>
                  <a:lnTo>
                    <a:pt x="390" y="72"/>
                  </a:lnTo>
                  <a:lnTo>
                    <a:pt x="346" y="88"/>
                  </a:lnTo>
                  <a:lnTo>
                    <a:pt x="334" y="88"/>
                  </a:lnTo>
                  <a:lnTo>
                    <a:pt x="317" y="59"/>
                  </a:lnTo>
                  <a:lnTo>
                    <a:pt x="317" y="0"/>
                  </a:lnTo>
                  <a:lnTo>
                    <a:pt x="301" y="0"/>
                  </a:lnTo>
                  <a:lnTo>
                    <a:pt x="290" y="15"/>
                  </a:lnTo>
                  <a:lnTo>
                    <a:pt x="246" y="28"/>
                  </a:lnTo>
                  <a:lnTo>
                    <a:pt x="202" y="15"/>
                  </a:lnTo>
                  <a:lnTo>
                    <a:pt x="217" y="28"/>
                  </a:lnTo>
                  <a:lnTo>
                    <a:pt x="217" y="59"/>
                  </a:lnTo>
                  <a:lnTo>
                    <a:pt x="230" y="72"/>
                  </a:lnTo>
                  <a:lnTo>
                    <a:pt x="190" y="101"/>
                  </a:lnTo>
                  <a:lnTo>
                    <a:pt x="175" y="101"/>
                  </a:lnTo>
                  <a:lnTo>
                    <a:pt x="159" y="88"/>
                  </a:lnTo>
                  <a:lnTo>
                    <a:pt x="146" y="72"/>
                  </a:lnTo>
                  <a:lnTo>
                    <a:pt x="87" y="72"/>
                  </a:lnTo>
                  <a:lnTo>
                    <a:pt x="87" y="88"/>
                  </a:lnTo>
                  <a:lnTo>
                    <a:pt x="102" y="101"/>
                  </a:lnTo>
                  <a:lnTo>
                    <a:pt x="87" y="101"/>
                  </a:lnTo>
                  <a:lnTo>
                    <a:pt x="102" y="145"/>
                  </a:lnTo>
                  <a:lnTo>
                    <a:pt x="87" y="206"/>
                  </a:lnTo>
                  <a:lnTo>
                    <a:pt x="31" y="235"/>
                  </a:lnTo>
                  <a:lnTo>
                    <a:pt x="0" y="293"/>
                  </a:lnTo>
                  <a:lnTo>
                    <a:pt x="16" y="337"/>
                  </a:lnTo>
                  <a:lnTo>
                    <a:pt x="42" y="354"/>
                  </a:lnTo>
                  <a:lnTo>
                    <a:pt x="75" y="337"/>
                  </a:lnTo>
                  <a:lnTo>
                    <a:pt x="75" y="365"/>
                  </a:lnTo>
                  <a:lnTo>
                    <a:pt x="131" y="365"/>
                  </a:lnTo>
                  <a:lnTo>
                    <a:pt x="159" y="337"/>
                  </a:lnTo>
                  <a:lnTo>
                    <a:pt x="190" y="337"/>
                  </a:lnTo>
                  <a:lnTo>
                    <a:pt x="190" y="383"/>
                  </a:lnTo>
                  <a:lnTo>
                    <a:pt x="202" y="394"/>
                  </a:lnTo>
                  <a:lnTo>
                    <a:pt x="290" y="427"/>
                  </a:lnTo>
                  <a:lnTo>
                    <a:pt x="301" y="455"/>
                  </a:lnTo>
                  <a:lnTo>
                    <a:pt x="301" y="469"/>
                  </a:lnTo>
                  <a:lnTo>
                    <a:pt x="317" y="499"/>
                  </a:lnTo>
                  <a:lnTo>
                    <a:pt x="346" y="499"/>
                  </a:lnTo>
                  <a:lnTo>
                    <a:pt x="346" y="513"/>
                  </a:lnTo>
                  <a:lnTo>
                    <a:pt x="361" y="542"/>
                  </a:lnTo>
                  <a:lnTo>
                    <a:pt x="361" y="632"/>
                  </a:lnTo>
                  <a:lnTo>
                    <a:pt x="405" y="647"/>
                  </a:lnTo>
                  <a:lnTo>
                    <a:pt x="417" y="647"/>
                  </a:lnTo>
                  <a:lnTo>
                    <a:pt x="417" y="676"/>
                  </a:lnTo>
                  <a:lnTo>
                    <a:pt x="445" y="691"/>
                  </a:lnTo>
                  <a:lnTo>
                    <a:pt x="434" y="720"/>
                  </a:lnTo>
                  <a:lnTo>
                    <a:pt x="445" y="720"/>
                  </a:lnTo>
                  <a:lnTo>
                    <a:pt x="461" y="766"/>
                  </a:lnTo>
                  <a:lnTo>
                    <a:pt x="434" y="777"/>
                  </a:lnTo>
                  <a:lnTo>
                    <a:pt x="374" y="852"/>
                  </a:lnTo>
                  <a:lnTo>
                    <a:pt x="390" y="852"/>
                  </a:lnTo>
                  <a:lnTo>
                    <a:pt x="405" y="867"/>
                  </a:lnTo>
                  <a:lnTo>
                    <a:pt x="417" y="867"/>
                  </a:lnTo>
                  <a:lnTo>
                    <a:pt x="461" y="896"/>
                  </a:lnTo>
                  <a:lnTo>
                    <a:pt x="476" y="909"/>
                  </a:lnTo>
                  <a:lnTo>
                    <a:pt x="461" y="940"/>
                  </a:lnTo>
                  <a:lnTo>
                    <a:pt x="489" y="909"/>
                  </a:lnTo>
                  <a:lnTo>
                    <a:pt x="516" y="881"/>
                  </a:lnTo>
                  <a:lnTo>
                    <a:pt x="549" y="823"/>
                  </a:lnTo>
                  <a:lnTo>
                    <a:pt x="576" y="794"/>
                  </a:lnTo>
                  <a:lnTo>
                    <a:pt x="576" y="733"/>
                  </a:lnTo>
                  <a:lnTo>
                    <a:pt x="589" y="704"/>
                  </a:lnTo>
                  <a:lnTo>
                    <a:pt x="620" y="691"/>
                  </a:lnTo>
                  <a:lnTo>
                    <a:pt x="664" y="660"/>
                  </a:lnTo>
                  <a:lnTo>
                    <a:pt x="720" y="660"/>
                  </a:lnTo>
                  <a:lnTo>
                    <a:pt x="720" y="647"/>
                  </a:lnTo>
                  <a:lnTo>
                    <a:pt x="748" y="632"/>
                  </a:lnTo>
                  <a:lnTo>
                    <a:pt x="748" y="618"/>
                  </a:lnTo>
                  <a:lnTo>
                    <a:pt x="775" y="574"/>
                  </a:lnTo>
                  <a:lnTo>
                    <a:pt x="775" y="542"/>
                  </a:lnTo>
                  <a:lnTo>
                    <a:pt x="792" y="528"/>
                  </a:lnTo>
                  <a:lnTo>
                    <a:pt x="792" y="427"/>
                  </a:lnTo>
                  <a:lnTo>
                    <a:pt x="863" y="337"/>
                  </a:lnTo>
                  <a:lnTo>
                    <a:pt x="892" y="293"/>
                  </a:lnTo>
                  <a:lnTo>
                    <a:pt x="879" y="235"/>
                  </a:lnTo>
                  <a:lnTo>
                    <a:pt x="835" y="235"/>
                  </a:lnTo>
                  <a:lnTo>
                    <a:pt x="764" y="174"/>
                  </a:lnTo>
                  <a:lnTo>
                    <a:pt x="735" y="191"/>
                  </a:lnTo>
                  <a:lnTo>
                    <a:pt x="693" y="174"/>
                  </a:lnTo>
                  <a:lnTo>
                    <a:pt x="664" y="174"/>
                  </a:lnTo>
                  <a:lnTo>
                    <a:pt x="664" y="145"/>
                  </a:lnTo>
                  <a:lnTo>
                    <a:pt x="649" y="145"/>
                  </a:lnTo>
                  <a:lnTo>
                    <a:pt x="589" y="134"/>
                  </a:lnTo>
                  <a:lnTo>
                    <a:pt x="576" y="145"/>
                  </a:lnTo>
                  <a:lnTo>
                    <a:pt x="576" y="116"/>
                  </a:lnTo>
                  <a:lnTo>
                    <a:pt x="534" y="116"/>
                  </a:lnTo>
                  <a:lnTo>
                    <a:pt x="534" y="145"/>
                  </a:lnTo>
                  <a:lnTo>
                    <a:pt x="516" y="134"/>
                  </a:lnTo>
                  <a:lnTo>
                    <a:pt x="505" y="145"/>
                  </a:lnTo>
                  <a:lnTo>
                    <a:pt x="516" y="116"/>
                  </a:lnTo>
                  <a:lnTo>
                    <a:pt x="549" y="88"/>
                  </a:lnTo>
                  <a:lnTo>
                    <a:pt x="549" y="72"/>
                  </a:lnTo>
                  <a:lnTo>
                    <a:pt x="534" y="72"/>
                  </a:lnTo>
                  <a:lnTo>
                    <a:pt x="516" y="28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26640" y="3886560"/>
              <a:ext cx="46080" cy="64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626640" y="3886560"/>
              <a:ext cx="46080" cy="64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66520" y="3886560"/>
              <a:ext cx="59760" cy="6408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66520" y="3886560"/>
              <a:ext cx="59760" cy="6408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12520" y="3840480"/>
              <a:ext cx="72720" cy="12024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512520" y="3840480"/>
              <a:ext cx="72720" cy="12024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308400" y="3774240"/>
              <a:ext cx="223560" cy="19836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308400" y="3774240"/>
              <a:ext cx="223560" cy="19836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286440" y="4774320"/>
              <a:ext cx="21600" cy="406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286440" y="4774320"/>
              <a:ext cx="21600" cy="406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222360" y="3655080"/>
              <a:ext cx="32040" cy="205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222360" y="3655080"/>
              <a:ext cx="32040" cy="205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115080" y="3569760"/>
              <a:ext cx="171000" cy="6480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115080" y="3569760"/>
              <a:ext cx="171000" cy="6480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22360" y="3534840"/>
              <a:ext cx="10080" cy="3456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22360" y="3534840"/>
              <a:ext cx="10080" cy="3456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071520" y="2449440"/>
              <a:ext cx="118800" cy="12132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071520" y="2449440"/>
              <a:ext cx="118800" cy="12132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242880" y="2353320"/>
              <a:ext cx="31680" cy="5364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242880" y="2353320"/>
              <a:ext cx="31680" cy="5364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303280" y="2864880"/>
              <a:ext cx="30600" cy="6768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03280" y="2864880"/>
              <a:ext cx="30600" cy="6768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76000" y="2964600"/>
              <a:ext cx="86760" cy="6516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76000" y="2964600"/>
              <a:ext cx="86760" cy="6516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842840" y="3589920"/>
              <a:ext cx="7560" cy="115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842840" y="3589920"/>
              <a:ext cx="7560" cy="115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872360" y="3601440"/>
              <a:ext cx="11520" cy="8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895400" y="3610440"/>
              <a:ext cx="8640" cy="111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904400" y="3621960"/>
              <a:ext cx="21600" cy="331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904400" y="3621960"/>
              <a:ext cx="21600" cy="331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2129400" y="2452680"/>
            <a:ext cx="6278400" cy="1695240"/>
            <a:chOff x="2129400" y="2452680"/>
            <a:chExt cx="6278400" cy="1695240"/>
          </a:xfrm>
        </p:grpSpPr>
        <p:sp>
          <p:nvSpPr>
            <p:cNvPr id="1599" name=""/>
            <p:cNvSpPr/>
            <p:nvPr/>
          </p:nvSpPr>
          <p:spPr>
            <a:xfrm flipH="1" flipV="1">
              <a:off x="2851560" y="2907720"/>
              <a:ext cx="3573000" cy="63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3" y="5712"/>
                  </a:moveTo>
                  <a:arcTo wR="10800" hR="10800" stAng="-9113701" swAng="86033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3" y="5712"/>
                  </a:moveTo>
                  <a:arcTo wR="10800" hR="10800" stAng="-9113701" swAng="8603301"/>
                </a:path>
              </a:pathLst>
            </a:custGeom>
            <a:noFill/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 flipV="1">
              <a:off x="4835160" y="2516760"/>
              <a:ext cx="3572640" cy="80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427" y="324"/>
                  </a:moveTo>
                  <a:arcTo wR="10800" hR="10800" stAng="-4555258" swAng="4044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427" y="324"/>
                  </a:moveTo>
                  <a:arcTo wR="10800" hR="10800" stAng="-4555258" swAng="4044857"/>
                </a:path>
              </a:pathLst>
            </a:custGeom>
            <a:noFill/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6464160" y="3261960"/>
              <a:ext cx="447840" cy="65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397560" y="3492360"/>
              <a:ext cx="128520" cy="479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6313320" y="3390840"/>
              <a:ext cx="0" cy="5270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6383880" y="2998800"/>
              <a:ext cx="649440" cy="80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86" y="3344"/>
                  </a:moveTo>
                  <a:arcTo wR="10800" hR="10800" stAng="-8180555" swAng="717046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86" y="3344"/>
                  </a:moveTo>
                  <a:arcTo wR="10800" hR="10800" stAng="-8180555" swAng="7170464"/>
                </a:path>
              </a:pathLst>
            </a:custGeom>
            <a:noFill/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098040" y="3398760"/>
              <a:ext cx="53568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499920" y="2835360"/>
              <a:ext cx="2737800" cy="105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3" y="2"/>
                  </a:moveTo>
                  <a:arcTo wR="10800" hR="10800" stAng="-5341618" swAng="48044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3" y="2"/>
                  </a:moveTo>
                  <a:arcTo wR="10800" hR="10800" stAng="-5341618" swAng="4804480"/>
                </a:path>
              </a:pathLst>
            </a:custGeom>
            <a:noFill/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36800" y="2681280"/>
              <a:ext cx="3465360" cy="12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8" y="7860"/>
                  </a:moveTo>
                  <a:arcTo wR="10800" hR="10800" stAng="-9852323" swAng="10154699"/>
                  <a:lnTo>
                    <a:pt x="10800" y="10800"/>
                  </a:lnTo>
                  <a:close/>
                </a:path>
                <a:path fill="none" w="21600" h="21600">
                  <a:moveTo>
                    <a:pt x="408" y="7860"/>
                  </a:moveTo>
                  <a:arcTo wR="10800" hR="10800" stAng="-9852323" swAng="10154699"/>
                </a:path>
              </a:pathLst>
            </a:custGeom>
            <a:noFill/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129400" y="2452680"/>
              <a:ext cx="4197960" cy="155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4" y="3284"/>
                  </a:moveTo>
                  <a:arcTo wR="10800" hR="10800" stAng="-8154154" swAng="82012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4" y="3284"/>
                  </a:moveTo>
                  <a:arcTo wR="10800" hR="10800" stAng="-8154154" swAng="8201256"/>
                </a:path>
              </a:pathLst>
            </a:custGeom>
            <a:noFill/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9" name=""/>
          <p:cNvSpPr/>
          <p:nvPr/>
        </p:nvSpPr>
        <p:spPr>
          <a:xfrm>
            <a:off x="487440" y="527364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-dependenc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reak in supply chain = stop work in factories and s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Increase in Vola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62120" y="148104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nature of risks have also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62120" y="2452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ud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62120" y="316404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ag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62120" y="387504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62120" y="45864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/>
          <p:nvPr/>
        </p:nvSpPr>
        <p:spPr>
          <a:xfrm>
            <a:off x="6858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ndament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8580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owth in Resources and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he Glob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6858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ndament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8580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owth in Resources and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85800" y="34354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he Glob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/>
          <p:nvPr/>
        </p:nvSpPr>
        <p:spPr>
          <a:xfrm>
            <a:off x="6858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ndament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8580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owth in Resources and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34354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85800" y="4205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Vola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he Glob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"/>
          <p:cNvSpPr/>
          <p:nvPr/>
        </p:nvSpPr>
        <p:spPr>
          <a:xfrm>
            <a:off x="914400" y="44845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914400" y="3019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ping with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85800" y="2011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llenges for Container Sh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914400" y="37479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x Supply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/>
          <p:nvPr/>
        </p:nvSpPr>
        <p:spPr>
          <a:xfrm>
            <a:off x="457200" y="1676520"/>
            <a:ext cx="906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1120" indent="-681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914400" y="3019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ping with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85800" y="2011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llenges for Container Sh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Increase in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57200" y="9144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orld container traffic growth has been in excess of 8% p.a. over the past 2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228600" y="1712880"/>
            <a:ext cx="9524880" cy="491652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3886200" y="35053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GR: 9.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1295280" y="2514600"/>
            <a:ext cx="78487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14776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ipp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ld and Risky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acing New R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457200" y="9144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orld containership orderbook is approximately 45% of fleet capacity as at Jul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Increase in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2" name="" descr=""/>
          <p:cNvPicPr/>
          <p:nvPr/>
        </p:nvPicPr>
        <p:blipFill>
          <a:blip r:embed="rId1"/>
          <a:stretch/>
        </p:blipFill>
        <p:spPr>
          <a:xfrm>
            <a:off x="330120" y="1774800"/>
            <a:ext cx="9244080" cy="4816440"/>
          </a:xfrm>
          <a:prstGeom prst="rect">
            <a:avLst/>
          </a:prstGeom>
          <a:ln w="0">
            <a:noFill/>
          </a:ln>
        </p:spPr>
      </p:pic>
      <p:sp>
        <p:nvSpPr>
          <p:cNvPr id="1643" name=""/>
          <p:cNvSpPr/>
          <p:nvPr/>
        </p:nvSpPr>
        <p:spPr>
          <a:xfrm>
            <a:off x="7315200" y="2286000"/>
            <a:ext cx="1657440" cy="533520"/>
          </a:xfrm>
          <a:prstGeom prst="wedgeRectCallout">
            <a:avLst>
              <a:gd name="adj1" fmla="val 35537"/>
              <a:gd name="adj2" fmla="val 80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226280" y="233676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 million TEU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~ 45% of Total Fl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6937200" y="2077920"/>
            <a:ext cx="1787760" cy="4322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5f5f5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1"/>
          <a:stretch/>
        </p:blipFill>
        <p:spPr>
          <a:xfrm>
            <a:off x="406440" y="1295280"/>
            <a:ext cx="9244080" cy="5181840"/>
          </a:xfrm>
          <a:prstGeom prst="rect">
            <a:avLst/>
          </a:prstGeom>
          <a:ln w="0">
            <a:noFill/>
          </a:ln>
        </p:spPr>
      </p:pic>
      <p:sp>
        <p:nvSpPr>
          <p:cNvPr id="1647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Supply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57200" y="9144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urrent order book is spread over the next 3 to 4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8381880" y="2511360"/>
            <a:ext cx="304560" cy="495360"/>
            <a:chOff x="8381880" y="2511360"/>
            <a:chExt cx="304560" cy="495360"/>
          </a:xfrm>
        </p:grpSpPr>
        <p:sp>
          <p:nvSpPr>
            <p:cNvPr id="1650" name=""/>
            <p:cNvSpPr/>
            <p:nvPr/>
          </p:nvSpPr>
          <p:spPr>
            <a:xfrm>
              <a:off x="8432640" y="2587680"/>
              <a:ext cx="215640" cy="419040"/>
            </a:xfrm>
            <a:custGeom>
              <a:avLst/>
              <a:gdLst/>
              <a:ahLst/>
              <a:rect l="l" t="t" r="r" b="b"/>
              <a:pathLst>
                <a:path w="384" h="408">
                  <a:moveTo>
                    <a:pt x="384" y="0"/>
                  </a:moveTo>
                  <a:lnTo>
                    <a:pt x="0" y="0"/>
                  </a:lnTo>
                  <a:lnTo>
                    <a:pt x="0" y="336"/>
                  </a:lnTo>
                  <a:lnTo>
                    <a:pt x="112" y="408"/>
                  </a:lnTo>
                  <a:lnTo>
                    <a:pt x="248" y="280"/>
                  </a:lnTo>
                  <a:lnTo>
                    <a:pt x="384" y="33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381880" y="251136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457200" y="990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jor ports around the world are working at full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4" name="Picture 12" descr=""/>
          <p:cNvPicPr/>
          <p:nvPr/>
        </p:nvPicPr>
        <p:blipFill>
          <a:blip r:embed="rId1"/>
          <a:stretch/>
        </p:blipFill>
        <p:spPr>
          <a:xfrm>
            <a:off x="1447920" y="1609560"/>
            <a:ext cx="7086600" cy="4714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Build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OVERNMENT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OVERNMENT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311560" y="2141640"/>
            <a:ext cx="6629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environmental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Build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OVERNMENT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311560" y="2141640"/>
            <a:ext cx="6629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environmental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infrastructure pri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Build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/>
          <p:cNvSpPr/>
          <p:nvPr/>
        </p:nvSpPr>
        <p:spPr>
          <a:xfrm>
            <a:off x="2311560" y="2141640"/>
            <a:ext cx="6629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L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environmental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infrastructure pri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OVERNMENT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Build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Demand:  Industry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DUSTRY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DUSTRY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311560" y="2141640"/>
            <a:ext cx="7213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UR and MANAGEMENT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Demand:  Industry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DUSTRY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311560" y="2141640"/>
            <a:ext cx="7213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UR and MANAGEMENT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R and SHIPPER 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Demand:  Industry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981080"/>
            <a:ext cx="883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he Global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nd 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Challenges for the Shipping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Fundamental Glob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DUSTRY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311560" y="2141640"/>
            <a:ext cx="7213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UR and MANAGEMENT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R and SHIPPER 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Demand:  Industry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/>
          <p:nvPr/>
        </p:nvSpPr>
        <p:spPr>
          <a:xfrm>
            <a:off x="457200" y="1676520"/>
            <a:ext cx="906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1120" indent="-681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914400" y="3019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Coping with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2011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llenges for Container Sh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914400" y="37479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x Supply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457200" y="106668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lobalised 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1143000" y="1905120"/>
            <a:ext cx="7586640" cy="4171680"/>
            <a:chOff x="1143000" y="1905120"/>
            <a:chExt cx="7586640" cy="4171680"/>
          </a:xfrm>
        </p:grpSpPr>
        <p:sp>
          <p:nvSpPr>
            <p:cNvPr id="1683" name=""/>
            <p:cNvSpPr/>
            <p:nvPr/>
          </p:nvSpPr>
          <p:spPr>
            <a:xfrm>
              <a:off x="6281640" y="3279600"/>
              <a:ext cx="1274760" cy="906480"/>
            </a:xfrm>
            <a:custGeom>
              <a:avLst/>
              <a:gdLst/>
              <a:ahLst/>
              <a:rect l="l" t="t" r="r" b="b"/>
              <a:pathLst>
                <a:path w="1377" h="983">
                  <a:moveTo>
                    <a:pt x="286" y="175"/>
                  </a:moveTo>
                  <a:lnTo>
                    <a:pt x="315" y="159"/>
                  </a:lnTo>
                  <a:lnTo>
                    <a:pt x="341" y="203"/>
                  </a:lnTo>
                  <a:lnTo>
                    <a:pt x="374" y="203"/>
                  </a:lnTo>
                  <a:lnTo>
                    <a:pt x="386" y="232"/>
                  </a:lnTo>
                  <a:lnTo>
                    <a:pt x="386" y="293"/>
                  </a:lnTo>
                  <a:lnTo>
                    <a:pt x="474" y="322"/>
                  </a:lnTo>
                  <a:lnTo>
                    <a:pt x="518" y="366"/>
                  </a:lnTo>
                  <a:lnTo>
                    <a:pt x="600" y="366"/>
                  </a:lnTo>
                  <a:lnTo>
                    <a:pt x="644" y="395"/>
                  </a:lnTo>
                  <a:lnTo>
                    <a:pt x="704" y="408"/>
                  </a:lnTo>
                  <a:lnTo>
                    <a:pt x="760" y="380"/>
                  </a:lnTo>
                  <a:lnTo>
                    <a:pt x="819" y="380"/>
                  </a:lnTo>
                  <a:lnTo>
                    <a:pt x="859" y="335"/>
                  </a:lnTo>
                  <a:lnTo>
                    <a:pt x="848" y="322"/>
                  </a:lnTo>
                  <a:lnTo>
                    <a:pt x="877" y="293"/>
                  </a:lnTo>
                  <a:lnTo>
                    <a:pt x="903" y="307"/>
                  </a:lnTo>
                  <a:lnTo>
                    <a:pt x="948" y="278"/>
                  </a:lnTo>
                  <a:lnTo>
                    <a:pt x="976" y="249"/>
                  </a:lnTo>
                  <a:lnTo>
                    <a:pt x="1034" y="249"/>
                  </a:lnTo>
                  <a:lnTo>
                    <a:pt x="1019" y="221"/>
                  </a:lnTo>
                  <a:lnTo>
                    <a:pt x="1003" y="203"/>
                  </a:lnTo>
                  <a:lnTo>
                    <a:pt x="976" y="221"/>
                  </a:lnTo>
                  <a:lnTo>
                    <a:pt x="948" y="221"/>
                  </a:lnTo>
                  <a:lnTo>
                    <a:pt x="948" y="159"/>
                  </a:lnTo>
                  <a:lnTo>
                    <a:pt x="963" y="131"/>
                  </a:lnTo>
                  <a:lnTo>
                    <a:pt x="992" y="146"/>
                  </a:lnTo>
                  <a:lnTo>
                    <a:pt x="1034" y="131"/>
                  </a:lnTo>
                  <a:lnTo>
                    <a:pt x="1047" y="73"/>
                  </a:lnTo>
                  <a:lnTo>
                    <a:pt x="1063" y="58"/>
                  </a:lnTo>
                  <a:lnTo>
                    <a:pt x="1063" y="41"/>
                  </a:lnTo>
                  <a:lnTo>
                    <a:pt x="1047" y="41"/>
                  </a:lnTo>
                  <a:lnTo>
                    <a:pt x="1063" y="12"/>
                  </a:lnTo>
                  <a:lnTo>
                    <a:pt x="1118" y="0"/>
                  </a:lnTo>
                  <a:lnTo>
                    <a:pt x="1162" y="12"/>
                  </a:lnTo>
                  <a:lnTo>
                    <a:pt x="1191" y="41"/>
                  </a:lnTo>
                  <a:lnTo>
                    <a:pt x="1222" y="146"/>
                  </a:lnTo>
                  <a:lnTo>
                    <a:pt x="1251" y="146"/>
                  </a:lnTo>
                  <a:lnTo>
                    <a:pt x="1293" y="175"/>
                  </a:lnTo>
                  <a:lnTo>
                    <a:pt x="1293" y="203"/>
                  </a:lnTo>
                  <a:lnTo>
                    <a:pt x="1322" y="203"/>
                  </a:lnTo>
                  <a:lnTo>
                    <a:pt x="1377" y="188"/>
                  </a:lnTo>
                  <a:lnTo>
                    <a:pt x="1377" y="221"/>
                  </a:lnTo>
                  <a:lnTo>
                    <a:pt x="1337" y="307"/>
                  </a:lnTo>
                  <a:lnTo>
                    <a:pt x="1322" y="293"/>
                  </a:lnTo>
                  <a:lnTo>
                    <a:pt x="1293" y="307"/>
                  </a:lnTo>
                  <a:lnTo>
                    <a:pt x="1306" y="351"/>
                  </a:lnTo>
                  <a:lnTo>
                    <a:pt x="1293" y="380"/>
                  </a:lnTo>
                  <a:lnTo>
                    <a:pt x="1277" y="380"/>
                  </a:lnTo>
                  <a:lnTo>
                    <a:pt x="1251" y="395"/>
                  </a:lnTo>
                  <a:lnTo>
                    <a:pt x="1235" y="395"/>
                  </a:lnTo>
                  <a:lnTo>
                    <a:pt x="1222" y="408"/>
                  </a:lnTo>
                  <a:lnTo>
                    <a:pt x="1207" y="408"/>
                  </a:lnTo>
                  <a:lnTo>
                    <a:pt x="1151" y="452"/>
                  </a:lnTo>
                  <a:lnTo>
                    <a:pt x="1151" y="470"/>
                  </a:lnTo>
                  <a:lnTo>
                    <a:pt x="1118" y="470"/>
                  </a:lnTo>
                  <a:lnTo>
                    <a:pt x="1078" y="498"/>
                  </a:lnTo>
                  <a:lnTo>
                    <a:pt x="1078" y="470"/>
                  </a:lnTo>
                  <a:lnTo>
                    <a:pt x="1091" y="441"/>
                  </a:lnTo>
                  <a:lnTo>
                    <a:pt x="1078" y="424"/>
                  </a:lnTo>
                  <a:lnTo>
                    <a:pt x="1034" y="470"/>
                  </a:lnTo>
                  <a:lnTo>
                    <a:pt x="1019" y="481"/>
                  </a:lnTo>
                  <a:lnTo>
                    <a:pt x="1003" y="481"/>
                  </a:lnTo>
                  <a:lnTo>
                    <a:pt x="992" y="498"/>
                  </a:lnTo>
                  <a:lnTo>
                    <a:pt x="1034" y="542"/>
                  </a:lnTo>
                  <a:lnTo>
                    <a:pt x="1063" y="527"/>
                  </a:lnTo>
                  <a:lnTo>
                    <a:pt x="1107" y="542"/>
                  </a:lnTo>
                  <a:lnTo>
                    <a:pt x="1107" y="558"/>
                  </a:lnTo>
                  <a:lnTo>
                    <a:pt x="1091" y="542"/>
                  </a:lnTo>
                  <a:lnTo>
                    <a:pt x="1063" y="558"/>
                  </a:lnTo>
                  <a:lnTo>
                    <a:pt x="1034" y="600"/>
                  </a:lnTo>
                  <a:lnTo>
                    <a:pt x="1047" y="615"/>
                  </a:lnTo>
                  <a:lnTo>
                    <a:pt x="1063" y="673"/>
                  </a:lnTo>
                  <a:lnTo>
                    <a:pt x="1091" y="690"/>
                  </a:lnTo>
                  <a:lnTo>
                    <a:pt x="1078" y="690"/>
                  </a:lnTo>
                  <a:lnTo>
                    <a:pt x="1091" y="719"/>
                  </a:lnTo>
                  <a:lnTo>
                    <a:pt x="1047" y="734"/>
                  </a:lnTo>
                  <a:lnTo>
                    <a:pt x="1091" y="734"/>
                  </a:lnTo>
                  <a:lnTo>
                    <a:pt x="1078" y="791"/>
                  </a:lnTo>
                  <a:lnTo>
                    <a:pt x="1047" y="820"/>
                  </a:lnTo>
                  <a:lnTo>
                    <a:pt x="1034" y="820"/>
                  </a:lnTo>
                  <a:lnTo>
                    <a:pt x="1034" y="849"/>
                  </a:lnTo>
                  <a:lnTo>
                    <a:pt x="1019" y="881"/>
                  </a:lnTo>
                  <a:lnTo>
                    <a:pt x="1003" y="881"/>
                  </a:lnTo>
                  <a:lnTo>
                    <a:pt x="1003" y="893"/>
                  </a:lnTo>
                  <a:lnTo>
                    <a:pt x="963" y="925"/>
                  </a:lnTo>
                  <a:lnTo>
                    <a:pt x="919" y="925"/>
                  </a:lnTo>
                  <a:lnTo>
                    <a:pt x="919" y="939"/>
                  </a:lnTo>
                  <a:lnTo>
                    <a:pt x="903" y="925"/>
                  </a:lnTo>
                  <a:lnTo>
                    <a:pt x="903" y="939"/>
                  </a:lnTo>
                  <a:lnTo>
                    <a:pt x="892" y="939"/>
                  </a:lnTo>
                  <a:lnTo>
                    <a:pt x="832" y="967"/>
                  </a:lnTo>
                  <a:lnTo>
                    <a:pt x="819" y="983"/>
                  </a:lnTo>
                  <a:lnTo>
                    <a:pt x="819" y="954"/>
                  </a:lnTo>
                  <a:lnTo>
                    <a:pt x="748" y="954"/>
                  </a:lnTo>
                  <a:lnTo>
                    <a:pt x="748" y="925"/>
                  </a:lnTo>
                  <a:lnTo>
                    <a:pt x="717" y="925"/>
                  </a:lnTo>
                  <a:lnTo>
                    <a:pt x="660" y="939"/>
                  </a:lnTo>
                  <a:lnTo>
                    <a:pt x="644" y="925"/>
                  </a:lnTo>
                  <a:lnTo>
                    <a:pt x="644" y="939"/>
                  </a:lnTo>
                  <a:lnTo>
                    <a:pt x="633" y="939"/>
                  </a:lnTo>
                  <a:lnTo>
                    <a:pt x="633" y="967"/>
                  </a:lnTo>
                  <a:lnTo>
                    <a:pt x="618" y="967"/>
                  </a:lnTo>
                  <a:lnTo>
                    <a:pt x="618" y="954"/>
                  </a:lnTo>
                  <a:lnTo>
                    <a:pt x="600" y="954"/>
                  </a:lnTo>
                  <a:lnTo>
                    <a:pt x="573" y="939"/>
                  </a:lnTo>
                  <a:lnTo>
                    <a:pt x="573" y="910"/>
                  </a:lnTo>
                  <a:lnTo>
                    <a:pt x="560" y="893"/>
                  </a:lnTo>
                  <a:lnTo>
                    <a:pt x="545" y="893"/>
                  </a:lnTo>
                  <a:lnTo>
                    <a:pt x="560" y="820"/>
                  </a:lnTo>
                  <a:lnTo>
                    <a:pt x="545" y="791"/>
                  </a:lnTo>
                  <a:lnTo>
                    <a:pt x="529" y="791"/>
                  </a:lnTo>
                  <a:lnTo>
                    <a:pt x="501" y="763"/>
                  </a:lnTo>
                  <a:lnTo>
                    <a:pt x="474" y="763"/>
                  </a:lnTo>
                  <a:lnTo>
                    <a:pt x="401" y="791"/>
                  </a:lnTo>
                  <a:lnTo>
                    <a:pt x="359" y="791"/>
                  </a:lnTo>
                  <a:lnTo>
                    <a:pt x="341" y="807"/>
                  </a:lnTo>
                  <a:lnTo>
                    <a:pt x="330" y="791"/>
                  </a:lnTo>
                  <a:lnTo>
                    <a:pt x="270" y="791"/>
                  </a:lnTo>
                  <a:lnTo>
                    <a:pt x="242" y="776"/>
                  </a:lnTo>
                  <a:lnTo>
                    <a:pt x="226" y="763"/>
                  </a:lnTo>
                  <a:lnTo>
                    <a:pt x="215" y="763"/>
                  </a:lnTo>
                  <a:lnTo>
                    <a:pt x="186" y="734"/>
                  </a:lnTo>
                  <a:lnTo>
                    <a:pt x="155" y="734"/>
                  </a:lnTo>
                  <a:lnTo>
                    <a:pt x="115" y="719"/>
                  </a:lnTo>
                  <a:lnTo>
                    <a:pt x="100" y="673"/>
                  </a:lnTo>
                  <a:lnTo>
                    <a:pt x="127" y="673"/>
                  </a:lnTo>
                  <a:lnTo>
                    <a:pt x="115" y="644"/>
                  </a:lnTo>
                  <a:lnTo>
                    <a:pt x="142" y="615"/>
                  </a:lnTo>
                  <a:lnTo>
                    <a:pt x="142" y="586"/>
                  </a:lnTo>
                  <a:lnTo>
                    <a:pt x="127" y="571"/>
                  </a:lnTo>
                  <a:lnTo>
                    <a:pt x="84" y="586"/>
                  </a:lnTo>
                  <a:lnTo>
                    <a:pt x="56" y="571"/>
                  </a:lnTo>
                  <a:lnTo>
                    <a:pt x="42" y="558"/>
                  </a:lnTo>
                  <a:lnTo>
                    <a:pt x="11" y="542"/>
                  </a:lnTo>
                  <a:lnTo>
                    <a:pt x="27" y="542"/>
                  </a:lnTo>
                  <a:lnTo>
                    <a:pt x="27" y="498"/>
                  </a:lnTo>
                  <a:lnTo>
                    <a:pt x="0" y="498"/>
                  </a:lnTo>
                  <a:lnTo>
                    <a:pt x="0" y="452"/>
                  </a:lnTo>
                  <a:lnTo>
                    <a:pt x="27" y="441"/>
                  </a:lnTo>
                  <a:lnTo>
                    <a:pt x="56" y="441"/>
                  </a:lnTo>
                  <a:lnTo>
                    <a:pt x="71" y="424"/>
                  </a:lnTo>
                  <a:lnTo>
                    <a:pt x="100" y="424"/>
                  </a:lnTo>
                  <a:lnTo>
                    <a:pt x="142" y="395"/>
                  </a:lnTo>
                  <a:lnTo>
                    <a:pt x="155" y="366"/>
                  </a:lnTo>
                  <a:lnTo>
                    <a:pt x="142" y="307"/>
                  </a:lnTo>
                  <a:lnTo>
                    <a:pt x="142" y="293"/>
                  </a:lnTo>
                  <a:lnTo>
                    <a:pt x="186" y="293"/>
                  </a:lnTo>
                  <a:lnTo>
                    <a:pt x="199" y="232"/>
                  </a:lnTo>
                  <a:lnTo>
                    <a:pt x="259" y="232"/>
                  </a:lnTo>
                  <a:lnTo>
                    <a:pt x="270" y="188"/>
                  </a:lnTo>
                  <a:lnTo>
                    <a:pt x="286" y="175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014880" y="3779640"/>
              <a:ext cx="344520" cy="34164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014880" y="3779640"/>
              <a:ext cx="344520" cy="34164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002280" y="3740040"/>
              <a:ext cx="304560" cy="24300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002280" y="3740040"/>
              <a:ext cx="304560" cy="24300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55960" y="3695760"/>
              <a:ext cx="397080" cy="38088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55960" y="3695760"/>
              <a:ext cx="397080" cy="38088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148080" y="3668760"/>
              <a:ext cx="158760" cy="12384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148080" y="3668760"/>
              <a:ext cx="158760" cy="12384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191280" y="3602160"/>
              <a:ext cx="222120" cy="10944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191280" y="3602160"/>
              <a:ext cx="222120" cy="10944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827680" y="3618000"/>
              <a:ext cx="306360" cy="20160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27680" y="3618000"/>
              <a:ext cx="306360" cy="20160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910120" y="3533760"/>
              <a:ext cx="357120" cy="24588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910120" y="3533760"/>
              <a:ext cx="357120" cy="24588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707080" y="3208320"/>
              <a:ext cx="866520" cy="46044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707080" y="3208320"/>
              <a:ext cx="866520" cy="46044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243400" y="3914640"/>
              <a:ext cx="236520" cy="24624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243400" y="3914640"/>
              <a:ext cx="236520" cy="24624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24440" y="3887640"/>
              <a:ext cx="333360" cy="32400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924440" y="3887640"/>
              <a:ext cx="333360" cy="32400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551120" y="3779640"/>
              <a:ext cx="426960" cy="43200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551120" y="3779640"/>
              <a:ext cx="426960" cy="43200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473360" y="4076640"/>
              <a:ext cx="346320" cy="33804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473360" y="4076640"/>
              <a:ext cx="346320" cy="33804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551120" y="4403520"/>
              <a:ext cx="135000" cy="13500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551120" y="4403520"/>
              <a:ext cx="135000" cy="13500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671720" y="4390920"/>
              <a:ext cx="81000" cy="13644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671720" y="4390920"/>
              <a:ext cx="81000" cy="13644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911480" y="4581360"/>
              <a:ext cx="117720" cy="13680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911480" y="4581360"/>
              <a:ext cx="117720" cy="13680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911480" y="4348080"/>
              <a:ext cx="160560" cy="24624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911480" y="4348080"/>
              <a:ext cx="160560" cy="24624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789440" y="4335480"/>
              <a:ext cx="239760" cy="20304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789440" y="4335480"/>
              <a:ext cx="239760" cy="20304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740120" y="4121280"/>
              <a:ext cx="331920" cy="25380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740120" y="4121280"/>
              <a:ext cx="331920" cy="25380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016240" y="4121280"/>
              <a:ext cx="211320" cy="35064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016240" y="4121280"/>
              <a:ext cx="211320" cy="35064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190840" y="4133880"/>
              <a:ext cx="346320" cy="41904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190840" y="4133880"/>
              <a:ext cx="346320" cy="41904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029200" y="4390920"/>
              <a:ext cx="279360" cy="17640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029200" y="4390920"/>
              <a:ext cx="279360" cy="17640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440320" y="4538520"/>
              <a:ext cx="172800" cy="19044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440320" y="4538520"/>
              <a:ext cx="172800" cy="19044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346720" y="4538520"/>
              <a:ext cx="126720" cy="12240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346720" y="4538520"/>
              <a:ext cx="126720" cy="12240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346720" y="4651200"/>
              <a:ext cx="226800" cy="22860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346720" y="4651200"/>
              <a:ext cx="226800" cy="22860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992480" y="4527360"/>
              <a:ext cx="398520" cy="39240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992480" y="4527360"/>
              <a:ext cx="398520" cy="39240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190840" y="4811760"/>
              <a:ext cx="249480" cy="20304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190840" y="4811760"/>
              <a:ext cx="249480" cy="20304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416560" y="4838760"/>
              <a:ext cx="63360" cy="16020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416560" y="4838760"/>
              <a:ext cx="63360" cy="16020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002200" y="4324320"/>
              <a:ext cx="55440" cy="3960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002200" y="4324320"/>
              <a:ext cx="55440" cy="3960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283000" y="3740040"/>
              <a:ext cx="1800" cy="111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308560" y="3483000"/>
              <a:ext cx="298440" cy="18576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308560" y="3483000"/>
              <a:ext cx="298440" cy="18576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908760" y="3195720"/>
              <a:ext cx="133200" cy="16344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908760" y="3195720"/>
              <a:ext cx="133200" cy="16344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364000" y="2949480"/>
              <a:ext cx="52560" cy="842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364000" y="2949480"/>
              <a:ext cx="52560" cy="842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457600" y="2898720"/>
              <a:ext cx="38160" cy="7776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457600" y="2898720"/>
              <a:ext cx="38160" cy="7776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084640" y="3413160"/>
              <a:ext cx="117360" cy="5220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084640" y="3413160"/>
              <a:ext cx="117360" cy="5220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297400" y="1905120"/>
              <a:ext cx="3432240" cy="1751040"/>
            </a:xfrm>
            <a:custGeom>
              <a:avLst/>
              <a:gdLst/>
              <a:ahLst/>
              <a:rect l="l" t="t" r="r" b="b"/>
              <a:pathLst>
                <a:path w="3710" h="1892">
                  <a:moveTo>
                    <a:pt x="1884" y="350"/>
                  </a:moveTo>
                  <a:lnTo>
                    <a:pt x="1869" y="364"/>
                  </a:lnTo>
                  <a:lnTo>
                    <a:pt x="1884" y="395"/>
                  </a:lnTo>
                  <a:lnTo>
                    <a:pt x="1825" y="423"/>
                  </a:lnTo>
                  <a:lnTo>
                    <a:pt x="1813" y="423"/>
                  </a:lnTo>
                  <a:lnTo>
                    <a:pt x="1825" y="379"/>
                  </a:lnTo>
                  <a:lnTo>
                    <a:pt x="1968" y="249"/>
                  </a:lnTo>
                  <a:lnTo>
                    <a:pt x="1968" y="159"/>
                  </a:lnTo>
                  <a:lnTo>
                    <a:pt x="1913" y="101"/>
                  </a:lnTo>
                  <a:lnTo>
                    <a:pt x="1842" y="101"/>
                  </a:lnTo>
                  <a:lnTo>
                    <a:pt x="1842" y="130"/>
                  </a:lnTo>
                  <a:lnTo>
                    <a:pt x="1798" y="130"/>
                  </a:lnTo>
                  <a:lnTo>
                    <a:pt x="1825" y="73"/>
                  </a:lnTo>
                  <a:lnTo>
                    <a:pt x="1754" y="57"/>
                  </a:lnTo>
                  <a:lnTo>
                    <a:pt x="1798" y="29"/>
                  </a:lnTo>
                  <a:lnTo>
                    <a:pt x="1754" y="0"/>
                  </a:lnTo>
                  <a:lnTo>
                    <a:pt x="1683" y="73"/>
                  </a:lnTo>
                  <a:lnTo>
                    <a:pt x="1683" y="130"/>
                  </a:lnTo>
                  <a:lnTo>
                    <a:pt x="1638" y="130"/>
                  </a:lnTo>
                  <a:lnTo>
                    <a:pt x="1510" y="159"/>
                  </a:lnTo>
                  <a:lnTo>
                    <a:pt x="1395" y="232"/>
                  </a:lnTo>
                  <a:lnTo>
                    <a:pt x="1351" y="293"/>
                  </a:lnTo>
                  <a:lnTo>
                    <a:pt x="1364" y="364"/>
                  </a:lnTo>
                  <a:lnTo>
                    <a:pt x="1207" y="395"/>
                  </a:lnTo>
                  <a:lnTo>
                    <a:pt x="1220" y="481"/>
                  </a:lnTo>
                  <a:lnTo>
                    <a:pt x="1264" y="527"/>
                  </a:lnTo>
                  <a:lnTo>
                    <a:pt x="1236" y="542"/>
                  </a:lnTo>
                  <a:lnTo>
                    <a:pt x="1192" y="481"/>
                  </a:lnTo>
                  <a:lnTo>
                    <a:pt x="1149" y="469"/>
                  </a:lnTo>
                  <a:lnTo>
                    <a:pt x="1136" y="481"/>
                  </a:lnTo>
                  <a:lnTo>
                    <a:pt x="1107" y="452"/>
                  </a:lnTo>
                  <a:lnTo>
                    <a:pt x="1076" y="423"/>
                  </a:lnTo>
                  <a:lnTo>
                    <a:pt x="1076" y="440"/>
                  </a:lnTo>
                  <a:lnTo>
                    <a:pt x="1092" y="481"/>
                  </a:lnTo>
                  <a:lnTo>
                    <a:pt x="1050" y="555"/>
                  </a:lnTo>
                  <a:lnTo>
                    <a:pt x="1076" y="615"/>
                  </a:lnTo>
                  <a:lnTo>
                    <a:pt x="1065" y="672"/>
                  </a:lnTo>
                  <a:lnTo>
                    <a:pt x="1065" y="718"/>
                  </a:lnTo>
                  <a:lnTo>
                    <a:pt x="1076" y="734"/>
                  </a:lnTo>
                  <a:lnTo>
                    <a:pt x="1092" y="806"/>
                  </a:lnTo>
                  <a:lnTo>
                    <a:pt x="1005" y="881"/>
                  </a:lnTo>
                  <a:lnTo>
                    <a:pt x="992" y="864"/>
                  </a:lnTo>
                  <a:lnTo>
                    <a:pt x="1050" y="791"/>
                  </a:lnTo>
                  <a:lnTo>
                    <a:pt x="1065" y="747"/>
                  </a:lnTo>
                  <a:lnTo>
                    <a:pt x="1036" y="718"/>
                  </a:lnTo>
                  <a:lnTo>
                    <a:pt x="1036" y="571"/>
                  </a:lnTo>
                  <a:lnTo>
                    <a:pt x="1021" y="542"/>
                  </a:lnTo>
                  <a:lnTo>
                    <a:pt x="1036" y="452"/>
                  </a:lnTo>
                  <a:lnTo>
                    <a:pt x="1005" y="440"/>
                  </a:lnTo>
                  <a:lnTo>
                    <a:pt x="1021" y="423"/>
                  </a:lnTo>
                  <a:lnTo>
                    <a:pt x="1005" y="395"/>
                  </a:lnTo>
                  <a:lnTo>
                    <a:pt x="977" y="408"/>
                  </a:lnTo>
                  <a:lnTo>
                    <a:pt x="906" y="599"/>
                  </a:lnTo>
                  <a:lnTo>
                    <a:pt x="906" y="672"/>
                  </a:lnTo>
                  <a:lnTo>
                    <a:pt x="948" y="734"/>
                  </a:lnTo>
                  <a:lnTo>
                    <a:pt x="948" y="762"/>
                  </a:lnTo>
                  <a:lnTo>
                    <a:pt x="906" y="734"/>
                  </a:lnTo>
                  <a:lnTo>
                    <a:pt x="733" y="615"/>
                  </a:lnTo>
                  <a:lnTo>
                    <a:pt x="718" y="644"/>
                  </a:lnTo>
                  <a:lnTo>
                    <a:pt x="777" y="718"/>
                  </a:lnTo>
                  <a:lnTo>
                    <a:pt x="747" y="734"/>
                  </a:lnTo>
                  <a:lnTo>
                    <a:pt x="733" y="718"/>
                  </a:lnTo>
                  <a:lnTo>
                    <a:pt x="647" y="747"/>
                  </a:lnTo>
                  <a:lnTo>
                    <a:pt x="631" y="776"/>
                  </a:lnTo>
                  <a:lnTo>
                    <a:pt x="618" y="747"/>
                  </a:lnTo>
                  <a:lnTo>
                    <a:pt x="618" y="718"/>
                  </a:lnTo>
                  <a:lnTo>
                    <a:pt x="474" y="806"/>
                  </a:lnTo>
                  <a:lnTo>
                    <a:pt x="474" y="835"/>
                  </a:lnTo>
                  <a:lnTo>
                    <a:pt x="443" y="848"/>
                  </a:lnTo>
                  <a:lnTo>
                    <a:pt x="403" y="820"/>
                  </a:lnTo>
                  <a:lnTo>
                    <a:pt x="443" y="791"/>
                  </a:lnTo>
                  <a:lnTo>
                    <a:pt x="432" y="747"/>
                  </a:lnTo>
                  <a:lnTo>
                    <a:pt x="372" y="734"/>
                  </a:lnTo>
                  <a:lnTo>
                    <a:pt x="388" y="762"/>
                  </a:lnTo>
                  <a:lnTo>
                    <a:pt x="388" y="835"/>
                  </a:lnTo>
                  <a:lnTo>
                    <a:pt x="403" y="864"/>
                  </a:lnTo>
                  <a:lnTo>
                    <a:pt x="388" y="892"/>
                  </a:lnTo>
                  <a:lnTo>
                    <a:pt x="344" y="881"/>
                  </a:lnTo>
                  <a:lnTo>
                    <a:pt x="288" y="921"/>
                  </a:lnTo>
                  <a:lnTo>
                    <a:pt x="315" y="982"/>
                  </a:lnTo>
                  <a:lnTo>
                    <a:pt x="229" y="954"/>
                  </a:lnTo>
                  <a:lnTo>
                    <a:pt x="215" y="967"/>
                  </a:lnTo>
                  <a:lnTo>
                    <a:pt x="244" y="1011"/>
                  </a:lnTo>
                  <a:lnTo>
                    <a:pt x="215" y="1011"/>
                  </a:lnTo>
                  <a:lnTo>
                    <a:pt x="173" y="982"/>
                  </a:lnTo>
                  <a:lnTo>
                    <a:pt x="173" y="892"/>
                  </a:lnTo>
                  <a:lnTo>
                    <a:pt x="129" y="864"/>
                  </a:lnTo>
                  <a:lnTo>
                    <a:pt x="114" y="835"/>
                  </a:lnTo>
                  <a:lnTo>
                    <a:pt x="144" y="848"/>
                  </a:lnTo>
                  <a:lnTo>
                    <a:pt x="259" y="892"/>
                  </a:lnTo>
                  <a:lnTo>
                    <a:pt x="332" y="848"/>
                  </a:lnTo>
                  <a:lnTo>
                    <a:pt x="315" y="806"/>
                  </a:lnTo>
                  <a:lnTo>
                    <a:pt x="229" y="718"/>
                  </a:lnTo>
                  <a:lnTo>
                    <a:pt x="144" y="689"/>
                  </a:lnTo>
                  <a:lnTo>
                    <a:pt x="144" y="672"/>
                  </a:lnTo>
                  <a:lnTo>
                    <a:pt x="114" y="661"/>
                  </a:lnTo>
                  <a:lnTo>
                    <a:pt x="85" y="672"/>
                  </a:lnTo>
                  <a:lnTo>
                    <a:pt x="41" y="718"/>
                  </a:lnTo>
                  <a:lnTo>
                    <a:pt x="41" y="762"/>
                  </a:lnTo>
                  <a:lnTo>
                    <a:pt x="73" y="791"/>
                  </a:lnTo>
                  <a:lnTo>
                    <a:pt x="56" y="835"/>
                  </a:lnTo>
                  <a:lnTo>
                    <a:pt x="73" y="910"/>
                  </a:lnTo>
                  <a:lnTo>
                    <a:pt x="56" y="954"/>
                  </a:lnTo>
                  <a:lnTo>
                    <a:pt x="85" y="998"/>
                  </a:lnTo>
                  <a:lnTo>
                    <a:pt x="73" y="1027"/>
                  </a:lnTo>
                  <a:lnTo>
                    <a:pt x="100" y="1055"/>
                  </a:lnTo>
                  <a:lnTo>
                    <a:pt x="100" y="1073"/>
                  </a:lnTo>
                  <a:lnTo>
                    <a:pt x="56" y="1145"/>
                  </a:lnTo>
                  <a:lnTo>
                    <a:pt x="14" y="1174"/>
                  </a:lnTo>
                  <a:lnTo>
                    <a:pt x="29" y="1174"/>
                  </a:lnTo>
                  <a:lnTo>
                    <a:pt x="56" y="1203"/>
                  </a:lnTo>
                  <a:lnTo>
                    <a:pt x="14" y="1247"/>
                  </a:lnTo>
                  <a:lnTo>
                    <a:pt x="0" y="1247"/>
                  </a:lnTo>
                  <a:lnTo>
                    <a:pt x="14" y="1293"/>
                  </a:lnTo>
                  <a:lnTo>
                    <a:pt x="14" y="1333"/>
                  </a:lnTo>
                  <a:lnTo>
                    <a:pt x="29" y="1366"/>
                  </a:lnTo>
                  <a:lnTo>
                    <a:pt x="73" y="1379"/>
                  </a:lnTo>
                  <a:lnTo>
                    <a:pt x="85" y="1394"/>
                  </a:lnTo>
                  <a:lnTo>
                    <a:pt x="85" y="1423"/>
                  </a:lnTo>
                  <a:lnTo>
                    <a:pt x="114" y="1467"/>
                  </a:lnTo>
                  <a:lnTo>
                    <a:pt x="129" y="1467"/>
                  </a:lnTo>
                  <a:lnTo>
                    <a:pt x="114" y="1496"/>
                  </a:lnTo>
                  <a:lnTo>
                    <a:pt x="100" y="1484"/>
                  </a:lnTo>
                  <a:lnTo>
                    <a:pt x="100" y="1496"/>
                  </a:lnTo>
                  <a:lnTo>
                    <a:pt x="114" y="1525"/>
                  </a:lnTo>
                  <a:lnTo>
                    <a:pt x="156" y="1525"/>
                  </a:lnTo>
                  <a:lnTo>
                    <a:pt x="173" y="1542"/>
                  </a:lnTo>
                  <a:lnTo>
                    <a:pt x="156" y="1542"/>
                  </a:lnTo>
                  <a:lnTo>
                    <a:pt x="173" y="1557"/>
                  </a:lnTo>
                  <a:lnTo>
                    <a:pt x="188" y="1557"/>
                  </a:lnTo>
                  <a:lnTo>
                    <a:pt x="200" y="1586"/>
                  </a:lnTo>
                  <a:lnTo>
                    <a:pt x="215" y="1599"/>
                  </a:lnTo>
                  <a:lnTo>
                    <a:pt x="229" y="1586"/>
                  </a:lnTo>
                  <a:lnTo>
                    <a:pt x="300" y="1630"/>
                  </a:lnTo>
                  <a:lnTo>
                    <a:pt x="288" y="1687"/>
                  </a:lnTo>
                  <a:lnTo>
                    <a:pt x="273" y="1672"/>
                  </a:lnTo>
                  <a:lnTo>
                    <a:pt x="259" y="1687"/>
                  </a:lnTo>
                  <a:lnTo>
                    <a:pt x="259" y="1716"/>
                  </a:lnTo>
                  <a:lnTo>
                    <a:pt x="273" y="1705"/>
                  </a:lnTo>
                  <a:lnTo>
                    <a:pt x="288" y="1716"/>
                  </a:lnTo>
                  <a:lnTo>
                    <a:pt x="244" y="1733"/>
                  </a:lnTo>
                  <a:lnTo>
                    <a:pt x="259" y="1745"/>
                  </a:lnTo>
                  <a:lnTo>
                    <a:pt x="229" y="1777"/>
                  </a:lnTo>
                  <a:lnTo>
                    <a:pt x="215" y="1777"/>
                  </a:lnTo>
                  <a:lnTo>
                    <a:pt x="229" y="1777"/>
                  </a:lnTo>
                  <a:lnTo>
                    <a:pt x="288" y="1835"/>
                  </a:lnTo>
                  <a:lnTo>
                    <a:pt x="359" y="1835"/>
                  </a:lnTo>
                  <a:lnTo>
                    <a:pt x="388" y="1850"/>
                  </a:lnTo>
                  <a:lnTo>
                    <a:pt x="415" y="1850"/>
                  </a:lnTo>
                  <a:lnTo>
                    <a:pt x="443" y="1879"/>
                  </a:lnTo>
                  <a:lnTo>
                    <a:pt x="459" y="1892"/>
                  </a:lnTo>
                  <a:lnTo>
                    <a:pt x="474" y="1892"/>
                  </a:lnTo>
                  <a:lnTo>
                    <a:pt x="488" y="1879"/>
                  </a:lnTo>
                  <a:lnTo>
                    <a:pt x="459" y="1850"/>
                  </a:lnTo>
                  <a:lnTo>
                    <a:pt x="459" y="1819"/>
                  </a:lnTo>
                  <a:lnTo>
                    <a:pt x="443" y="1791"/>
                  </a:lnTo>
                  <a:lnTo>
                    <a:pt x="474" y="1745"/>
                  </a:lnTo>
                  <a:lnTo>
                    <a:pt x="488" y="1762"/>
                  </a:lnTo>
                  <a:lnTo>
                    <a:pt x="503" y="1745"/>
                  </a:lnTo>
                  <a:lnTo>
                    <a:pt x="503" y="1733"/>
                  </a:lnTo>
                  <a:lnTo>
                    <a:pt x="488" y="1733"/>
                  </a:lnTo>
                  <a:lnTo>
                    <a:pt x="503" y="1716"/>
                  </a:lnTo>
                  <a:lnTo>
                    <a:pt x="488" y="1687"/>
                  </a:lnTo>
                  <a:lnTo>
                    <a:pt x="459" y="1687"/>
                  </a:lnTo>
                  <a:lnTo>
                    <a:pt x="443" y="1659"/>
                  </a:lnTo>
                  <a:lnTo>
                    <a:pt x="459" y="1586"/>
                  </a:lnTo>
                  <a:lnTo>
                    <a:pt x="488" y="1615"/>
                  </a:lnTo>
                  <a:lnTo>
                    <a:pt x="503" y="1615"/>
                  </a:lnTo>
                  <a:lnTo>
                    <a:pt x="488" y="1586"/>
                  </a:lnTo>
                  <a:lnTo>
                    <a:pt x="532" y="1542"/>
                  </a:lnTo>
                  <a:lnTo>
                    <a:pt x="559" y="1557"/>
                  </a:lnTo>
                  <a:lnTo>
                    <a:pt x="574" y="1542"/>
                  </a:lnTo>
                  <a:lnTo>
                    <a:pt x="603" y="1557"/>
                  </a:lnTo>
                  <a:lnTo>
                    <a:pt x="647" y="1586"/>
                  </a:lnTo>
                  <a:lnTo>
                    <a:pt x="674" y="1570"/>
                  </a:lnTo>
                  <a:lnTo>
                    <a:pt x="706" y="1570"/>
                  </a:lnTo>
                  <a:lnTo>
                    <a:pt x="718" y="1586"/>
                  </a:lnTo>
                  <a:lnTo>
                    <a:pt x="777" y="1586"/>
                  </a:lnTo>
                  <a:lnTo>
                    <a:pt x="791" y="1557"/>
                  </a:lnTo>
                  <a:lnTo>
                    <a:pt x="747" y="1542"/>
                  </a:lnTo>
                  <a:lnTo>
                    <a:pt x="777" y="1525"/>
                  </a:lnTo>
                  <a:lnTo>
                    <a:pt x="762" y="1513"/>
                  </a:lnTo>
                  <a:lnTo>
                    <a:pt x="777" y="1496"/>
                  </a:lnTo>
                  <a:lnTo>
                    <a:pt x="777" y="1452"/>
                  </a:lnTo>
                  <a:lnTo>
                    <a:pt x="806" y="1467"/>
                  </a:lnTo>
                  <a:lnTo>
                    <a:pt x="933" y="1423"/>
                  </a:lnTo>
                  <a:lnTo>
                    <a:pt x="933" y="1410"/>
                  </a:lnTo>
                  <a:lnTo>
                    <a:pt x="992" y="1410"/>
                  </a:lnTo>
                  <a:lnTo>
                    <a:pt x="1005" y="1438"/>
                  </a:lnTo>
                  <a:lnTo>
                    <a:pt x="1005" y="1452"/>
                  </a:lnTo>
                  <a:lnTo>
                    <a:pt x="1021" y="1452"/>
                  </a:lnTo>
                  <a:lnTo>
                    <a:pt x="1050" y="1467"/>
                  </a:lnTo>
                  <a:lnTo>
                    <a:pt x="1050" y="1484"/>
                  </a:lnTo>
                  <a:lnTo>
                    <a:pt x="1076" y="1484"/>
                  </a:lnTo>
                  <a:lnTo>
                    <a:pt x="1107" y="1452"/>
                  </a:lnTo>
                  <a:lnTo>
                    <a:pt x="1136" y="1438"/>
                  </a:lnTo>
                  <a:lnTo>
                    <a:pt x="1149" y="1484"/>
                  </a:lnTo>
                  <a:lnTo>
                    <a:pt x="1207" y="1586"/>
                  </a:lnTo>
                  <a:lnTo>
                    <a:pt x="1220" y="1557"/>
                  </a:lnTo>
                  <a:lnTo>
                    <a:pt x="1236" y="1586"/>
                  </a:lnTo>
                  <a:lnTo>
                    <a:pt x="1280" y="1570"/>
                  </a:lnTo>
                  <a:lnTo>
                    <a:pt x="1324" y="1615"/>
                  </a:lnTo>
                  <a:lnTo>
                    <a:pt x="1351" y="1630"/>
                  </a:lnTo>
                  <a:lnTo>
                    <a:pt x="1351" y="1615"/>
                  </a:lnTo>
                  <a:lnTo>
                    <a:pt x="1380" y="1643"/>
                  </a:lnTo>
                  <a:lnTo>
                    <a:pt x="1395" y="1630"/>
                  </a:lnTo>
                  <a:lnTo>
                    <a:pt x="1466" y="1586"/>
                  </a:lnTo>
                  <a:lnTo>
                    <a:pt x="1523" y="1599"/>
                  </a:lnTo>
                  <a:lnTo>
                    <a:pt x="1550" y="1615"/>
                  </a:lnTo>
                  <a:lnTo>
                    <a:pt x="1610" y="1615"/>
                  </a:lnTo>
                  <a:lnTo>
                    <a:pt x="1610" y="1557"/>
                  </a:lnTo>
                  <a:lnTo>
                    <a:pt x="1638" y="1542"/>
                  </a:lnTo>
                  <a:lnTo>
                    <a:pt x="1698" y="1557"/>
                  </a:lnTo>
                  <a:lnTo>
                    <a:pt x="1725" y="1599"/>
                  </a:lnTo>
                  <a:lnTo>
                    <a:pt x="1740" y="1599"/>
                  </a:lnTo>
                  <a:lnTo>
                    <a:pt x="1769" y="1586"/>
                  </a:lnTo>
                  <a:lnTo>
                    <a:pt x="1853" y="1630"/>
                  </a:lnTo>
                  <a:lnTo>
                    <a:pt x="1897" y="1643"/>
                  </a:lnTo>
                  <a:lnTo>
                    <a:pt x="1957" y="1630"/>
                  </a:lnTo>
                  <a:lnTo>
                    <a:pt x="1984" y="1599"/>
                  </a:lnTo>
                  <a:lnTo>
                    <a:pt x="2028" y="1615"/>
                  </a:lnTo>
                  <a:lnTo>
                    <a:pt x="2057" y="1630"/>
                  </a:lnTo>
                  <a:lnTo>
                    <a:pt x="2099" y="1615"/>
                  </a:lnTo>
                  <a:lnTo>
                    <a:pt x="2112" y="1557"/>
                  </a:lnTo>
                  <a:lnTo>
                    <a:pt x="2128" y="1542"/>
                  </a:lnTo>
                  <a:lnTo>
                    <a:pt x="2128" y="1525"/>
                  </a:lnTo>
                  <a:lnTo>
                    <a:pt x="2112" y="1525"/>
                  </a:lnTo>
                  <a:lnTo>
                    <a:pt x="2128" y="1496"/>
                  </a:lnTo>
                  <a:lnTo>
                    <a:pt x="2183" y="1484"/>
                  </a:lnTo>
                  <a:lnTo>
                    <a:pt x="2227" y="1496"/>
                  </a:lnTo>
                  <a:lnTo>
                    <a:pt x="2256" y="1525"/>
                  </a:lnTo>
                  <a:lnTo>
                    <a:pt x="2287" y="1630"/>
                  </a:lnTo>
                  <a:lnTo>
                    <a:pt x="2316" y="1630"/>
                  </a:lnTo>
                  <a:lnTo>
                    <a:pt x="2358" y="1659"/>
                  </a:lnTo>
                  <a:lnTo>
                    <a:pt x="2358" y="1687"/>
                  </a:lnTo>
                  <a:lnTo>
                    <a:pt x="2387" y="1687"/>
                  </a:lnTo>
                  <a:lnTo>
                    <a:pt x="2442" y="1672"/>
                  </a:lnTo>
                  <a:lnTo>
                    <a:pt x="2442" y="1705"/>
                  </a:lnTo>
                  <a:lnTo>
                    <a:pt x="2402" y="1791"/>
                  </a:lnTo>
                  <a:lnTo>
                    <a:pt x="2387" y="1777"/>
                  </a:lnTo>
                  <a:lnTo>
                    <a:pt x="2358" y="1791"/>
                  </a:lnTo>
                  <a:lnTo>
                    <a:pt x="2358" y="1864"/>
                  </a:lnTo>
                  <a:lnTo>
                    <a:pt x="2371" y="1835"/>
                  </a:lnTo>
                  <a:lnTo>
                    <a:pt x="2387" y="1835"/>
                  </a:lnTo>
                  <a:lnTo>
                    <a:pt x="2387" y="1850"/>
                  </a:lnTo>
                  <a:lnTo>
                    <a:pt x="2402" y="1864"/>
                  </a:lnTo>
                  <a:lnTo>
                    <a:pt x="2442" y="1835"/>
                  </a:lnTo>
                  <a:lnTo>
                    <a:pt x="2575" y="1672"/>
                  </a:lnTo>
                  <a:lnTo>
                    <a:pt x="2575" y="1570"/>
                  </a:lnTo>
                  <a:lnTo>
                    <a:pt x="2590" y="1542"/>
                  </a:lnTo>
                  <a:lnTo>
                    <a:pt x="2590" y="1496"/>
                  </a:lnTo>
                  <a:lnTo>
                    <a:pt x="2559" y="1452"/>
                  </a:lnTo>
                  <a:lnTo>
                    <a:pt x="2546" y="1452"/>
                  </a:lnTo>
                  <a:lnTo>
                    <a:pt x="2530" y="1484"/>
                  </a:lnTo>
                  <a:lnTo>
                    <a:pt x="2502" y="1484"/>
                  </a:lnTo>
                  <a:lnTo>
                    <a:pt x="2515" y="1452"/>
                  </a:lnTo>
                  <a:lnTo>
                    <a:pt x="2502" y="1452"/>
                  </a:lnTo>
                  <a:lnTo>
                    <a:pt x="2486" y="1438"/>
                  </a:lnTo>
                  <a:lnTo>
                    <a:pt x="2458" y="1438"/>
                  </a:lnTo>
                  <a:lnTo>
                    <a:pt x="2458" y="1423"/>
                  </a:lnTo>
                  <a:lnTo>
                    <a:pt x="2630" y="1247"/>
                  </a:lnTo>
                  <a:lnTo>
                    <a:pt x="2690" y="1231"/>
                  </a:lnTo>
                  <a:lnTo>
                    <a:pt x="2701" y="1247"/>
                  </a:lnTo>
                  <a:lnTo>
                    <a:pt x="2717" y="1231"/>
                  </a:lnTo>
                  <a:lnTo>
                    <a:pt x="2761" y="1247"/>
                  </a:lnTo>
                  <a:lnTo>
                    <a:pt x="2774" y="1218"/>
                  </a:lnTo>
                  <a:lnTo>
                    <a:pt x="2816" y="1231"/>
                  </a:lnTo>
                  <a:lnTo>
                    <a:pt x="2834" y="1231"/>
                  </a:lnTo>
                  <a:lnTo>
                    <a:pt x="2816" y="1247"/>
                  </a:lnTo>
                  <a:lnTo>
                    <a:pt x="2816" y="1260"/>
                  </a:lnTo>
                  <a:lnTo>
                    <a:pt x="2905" y="1247"/>
                  </a:lnTo>
                  <a:lnTo>
                    <a:pt x="2889" y="1231"/>
                  </a:lnTo>
                  <a:lnTo>
                    <a:pt x="2949" y="1130"/>
                  </a:lnTo>
                  <a:lnTo>
                    <a:pt x="3020" y="1113"/>
                  </a:lnTo>
                  <a:lnTo>
                    <a:pt x="3020" y="1174"/>
                  </a:lnTo>
                  <a:lnTo>
                    <a:pt x="3092" y="1130"/>
                  </a:lnTo>
                  <a:lnTo>
                    <a:pt x="3092" y="1084"/>
                  </a:lnTo>
                  <a:lnTo>
                    <a:pt x="3119" y="1084"/>
                  </a:lnTo>
                  <a:lnTo>
                    <a:pt x="3108" y="1101"/>
                  </a:lnTo>
                  <a:lnTo>
                    <a:pt x="3092" y="1174"/>
                  </a:lnTo>
                  <a:lnTo>
                    <a:pt x="3064" y="1187"/>
                  </a:lnTo>
                  <a:lnTo>
                    <a:pt x="2975" y="1293"/>
                  </a:lnTo>
                  <a:lnTo>
                    <a:pt x="2949" y="1304"/>
                  </a:lnTo>
                  <a:lnTo>
                    <a:pt x="2918" y="1410"/>
                  </a:lnTo>
                  <a:lnTo>
                    <a:pt x="2949" y="1586"/>
                  </a:lnTo>
                  <a:lnTo>
                    <a:pt x="2975" y="1557"/>
                  </a:lnTo>
                  <a:lnTo>
                    <a:pt x="3020" y="1496"/>
                  </a:lnTo>
                  <a:lnTo>
                    <a:pt x="3020" y="1452"/>
                  </a:lnTo>
                  <a:lnTo>
                    <a:pt x="3033" y="1452"/>
                  </a:lnTo>
                  <a:lnTo>
                    <a:pt x="3064" y="1438"/>
                  </a:lnTo>
                  <a:lnTo>
                    <a:pt x="3064" y="1394"/>
                  </a:lnTo>
                  <a:lnTo>
                    <a:pt x="3075" y="1379"/>
                  </a:lnTo>
                  <a:lnTo>
                    <a:pt x="3092" y="1379"/>
                  </a:lnTo>
                  <a:lnTo>
                    <a:pt x="3092" y="1321"/>
                  </a:lnTo>
                  <a:lnTo>
                    <a:pt x="3064" y="1293"/>
                  </a:lnTo>
                  <a:lnTo>
                    <a:pt x="3092" y="1247"/>
                  </a:lnTo>
                  <a:lnTo>
                    <a:pt x="3092" y="1218"/>
                  </a:lnTo>
                  <a:lnTo>
                    <a:pt x="3119" y="1218"/>
                  </a:lnTo>
                  <a:lnTo>
                    <a:pt x="3163" y="1187"/>
                  </a:lnTo>
                  <a:lnTo>
                    <a:pt x="3163" y="1218"/>
                  </a:lnTo>
                  <a:lnTo>
                    <a:pt x="3179" y="1203"/>
                  </a:lnTo>
                  <a:lnTo>
                    <a:pt x="3219" y="1187"/>
                  </a:lnTo>
                  <a:lnTo>
                    <a:pt x="3250" y="1218"/>
                  </a:lnTo>
                  <a:lnTo>
                    <a:pt x="3263" y="1187"/>
                  </a:lnTo>
                  <a:lnTo>
                    <a:pt x="3407" y="1084"/>
                  </a:lnTo>
                  <a:lnTo>
                    <a:pt x="3451" y="1101"/>
                  </a:lnTo>
                  <a:lnTo>
                    <a:pt x="3467" y="1084"/>
                  </a:lnTo>
                  <a:lnTo>
                    <a:pt x="3434" y="998"/>
                  </a:lnTo>
                  <a:lnTo>
                    <a:pt x="3422" y="998"/>
                  </a:lnTo>
                  <a:lnTo>
                    <a:pt x="3422" y="967"/>
                  </a:lnTo>
                  <a:lnTo>
                    <a:pt x="3434" y="967"/>
                  </a:lnTo>
                  <a:lnTo>
                    <a:pt x="3467" y="954"/>
                  </a:lnTo>
                  <a:lnTo>
                    <a:pt x="3493" y="921"/>
                  </a:lnTo>
                  <a:lnTo>
                    <a:pt x="3478" y="892"/>
                  </a:lnTo>
                  <a:lnTo>
                    <a:pt x="3493" y="881"/>
                  </a:lnTo>
                  <a:lnTo>
                    <a:pt x="3509" y="921"/>
                  </a:lnTo>
                  <a:lnTo>
                    <a:pt x="3538" y="921"/>
                  </a:lnTo>
                  <a:lnTo>
                    <a:pt x="3566" y="954"/>
                  </a:lnTo>
                  <a:lnTo>
                    <a:pt x="3637" y="998"/>
                  </a:lnTo>
                  <a:lnTo>
                    <a:pt x="3653" y="954"/>
                  </a:lnTo>
                  <a:lnTo>
                    <a:pt x="3653" y="921"/>
                  </a:lnTo>
                  <a:lnTo>
                    <a:pt x="3681" y="921"/>
                  </a:lnTo>
                  <a:lnTo>
                    <a:pt x="3710" y="892"/>
                  </a:lnTo>
                  <a:lnTo>
                    <a:pt x="3666" y="848"/>
                  </a:lnTo>
                  <a:lnTo>
                    <a:pt x="3593" y="835"/>
                  </a:lnTo>
                  <a:lnTo>
                    <a:pt x="3467" y="718"/>
                  </a:lnTo>
                  <a:lnTo>
                    <a:pt x="3378" y="661"/>
                  </a:lnTo>
                  <a:lnTo>
                    <a:pt x="3263" y="644"/>
                  </a:lnTo>
                  <a:lnTo>
                    <a:pt x="3263" y="718"/>
                  </a:lnTo>
                  <a:lnTo>
                    <a:pt x="3234" y="734"/>
                  </a:lnTo>
                  <a:lnTo>
                    <a:pt x="3208" y="701"/>
                  </a:lnTo>
                  <a:lnTo>
                    <a:pt x="3208" y="672"/>
                  </a:lnTo>
                  <a:lnTo>
                    <a:pt x="3219" y="672"/>
                  </a:lnTo>
                  <a:lnTo>
                    <a:pt x="3234" y="661"/>
                  </a:lnTo>
                  <a:lnTo>
                    <a:pt x="3208" y="661"/>
                  </a:lnTo>
                  <a:lnTo>
                    <a:pt x="3179" y="689"/>
                  </a:lnTo>
                  <a:lnTo>
                    <a:pt x="3108" y="672"/>
                  </a:lnTo>
                  <a:lnTo>
                    <a:pt x="3033" y="672"/>
                  </a:lnTo>
                  <a:lnTo>
                    <a:pt x="3004" y="661"/>
                  </a:lnTo>
                  <a:lnTo>
                    <a:pt x="3020" y="632"/>
                  </a:lnTo>
                  <a:lnTo>
                    <a:pt x="2993" y="586"/>
                  </a:lnTo>
                  <a:lnTo>
                    <a:pt x="2933" y="571"/>
                  </a:lnTo>
                  <a:lnTo>
                    <a:pt x="2845" y="599"/>
                  </a:lnTo>
                  <a:lnTo>
                    <a:pt x="2834" y="555"/>
                  </a:lnTo>
                  <a:lnTo>
                    <a:pt x="2805" y="555"/>
                  </a:lnTo>
                  <a:lnTo>
                    <a:pt x="2789" y="542"/>
                  </a:lnTo>
                  <a:lnTo>
                    <a:pt x="2789" y="498"/>
                  </a:lnTo>
                  <a:lnTo>
                    <a:pt x="2690" y="469"/>
                  </a:lnTo>
                  <a:lnTo>
                    <a:pt x="2575" y="440"/>
                  </a:lnTo>
                  <a:lnTo>
                    <a:pt x="2546" y="498"/>
                  </a:lnTo>
                  <a:lnTo>
                    <a:pt x="2575" y="542"/>
                  </a:lnTo>
                  <a:lnTo>
                    <a:pt x="2475" y="542"/>
                  </a:lnTo>
                  <a:lnTo>
                    <a:pt x="2442" y="555"/>
                  </a:lnTo>
                  <a:lnTo>
                    <a:pt x="2402" y="513"/>
                  </a:lnTo>
                  <a:lnTo>
                    <a:pt x="2371" y="599"/>
                  </a:lnTo>
                  <a:lnTo>
                    <a:pt x="2342" y="586"/>
                  </a:lnTo>
                  <a:lnTo>
                    <a:pt x="2316" y="527"/>
                  </a:lnTo>
                  <a:lnTo>
                    <a:pt x="2331" y="452"/>
                  </a:lnTo>
                  <a:lnTo>
                    <a:pt x="2300" y="408"/>
                  </a:lnTo>
                  <a:lnTo>
                    <a:pt x="2216" y="379"/>
                  </a:lnTo>
                  <a:lnTo>
                    <a:pt x="2183" y="379"/>
                  </a:lnTo>
                  <a:lnTo>
                    <a:pt x="2172" y="408"/>
                  </a:lnTo>
                  <a:lnTo>
                    <a:pt x="2183" y="440"/>
                  </a:lnTo>
                  <a:lnTo>
                    <a:pt x="2068" y="423"/>
                  </a:lnTo>
                  <a:lnTo>
                    <a:pt x="2084" y="379"/>
                  </a:lnTo>
                  <a:lnTo>
                    <a:pt x="2013" y="364"/>
                  </a:lnTo>
                  <a:lnTo>
                    <a:pt x="1968" y="395"/>
                  </a:lnTo>
                  <a:lnTo>
                    <a:pt x="1884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829040" y="2433600"/>
              <a:ext cx="561960" cy="66852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29040" y="2433600"/>
              <a:ext cx="561960" cy="66852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268600" y="3643200"/>
              <a:ext cx="401760" cy="16344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68600" y="3643200"/>
              <a:ext cx="401760" cy="16344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597360" y="4010040"/>
              <a:ext cx="66960" cy="2700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597360" y="4010040"/>
              <a:ext cx="66960" cy="2700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159240" y="3806640"/>
              <a:ext cx="612720" cy="65088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159240" y="3806640"/>
              <a:ext cx="612720" cy="65088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573600" y="3330720"/>
              <a:ext cx="665280" cy="32544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573600" y="3330720"/>
              <a:ext cx="665280" cy="32544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62400" y="2500200"/>
              <a:ext cx="228600" cy="51768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162400" y="2500200"/>
              <a:ext cx="228600" cy="51768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217840" y="3168720"/>
              <a:ext cx="198720" cy="17784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217840" y="3168720"/>
              <a:ext cx="198720" cy="17784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190840" y="3314520"/>
              <a:ext cx="382680" cy="26208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190840" y="3314520"/>
              <a:ext cx="382680" cy="26208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176800" y="3102120"/>
              <a:ext cx="147600" cy="9360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176800" y="3102120"/>
              <a:ext cx="147600" cy="9360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176800" y="3168720"/>
              <a:ext cx="120600" cy="9360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176800" y="3168720"/>
              <a:ext cx="120600" cy="9360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27560" y="3043080"/>
              <a:ext cx="96840" cy="6840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227560" y="3043080"/>
              <a:ext cx="96840" cy="6840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135400" y="3208320"/>
              <a:ext cx="66600" cy="3816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35400" y="3208320"/>
              <a:ext cx="66600" cy="3816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564160" y="3602160"/>
              <a:ext cx="142920" cy="5400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564160" y="3602160"/>
              <a:ext cx="142920" cy="5400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283000" y="3438360"/>
              <a:ext cx="81000" cy="9540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283000" y="3438360"/>
              <a:ext cx="81000" cy="9540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641920" y="3656160"/>
              <a:ext cx="65160" cy="666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641920" y="3656160"/>
              <a:ext cx="65160" cy="666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670360" y="3695760"/>
              <a:ext cx="25560" cy="270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670360" y="3695760"/>
              <a:ext cx="25560" cy="270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670360" y="3643200"/>
              <a:ext cx="119160" cy="9684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670360" y="3643200"/>
              <a:ext cx="119160" cy="9684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62240" y="2571840"/>
              <a:ext cx="265320" cy="63648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962240" y="2571840"/>
              <a:ext cx="265320" cy="63648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565520" y="3208320"/>
              <a:ext cx="54000" cy="5400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565520" y="3208320"/>
              <a:ext cx="54000" cy="5400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510080" y="3208320"/>
              <a:ext cx="96840" cy="1382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10080" y="3208320"/>
              <a:ext cx="96840" cy="1382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895640" y="3127320"/>
              <a:ext cx="66600" cy="9540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895640" y="3127320"/>
              <a:ext cx="66600" cy="9540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805280" y="3279600"/>
              <a:ext cx="79200" cy="9072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805280" y="3279600"/>
              <a:ext cx="79200" cy="9072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789440" y="3359160"/>
              <a:ext cx="71280" cy="5400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789440" y="3359160"/>
              <a:ext cx="71280" cy="5400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844880" y="3398760"/>
              <a:ext cx="15840" cy="14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844880" y="3398760"/>
              <a:ext cx="15840" cy="1440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029200" y="3222720"/>
              <a:ext cx="198360" cy="20304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029200" y="3222720"/>
              <a:ext cx="198360" cy="20304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860720" y="3222720"/>
              <a:ext cx="184320" cy="26028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860720" y="3222720"/>
              <a:ext cx="184320" cy="26028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924440" y="3425760"/>
              <a:ext cx="160200" cy="8100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24440" y="3425760"/>
              <a:ext cx="160200" cy="8100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924440" y="3483000"/>
              <a:ext cx="14040" cy="93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924440" y="3483000"/>
              <a:ext cx="14040" cy="93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924440" y="3483000"/>
              <a:ext cx="14040" cy="93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924440" y="3483000"/>
              <a:ext cx="14040" cy="93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860720" y="3483000"/>
              <a:ext cx="90720" cy="5076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860720" y="3483000"/>
              <a:ext cx="90720" cy="5076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632120" y="3359160"/>
              <a:ext cx="263520" cy="26820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632120" y="3359160"/>
              <a:ext cx="263520" cy="26820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538520" y="3587760"/>
              <a:ext cx="250920" cy="21888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538520" y="3587760"/>
              <a:ext cx="250920" cy="21888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538520" y="3643200"/>
              <a:ext cx="68400" cy="13644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538520" y="3643200"/>
              <a:ext cx="68400" cy="13644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871880" y="3492360"/>
              <a:ext cx="254160" cy="25884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71880" y="3492360"/>
              <a:ext cx="254160" cy="25884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149800" y="3451320"/>
              <a:ext cx="196920" cy="15084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149800" y="3451320"/>
              <a:ext cx="196920" cy="15084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149800" y="3656160"/>
              <a:ext cx="133200" cy="10764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49800" y="3656160"/>
              <a:ext cx="133200" cy="10764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473440" y="3779640"/>
              <a:ext cx="155520" cy="11916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473440" y="3779640"/>
              <a:ext cx="155520" cy="11916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457600" y="3873600"/>
              <a:ext cx="92160" cy="10944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457600" y="3873600"/>
              <a:ext cx="92160" cy="10944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73440" y="3846600"/>
              <a:ext cx="22320" cy="4104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473440" y="3846600"/>
              <a:ext cx="22320" cy="4104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440320" y="3887640"/>
              <a:ext cx="39600" cy="9540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440320" y="3887640"/>
              <a:ext cx="39600" cy="9540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549760" y="3763800"/>
              <a:ext cx="196920" cy="21924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549760" y="3763800"/>
              <a:ext cx="196920" cy="21924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670360" y="3968640"/>
              <a:ext cx="36720" cy="2556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670360" y="3968640"/>
              <a:ext cx="36720" cy="2556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707080" y="3968640"/>
              <a:ext cx="39600" cy="2556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707080" y="3968640"/>
              <a:ext cx="39600" cy="2556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457600" y="3898800"/>
              <a:ext cx="461880" cy="43668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457600" y="3898800"/>
              <a:ext cx="461880" cy="43668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789520" y="4064040"/>
              <a:ext cx="23760" cy="396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789520" y="4064040"/>
              <a:ext cx="23760" cy="396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789520" y="4064040"/>
              <a:ext cx="129960" cy="6984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789520" y="4064040"/>
              <a:ext cx="129960" cy="6984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910120" y="4049640"/>
              <a:ext cx="9360" cy="270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910120" y="4049640"/>
              <a:ext cx="9360" cy="270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841720" y="4092480"/>
              <a:ext cx="147600" cy="17784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841720" y="4092480"/>
              <a:ext cx="147600" cy="17784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628960" y="4253040"/>
              <a:ext cx="212760" cy="11088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628960" y="4253040"/>
              <a:ext cx="212760" cy="11088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413400" y="3954600"/>
              <a:ext cx="160200" cy="9504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413400" y="3954600"/>
              <a:ext cx="160200" cy="9504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73600" y="4049640"/>
              <a:ext cx="106560" cy="12240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573600" y="4049640"/>
              <a:ext cx="106560" cy="12240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664320" y="4010040"/>
              <a:ext cx="190440" cy="42048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664320" y="4010040"/>
              <a:ext cx="190440" cy="42048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786360" y="4186080"/>
              <a:ext cx="160560" cy="32868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786360" y="4186080"/>
              <a:ext cx="160560" cy="32868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837120" y="4145040"/>
              <a:ext cx="149400" cy="19044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837120" y="4145040"/>
              <a:ext cx="149400" cy="19044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77080" y="4133880"/>
              <a:ext cx="149040" cy="30960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77080" y="4133880"/>
              <a:ext cx="149040" cy="30960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877080" y="4324320"/>
              <a:ext cx="109440" cy="7920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877080" y="4324320"/>
              <a:ext cx="109440" cy="7920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837120" y="4484520"/>
              <a:ext cx="82800" cy="12240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837120" y="4484520"/>
              <a:ext cx="82800" cy="12240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026120" y="4484520"/>
              <a:ext cx="212760" cy="12240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026120" y="4484520"/>
              <a:ext cx="212760" cy="12240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119720" y="4527360"/>
              <a:ext cx="39600" cy="1116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119720" y="4527360"/>
              <a:ext cx="39600" cy="1116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010280" y="4538520"/>
              <a:ext cx="214200" cy="17964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010280" y="4538520"/>
              <a:ext cx="214200" cy="17964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476840" y="4633920"/>
              <a:ext cx="216000" cy="19044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476840" y="4633920"/>
              <a:ext cx="216000" cy="19044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692840" y="4687920"/>
              <a:ext cx="198360" cy="17604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692840" y="4687920"/>
              <a:ext cx="198360" cy="17604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383240" y="3740040"/>
              <a:ext cx="69840" cy="10656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83240" y="3740040"/>
              <a:ext cx="69840" cy="10656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345080" y="3627360"/>
              <a:ext cx="131760" cy="13644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345080" y="3627360"/>
              <a:ext cx="131760" cy="13644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59320" y="3819600"/>
              <a:ext cx="252360" cy="20304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459320" y="3819600"/>
              <a:ext cx="252360" cy="20304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884480" y="3779640"/>
              <a:ext cx="77760" cy="17496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886280" y="3779640"/>
              <a:ext cx="77760" cy="17640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430600" y="4240080"/>
              <a:ext cx="306360" cy="31284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430600" y="4240080"/>
              <a:ext cx="306360" cy="31284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616360" y="4363920"/>
              <a:ext cx="25560" cy="4140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616360" y="4363920"/>
              <a:ext cx="25560" cy="4140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9360" y="4375080"/>
              <a:ext cx="214560" cy="2872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589360" y="4375080"/>
              <a:ext cx="214560" cy="2872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378320" y="4025880"/>
              <a:ext cx="255600" cy="28080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378320" y="4025880"/>
              <a:ext cx="255600" cy="28080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378320" y="4010040"/>
              <a:ext cx="172800" cy="16200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378320" y="4010040"/>
              <a:ext cx="172800" cy="16200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367160" y="4270320"/>
              <a:ext cx="133200" cy="9360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367160" y="4270320"/>
              <a:ext cx="133200" cy="9360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378320" y="4336920"/>
              <a:ext cx="66600" cy="1440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378320" y="4336920"/>
              <a:ext cx="66600" cy="1440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378320" y="4363920"/>
              <a:ext cx="66600" cy="4140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378320" y="4363920"/>
              <a:ext cx="66600" cy="4140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417920" y="4363920"/>
              <a:ext cx="149040" cy="11124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417920" y="4363920"/>
              <a:ext cx="149040" cy="11124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459320" y="4417920"/>
              <a:ext cx="52200" cy="6840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59320" y="4417920"/>
              <a:ext cx="52200" cy="6840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484520" y="4443480"/>
              <a:ext cx="95400" cy="9684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484520" y="4443480"/>
              <a:ext cx="95400" cy="9684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619520" y="4306680"/>
              <a:ext cx="158760" cy="12384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619520" y="4306680"/>
              <a:ext cx="158760" cy="12384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724280" y="4390920"/>
              <a:ext cx="41400" cy="10800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724280" y="4390920"/>
              <a:ext cx="41400" cy="10800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752720" y="4363920"/>
              <a:ext cx="52560" cy="1350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752720" y="4363920"/>
              <a:ext cx="52560" cy="1350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24440" y="4581360"/>
              <a:ext cx="39600" cy="2880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924440" y="4581360"/>
              <a:ext cx="39600" cy="2880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964040" y="4552920"/>
              <a:ext cx="162000" cy="19368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964040" y="4552920"/>
              <a:ext cx="162000" cy="19368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335560" y="4651200"/>
              <a:ext cx="39600" cy="367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335560" y="4651200"/>
              <a:ext cx="39600" cy="367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349600" y="4687920"/>
              <a:ext cx="25560" cy="4284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349600" y="4687920"/>
              <a:ext cx="25560" cy="4284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978080" y="5002200"/>
              <a:ext cx="279720" cy="27000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978080" y="5002200"/>
              <a:ext cx="279720" cy="27000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978080" y="4755960"/>
              <a:ext cx="265320" cy="27180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978080" y="4755960"/>
              <a:ext cx="265320" cy="27180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992480" y="4730760"/>
              <a:ext cx="9720" cy="252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992480" y="4730760"/>
              <a:ext cx="9720" cy="252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2040" y="5111640"/>
              <a:ext cx="345960" cy="31140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072040" y="5111640"/>
              <a:ext cx="345960" cy="31140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151240" y="5014800"/>
              <a:ext cx="198360" cy="20340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151240" y="5014800"/>
              <a:ext cx="198360" cy="20340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257800" y="4975200"/>
              <a:ext cx="172800" cy="15084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257800" y="4975200"/>
              <a:ext cx="172800" cy="15084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64000" y="4854600"/>
              <a:ext cx="225360" cy="36360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364000" y="4854600"/>
              <a:ext cx="225360" cy="36360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375160" y="5207040"/>
              <a:ext cx="27000" cy="2844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375160" y="5207040"/>
              <a:ext cx="27000" cy="2844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221000" y="2705040"/>
              <a:ext cx="223920" cy="16020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221000" y="2705040"/>
              <a:ext cx="223920" cy="16020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641920" y="4890960"/>
              <a:ext cx="147600" cy="30348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641920" y="4890960"/>
              <a:ext cx="147600" cy="30348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71960" y="4594320"/>
              <a:ext cx="14400" cy="270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771960" y="4594320"/>
              <a:ext cx="14400" cy="270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00760" y="4651200"/>
              <a:ext cx="12600" cy="2700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800760" y="4651200"/>
              <a:ext cx="12600" cy="2700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99000" y="4417920"/>
              <a:ext cx="55800" cy="8100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99000" y="4417920"/>
              <a:ext cx="55800" cy="8100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10280" y="4201920"/>
              <a:ext cx="55440" cy="3816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10280" y="4201920"/>
              <a:ext cx="55440" cy="3816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253280" y="4078080"/>
              <a:ext cx="39600" cy="6840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253280" y="4078080"/>
              <a:ext cx="39600" cy="6840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454880" y="3863880"/>
              <a:ext cx="50760" cy="7956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454880" y="3863880"/>
              <a:ext cx="50760" cy="7956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505640" y="3863880"/>
              <a:ext cx="50760" cy="2556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505640" y="3863880"/>
              <a:ext cx="50760" cy="2556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476840" y="3656160"/>
              <a:ext cx="227160" cy="21744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476840" y="3656160"/>
              <a:ext cx="227160" cy="21744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664400" y="3533760"/>
              <a:ext cx="129960" cy="12240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664400" y="3533760"/>
              <a:ext cx="129960" cy="12240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983360" y="3371760"/>
              <a:ext cx="27000" cy="27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983360" y="3371760"/>
              <a:ext cx="27000" cy="27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157960" y="3058920"/>
              <a:ext cx="23760" cy="25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157960" y="3058920"/>
              <a:ext cx="23760" cy="25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704000" y="3246480"/>
              <a:ext cx="55440" cy="28728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704000" y="3246480"/>
              <a:ext cx="55440" cy="28728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814720" y="1973160"/>
              <a:ext cx="358920" cy="50004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814720" y="1973160"/>
              <a:ext cx="358920" cy="50004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748120" y="2527200"/>
              <a:ext cx="41400" cy="5724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48120" y="2527200"/>
              <a:ext cx="41400" cy="5724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579920" y="3084480"/>
              <a:ext cx="27000" cy="428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579920" y="3084480"/>
              <a:ext cx="27000" cy="428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938480" y="3195720"/>
              <a:ext cx="14400" cy="270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938480" y="3195720"/>
              <a:ext cx="14400" cy="270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964040" y="3179880"/>
              <a:ext cx="28440" cy="284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964040" y="3179880"/>
              <a:ext cx="28440" cy="284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964040" y="3222720"/>
              <a:ext cx="28440" cy="1404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964040" y="3222720"/>
              <a:ext cx="28440" cy="1404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591080" y="3084480"/>
              <a:ext cx="174600" cy="31428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591080" y="3084480"/>
              <a:ext cx="174600" cy="31428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911480" y="3618000"/>
              <a:ext cx="12960" cy="5076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911480" y="3618000"/>
              <a:ext cx="12960" cy="5076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898880" y="3668760"/>
              <a:ext cx="39600" cy="712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898880" y="3668760"/>
              <a:ext cx="39600" cy="712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992480" y="3753000"/>
              <a:ext cx="65160" cy="3960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992480" y="3753000"/>
              <a:ext cx="65160" cy="3960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176800" y="3753000"/>
              <a:ext cx="42840" cy="39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176800" y="3753000"/>
              <a:ext cx="42840" cy="39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402160" y="3821040"/>
              <a:ext cx="55440" cy="2556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02160" y="3821040"/>
              <a:ext cx="55440" cy="2556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778280" y="3697200"/>
              <a:ext cx="27000" cy="255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778280" y="3697200"/>
              <a:ext cx="27000" cy="255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107120" y="4865760"/>
              <a:ext cx="849240" cy="677880"/>
            </a:xfrm>
            <a:custGeom>
              <a:avLst/>
              <a:gdLst/>
              <a:ahLst/>
              <a:rect l="l" t="t" r="r" b="b"/>
              <a:pathLst>
                <a:path w="919" h="736">
                  <a:moveTo>
                    <a:pt x="40" y="588"/>
                  </a:moveTo>
                  <a:lnTo>
                    <a:pt x="84" y="621"/>
                  </a:lnTo>
                  <a:lnTo>
                    <a:pt x="111" y="621"/>
                  </a:lnTo>
                  <a:lnTo>
                    <a:pt x="155" y="575"/>
                  </a:lnTo>
                  <a:lnTo>
                    <a:pt x="226" y="575"/>
                  </a:lnTo>
                  <a:lnTo>
                    <a:pt x="244" y="560"/>
                  </a:lnTo>
                  <a:lnTo>
                    <a:pt x="299" y="531"/>
                  </a:lnTo>
                  <a:lnTo>
                    <a:pt x="414" y="516"/>
                  </a:lnTo>
                  <a:lnTo>
                    <a:pt x="474" y="544"/>
                  </a:lnTo>
                  <a:lnTo>
                    <a:pt x="474" y="560"/>
                  </a:lnTo>
                  <a:lnTo>
                    <a:pt x="485" y="560"/>
                  </a:lnTo>
                  <a:lnTo>
                    <a:pt x="518" y="621"/>
                  </a:lnTo>
                  <a:lnTo>
                    <a:pt x="558" y="544"/>
                  </a:lnTo>
                  <a:lnTo>
                    <a:pt x="558" y="575"/>
                  </a:lnTo>
                  <a:lnTo>
                    <a:pt x="545" y="621"/>
                  </a:lnTo>
                  <a:lnTo>
                    <a:pt x="558" y="621"/>
                  </a:lnTo>
                  <a:lnTo>
                    <a:pt x="558" y="588"/>
                  </a:lnTo>
                  <a:lnTo>
                    <a:pt x="573" y="621"/>
                  </a:lnTo>
                  <a:lnTo>
                    <a:pt x="558" y="632"/>
                  </a:lnTo>
                  <a:lnTo>
                    <a:pt x="589" y="632"/>
                  </a:lnTo>
                  <a:lnTo>
                    <a:pt x="602" y="661"/>
                  </a:lnTo>
                  <a:lnTo>
                    <a:pt x="602" y="678"/>
                  </a:lnTo>
                  <a:lnTo>
                    <a:pt x="618" y="694"/>
                  </a:lnTo>
                  <a:lnTo>
                    <a:pt x="644" y="707"/>
                  </a:lnTo>
                  <a:lnTo>
                    <a:pt x="673" y="707"/>
                  </a:lnTo>
                  <a:lnTo>
                    <a:pt x="689" y="722"/>
                  </a:lnTo>
                  <a:lnTo>
                    <a:pt x="717" y="694"/>
                  </a:lnTo>
                  <a:lnTo>
                    <a:pt x="717" y="707"/>
                  </a:lnTo>
                  <a:lnTo>
                    <a:pt x="733" y="707"/>
                  </a:lnTo>
                  <a:lnTo>
                    <a:pt x="733" y="722"/>
                  </a:lnTo>
                  <a:lnTo>
                    <a:pt x="760" y="736"/>
                  </a:lnTo>
                  <a:lnTo>
                    <a:pt x="788" y="694"/>
                  </a:lnTo>
                  <a:lnTo>
                    <a:pt x="832" y="694"/>
                  </a:lnTo>
                  <a:lnTo>
                    <a:pt x="848" y="632"/>
                  </a:lnTo>
                  <a:lnTo>
                    <a:pt x="903" y="502"/>
                  </a:lnTo>
                  <a:lnTo>
                    <a:pt x="919" y="441"/>
                  </a:lnTo>
                  <a:lnTo>
                    <a:pt x="903" y="368"/>
                  </a:lnTo>
                  <a:lnTo>
                    <a:pt x="877" y="326"/>
                  </a:lnTo>
                  <a:lnTo>
                    <a:pt x="859" y="311"/>
                  </a:lnTo>
                  <a:lnTo>
                    <a:pt x="848" y="282"/>
                  </a:lnTo>
                  <a:lnTo>
                    <a:pt x="832" y="267"/>
                  </a:lnTo>
                  <a:lnTo>
                    <a:pt x="832" y="282"/>
                  </a:lnTo>
                  <a:lnTo>
                    <a:pt x="804" y="238"/>
                  </a:lnTo>
                  <a:lnTo>
                    <a:pt x="760" y="192"/>
                  </a:lnTo>
                  <a:lnTo>
                    <a:pt x="744" y="148"/>
                  </a:lnTo>
                  <a:lnTo>
                    <a:pt x="733" y="134"/>
                  </a:lnTo>
                  <a:lnTo>
                    <a:pt x="733" y="104"/>
                  </a:lnTo>
                  <a:lnTo>
                    <a:pt x="717" y="90"/>
                  </a:lnTo>
                  <a:lnTo>
                    <a:pt x="689" y="90"/>
                  </a:lnTo>
                  <a:lnTo>
                    <a:pt x="673" y="0"/>
                  </a:lnTo>
                  <a:lnTo>
                    <a:pt x="660" y="0"/>
                  </a:lnTo>
                  <a:lnTo>
                    <a:pt x="644" y="29"/>
                  </a:lnTo>
                  <a:lnTo>
                    <a:pt x="644" y="104"/>
                  </a:lnTo>
                  <a:lnTo>
                    <a:pt x="633" y="163"/>
                  </a:lnTo>
                  <a:lnTo>
                    <a:pt x="602" y="163"/>
                  </a:lnTo>
                  <a:lnTo>
                    <a:pt x="545" y="119"/>
                  </a:lnTo>
                  <a:lnTo>
                    <a:pt x="529" y="119"/>
                  </a:lnTo>
                  <a:lnTo>
                    <a:pt x="529" y="104"/>
                  </a:lnTo>
                  <a:lnTo>
                    <a:pt x="501" y="104"/>
                  </a:lnTo>
                  <a:lnTo>
                    <a:pt x="518" y="62"/>
                  </a:lnTo>
                  <a:lnTo>
                    <a:pt x="529" y="62"/>
                  </a:lnTo>
                  <a:lnTo>
                    <a:pt x="545" y="29"/>
                  </a:lnTo>
                  <a:lnTo>
                    <a:pt x="529" y="29"/>
                  </a:lnTo>
                  <a:lnTo>
                    <a:pt x="518" y="46"/>
                  </a:lnTo>
                  <a:lnTo>
                    <a:pt x="518" y="29"/>
                  </a:lnTo>
                  <a:lnTo>
                    <a:pt x="501" y="29"/>
                  </a:lnTo>
                  <a:lnTo>
                    <a:pt x="430" y="18"/>
                  </a:lnTo>
                  <a:lnTo>
                    <a:pt x="445" y="29"/>
                  </a:lnTo>
                  <a:lnTo>
                    <a:pt x="401" y="29"/>
                  </a:lnTo>
                  <a:lnTo>
                    <a:pt x="385" y="46"/>
                  </a:lnTo>
                  <a:lnTo>
                    <a:pt x="385" y="62"/>
                  </a:lnTo>
                  <a:lnTo>
                    <a:pt x="374" y="62"/>
                  </a:lnTo>
                  <a:lnTo>
                    <a:pt x="374" y="104"/>
                  </a:lnTo>
                  <a:lnTo>
                    <a:pt x="343" y="90"/>
                  </a:lnTo>
                  <a:lnTo>
                    <a:pt x="343" y="104"/>
                  </a:lnTo>
                  <a:lnTo>
                    <a:pt x="343" y="90"/>
                  </a:lnTo>
                  <a:lnTo>
                    <a:pt x="330" y="75"/>
                  </a:lnTo>
                  <a:lnTo>
                    <a:pt x="315" y="75"/>
                  </a:lnTo>
                  <a:lnTo>
                    <a:pt x="286" y="90"/>
                  </a:lnTo>
                  <a:lnTo>
                    <a:pt x="270" y="90"/>
                  </a:lnTo>
                  <a:lnTo>
                    <a:pt x="259" y="134"/>
                  </a:lnTo>
                  <a:lnTo>
                    <a:pt x="226" y="134"/>
                  </a:lnTo>
                  <a:lnTo>
                    <a:pt x="244" y="148"/>
                  </a:lnTo>
                  <a:lnTo>
                    <a:pt x="226" y="163"/>
                  </a:lnTo>
                  <a:lnTo>
                    <a:pt x="226" y="134"/>
                  </a:lnTo>
                  <a:lnTo>
                    <a:pt x="199" y="163"/>
                  </a:lnTo>
                  <a:lnTo>
                    <a:pt x="215" y="177"/>
                  </a:lnTo>
                  <a:lnTo>
                    <a:pt x="171" y="209"/>
                  </a:lnTo>
                  <a:lnTo>
                    <a:pt x="71" y="238"/>
                  </a:lnTo>
                  <a:lnTo>
                    <a:pt x="27" y="282"/>
                  </a:lnTo>
                  <a:lnTo>
                    <a:pt x="11" y="267"/>
                  </a:lnTo>
                  <a:lnTo>
                    <a:pt x="11" y="311"/>
                  </a:lnTo>
                  <a:lnTo>
                    <a:pt x="0" y="311"/>
                  </a:lnTo>
                  <a:lnTo>
                    <a:pt x="27" y="383"/>
                  </a:lnTo>
                  <a:lnTo>
                    <a:pt x="11" y="355"/>
                  </a:lnTo>
                  <a:lnTo>
                    <a:pt x="11" y="383"/>
                  </a:lnTo>
                  <a:lnTo>
                    <a:pt x="0" y="368"/>
                  </a:lnTo>
                  <a:lnTo>
                    <a:pt x="40" y="458"/>
                  </a:lnTo>
                  <a:lnTo>
                    <a:pt x="56" y="516"/>
                  </a:lnTo>
                  <a:lnTo>
                    <a:pt x="56" y="560"/>
                  </a:lnTo>
                  <a:lnTo>
                    <a:pt x="40" y="575"/>
                  </a:lnTo>
                  <a:lnTo>
                    <a:pt x="40" y="5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464240" y="4879800"/>
              <a:ext cx="25560" cy="1116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464240" y="4879800"/>
              <a:ext cx="25560" cy="1116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597800" y="5451480"/>
              <a:ext cx="25200" cy="1440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597800" y="5451480"/>
              <a:ext cx="25200" cy="1440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772400" y="5586480"/>
              <a:ext cx="77760" cy="8100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772400" y="5586480"/>
              <a:ext cx="77760" cy="8100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356320" y="5423040"/>
              <a:ext cx="115920" cy="19368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356320" y="5423040"/>
              <a:ext cx="115920" cy="19368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223120" y="5586480"/>
              <a:ext cx="173160" cy="17604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223120" y="5586480"/>
              <a:ext cx="173160" cy="17604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732360" y="4514760"/>
              <a:ext cx="227160" cy="24120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732360" y="4514760"/>
              <a:ext cx="227160" cy="24120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946920" y="4755960"/>
              <a:ext cx="183960" cy="5724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946920" y="4755960"/>
              <a:ext cx="183960" cy="5724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30880" y="4813200"/>
              <a:ext cx="28440" cy="180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130880" y="4813200"/>
              <a:ext cx="28440" cy="180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172280" y="4813200"/>
              <a:ext cx="160200" cy="1116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172280" y="4813200"/>
              <a:ext cx="160200" cy="1116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224480" y="4838760"/>
              <a:ext cx="39600" cy="158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224480" y="4838760"/>
              <a:ext cx="39600" cy="158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316640" y="4813200"/>
              <a:ext cx="81000" cy="4140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316640" y="4813200"/>
              <a:ext cx="81000" cy="4140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545240" y="4746600"/>
              <a:ext cx="11160" cy="3960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545240" y="4746600"/>
              <a:ext cx="11160" cy="3960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946920" y="4662360"/>
              <a:ext cx="28440" cy="4284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946920" y="4662360"/>
              <a:ext cx="28440" cy="4284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986520" y="4687920"/>
              <a:ext cx="12600" cy="1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986520" y="4687920"/>
              <a:ext cx="12600" cy="17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224480" y="4594320"/>
              <a:ext cx="133560" cy="16164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224480" y="4594320"/>
              <a:ext cx="133560" cy="16164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397640" y="4581360"/>
              <a:ext cx="28440" cy="6984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397640" y="4581360"/>
              <a:ext cx="28440" cy="6984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372080" y="4705200"/>
              <a:ext cx="25560" cy="129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372080" y="4705200"/>
              <a:ext cx="25560" cy="129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412040" y="4687920"/>
              <a:ext cx="64800" cy="3024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412040" y="4687920"/>
              <a:ext cx="64800" cy="3024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253280" y="4227480"/>
              <a:ext cx="79200" cy="12384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253280" y="4227480"/>
              <a:ext cx="79200" cy="12384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186320" y="4390920"/>
              <a:ext cx="52560" cy="6660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186320" y="4390920"/>
              <a:ext cx="52560" cy="6660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253280" y="4351320"/>
              <a:ext cx="25200" cy="237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253280" y="4351320"/>
              <a:ext cx="25200" cy="237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345080" y="4363920"/>
              <a:ext cx="27000" cy="5400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345080" y="4363920"/>
              <a:ext cx="27000" cy="5400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292880" y="4375080"/>
              <a:ext cx="52200" cy="6840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292880" y="4375080"/>
              <a:ext cx="52200" cy="6840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292880" y="4417920"/>
              <a:ext cx="93600" cy="9684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292880" y="4417920"/>
              <a:ext cx="93600" cy="9684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298840" y="5262480"/>
              <a:ext cx="50760" cy="525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298840" y="5262480"/>
              <a:ext cx="50760" cy="525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119720" y="4146480"/>
              <a:ext cx="11160" cy="32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135400" y="3629160"/>
              <a:ext cx="41400" cy="8244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135400" y="3629160"/>
              <a:ext cx="41400" cy="8244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02000" y="3576600"/>
              <a:ext cx="133560" cy="9216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202000" y="3576600"/>
              <a:ext cx="133560" cy="9216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072040" y="3441600"/>
              <a:ext cx="129960" cy="9216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072040" y="3441600"/>
              <a:ext cx="129960" cy="9216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018040" y="3494160"/>
              <a:ext cx="54000" cy="3960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018040" y="3494160"/>
              <a:ext cx="54000" cy="3960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18040" y="3506760"/>
              <a:ext cx="117360" cy="12240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018040" y="3506760"/>
              <a:ext cx="117360" cy="12240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110200" y="3602160"/>
              <a:ext cx="41040" cy="41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10200" y="3602160"/>
              <a:ext cx="41040" cy="41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126040" y="3519360"/>
              <a:ext cx="93600" cy="12384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126040" y="3519360"/>
              <a:ext cx="93600" cy="12384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163840" y="3629160"/>
              <a:ext cx="55800" cy="3960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163840" y="3629160"/>
              <a:ext cx="55800" cy="3960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057640" y="3533760"/>
              <a:ext cx="77760" cy="8424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057640" y="3533760"/>
              <a:ext cx="77760" cy="8424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978080" y="3359160"/>
              <a:ext cx="147960" cy="8244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978080" y="3359160"/>
              <a:ext cx="147960" cy="8244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165040" y="2255760"/>
              <a:ext cx="385920" cy="33984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165040" y="2255760"/>
              <a:ext cx="385920" cy="33984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801880" y="2271600"/>
              <a:ext cx="576000" cy="663480"/>
            </a:xfrm>
            <a:custGeom>
              <a:avLst/>
              <a:gdLst/>
              <a:ahLst/>
              <a:rect l="l" t="t" r="r" b="b"/>
              <a:pathLst>
                <a:path w="622" h="717">
                  <a:moveTo>
                    <a:pt x="0" y="156"/>
                  </a:moveTo>
                  <a:lnTo>
                    <a:pt x="58" y="257"/>
                  </a:lnTo>
                  <a:lnTo>
                    <a:pt x="85" y="269"/>
                  </a:lnTo>
                  <a:lnTo>
                    <a:pt x="167" y="284"/>
                  </a:lnTo>
                  <a:lnTo>
                    <a:pt x="181" y="284"/>
                  </a:lnTo>
                  <a:lnTo>
                    <a:pt x="221" y="295"/>
                  </a:lnTo>
                  <a:lnTo>
                    <a:pt x="236" y="295"/>
                  </a:lnTo>
                  <a:lnTo>
                    <a:pt x="248" y="257"/>
                  </a:lnTo>
                  <a:lnTo>
                    <a:pt x="263" y="284"/>
                  </a:lnTo>
                  <a:lnTo>
                    <a:pt x="305" y="324"/>
                  </a:lnTo>
                  <a:lnTo>
                    <a:pt x="290" y="355"/>
                  </a:lnTo>
                  <a:lnTo>
                    <a:pt x="317" y="339"/>
                  </a:lnTo>
                  <a:lnTo>
                    <a:pt x="332" y="366"/>
                  </a:lnTo>
                  <a:lnTo>
                    <a:pt x="359" y="393"/>
                  </a:lnTo>
                  <a:lnTo>
                    <a:pt x="374" y="437"/>
                  </a:lnTo>
                  <a:lnTo>
                    <a:pt x="332" y="506"/>
                  </a:lnTo>
                  <a:lnTo>
                    <a:pt x="344" y="535"/>
                  </a:lnTo>
                  <a:lnTo>
                    <a:pt x="332" y="550"/>
                  </a:lnTo>
                  <a:lnTo>
                    <a:pt x="263" y="535"/>
                  </a:lnTo>
                  <a:lnTo>
                    <a:pt x="263" y="565"/>
                  </a:lnTo>
                  <a:lnTo>
                    <a:pt x="248" y="565"/>
                  </a:lnTo>
                  <a:lnTo>
                    <a:pt x="248" y="608"/>
                  </a:lnTo>
                  <a:lnTo>
                    <a:pt x="290" y="608"/>
                  </a:lnTo>
                  <a:lnTo>
                    <a:pt x="305" y="592"/>
                  </a:lnTo>
                  <a:lnTo>
                    <a:pt x="332" y="592"/>
                  </a:lnTo>
                  <a:lnTo>
                    <a:pt x="386" y="634"/>
                  </a:lnTo>
                  <a:lnTo>
                    <a:pt x="386" y="648"/>
                  </a:lnTo>
                  <a:lnTo>
                    <a:pt x="444" y="690"/>
                  </a:lnTo>
                  <a:lnTo>
                    <a:pt x="468" y="705"/>
                  </a:lnTo>
                  <a:lnTo>
                    <a:pt x="511" y="717"/>
                  </a:lnTo>
                  <a:lnTo>
                    <a:pt x="511" y="705"/>
                  </a:lnTo>
                  <a:lnTo>
                    <a:pt x="455" y="648"/>
                  </a:lnTo>
                  <a:lnTo>
                    <a:pt x="455" y="619"/>
                  </a:lnTo>
                  <a:lnTo>
                    <a:pt x="526" y="678"/>
                  </a:lnTo>
                  <a:lnTo>
                    <a:pt x="553" y="678"/>
                  </a:lnTo>
                  <a:lnTo>
                    <a:pt x="553" y="634"/>
                  </a:lnTo>
                  <a:lnTo>
                    <a:pt x="538" y="619"/>
                  </a:lnTo>
                  <a:lnTo>
                    <a:pt x="538" y="592"/>
                  </a:lnTo>
                  <a:lnTo>
                    <a:pt x="495" y="550"/>
                  </a:lnTo>
                  <a:lnTo>
                    <a:pt x="484" y="521"/>
                  </a:lnTo>
                  <a:lnTo>
                    <a:pt x="495" y="495"/>
                  </a:lnTo>
                  <a:lnTo>
                    <a:pt x="526" y="521"/>
                  </a:lnTo>
                  <a:lnTo>
                    <a:pt x="538" y="550"/>
                  </a:lnTo>
                  <a:lnTo>
                    <a:pt x="564" y="565"/>
                  </a:lnTo>
                  <a:lnTo>
                    <a:pt x="564" y="535"/>
                  </a:lnTo>
                  <a:lnTo>
                    <a:pt x="595" y="535"/>
                  </a:lnTo>
                  <a:lnTo>
                    <a:pt x="622" y="479"/>
                  </a:lnTo>
                  <a:lnTo>
                    <a:pt x="538" y="393"/>
                  </a:lnTo>
                  <a:lnTo>
                    <a:pt x="495" y="393"/>
                  </a:lnTo>
                  <a:lnTo>
                    <a:pt x="468" y="366"/>
                  </a:lnTo>
                  <a:lnTo>
                    <a:pt x="468" y="339"/>
                  </a:lnTo>
                  <a:lnTo>
                    <a:pt x="495" y="324"/>
                  </a:lnTo>
                  <a:lnTo>
                    <a:pt x="468" y="295"/>
                  </a:lnTo>
                  <a:lnTo>
                    <a:pt x="484" y="284"/>
                  </a:lnTo>
                  <a:lnTo>
                    <a:pt x="468" y="242"/>
                  </a:lnTo>
                  <a:lnTo>
                    <a:pt x="428" y="226"/>
                  </a:lnTo>
                  <a:lnTo>
                    <a:pt x="401" y="182"/>
                  </a:lnTo>
                  <a:lnTo>
                    <a:pt x="374" y="171"/>
                  </a:lnTo>
                  <a:lnTo>
                    <a:pt x="344" y="156"/>
                  </a:lnTo>
                  <a:lnTo>
                    <a:pt x="332" y="100"/>
                  </a:lnTo>
                  <a:lnTo>
                    <a:pt x="305" y="100"/>
                  </a:lnTo>
                  <a:lnTo>
                    <a:pt x="263" y="85"/>
                  </a:lnTo>
                  <a:lnTo>
                    <a:pt x="236" y="100"/>
                  </a:lnTo>
                  <a:lnTo>
                    <a:pt x="208" y="100"/>
                  </a:lnTo>
                  <a:lnTo>
                    <a:pt x="181" y="129"/>
                  </a:lnTo>
                  <a:lnTo>
                    <a:pt x="194" y="85"/>
                  </a:lnTo>
                  <a:lnTo>
                    <a:pt x="181" y="58"/>
                  </a:lnTo>
                  <a:lnTo>
                    <a:pt x="181" y="0"/>
                  </a:lnTo>
                  <a:lnTo>
                    <a:pt x="154" y="0"/>
                  </a:lnTo>
                  <a:lnTo>
                    <a:pt x="100" y="73"/>
                  </a:lnTo>
                  <a:lnTo>
                    <a:pt x="85" y="129"/>
                  </a:lnTo>
                  <a:lnTo>
                    <a:pt x="100" y="171"/>
                  </a:lnTo>
                  <a:lnTo>
                    <a:pt x="69" y="144"/>
                  </a:lnTo>
                  <a:lnTo>
                    <a:pt x="69" y="73"/>
                  </a:lnTo>
                  <a:lnTo>
                    <a:pt x="100" y="31"/>
                  </a:lnTo>
                  <a:lnTo>
                    <a:pt x="127" y="0"/>
                  </a:lnTo>
                  <a:lnTo>
                    <a:pt x="58" y="0"/>
                  </a:lnTo>
                  <a:lnTo>
                    <a:pt x="16" y="58"/>
                  </a:lnTo>
                  <a:lnTo>
                    <a:pt x="0" y="113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046240" y="3413160"/>
              <a:ext cx="1209600" cy="664920"/>
            </a:xfrm>
            <a:custGeom>
              <a:avLst/>
              <a:gdLst/>
              <a:ahLst/>
              <a:rect l="l" t="t" r="r" b="b"/>
              <a:pathLst>
                <a:path w="1308" h="718">
                  <a:moveTo>
                    <a:pt x="44" y="13"/>
                  </a:moveTo>
                  <a:lnTo>
                    <a:pt x="662" y="13"/>
                  </a:lnTo>
                  <a:lnTo>
                    <a:pt x="674" y="0"/>
                  </a:lnTo>
                  <a:lnTo>
                    <a:pt x="691" y="29"/>
                  </a:lnTo>
                  <a:lnTo>
                    <a:pt x="718" y="29"/>
                  </a:lnTo>
                  <a:lnTo>
                    <a:pt x="746" y="57"/>
                  </a:lnTo>
                  <a:lnTo>
                    <a:pt x="791" y="57"/>
                  </a:lnTo>
                  <a:lnTo>
                    <a:pt x="733" y="103"/>
                  </a:lnTo>
                  <a:lnTo>
                    <a:pt x="762" y="86"/>
                  </a:lnTo>
                  <a:lnTo>
                    <a:pt x="777" y="103"/>
                  </a:lnTo>
                  <a:lnTo>
                    <a:pt x="817" y="86"/>
                  </a:lnTo>
                  <a:lnTo>
                    <a:pt x="817" y="103"/>
                  </a:lnTo>
                  <a:lnTo>
                    <a:pt x="833" y="86"/>
                  </a:lnTo>
                  <a:lnTo>
                    <a:pt x="848" y="103"/>
                  </a:lnTo>
                  <a:lnTo>
                    <a:pt x="906" y="103"/>
                  </a:lnTo>
                  <a:lnTo>
                    <a:pt x="921" y="115"/>
                  </a:lnTo>
                  <a:lnTo>
                    <a:pt x="921" y="132"/>
                  </a:lnTo>
                  <a:lnTo>
                    <a:pt x="848" y="132"/>
                  </a:lnTo>
                  <a:lnTo>
                    <a:pt x="833" y="176"/>
                  </a:lnTo>
                  <a:lnTo>
                    <a:pt x="848" y="161"/>
                  </a:lnTo>
                  <a:lnTo>
                    <a:pt x="833" y="220"/>
                  </a:lnTo>
                  <a:lnTo>
                    <a:pt x="833" y="262"/>
                  </a:lnTo>
                  <a:lnTo>
                    <a:pt x="848" y="262"/>
                  </a:lnTo>
                  <a:lnTo>
                    <a:pt x="862" y="249"/>
                  </a:lnTo>
                  <a:lnTo>
                    <a:pt x="862" y="189"/>
                  </a:lnTo>
                  <a:lnTo>
                    <a:pt x="877" y="161"/>
                  </a:lnTo>
                  <a:lnTo>
                    <a:pt x="892" y="147"/>
                  </a:lnTo>
                  <a:lnTo>
                    <a:pt x="892" y="132"/>
                  </a:lnTo>
                  <a:lnTo>
                    <a:pt x="933" y="147"/>
                  </a:lnTo>
                  <a:lnTo>
                    <a:pt x="933" y="176"/>
                  </a:lnTo>
                  <a:lnTo>
                    <a:pt x="921" y="205"/>
                  </a:lnTo>
                  <a:lnTo>
                    <a:pt x="950" y="189"/>
                  </a:lnTo>
                  <a:lnTo>
                    <a:pt x="950" y="220"/>
                  </a:lnTo>
                  <a:lnTo>
                    <a:pt x="965" y="220"/>
                  </a:lnTo>
                  <a:lnTo>
                    <a:pt x="933" y="262"/>
                  </a:lnTo>
                  <a:lnTo>
                    <a:pt x="977" y="262"/>
                  </a:lnTo>
                  <a:lnTo>
                    <a:pt x="1036" y="220"/>
                  </a:lnTo>
                  <a:lnTo>
                    <a:pt x="1036" y="205"/>
                  </a:lnTo>
                  <a:lnTo>
                    <a:pt x="1092" y="205"/>
                  </a:lnTo>
                  <a:lnTo>
                    <a:pt x="1092" y="176"/>
                  </a:lnTo>
                  <a:lnTo>
                    <a:pt x="1120" y="161"/>
                  </a:lnTo>
                  <a:lnTo>
                    <a:pt x="1191" y="161"/>
                  </a:lnTo>
                  <a:lnTo>
                    <a:pt x="1224" y="147"/>
                  </a:lnTo>
                  <a:lnTo>
                    <a:pt x="1251" y="75"/>
                  </a:lnTo>
                  <a:lnTo>
                    <a:pt x="1264" y="86"/>
                  </a:lnTo>
                  <a:lnTo>
                    <a:pt x="1280" y="75"/>
                  </a:lnTo>
                  <a:lnTo>
                    <a:pt x="1280" y="86"/>
                  </a:lnTo>
                  <a:lnTo>
                    <a:pt x="1295" y="132"/>
                  </a:lnTo>
                  <a:lnTo>
                    <a:pt x="1308" y="147"/>
                  </a:lnTo>
                  <a:lnTo>
                    <a:pt x="1308" y="161"/>
                  </a:lnTo>
                  <a:lnTo>
                    <a:pt x="1295" y="176"/>
                  </a:lnTo>
                  <a:lnTo>
                    <a:pt x="1264" y="176"/>
                  </a:lnTo>
                  <a:lnTo>
                    <a:pt x="1207" y="234"/>
                  </a:lnTo>
                  <a:lnTo>
                    <a:pt x="1224" y="262"/>
                  </a:lnTo>
                  <a:lnTo>
                    <a:pt x="1236" y="249"/>
                  </a:lnTo>
                  <a:lnTo>
                    <a:pt x="1236" y="278"/>
                  </a:lnTo>
                  <a:lnTo>
                    <a:pt x="1191" y="262"/>
                  </a:lnTo>
                  <a:lnTo>
                    <a:pt x="1165" y="278"/>
                  </a:lnTo>
                  <a:lnTo>
                    <a:pt x="1149" y="295"/>
                  </a:lnTo>
                  <a:lnTo>
                    <a:pt x="1136" y="352"/>
                  </a:lnTo>
                  <a:lnTo>
                    <a:pt x="1120" y="335"/>
                  </a:lnTo>
                  <a:lnTo>
                    <a:pt x="1120" y="352"/>
                  </a:lnTo>
                  <a:lnTo>
                    <a:pt x="1107" y="396"/>
                  </a:lnTo>
                  <a:lnTo>
                    <a:pt x="1107" y="368"/>
                  </a:lnTo>
                  <a:lnTo>
                    <a:pt x="1092" y="352"/>
                  </a:lnTo>
                  <a:lnTo>
                    <a:pt x="1092" y="324"/>
                  </a:lnTo>
                  <a:lnTo>
                    <a:pt x="1076" y="352"/>
                  </a:lnTo>
                  <a:lnTo>
                    <a:pt x="1107" y="440"/>
                  </a:lnTo>
                  <a:lnTo>
                    <a:pt x="1092" y="469"/>
                  </a:lnTo>
                  <a:lnTo>
                    <a:pt x="1036" y="498"/>
                  </a:lnTo>
                  <a:lnTo>
                    <a:pt x="992" y="544"/>
                  </a:lnTo>
                  <a:lnTo>
                    <a:pt x="977" y="573"/>
                  </a:lnTo>
                  <a:lnTo>
                    <a:pt x="1005" y="674"/>
                  </a:lnTo>
                  <a:lnTo>
                    <a:pt x="1005" y="718"/>
                  </a:lnTo>
                  <a:lnTo>
                    <a:pt x="992" y="718"/>
                  </a:lnTo>
                  <a:lnTo>
                    <a:pt x="950" y="674"/>
                  </a:lnTo>
                  <a:lnTo>
                    <a:pt x="950" y="617"/>
                  </a:lnTo>
                  <a:lnTo>
                    <a:pt x="921" y="588"/>
                  </a:lnTo>
                  <a:lnTo>
                    <a:pt x="892" y="601"/>
                  </a:lnTo>
                  <a:lnTo>
                    <a:pt x="892" y="588"/>
                  </a:lnTo>
                  <a:lnTo>
                    <a:pt x="806" y="588"/>
                  </a:lnTo>
                  <a:lnTo>
                    <a:pt x="791" y="601"/>
                  </a:lnTo>
                  <a:lnTo>
                    <a:pt x="806" y="617"/>
                  </a:lnTo>
                  <a:lnTo>
                    <a:pt x="762" y="617"/>
                  </a:lnTo>
                  <a:lnTo>
                    <a:pt x="746" y="601"/>
                  </a:lnTo>
                  <a:lnTo>
                    <a:pt x="706" y="601"/>
                  </a:lnTo>
                  <a:lnTo>
                    <a:pt x="674" y="617"/>
                  </a:lnTo>
                  <a:lnTo>
                    <a:pt x="618" y="661"/>
                  </a:lnTo>
                  <a:lnTo>
                    <a:pt x="618" y="703"/>
                  </a:lnTo>
                  <a:lnTo>
                    <a:pt x="574" y="689"/>
                  </a:lnTo>
                  <a:lnTo>
                    <a:pt x="518" y="601"/>
                  </a:lnTo>
                  <a:lnTo>
                    <a:pt x="503" y="601"/>
                  </a:lnTo>
                  <a:lnTo>
                    <a:pt x="489" y="617"/>
                  </a:lnTo>
                  <a:lnTo>
                    <a:pt x="474" y="617"/>
                  </a:lnTo>
                  <a:lnTo>
                    <a:pt x="447" y="601"/>
                  </a:lnTo>
                  <a:lnTo>
                    <a:pt x="447" y="573"/>
                  </a:lnTo>
                  <a:lnTo>
                    <a:pt x="415" y="544"/>
                  </a:lnTo>
                  <a:lnTo>
                    <a:pt x="300" y="559"/>
                  </a:lnTo>
                  <a:lnTo>
                    <a:pt x="215" y="527"/>
                  </a:lnTo>
                  <a:lnTo>
                    <a:pt x="173" y="527"/>
                  </a:lnTo>
                  <a:lnTo>
                    <a:pt x="156" y="498"/>
                  </a:lnTo>
                  <a:lnTo>
                    <a:pt x="144" y="498"/>
                  </a:lnTo>
                  <a:lnTo>
                    <a:pt x="144" y="486"/>
                  </a:lnTo>
                  <a:lnTo>
                    <a:pt x="85" y="469"/>
                  </a:lnTo>
                  <a:lnTo>
                    <a:pt x="85" y="454"/>
                  </a:lnTo>
                  <a:lnTo>
                    <a:pt x="56" y="425"/>
                  </a:lnTo>
                  <a:lnTo>
                    <a:pt x="56" y="396"/>
                  </a:lnTo>
                  <a:lnTo>
                    <a:pt x="44" y="396"/>
                  </a:lnTo>
                  <a:lnTo>
                    <a:pt x="44" y="381"/>
                  </a:lnTo>
                  <a:lnTo>
                    <a:pt x="56" y="381"/>
                  </a:lnTo>
                  <a:lnTo>
                    <a:pt x="56" y="368"/>
                  </a:lnTo>
                  <a:lnTo>
                    <a:pt x="29" y="368"/>
                  </a:lnTo>
                  <a:lnTo>
                    <a:pt x="44" y="368"/>
                  </a:lnTo>
                  <a:lnTo>
                    <a:pt x="14" y="335"/>
                  </a:lnTo>
                  <a:lnTo>
                    <a:pt x="14" y="324"/>
                  </a:lnTo>
                  <a:lnTo>
                    <a:pt x="0" y="306"/>
                  </a:lnTo>
                  <a:lnTo>
                    <a:pt x="14" y="262"/>
                  </a:lnTo>
                  <a:lnTo>
                    <a:pt x="0" y="220"/>
                  </a:lnTo>
                  <a:lnTo>
                    <a:pt x="14" y="115"/>
                  </a:lnTo>
                  <a:lnTo>
                    <a:pt x="0" y="42"/>
                  </a:lnTo>
                  <a:lnTo>
                    <a:pt x="29" y="42"/>
                  </a:lnTo>
                  <a:lnTo>
                    <a:pt x="29" y="75"/>
                  </a:lnTo>
                  <a:lnTo>
                    <a:pt x="44" y="75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143000" y="2419200"/>
              <a:ext cx="784080" cy="827280"/>
            </a:xfrm>
            <a:custGeom>
              <a:avLst/>
              <a:gdLst/>
              <a:ahLst/>
              <a:rect l="l" t="t" r="r" b="b"/>
              <a:pathLst>
                <a:path w="848" h="897">
                  <a:moveTo>
                    <a:pt x="848" y="868"/>
                  </a:moveTo>
                  <a:lnTo>
                    <a:pt x="848" y="824"/>
                  </a:lnTo>
                  <a:lnTo>
                    <a:pt x="804" y="795"/>
                  </a:lnTo>
                  <a:lnTo>
                    <a:pt x="763" y="705"/>
                  </a:lnTo>
                  <a:lnTo>
                    <a:pt x="748" y="705"/>
                  </a:lnTo>
                  <a:lnTo>
                    <a:pt x="733" y="663"/>
                  </a:lnTo>
                  <a:lnTo>
                    <a:pt x="704" y="676"/>
                  </a:lnTo>
                  <a:lnTo>
                    <a:pt x="689" y="692"/>
                  </a:lnTo>
                  <a:lnTo>
                    <a:pt x="648" y="648"/>
                  </a:lnTo>
                  <a:lnTo>
                    <a:pt x="648" y="632"/>
                  </a:lnTo>
                  <a:lnTo>
                    <a:pt x="604" y="648"/>
                  </a:lnTo>
                  <a:lnTo>
                    <a:pt x="604" y="117"/>
                  </a:lnTo>
                  <a:lnTo>
                    <a:pt x="560" y="89"/>
                  </a:lnTo>
                  <a:lnTo>
                    <a:pt x="518" y="106"/>
                  </a:lnTo>
                  <a:lnTo>
                    <a:pt x="489" y="89"/>
                  </a:lnTo>
                  <a:lnTo>
                    <a:pt x="460" y="89"/>
                  </a:lnTo>
                  <a:lnTo>
                    <a:pt x="416" y="60"/>
                  </a:lnTo>
                  <a:lnTo>
                    <a:pt x="359" y="60"/>
                  </a:lnTo>
                  <a:lnTo>
                    <a:pt x="345" y="31"/>
                  </a:lnTo>
                  <a:lnTo>
                    <a:pt x="301" y="31"/>
                  </a:lnTo>
                  <a:lnTo>
                    <a:pt x="286" y="16"/>
                  </a:lnTo>
                  <a:lnTo>
                    <a:pt x="259" y="0"/>
                  </a:lnTo>
                  <a:lnTo>
                    <a:pt x="230" y="31"/>
                  </a:lnTo>
                  <a:lnTo>
                    <a:pt x="201" y="44"/>
                  </a:lnTo>
                  <a:lnTo>
                    <a:pt x="159" y="77"/>
                  </a:lnTo>
                  <a:lnTo>
                    <a:pt x="142" y="77"/>
                  </a:lnTo>
                  <a:lnTo>
                    <a:pt x="115" y="106"/>
                  </a:lnTo>
                  <a:lnTo>
                    <a:pt x="102" y="163"/>
                  </a:lnTo>
                  <a:lnTo>
                    <a:pt x="42" y="179"/>
                  </a:lnTo>
                  <a:lnTo>
                    <a:pt x="31" y="207"/>
                  </a:lnTo>
                  <a:lnTo>
                    <a:pt x="86" y="251"/>
                  </a:lnTo>
                  <a:lnTo>
                    <a:pt x="102" y="280"/>
                  </a:lnTo>
                  <a:lnTo>
                    <a:pt x="130" y="326"/>
                  </a:lnTo>
                  <a:lnTo>
                    <a:pt x="130" y="337"/>
                  </a:lnTo>
                  <a:lnTo>
                    <a:pt x="86" y="337"/>
                  </a:lnTo>
                  <a:lnTo>
                    <a:pt x="86" y="309"/>
                  </a:lnTo>
                  <a:lnTo>
                    <a:pt x="71" y="309"/>
                  </a:lnTo>
                  <a:lnTo>
                    <a:pt x="15" y="337"/>
                  </a:lnTo>
                  <a:lnTo>
                    <a:pt x="0" y="366"/>
                  </a:lnTo>
                  <a:lnTo>
                    <a:pt x="31" y="383"/>
                  </a:lnTo>
                  <a:lnTo>
                    <a:pt x="31" y="412"/>
                  </a:lnTo>
                  <a:lnTo>
                    <a:pt x="58" y="427"/>
                  </a:lnTo>
                  <a:lnTo>
                    <a:pt x="115" y="427"/>
                  </a:lnTo>
                  <a:lnTo>
                    <a:pt x="142" y="412"/>
                  </a:lnTo>
                  <a:lnTo>
                    <a:pt x="142" y="427"/>
                  </a:lnTo>
                  <a:lnTo>
                    <a:pt x="159" y="456"/>
                  </a:lnTo>
                  <a:lnTo>
                    <a:pt x="142" y="485"/>
                  </a:lnTo>
                  <a:lnTo>
                    <a:pt x="115" y="485"/>
                  </a:lnTo>
                  <a:lnTo>
                    <a:pt x="102" y="500"/>
                  </a:lnTo>
                  <a:lnTo>
                    <a:pt x="71" y="500"/>
                  </a:lnTo>
                  <a:lnTo>
                    <a:pt x="42" y="575"/>
                  </a:lnTo>
                  <a:lnTo>
                    <a:pt x="86" y="663"/>
                  </a:lnTo>
                  <a:lnTo>
                    <a:pt x="102" y="663"/>
                  </a:lnTo>
                  <a:lnTo>
                    <a:pt x="130" y="648"/>
                  </a:lnTo>
                  <a:lnTo>
                    <a:pt x="130" y="692"/>
                  </a:lnTo>
                  <a:lnTo>
                    <a:pt x="142" y="705"/>
                  </a:lnTo>
                  <a:lnTo>
                    <a:pt x="186" y="705"/>
                  </a:lnTo>
                  <a:lnTo>
                    <a:pt x="201" y="721"/>
                  </a:lnTo>
                  <a:lnTo>
                    <a:pt x="201" y="705"/>
                  </a:lnTo>
                  <a:lnTo>
                    <a:pt x="230" y="705"/>
                  </a:lnTo>
                  <a:lnTo>
                    <a:pt x="230" y="766"/>
                  </a:lnTo>
                  <a:lnTo>
                    <a:pt x="159" y="824"/>
                  </a:lnTo>
                  <a:lnTo>
                    <a:pt x="115" y="839"/>
                  </a:lnTo>
                  <a:lnTo>
                    <a:pt x="102" y="855"/>
                  </a:lnTo>
                  <a:lnTo>
                    <a:pt x="58" y="883"/>
                  </a:lnTo>
                  <a:lnTo>
                    <a:pt x="71" y="897"/>
                  </a:lnTo>
                  <a:lnTo>
                    <a:pt x="142" y="855"/>
                  </a:lnTo>
                  <a:lnTo>
                    <a:pt x="201" y="824"/>
                  </a:lnTo>
                  <a:lnTo>
                    <a:pt x="246" y="778"/>
                  </a:lnTo>
                  <a:lnTo>
                    <a:pt x="316" y="721"/>
                  </a:lnTo>
                  <a:lnTo>
                    <a:pt x="330" y="705"/>
                  </a:lnTo>
                  <a:lnTo>
                    <a:pt x="301" y="692"/>
                  </a:lnTo>
                  <a:lnTo>
                    <a:pt x="345" y="648"/>
                  </a:lnTo>
                  <a:lnTo>
                    <a:pt x="345" y="619"/>
                  </a:lnTo>
                  <a:lnTo>
                    <a:pt x="389" y="590"/>
                  </a:lnTo>
                  <a:lnTo>
                    <a:pt x="401" y="590"/>
                  </a:lnTo>
                  <a:lnTo>
                    <a:pt x="374" y="619"/>
                  </a:lnTo>
                  <a:lnTo>
                    <a:pt x="359" y="663"/>
                  </a:lnTo>
                  <a:lnTo>
                    <a:pt x="374" y="676"/>
                  </a:lnTo>
                  <a:lnTo>
                    <a:pt x="359" y="692"/>
                  </a:lnTo>
                  <a:lnTo>
                    <a:pt x="374" y="692"/>
                  </a:lnTo>
                  <a:lnTo>
                    <a:pt x="416" y="663"/>
                  </a:lnTo>
                  <a:lnTo>
                    <a:pt x="430" y="663"/>
                  </a:lnTo>
                  <a:lnTo>
                    <a:pt x="445" y="632"/>
                  </a:lnTo>
                  <a:lnTo>
                    <a:pt x="430" y="604"/>
                  </a:lnTo>
                  <a:lnTo>
                    <a:pt x="474" y="619"/>
                  </a:lnTo>
                  <a:lnTo>
                    <a:pt x="533" y="648"/>
                  </a:lnTo>
                  <a:lnTo>
                    <a:pt x="574" y="648"/>
                  </a:lnTo>
                  <a:lnTo>
                    <a:pt x="618" y="663"/>
                  </a:lnTo>
                  <a:lnTo>
                    <a:pt x="633" y="663"/>
                  </a:lnTo>
                  <a:lnTo>
                    <a:pt x="633" y="676"/>
                  </a:lnTo>
                  <a:lnTo>
                    <a:pt x="704" y="738"/>
                  </a:lnTo>
                  <a:lnTo>
                    <a:pt x="748" y="824"/>
                  </a:lnTo>
                  <a:lnTo>
                    <a:pt x="733" y="749"/>
                  </a:lnTo>
                  <a:lnTo>
                    <a:pt x="719" y="738"/>
                  </a:lnTo>
                  <a:lnTo>
                    <a:pt x="733" y="738"/>
                  </a:lnTo>
                  <a:lnTo>
                    <a:pt x="733" y="705"/>
                  </a:lnTo>
                  <a:lnTo>
                    <a:pt x="748" y="778"/>
                  </a:lnTo>
                  <a:lnTo>
                    <a:pt x="763" y="766"/>
                  </a:lnTo>
                  <a:lnTo>
                    <a:pt x="792" y="795"/>
                  </a:lnTo>
                  <a:lnTo>
                    <a:pt x="763" y="778"/>
                  </a:lnTo>
                  <a:lnTo>
                    <a:pt x="763" y="824"/>
                  </a:lnTo>
                  <a:lnTo>
                    <a:pt x="775" y="811"/>
                  </a:lnTo>
                  <a:lnTo>
                    <a:pt x="775" y="839"/>
                  </a:lnTo>
                  <a:lnTo>
                    <a:pt x="804" y="883"/>
                  </a:lnTo>
                  <a:lnTo>
                    <a:pt x="804" y="855"/>
                  </a:lnTo>
                  <a:lnTo>
                    <a:pt x="792" y="824"/>
                  </a:lnTo>
                  <a:lnTo>
                    <a:pt x="804" y="824"/>
                  </a:lnTo>
                  <a:lnTo>
                    <a:pt x="804" y="839"/>
                  </a:lnTo>
                  <a:lnTo>
                    <a:pt x="819" y="868"/>
                  </a:lnTo>
                  <a:lnTo>
                    <a:pt x="834" y="883"/>
                  </a:lnTo>
                  <a:lnTo>
                    <a:pt x="848" y="8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699920" y="2214360"/>
              <a:ext cx="1795680" cy="1441800"/>
            </a:xfrm>
            <a:custGeom>
              <a:avLst/>
              <a:gdLst/>
              <a:ahLst/>
              <a:rect l="l" t="t" r="r" b="b"/>
              <a:pathLst>
                <a:path w="1940" h="1557">
                  <a:moveTo>
                    <a:pt x="1410" y="1484"/>
                  </a:moveTo>
                  <a:lnTo>
                    <a:pt x="1410" y="1515"/>
                  </a:lnTo>
                  <a:lnTo>
                    <a:pt x="1351" y="1529"/>
                  </a:lnTo>
                  <a:lnTo>
                    <a:pt x="1339" y="1544"/>
                  </a:lnTo>
                  <a:lnTo>
                    <a:pt x="1307" y="1557"/>
                  </a:lnTo>
                  <a:lnTo>
                    <a:pt x="1339" y="1515"/>
                  </a:lnTo>
                  <a:lnTo>
                    <a:pt x="1324" y="1515"/>
                  </a:lnTo>
                  <a:lnTo>
                    <a:pt x="1351" y="1500"/>
                  </a:lnTo>
                  <a:lnTo>
                    <a:pt x="1351" y="1442"/>
                  </a:lnTo>
                  <a:lnTo>
                    <a:pt x="1379" y="1471"/>
                  </a:lnTo>
                  <a:lnTo>
                    <a:pt x="1395" y="1456"/>
                  </a:lnTo>
                  <a:lnTo>
                    <a:pt x="1366" y="1427"/>
                  </a:lnTo>
                  <a:lnTo>
                    <a:pt x="1295" y="1410"/>
                  </a:lnTo>
                  <a:lnTo>
                    <a:pt x="1280" y="1398"/>
                  </a:lnTo>
                  <a:lnTo>
                    <a:pt x="1266" y="1352"/>
                  </a:lnTo>
                  <a:lnTo>
                    <a:pt x="1251" y="1352"/>
                  </a:lnTo>
                  <a:lnTo>
                    <a:pt x="1236" y="1324"/>
                  </a:lnTo>
                  <a:lnTo>
                    <a:pt x="1207" y="1308"/>
                  </a:lnTo>
                  <a:lnTo>
                    <a:pt x="1165" y="1352"/>
                  </a:lnTo>
                  <a:lnTo>
                    <a:pt x="1120" y="1352"/>
                  </a:lnTo>
                  <a:lnTo>
                    <a:pt x="1092" y="1324"/>
                  </a:lnTo>
                  <a:lnTo>
                    <a:pt x="1065" y="1324"/>
                  </a:lnTo>
                  <a:lnTo>
                    <a:pt x="1048" y="1295"/>
                  </a:lnTo>
                  <a:lnTo>
                    <a:pt x="1036" y="1308"/>
                  </a:lnTo>
                  <a:lnTo>
                    <a:pt x="403" y="1308"/>
                  </a:lnTo>
                  <a:lnTo>
                    <a:pt x="388" y="1295"/>
                  </a:lnTo>
                  <a:lnTo>
                    <a:pt x="303" y="1235"/>
                  </a:lnTo>
                  <a:lnTo>
                    <a:pt x="288" y="1190"/>
                  </a:lnTo>
                  <a:lnTo>
                    <a:pt x="273" y="1178"/>
                  </a:lnTo>
                  <a:lnTo>
                    <a:pt x="230" y="1132"/>
                  </a:lnTo>
                  <a:lnTo>
                    <a:pt x="244" y="1117"/>
                  </a:lnTo>
                  <a:lnTo>
                    <a:pt x="244" y="1044"/>
                  </a:lnTo>
                  <a:lnTo>
                    <a:pt x="200" y="1015"/>
                  </a:lnTo>
                  <a:lnTo>
                    <a:pt x="159" y="925"/>
                  </a:lnTo>
                  <a:lnTo>
                    <a:pt x="144" y="925"/>
                  </a:lnTo>
                  <a:lnTo>
                    <a:pt x="129" y="883"/>
                  </a:lnTo>
                  <a:lnTo>
                    <a:pt x="100" y="896"/>
                  </a:lnTo>
                  <a:lnTo>
                    <a:pt x="85" y="912"/>
                  </a:lnTo>
                  <a:lnTo>
                    <a:pt x="44" y="868"/>
                  </a:lnTo>
                  <a:lnTo>
                    <a:pt x="44" y="852"/>
                  </a:lnTo>
                  <a:lnTo>
                    <a:pt x="0" y="868"/>
                  </a:lnTo>
                  <a:lnTo>
                    <a:pt x="0" y="337"/>
                  </a:lnTo>
                  <a:lnTo>
                    <a:pt x="29" y="337"/>
                  </a:lnTo>
                  <a:lnTo>
                    <a:pt x="115" y="399"/>
                  </a:lnTo>
                  <a:lnTo>
                    <a:pt x="115" y="366"/>
                  </a:lnTo>
                  <a:lnTo>
                    <a:pt x="129" y="354"/>
                  </a:lnTo>
                  <a:lnTo>
                    <a:pt x="159" y="337"/>
                  </a:lnTo>
                  <a:lnTo>
                    <a:pt x="171" y="354"/>
                  </a:lnTo>
                  <a:lnTo>
                    <a:pt x="259" y="297"/>
                  </a:lnTo>
                  <a:lnTo>
                    <a:pt x="259" y="326"/>
                  </a:lnTo>
                  <a:lnTo>
                    <a:pt x="288" y="326"/>
                  </a:lnTo>
                  <a:lnTo>
                    <a:pt x="303" y="280"/>
                  </a:lnTo>
                  <a:lnTo>
                    <a:pt x="330" y="309"/>
                  </a:lnTo>
                  <a:lnTo>
                    <a:pt x="330" y="337"/>
                  </a:lnTo>
                  <a:lnTo>
                    <a:pt x="359" y="354"/>
                  </a:lnTo>
                  <a:lnTo>
                    <a:pt x="374" y="326"/>
                  </a:lnTo>
                  <a:lnTo>
                    <a:pt x="374" y="354"/>
                  </a:lnTo>
                  <a:lnTo>
                    <a:pt x="403" y="354"/>
                  </a:lnTo>
                  <a:lnTo>
                    <a:pt x="403" y="326"/>
                  </a:lnTo>
                  <a:lnTo>
                    <a:pt x="447" y="326"/>
                  </a:lnTo>
                  <a:lnTo>
                    <a:pt x="474" y="354"/>
                  </a:lnTo>
                  <a:lnTo>
                    <a:pt x="503" y="366"/>
                  </a:lnTo>
                  <a:lnTo>
                    <a:pt x="530" y="383"/>
                  </a:lnTo>
                  <a:lnTo>
                    <a:pt x="562" y="383"/>
                  </a:lnTo>
                  <a:lnTo>
                    <a:pt x="603" y="399"/>
                  </a:lnTo>
                  <a:lnTo>
                    <a:pt x="603" y="427"/>
                  </a:lnTo>
                  <a:lnTo>
                    <a:pt x="589" y="441"/>
                  </a:lnTo>
                  <a:lnTo>
                    <a:pt x="589" y="456"/>
                  </a:lnTo>
                  <a:lnTo>
                    <a:pt x="633" y="471"/>
                  </a:lnTo>
                  <a:lnTo>
                    <a:pt x="706" y="441"/>
                  </a:lnTo>
                  <a:lnTo>
                    <a:pt x="748" y="471"/>
                  </a:lnTo>
                  <a:lnTo>
                    <a:pt x="748" y="441"/>
                  </a:lnTo>
                  <a:lnTo>
                    <a:pt x="733" y="427"/>
                  </a:lnTo>
                  <a:lnTo>
                    <a:pt x="748" y="412"/>
                  </a:lnTo>
                  <a:lnTo>
                    <a:pt x="806" y="383"/>
                  </a:lnTo>
                  <a:lnTo>
                    <a:pt x="821" y="427"/>
                  </a:lnTo>
                  <a:lnTo>
                    <a:pt x="892" y="456"/>
                  </a:lnTo>
                  <a:lnTo>
                    <a:pt x="936" y="471"/>
                  </a:lnTo>
                  <a:lnTo>
                    <a:pt x="965" y="471"/>
                  </a:lnTo>
                  <a:lnTo>
                    <a:pt x="965" y="427"/>
                  </a:lnTo>
                  <a:lnTo>
                    <a:pt x="977" y="412"/>
                  </a:lnTo>
                  <a:lnTo>
                    <a:pt x="936" y="383"/>
                  </a:lnTo>
                  <a:lnTo>
                    <a:pt x="965" y="366"/>
                  </a:lnTo>
                  <a:lnTo>
                    <a:pt x="977" y="326"/>
                  </a:lnTo>
                  <a:lnTo>
                    <a:pt x="1007" y="366"/>
                  </a:lnTo>
                  <a:lnTo>
                    <a:pt x="1036" y="399"/>
                  </a:lnTo>
                  <a:lnTo>
                    <a:pt x="1007" y="427"/>
                  </a:lnTo>
                  <a:lnTo>
                    <a:pt x="1007" y="456"/>
                  </a:lnTo>
                  <a:lnTo>
                    <a:pt x="1021" y="471"/>
                  </a:lnTo>
                  <a:lnTo>
                    <a:pt x="1036" y="441"/>
                  </a:lnTo>
                  <a:lnTo>
                    <a:pt x="1065" y="412"/>
                  </a:lnTo>
                  <a:lnTo>
                    <a:pt x="1048" y="383"/>
                  </a:lnTo>
                  <a:lnTo>
                    <a:pt x="1065" y="354"/>
                  </a:lnTo>
                  <a:lnTo>
                    <a:pt x="1007" y="297"/>
                  </a:lnTo>
                  <a:lnTo>
                    <a:pt x="1021" y="207"/>
                  </a:lnTo>
                  <a:lnTo>
                    <a:pt x="1048" y="192"/>
                  </a:lnTo>
                  <a:lnTo>
                    <a:pt x="1048" y="117"/>
                  </a:lnTo>
                  <a:lnTo>
                    <a:pt x="1036" y="44"/>
                  </a:lnTo>
                  <a:lnTo>
                    <a:pt x="1036" y="15"/>
                  </a:lnTo>
                  <a:lnTo>
                    <a:pt x="1092" y="0"/>
                  </a:lnTo>
                  <a:lnTo>
                    <a:pt x="1136" y="15"/>
                  </a:lnTo>
                  <a:lnTo>
                    <a:pt x="1151" y="29"/>
                  </a:lnTo>
                  <a:lnTo>
                    <a:pt x="1107" y="117"/>
                  </a:lnTo>
                  <a:lnTo>
                    <a:pt x="1092" y="117"/>
                  </a:lnTo>
                  <a:lnTo>
                    <a:pt x="1065" y="134"/>
                  </a:lnTo>
                  <a:lnTo>
                    <a:pt x="1080" y="163"/>
                  </a:lnTo>
                  <a:lnTo>
                    <a:pt x="1065" y="178"/>
                  </a:lnTo>
                  <a:lnTo>
                    <a:pt x="1120" y="309"/>
                  </a:lnTo>
                  <a:lnTo>
                    <a:pt x="1107" y="337"/>
                  </a:lnTo>
                  <a:lnTo>
                    <a:pt x="1120" y="354"/>
                  </a:lnTo>
                  <a:lnTo>
                    <a:pt x="1165" y="412"/>
                  </a:lnTo>
                  <a:lnTo>
                    <a:pt x="1180" y="366"/>
                  </a:lnTo>
                  <a:lnTo>
                    <a:pt x="1207" y="399"/>
                  </a:lnTo>
                  <a:lnTo>
                    <a:pt x="1191" y="456"/>
                  </a:lnTo>
                  <a:lnTo>
                    <a:pt x="1222" y="485"/>
                  </a:lnTo>
                  <a:lnTo>
                    <a:pt x="1236" y="485"/>
                  </a:lnTo>
                  <a:lnTo>
                    <a:pt x="1236" y="456"/>
                  </a:lnTo>
                  <a:lnTo>
                    <a:pt x="1266" y="441"/>
                  </a:lnTo>
                  <a:lnTo>
                    <a:pt x="1266" y="326"/>
                  </a:lnTo>
                  <a:lnTo>
                    <a:pt x="1295" y="326"/>
                  </a:lnTo>
                  <a:lnTo>
                    <a:pt x="1324" y="337"/>
                  </a:lnTo>
                  <a:lnTo>
                    <a:pt x="1324" y="366"/>
                  </a:lnTo>
                  <a:lnTo>
                    <a:pt x="1351" y="366"/>
                  </a:lnTo>
                  <a:lnTo>
                    <a:pt x="1351" y="412"/>
                  </a:lnTo>
                  <a:lnTo>
                    <a:pt x="1324" y="427"/>
                  </a:lnTo>
                  <a:lnTo>
                    <a:pt x="1324" y="456"/>
                  </a:lnTo>
                  <a:lnTo>
                    <a:pt x="1351" y="471"/>
                  </a:lnTo>
                  <a:lnTo>
                    <a:pt x="1351" y="500"/>
                  </a:lnTo>
                  <a:lnTo>
                    <a:pt x="1295" y="557"/>
                  </a:lnTo>
                  <a:lnTo>
                    <a:pt x="1266" y="546"/>
                  </a:lnTo>
                  <a:lnTo>
                    <a:pt x="1266" y="529"/>
                  </a:lnTo>
                  <a:lnTo>
                    <a:pt x="1236" y="529"/>
                  </a:lnTo>
                  <a:lnTo>
                    <a:pt x="1251" y="557"/>
                  </a:lnTo>
                  <a:lnTo>
                    <a:pt x="1222" y="586"/>
                  </a:lnTo>
                  <a:lnTo>
                    <a:pt x="1222" y="619"/>
                  </a:lnTo>
                  <a:lnTo>
                    <a:pt x="1191" y="676"/>
                  </a:lnTo>
                  <a:lnTo>
                    <a:pt x="1165" y="676"/>
                  </a:lnTo>
                  <a:lnTo>
                    <a:pt x="1136" y="705"/>
                  </a:lnTo>
                  <a:lnTo>
                    <a:pt x="1151" y="738"/>
                  </a:lnTo>
                  <a:lnTo>
                    <a:pt x="1107" y="749"/>
                  </a:lnTo>
                  <a:lnTo>
                    <a:pt x="1107" y="778"/>
                  </a:lnTo>
                  <a:lnTo>
                    <a:pt x="1092" y="778"/>
                  </a:lnTo>
                  <a:lnTo>
                    <a:pt x="1080" y="795"/>
                  </a:lnTo>
                  <a:lnTo>
                    <a:pt x="1048" y="868"/>
                  </a:lnTo>
                  <a:lnTo>
                    <a:pt x="1048" y="912"/>
                  </a:lnTo>
                  <a:lnTo>
                    <a:pt x="1065" y="925"/>
                  </a:lnTo>
                  <a:lnTo>
                    <a:pt x="1092" y="925"/>
                  </a:lnTo>
                  <a:lnTo>
                    <a:pt x="1107" y="1015"/>
                  </a:lnTo>
                  <a:lnTo>
                    <a:pt x="1136" y="998"/>
                  </a:lnTo>
                  <a:lnTo>
                    <a:pt x="1180" y="1015"/>
                  </a:lnTo>
                  <a:lnTo>
                    <a:pt x="1207" y="1044"/>
                  </a:lnTo>
                  <a:lnTo>
                    <a:pt x="1266" y="1075"/>
                  </a:lnTo>
                  <a:lnTo>
                    <a:pt x="1324" y="1075"/>
                  </a:lnTo>
                  <a:lnTo>
                    <a:pt x="1339" y="1088"/>
                  </a:lnTo>
                  <a:lnTo>
                    <a:pt x="1339" y="1178"/>
                  </a:lnTo>
                  <a:lnTo>
                    <a:pt x="1395" y="1235"/>
                  </a:lnTo>
                  <a:lnTo>
                    <a:pt x="1424" y="1207"/>
                  </a:lnTo>
                  <a:lnTo>
                    <a:pt x="1395" y="1103"/>
                  </a:lnTo>
                  <a:lnTo>
                    <a:pt x="1424" y="1088"/>
                  </a:lnTo>
                  <a:lnTo>
                    <a:pt x="1450" y="1044"/>
                  </a:lnTo>
                  <a:lnTo>
                    <a:pt x="1439" y="958"/>
                  </a:lnTo>
                  <a:lnTo>
                    <a:pt x="1410" y="925"/>
                  </a:lnTo>
                  <a:lnTo>
                    <a:pt x="1424" y="912"/>
                  </a:lnTo>
                  <a:lnTo>
                    <a:pt x="1439" y="912"/>
                  </a:lnTo>
                  <a:lnTo>
                    <a:pt x="1439" y="852"/>
                  </a:lnTo>
                  <a:lnTo>
                    <a:pt x="1424" y="839"/>
                  </a:lnTo>
                  <a:lnTo>
                    <a:pt x="1439" y="795"/>
                  </a:lnTo>
                  <a:lnTo>
                    <a:pt x="1424" y="778"/>
                  </a:lnTo>
                  <a:lnTo>
                    <a:pt x="1424" y="766"/>
                  </a:lnTo>
                  <a:lnTo>
                    <a:pt x="1439" y="749"/>
                  </a:lnTo>
                  <a:lnTo>
                    <a:pt x="1481" y="766"/>
                  </a:lnTo>
                  <a:lnTo>
                    <a:pt x="1523" y="749"/>
                  </a:lnTo>
                  <a:lnTo>
                    <a:pt x="1581" y="795"/>
                  </a:lnTo>
                  <a:lnTo>
                    <a:pt x="1565" y="810"/>
                  </a:lnTo>
                  <a:lnTo>
                    <a:pt x="1581" y="824"/>
                  </a:lnTo>
                  <a:lnTo>
                    <a:pt x="1625" y="824"/>
                  </a:lnTo>
                  <a:lnTo>
                    <a:pt x="1625" y="912"/>
                  </a:lnTo>
                  <a:lnTo>
                    <a:pt x="1669" y="958"/>
                  </a:lnTo>
                  <a:lnTo>
                    <a:pt x="1725" y="896"/>
                  </a:lnTo>
                  <a:lnTo>
                    <a:pt x="1713" y="883"/>
                  </a:lnTo>
                  <a:lnTo>
                    <a:pt x="1725" y="852"/>
                  </a:lnTo>
                  <a:lnTo>
                    <a:pt x="1813" y="998"/>
                  </a:lnTo>
                  <a:lnTo>
                    <a:pt x="1798" y="1015"/>
                  </a:lnTo>
                  <a:lnTo>
                    <a:pt x="1798" y="1044"/>
                  </a:lnTo>
                  <a:lnTo>
                    <a:pt x="1824" y="1059"/>
                  </a:lnTo>
                  <a:lnTo>
                    <a:pt x="1824" y="1075"/>
                  </a:lnTo>
                  <a:lnTo>
                    <a:pt x="1857" y="1088"/>
                  </a:lnTo>
                  <a:lnTo>
                    <a:pt x="1869" y="1088"/>
                  </a:lnTo>
                  <a:lnTo>
                    <a:pt x="1897" y="1103"/>
                  </a:lnTo>
                  <a:lnTo>
                    <a:pt x="1869" y="1117"/>
                  </a:lnTo>
                  <a:lnTo>
                    <a:pt x="1897" y="1117"/>
                  </a:lnTo>
                  <a:lnTo>
                    <a:pt x="1897" y="1149"/>
                  </a:lnTo>
                  <a:lnTo>
                    <a:pt x="1913" y="1149"/>
                  </a:lnTo>
                  <a:lnTo>
                    <a:pt x="1928" y="1161"/>
                  </a:lnTo>
                  <a:lnTo>
                    <a:pt x="1928" y="1178"/>
                  </a:lnTo>
                  <a:lnTo>
                    <a:pt x="1940" y="1207"/>
                  </a:lnTo>
                  <a:lnTo>
                    <a:pt x="1913" y="1222"/>
                  </a:lnTo>
                  <a:lnTo>
                    <a:pt x="1869" y="1235"/>
                  </a:lnTo>
                  <a:lnTo>
                    <a:pt x="1840" y="1280"/>
                  </a:lnTo>
                  <a:lnTo>
                    <a:pt x="1798" y="1280"/>
                  </a:lnTo>
                  <a:lnTo>
                    <a:pt x="1753" y="1264"/>
                  </a:lnTo>
                  <a:lnTo>
                    <a:pt x="1682" y="1280"/>
                  </a:lnTo>
                  <a:lnTo>
                    <a:pt x="1669" y="1308"/>
                  </a:lnTo>
                  <a:lnTo>
                    <a:pt x="1654" y="1308"/>
                  </a:lnTo>
                  <a:lnTo>
                    <a:pt x="1625" y="1324"/>
                  </a:lnTo>
                  <a:lnTo>
                    <a:pt x="1581" y="1381"/>
                  </a:lnTo>
                  <a:lnTo>
                    <a:pt x="1598" y="1381"/>
                  </a:lnTo>
                  <a:lnTo>
                    <a:pt x="1638" y="1337"/>
                  </a:lnTo>
                  <a:lnTo>
                    <a:pt x="1682" y="1308"/>
                  </a:lnTo>
                  <a:lnTo>
                    <a:pt x="1740" y="1308"/>
                  </a:lnTo>
                  <a:lnTo>
                    <a:pt x="1740" y="1337"/>
                  </a:lnTo>
                  <a:lnTo>
                    <a:pt x="1713" y="1352"/>
                  </a:lnTo>
                  <a:lnTo>
                    <a:pt x="1698" y="1352"/>
                  </a:lnTo>
                  <a:lnTo>
                    <a:pt x="1713" y="1370"/>
                  </a:lnTo>
                  <a:lnTo>
                    <a:pt x="1725" y="1352"/>
                  </a:lnTo>
                  <a:lnTo>
                    <a:pt x="1725" y="1398"/>
                  </a:lnTo>
                  <a:lnTo>
                    <a:pt x="1740" y="1410"/>
                  </a:lnTo>
                  <a:lnTo>
                    <a:pt x="1769" y="1427"/>
                  </a:lnTo>
                  <a:lnTo>
                    <a:pt x="1798" y="1427"/>
                  </a:lnTo>
                  <a:lnTo>
                    <a:pt x="1798" y="1410"/>
                  </a:lnTo>
                  <a:lnTo>
                    <a:pt x="1824" y="1381"/>
                  </a:lnTo>
                  <a:lnTo>
                    <a:pt x="1824" y="1410"/>
                  </a:lnTo>
                  <a:lnTo>
                    <a:pt x="1840" y="1410"/>
                  </a:lnTo>
                  <a:lnTo>
                    <a:pt x="1824" y="1427"/>
                  </a:lnTo>
                  <a:lnTo>
                    <a:pt x="1813" y="1442"/>
                  </a:lnTo>
                  <a:lnTo>
                    <a:pt x="1740" y="1471"/>
                  </a:lnTo>
                  <a:lnTo>
                    <a:pt x="1713" y="1500"/>
                  </a:lnTo>
                  <a:lnTo>
                    <a:pt x="1698" y="1471"/>
                  </a:lnTo>
                  <a:lnTo>
                    <a:pt x="1740" y="1442"/>
                  </a:lnTo>
                  <a:lnTo>
                    <a:pt x="1725" y="1442"/>
                  </a:lnTo>
                  <a:lnTo>
                    <a:pt x="1725" y="1427"/>
                  </a:lnTo>
                  <a:lnTo>
                    <a:pt x="1698" y="1442"/>
                  </a:lnTo>
                  <a:lnTo>
                    <a:pt x="1682" y="1442"/>
                  </a:lnTo>
                  <a:lnTo>
                    <a:pt x="1669" y="1427"/>
                  </a:lnTo>
                  <a:lnTo>
                    <a:pt x="1654" y="1381"/>
                  </a:lnTo>
                  <a:lnTo>
                    <a:pt x="1654" y="1370"/>
                  </a:lnTo>
                  <a:lnTo>
                    <a:pt x="1638" y="1381"/>
                  </a:lnTo>
                  <a:lnTo>
                    <a:pt x="1625" y="1370"/>
                  </a:lnTo>
                  <a:lnTo>
                    <a:pt x="1598" y="1442"/>
                  </a:lnTo>
                  <a:lnTo>
                    <a:pt x="1565" y="1456"/>
                  </a:lnTo>
                  <a:lnTo>
                    <a:pt x="1494" y="1456"/>
                  </a:lnTo>
                  <a:lnTo>
                    <a:pt x="1466" y="1471"/>
                  </a:lnTo>
                  <a:lnTo>
                    <a:pt x="1450" y="1484"/>
                  </a:lnTo>
                  <a:lnTo>
                    <a:pt x="1410" y="1484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355760" y="4172040"/>
              <a:ext cx="14040" cy="14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3071520" y="3819240"/>
              <a:ext cx="11160" cy="111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815920" y="3519360"/>
              <a:ext cx="174960" cy="13680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815920" y="3519360"/>
              <a:ext cx="174960" cy="13680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727360" y="3425760"/>
              <a:ext cx="156960" cy="810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727360" y="3425760"/>
              <a:ext cx="156960" cy="810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909880" y="3618000"/>
              <a:ext cx="95040" cy="3816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909880" y="3618000"/>
              <a:ext cx="95040" cy="3816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004920" y="3576600"/>
              <a:ext cx="52560" cy="255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004920" y="3576600"/>
              <a:ext cx="52560" cy="255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071520" y="5014800"/>
              <a:ext cx="174600" cy="97812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071520" y="5014800"/>
              <a:ext cx="174600" cy="97812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111480" y="5954760"/>
              <a:ext cx="104760" cy="10476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111480" y="5954760"/>
              <a:ext cx="104760" cy="10476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216240" y="5954760"/>
              <a:ext cx="79200" cy="12204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216240" y="5954760"/>
              <a:ext cx="79200" cy="12204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124080" y="5111640"/>
              <a:ext cx="411120" cy="82872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124080" y="5111640"/>
              <a:ext cx="411120" cy="82872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377880" y="5913360"/>
              <a:ext cx="66960" cy="4140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377880" y="5913360"/>
              <a:ext cx="66960" cy="4140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124080" y="3668760"/>
              <a:ext cx="38160" cy="172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124080" y="3668760"/>
              <a:ext cx="38160" cy="172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311280" y="3398760"/>
              <a:ext cx="52560" cy="2700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311280" y="3398760"/>
              <a:ext cx="52560" cy="2700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311280" y="3492360"/>
              <a:ext cx="52560" cy="4140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311280" y="3492360"/>
              <a:ext cx="52560" cy="4140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419280" y="3346560"/>
              <a:ext cx="128520" cy="16020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419280" y="3346560"/>
              <a:ext cx="128520" cy="16020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206440" y="3898800"/>
              <a:ext cx="623880" cy="425520"/>
            </a:xfrm>
            <a:custGeom>
              <a:avLst/>
              <a:gdLst/>
              <a:ahLst/>
              <a:rect l="l" t="t" r="r" b="b"/>
              <a:pathLst>
                <a:path w="675" h="457">
                  <a:moveTo>
                    <a:pt x="445" y="176"/>
                  </a:moveTo>
                  <a:lnTo>
                    <a:pt x="430" y="208"/>
                  </a:lnTo>
                  <a:lnTo>
                    <a:pt x="430" y="266"/>
                  </a:lnTo>
                  <a:lnTo>
                    <a:pt x="445" y="281"/>
                  </a:lnTo>
                  <a:lnTo>
                    <a:pt x="445" y="294"/>
                  </a:lnTo>
                  <a:lnTo>
                    <a:pt x="474" y="354"/>
                  </a:lnTo>
                  <a:lnTo>
                    <a:pt x="518" y="367"/>
                  </a:lnTo>
                  <a:lnTo>
                    <a:pt x="560" y="354"/>
                  </a:lnTo>
                  <a:lnTo>
                    <a:pt x="589" y="354"/>
                  </a:lnTo>
                  <a:lnTo>
                    <a:pt x="573" y="354"/>
                  </a:lnTo>
                  <a:lnTo>
                    <a:pt x="589" y="339"/>
                  </a:lnTo>
                  <a:lnTo>
                    <a:pt x="604" y="294"/>
                  </a:lnTo>
                  <a:lnTo>
                    <a:pt x="618" y="294"/>
                  </a:lnTo>
                  <a:lnTo>
                    <a:pt x="660" y="281"/>
                  </a:lnTo>
                  <a:lnTo>
                    <a:pt x="675" y="294"/>
                  </a:lnTo>
                  <a:lnTo>
                    <a:pt x="660" y="354"/>
                  </a:lnTo>
                  <a:lnTo>
                    <a:pt x="660" y="367"/>
                  </a:lnTo>
                  <a:lnTo>
                    <a:pt x="644" y="354"/>
                  </a:lnTo>
                  <a:lnTo>
                    <a:pt x="633" y="367"/>
                  </a:lnTo>
                  <a:lnTo>
                    <a:pt x="589" y="367"/>
                  </a:lnTo>
                  <a:lnTo>
                    <a:pt x="573" y="383"/>
                  </a:lnTo>
                  <a:lnTo>
                    <a:pt x="604" y="411"/>
                  </a:lnTo>
                  <a:lnTo>
                    <a:pt x="573" y="411"/>
                  </a:lnTo>
                  <a:lnTo>
                    <a:pt x="560" y="457"/>
                  </a:lnTo>
                  <a:lnTo>
                    <a:pt x="518" y="411"/>
                  </a:lnTo>
                  <a:lnTo>
                    <a:pt x="489" y="411"/>
                  </a:lnTo>
                  <a:lnTo>
                    <a:pt x="474" y="429"/>
                  </a:lnTo>
                  <a:lnTo>
                    <a:pt x="430" y="411"/>
                  </a:lnTo>
                  <a:lnTo>
                    <a:pt x="359" y="383"/>
                  </a:lnTo>
                  <a:lnTo>
                    <a:pt x="345" y="367"/>
                  </a:lnTo>
                  <a:lnTo>
                    <a:pt x="301" y="367"/>
                  </a:lnTo>
                  <a:lnTo>
                    <a:pt x="274" y="339"/>
                  </a:lnTo>
                  <a:lnTo>
                    <a:pt x="259" y="310"/>
                  </a:lnTo>
                  <a:lnTo>
                    <a:pt x="274" y="294"/>
                  </a:lnTo>
                  <a:lnTo>
                    <a:pt x="259" y="266"/>
                  </a:lnTo>
                  <a:lnTo>
                    <a:pt x="201" y="191"/>
                  </a:lnTo>
                  <a:lnTo>
                    <a:pt x="171" y="176"/>
                  </a:lnTo>
                  <a:lnTo>
                    <a:pt x="171" y="162"/>
                  </a:lnTo>
                  <a:lnTo>
                    <a:pt x="142" y="134"/>
                  </a:lnTo>
                  <a:lnTo>
                    <a:pt x="142" y="118"/>
                  </a:lnTo>
                  <a:lnTo>
                    <a:pt x="127" y="118"/>
                  </a:lnTo>
                  <a:lnTo>
                    <a:pt x="115" y="90"/>
                  </a:lnTo>
                  <a:lnTo>
                    <a:pt x="86" y="32"/>
                  </a:lnTo>
                  <a:lnTo>
                    <a:pt x="71" y="32"/>
                  </a:lnTo>
                  <a:lnTo>
                    <a:pt x="42" y="17"/>
                  </a:lnTo>
                  <a:lnTo>
                    <a:pt x="56" y="61"/>
                  </a:lnTo>
                  <a:lnTo>
                    <a:pt x="127" y="162"/>
                  </a:lnTo>
                  <a:lnTo>
                    <a:pt x="142" y="220"/>
                  </a:lnTo>
                  <a:lnTo>
                    <a:pt x="159" y="220"/>
                  </a:lnTo>
                  <a:lnTo>
                    <a:pt x="171" y="237"/>
                  </a:lnTo>
                  <a:lnTo>
                    <a:pt x="159" y="252"/>
                  </a:lnTo>
                  <a:lnTo>
                    <a:pt x="142" y="237"/>
                  </a:lnTo>
                  <a:lnTo>
                    <a:pt x="100" y="208"/>
                  </a:lnTo>
                  <a:lnTo>
                    <a:pt x="115" y="191"/>
                  </a:lnTo>
                  <a:lnTo>
                    <a:pt x="100" y="162"/>
                  </a:lnTo>
                  <a:lnTo>
                    <a:pt x="56" y="147"/>
                  </a:lnTo>
                  <a:lnTo>
                    <a:pt x="42" y="118"/>
                  </a:lnTo>
                  <a:lnTo>
                    <a:pt x="56" y="134"/>
                  </a:lnTo>
                  <a:lnTo>
                    <a:pt x="71" y="103"/>
                  </a:lnTo>
                  <a:lnTo>
                    <a:pt x="27" y="7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127" y="32"/>
                  </a:lnTo>
                  <a:lnTo>
                    <a:pt x="242" y="17"/>
                  </a:lnTo>
                  <a:lnTo>
                    <a:pt x="274" y="46"/>
                  </a:lnTo>
                  <a:lnTo>
                    <a:pt x="274" y="74"/>
                  </a:lnTo>
                  <a:lnTo>
                    <a:pt x="301" y="90"/>
                  </a:lnTo>
                  <a:lnTo>
                    <a:pt x="316" y="90"/>
                  </a:lnTo>
                  <a:lnTo>
                    <a:pt x="330" y="74"/>
                  </a:lnTo>
                  <a:lnTo>
                    <a:pt x="345" y="74"/>
                  </a:lnTo>
                  <a:lnTo>
                    <a:pt x="401" y="162"/>
                  </a:lnTo>
                  <a:lnTo>
                    <a:pt x="445" y="176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792160" y="4227480"/>
              <a:ext cx="9720" cy="525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792160" y="4227480"/>
              <a:ext cx="9720" cy="525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727360" y="4240080"/>
              <a:ext cx="74520" cy="968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727360" y="4240080"/>
              <a:ext cx="74520" cy="968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778120" y="4295880"/>
              <a:ext cx="131760" cy="5220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778120" y="4295880"/>
              <a:ext cx="131760" cy="5220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766960" y="4324320"/>
              <a:ext cx="48960" cy="23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766960" y="4324320"/>
              <a:ext cx="48960" cy="23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830320" y="4306680"/>
              <a:ext cx="79560" cy="98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830320" y="4306680"/>
              <a:ext cx="79560" cy="98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857320" y="4390920"/>
              <a:ext cx="68400" cy="66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857320" y="4390920"/>
              <a:ext cx="68400" cy="66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925720" y="4430520"/>
              <a:ext cx="65160" cy="5400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925720" y="4430520"/>
              <a:ext cx="65160" cy="5400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990880" y="4430520"/>
              <a:ext cx="52200" cy="5400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990880" y="4430520"/>
              <a:ext cx="52200" cy="5400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977920" y="4430520"/>
              <a:ext cx="12960" cy="12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977920" y="4430520"/>
              <a:ext cx="12960" cy="12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149280" y="4201920"/>
              <a:ext cx="81000" cy="5112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149280" y="4201920"/>
              <a:ext cx="81000" cy="5112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097080" y="4201920"/>
              <a:ext cx="52200" cy="381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097080" y="4201920"/>
              <a:ext cx="52200" cy="381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004920" y="4363920"/>
              <a:ext cx="241200" cy="35424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004920" y="4363920"/>
              <a:ext cx="241200" cy="35424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963880" y="4606920"/>
              <a:ext cx="118800" cy="13824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963880" y="4606920"/>
              <a:ext cx="118800" cy="13824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949480" y="4633920"/>
              <a:ext cx="266760" cy="39384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949480" y="4633920"/>
              <a:ext cx="266760" cy="39384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201840" y="4838760"/>
              <a:ext cx="243000" cy="29844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201840" y="4838760"/>
              <a:ext cx="243000" cy="29844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351240" y="5059440"/>
              <a:ext cx="168120" cy="18720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351240" y="5059440"/>
              <a:ext cx="168120" cy="18720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429000" y="5315040"/>
              <a:ext cx="118800" cy="10800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429000" y="5315040"/>
              <a:ext cx="118800" cy="10800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111480" y="4527360"/>
              <a:ext cx="823680" cy="868680"/>
            </a:xfrm>
            <a:custGeom>
              <a:avLst/>
              <a:gdLst/>
              <a:ahLst/>
              <a:rect l="l" t="t" r="r" b="b"/>
              <a:pathLst>
                <a:path w="892" h="940">
                  <a:moveTo>
                    <a:pt x="516" y="28"/>
                  </a:moveTo>
                  <a:lnTo>
                    <a:pt x="505" y="28"/>
                  </a:lnTo>
                  <a:lnTo>
                    <a:pt x="476" y="59"/>
                  </a:lnTo>
                  <a:lnTo>
                    <a:pt x="461" y="72"/>
                  </a:lnTo>
                  <a:lnTo>
                    <a:pt x="445" y="59"/>
                  </a:lnTo>
                  <a:lnTo>
                    <a:pt x="417" y="59"/>
                  </a:lnTo>
                  <a:lnTo>
                    <a:pt x="405" y="72"/>
                  </a:lnTo>
                  <a:lnTo>
                    <a:pt x="390" y="72"/>
                  </a:lnTo>
                  <a:lnTo>
                    <a:pt x="346" y="88"/>
                  </a:lnTo>
                  <a:lnTo>
                    <a:pt x="334" y="88"/>
                  </a:lnTo>
                  <a:lnTo>
                    <a:pt x="317" y="59"/>
                  </a:lnTo>
                  <a:lnTo>
                    <a:pt x="317" y="0"/>
                  </a:lnTo>
                  <a:lnTo>
                    <a:pt x="301" y="0"/>
                  </a:lnTo>
                  <a:lnTo>
                    <a:pt x="290" y="15"/>
                  </a:lnTo>
                  <a:lnTo>
                    <a:pt x="246" y="28"/>
                  </a:lnTo>
                  <a:lnTo>
                    <a:pt x="202" y="15"/>
                  </a:lnTo>
                  <a:lnTo>
                    <a:pt x="217" y="28"/>
                  </a:lnTo>
                  <a:lnTo>
                    <a:pt x="217" y="59"/>
                  </a:lnTo>
                  <a:lnTo>
                    <a:pt x="230" y="72"/>
                  </a:lnTo>
                  <a:lnTo>
                    <a:pt x="190" y="101"/>
                  </a:lnTo>
                  <a:lnTo>
                    <a:pt x="175" y="101"/>
                  </a:lnTo>
                  <a:lnTo>
                    <a:pt x="159" y="88"/>
                  </a:lnTo>
                  <a:lnTo>
                    <a:pt x="146" y="72"/>
                  </a:lnTo>
                  <a:lnTo>
                    <a:pt x="87" y="72"/>
                  </a:lnTo>
                  <a:lnTo>
                    <a:pt x="87" y="88"/>
                  </a:lnTo>
                  <a:lnTo>
                    <a:pt x="102" y="101"/>
                  </a:lnTo>
                  <a:lnTo>
                    <a:pt x="87" y="101"/>
                  </a:lnTo>
                  <a:lnTo>
                    <a:pt x="102" y="145"/>
                  </a:lnTo>
                  <a:lnTo>
                    <a:pt x="87" y="206"/>
                  </a:lnTo>
                  <a:lnTo>
                    <a:pt x="31" y="235"/>
                  </a:lnTo>
                  <a:lnTo>
                    <a:pt x="0" y="293"/>
                  </a:lnTo>
                  <a:lnTo>
                    <a:pt x="16" y="337"/>
                  </a:lnTo>
                  <a:lnTo>
                    <a:pt x="42" y="354"/>
                  </a:lnTo>
                  <a:lnTo>
                    <a:pt x="75" y="337"/>
                  </a:lnTo>
                  <a:lnTo>
                    <a:pt x="75" y="365"/>
                  </a:lnTo>
                  <a:lnTo>
                    <a:pt x="131" y="365"/>
                  </a:lnTo>
                  <a:lnTo>
                    <a:pt x="159" y="337"/>
                  </a:lnTo>
                  <a:lnTo>
                    <a:pt x="190" y="337"/>
                  </a:lnTo>
                  <a:lnTo>
                    <a:pt x="190" y="383"/>
                  </a:lnTo>
                  <a:lnTo>
                    <a:pt x="202" y="394"/>
                  </a:lnTo>
                  <a:lnTo>
                    <a:pt x="290" y="427"/>
                  </a:lnTo>
                  <a:lnTo>
                    <a:pt x="301" y="455"/>
                  </a:lnTo>
                  <a:lnTo>
                    <a:pt x="301" y="469"/>
                  </a:lnTo>
                  <a:lnTo>
                    <a:pt x="317" y="499"/>
                  </a:lnTo>
                  <a:lnTo>
                    <a:pt x="346" y="499"/>
                  </a:lnTo>
                  <a:lnTo>
                    <a:pt x="346" y="513"/>
                  </a:lnTo>
                  <a:lnTo>
                    <a:pt x="361" y="542"/>
                  </a:lnTo>
                  <a:lnTo>
                    <a:pt x="361" y="632"/>
                  </a:lnTo>
                  <a:lnTo>
                    <a:pt x="405" y="647"/>
                  </a:lnTo>
                  <a:lnTo>
                    <a:pt x="417" y="647"/>
                  </a:lnTo>
                  <a:lnTo>
                    <a:pt x="417" y="676"/>
                  </a:lnTo>
                  <a:lnTo>
                    <a:pt x="445" y="691"/>
                  </a:lnTo>
                  <a:lnTo>
                    <a:pt x="434" y="720"/>
                  </a:lnTo>
                  <a:lnTo>
                    <a:pt x="445" y="720"/>
                  </a:lnTo>
                  <a:lnTo>
                    <a:pt x="461" y="766"/>
                  </a:lnTo>
                  <a:lnTo>
                    <a:pt x="434" y="777"/>
                  </a:lnTo>
                  <a:lnTo>
                    <a:pt x="374" y="852"/>
                  </a:lnTo>
                  <a:lnTo>
                    <a:pt x="390" y="852"/>
                  </a:lnTo>
                  <a:lnTo>
                    <a:pt x="405" y="867"/>
                  </a:lnTo>
                  <a:lnTo>
                    <a:pt x="417" y="867"/>
                  </a:lnTo>
                  <a:lnTo>
                    <a:pt x="461" y="896"/>
                  </a:lnTo>
                  <a:lnTo>
                    <a:pt x="476" y="909"/>
                  </a:lnTo>
                  <a:lnTo>
                    <a:pt x="461" y="940"/>
                  </a:lnTo>
                  <a:lnTo>
                    <a:pt x="489" y="909"/>
                  </a:lnTo>
                  <a:lnTo>
                    <a:pt x="516" y="881"/>
                  </a:lnTo>
                  <a:lnTo>
                    <a:pt x="549" y="823"/>
                  </a:lnTo>
                  <a:lnTo>
                    <a:pt x="576" y="794"/>
                  </a:lnTo>
                  <a:lnTo>
                    <a:pt x="576" y="733"/>
                  </a:lnTo>
                  <a:lnTo>
                    <a:pt x="589" y="704"/>
                  </a:lnTo>
                  <a:lnTo>
                    <a:pt x="620" y="691"/>
                  </a:lnTo>
                  <a:lnTo>
                    <a:pt x="664" y="660"/>
                  </a:lnTo>
                  <a:lnTo>
                    <a:pt x="720" y="660"/>
                  </a:lnTo>
                  <a:lnTo>
                    <a:pt x="720" y="647"/>
                  </a:lnTo>
                  <a:lnTo>
                    <a:pt x="748" y="632"/>
                  </a:lnTo>
                  <a:lnTo>
                    <a:pt x="748" y="618"/>
                  </a:lnTo>
                  <a:lnTo>
                    <a:pt x="775" y="574"/>
                  </a:lnTo>
                  <a:lnTo>
                    <a:pt x="775" y="542"/>
                  </a:lnTo>
                  <a:lnTo>
                    <a:pt x="792" y="528"/>
                  </a:lnTo>
                  <a:lnTo>
                    <a:pt x="792" y="427"/>
                  </a:lnTo>
                  <a:lnTo>
                    <a:pt x="863" y="337"/>
                  </a:lnTo>
                  <a:lnTo>
                    <a:pt x="892" y="293"/>
                  </a:lnTo>
                  <a:lnTo>
                    <a:pt x="879" y="235"/>
                  </a:lnTo>
                  <a:lnTo>
                    <a:pt x="835" y="235"/>
                  </a:lnTo>
                  <a:lnTo>
                    <a:pt x="764" y="174"/>
                  </a:lnTo>
                  <a:lnTo>
                    <a:pt x="735" y="191"/>
                  </a:lnTo>
                  <a:lnTo>
                    <a:pt x="693" y="174"/>
                  </a:lnTo>
                  <a:lnTo>
                    <a:pt x="664" y="174"/>
                  </a:lnTo>
                  <a:lnTo>
                    <a:pt x="664" y="145"/>
                  </a:lnTo>
                  <a:lnTo>
                    <a:pt x="649" y="145"/>
                  </a:lnTo>
                  <a:lnTo>
                    <a:pt x="589" y="134"/>
                  </a:lnTo>
                  <a:lnTo>
                    <a:pt x="576" y="145"/>
                  </a:lnTo>
                  <a:lnTo>
                    <a:pt x="576" y="116"/>
                  </a:lnTo>
                  <a:lnTo>
                    <a:pt x="534" y="116"/>
                  </a:lnTo>
                  <a:lnTo>
                    <a:pt x="534" y="145"/>
                  </a:lnTo>
                  <a:lnTo>
                    <a:pt x="516" y="134"/>
                  </a:lnTo>
                  <a:lnTo>
                    <a:pt x="505" y="145"/>
                  </a:lnTo>
                  <a:lnTo>
                    <a:pt x="516" y="116"/>
                  </a:lnTo>
                  <a:lnTo>
                    <a:pt x="549" y="88"/>
                  </a:lnTo>
                  <a:lnTo>
                    <a:pt x="549" y="72"/>
                  </a:lnTo>
                  <a:lnTo>
                    <a:pt x="534" y="72"/>
                  </a:lnTo>
                  <a:lnTo>
                    <a:pt x="516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519360" y="4514760"/>
              <a:ext cx="57240" cy="795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519360" y="4514760"/>
              <a:ext cx="57240" cy="795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444840" y="4514760"/>
              <a:ext cx="74520" cy="795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444840" y="4514760"/>
              <a:ext cx="74520" cy="795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377880" y="4457520"/>
              <a:ext cx="90720" cy="14940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377880" y="4457520"/>
              <a:ext cx="90720" cy="14940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124080" y="4375080"/>
              <a:ext cx="277920" cy="24624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124080" y="4375080"/>
              <a:ext cx="277920" cy="24624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097080" y="5616720"/>
              <a:ext cx="27000" cy="50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097080" y="5616720"/>
              <a:ext cx="27000" cy="50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17520" y="4227480"/>
              <a:ext cx="39960" cy="255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017520" y="4227480"/>
              <a:ext cx="39960" cy="255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884320" y="4121280"/>
              <a:ext cx="212760" cy="8064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884320" y="4121280"/>
              <a:ext cx="212760" cy="8064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017520" y="4078080"/>
              <a:ext cx="12960" cy="4320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017520" y="4078080"/>
              <a:ext cx="12960" cy="4320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830320" y="2730600"/>
              <a:ext cx="147600" cy="150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830320" y="2730600"/>
              <a:ext cx="147600" cy="150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043080" y="2611440"/>
              <a:ext cx="39600" cy="6660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043080" y="2611440"/>
              <a:ext cx="39600" cy="6660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876320" y="3246480"/>
              <a:ext cx="38160" cy="8424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876320" y="3246480"/>
              <a:ext cx="38160" cy="8424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966680" y="3370320"/>
              <a:ext cx="108000" cy="8100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966680" y="3370320"/>
              <a:ext cx="108000" cy="8100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304640" y="4146480"/>
              <a:ext cx="9720" cy="14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304640" y="4146480"/>
              <a:ext cx="9720" cy="14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341360" y="4160880"/>
              <a:ext cx="14400" cy="111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369800" y="4172040"/>
              <a:ext cx="11160" cy="140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380960" y="4186080"/>
              <a:ext cx="27000" cy="414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380960" y="4186080"/>
              <a:ext cx="27000" cy="414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3201840" y="2901960"/>
            <a:ext cx="5434200" cy="1721880"/>
            <a:chOff x="3201840" y="2901960"/>
            <a:chExt cx="5434200" cy="1721880"/>
          </a:xfrm>
        </p:grpSpPr>
        <p:sp>
          <p:nvSpPr>
            <p:cNvPr id="2163" name=""/>
            <p:cNvSpPr/>
            <p:nvPr/>
          </p:nvSpPr>
          <p:spPr>
            <a:xfrm>
              <a:off x="6389640" y="29019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Intermediate Go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201840" y="410364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Finished Go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202520" y="3990960"/>
              <a:ext cx="14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aw Materi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1661400" y="2733840"/>
            <a:ext cx="7794000" cy="2106000"/>
            <a:chOff x="1661400" y="2733840"/>
            <a:chExt cx="7794000" cy="2106000"/>
          </a:xfrm>
        </p:grpSpPr>
        <p:sp>
          <p:nvSpPr>
            <p:cNvPr id="2167" name=""/>
            <p:cNvSpPr/>
            <p:nvPr/>
          </p:nvSpPr>
          <p:spPr>
            <a:xfrm>
              <a:off x="3360600" y="3209760"/>
              <a:ext cx="3400560" cy="131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3" y="2"/>
                  </a:moveTo>
                  <a:arcTo wR="10800" hR="10800" stAng="-5341618" swAng="48044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3" y="2"/>
                  </a:moveTo>
                  <a:arcTo wR="10800" hR="10800" stAng="-5341618" swAng="4804480"/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538360" y="3017880"/>
              <a:ext cx="4301640" cy="159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8" y="7860"/>
                  </a:moveTo>
                  <a:arcTo wR="10800" hR="10800" stAng="-9852323" swAng="10154699"/>
                  <a:lnTo>
                    <a:pt x="10800" y="10800"/>
                  </a:lnTo>
                  <a:close/>
                </a:path>
                <a:path fill="none" w="21600" h="21600">
                  <a:moveTo>
                    <a:pt x="408" y="7860"/>
                  </a:moveTo>
                  <a:arcTo wR="10800" hR="10800" stAng="-9852323" swAng="10154699"/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6941520" y="3413160"/>
              <a:ext cx="806040" cy="100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86" y="3344"/>
                  </a:moveTo>
                  <a:arcTo wR="10800" hR="10800" stAng="-8180555" swAng="717046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86" y="3344"/>
                  </a:moveTo>
                  <a:arcTo wR="10800" hR="10800" stAng="-8180555" swAng="7170464"/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>
              <a:off x="6854760" y="3898440"/>
              <a:ext cx="0" cy="654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586920" y="3909960"/>
              <a:ext cx="666000" cy="92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7042320" y="3739680"/>
              <a:ext cx="555480" cy="81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959520" y="4025880"/>
              <a:ext cx="160560" cy="595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 flipV="1">
              <a:off x="2558880" y="3298320"/>
              <a:ext cx="443520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3" y="5712"/>
                  </a:moveTo>
                  <a:arcTo wR="10800" hR="10800" stAng="-9113701" swAng="86033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3" y="5712"/>
                  </a:moveTo>
                  <a:arcTo wR="10800" hR="10800" stAng="-9113701" swAng="8603301"/>
                </a:path>
              </a:pathLst>
            </a:custGeom>
            <a:noFill/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 flipV="1">
              <a:off x="5019480" y="2812680"/>
              <a:ext cx="4435920" cy="100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427" y="324"/>
                  </a:moveTo>
                  <a:arcTo wR="10800" hR="10800" stAng="-4555258" swAng="4044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427" y="324"/>
                  </a:moveTo>
                  <a:arcTo wR="10800" hR="10800" stAng="-4555258" swAng="4044857"/>
                </a:path>
              </a:pathLst>
            </a:custGeom>
            <a:noFill/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661400" y="2733840"/>
              <a:ext cx="5210640" cy="19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4" y="3284"/>
                  </a:moveTo>
                  <a:arcTo wR="10800" hR="10800" stAng="-8154154" swAng="82012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4" y="3284"/>
                  </a:moveTo>
                  <a:arcTo wR="10800" hR="10800" stAng="-8154154" swAng="8201256"/>
                </a:path>
              </a:pathLst>
            </a:custGeom>
            <a:noFill/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7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mplex Supply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1488960" y="1887840"/>
            <a:ext cx="3355920" cy="1001160"/>
          </a:xfrm>
          <a:prstGeom prst="downArrowCallout">
            <a:avLst>
              <a:gd name="adj1" fmla="val 67978"/>
              <a:gd name="adj2" fmla="val 60073"/>
              <a:gd name="adj3" fmla="val 18181"/>
              <a:gd name="adj4" fmla="val 7272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cean Transportation covers a small segment of the total supply ch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19320" y="3638520"/>
            <a:ext cx="1402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pplier &amp; Ven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600560" y="3638520"/>
            <a:ext cx="11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2822400" y="3638520"/>
            <a:ext cx="116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ean / A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064040" y="3638520"/>
            <a:ext cx="865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cument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967640" y="3638520"/>
            <a:ext cx="1270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onsolidatio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205680" y="3638520"/>
            <a:ext cx="116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mestic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ulti-Modal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7385400" y="3664080"/>
            <a:ext cx="110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rehous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amp; DC’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8424000" y="3638520"/>
            <a:ext cx="104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livery to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int-of-Sa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30532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61816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93244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24528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55956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7240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718668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49952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99284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75340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844056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812628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81380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47160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1288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15560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906768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4" name="Picture 29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385040" y="3049560"/>
            <a:ext cx="990720" cy="612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05" name="Picture 30" descr=""/>
          <p:cNvPicPr/>
          <p:nvPr/>
        </p:nvPicPr>
        <p:blipFill>
          <a:blip r:embed="rId2"/>
          <a:stretch/>
        </p:blipFill>
        <p:spPr>
          <a:xfrm>
            <a:off x="4056120" y="3052800"/>
            <a:ext cx="907920" cy="604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06" name="Picture 31" descr=""/>
          <p:cNvPicPr/>
          <p:nvPr/>
        </p:nvPicPr>
        <p:blipFill>
          <a:blip r:embed="rId3"/>
          <a:stretch/>
        </p:blipFill>
        <p:spPr>
          <a:xfrm>
            <a:off x="5129280" y="3052800"/>
            <a:ext cx="990360" cy="6094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07" name="Picture 32" descr=""/>
          <p:cNvPicPr/>
          <p:nvPr/>
        </p:nvPicPr>
        <p:blipFill>
          <a:blip r:embed="rId4"/>
          <a:stretch/>
        </p:blipFill>
        <p:spPr>
          <a:xfrm>
            <a:off x="3009960" y="3051000"/>
            <a:ext cx="907920" cy="6130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08" name="Picture 33" descr=""/>
          <p:cNvPicPr/>
          <p:nvPr/>
        </p:nvPicPr>
        <p:blipFill>
          <a:blip r:embed="rId5"/>
          <a:stretch/>
        </p:blipFill>
        <p:spPr>
          <a:xfrm>
            <a:off x="2616120" y="2976480"/>
            <a:ext cx="647640" cy="3463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209" name="Picture 34" descr=""/>
          <p:cNvPicPr/>
          <p:nvPr/>
        </p:nvPicPr>
        <p:blipFill>
          <a:blip r:embed="rId6"/>
          <a:stretch/>
        </p:blipFill>
        <p:spPr>
          <a:xfrm>
            <a:off x="6256440" y="3056040"/>
            <a:ext cx="990360" cy="6080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10" name="Picture 35" descr=""/>
          <p:cNvPicPr/>
          <p:nvPr/>
        </p:nvPicPr>
        <p:blipFill>
          <a:blip r:embed="rId7"/>
          <a:stretch/>
        </p:blipFill>
        <p:spPr>
          <a:xfrm>
            <a:off x="1571760" y="3049560"/>
            <a:ext cx="990360" cy="612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11" name="Picture 36" descr=""/>
          <p:cNvPicPr/>
          <p:nvPr/>
        </p:nvPicPr>
        <p:blipFill>
          <a:blip r:embed="rId8"/>
          <a:stretch/>
        </p:blipFill>
        <p:spPr>
          <a:xfrm>
            <a:off x="8499600" y="3049560"/>
            <a:ext cx="990360" cy="612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12" name="Picture 37" descr=""/>
          <p:cNvPicPr/>
          <p:nvPr/>
        </p:nvPicPr>
        <p:blipFill>
          <a:blip r:embed="rId9"/>
          <a:stretch/>
        </p:blipFill>
        <p:spPr>
          <a:xfrm>
            <a:off x="471600" y="3052800"/>
            <a:ext cx="990360" cy="6094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2213" name=""/>
          <p:cNvSpPr/>
          <p:nvPr/>
        </p:nvSpPr>
        <p:spPr>
          <a:xfrm>
            <a:off x="457200" y="106668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s of an Integrated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18960" y="507204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Services / Export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057400" y="573264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Freight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462480" y="5073480"/>
            <a:ext cx="24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nation Services / Import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029200" y="573084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estic Freight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7289640" y="507204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ehouse / D.C.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3352680" y="4463640"/>
            <a:ext cx="0" cy="12524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1523880" y="4464000"/>
            <a:ext cx="0" cy="6271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V="1">
            <a:off x="4495680" y="4463640"/>
            <a:ext cx="0" cy="614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V="1">
            <a:off x="6172200" y="4463640"/>
            <a:ext cx="0" cy="12524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8458200" y="4463640"/>
            <a:ext cx="0" cy="614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rot="16200000">
            <a:off x="1425240" y="3259080"/>
            <a:ext cx="168480" cy="2104920"/>
          </a:xfrm>
          <a:custGeom>
            <a:avLst/>
            <a:gdLst>
              <a:gd name="textAreaLeft" fmla="*/ 107640 w 168480"/>
              <a:gd name="textAreaRight" fmla="*/ 168840 w 168480"/>
              <a:gd name="textAreaTop" fmla="*/ 54720 h 2104920"/>
              <a:gd name="textAreaBottom" fmla="*/ 2050200 h 21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rot="16200000">
            <a:off x="6097320" y="3259080"/>
            <a:ext cx="168480" cy="2104920"/>
          </a:xfrm>
          <a:custGeom>
            <a:avLst/>
            <a:gdLst>
              <a:gd name="textAreaLeft" fmla="*/ 107640 w 168480"/>
              <a:gd name="textAreaRight" fmla="*/ 168840 w 168480"/>
              <a:gd name="textAreaTop" fmla="*/ 54720 h 2104920"/>
              <a:gd name="textAreaBottom" fmla="*/ 2050200 h 21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 rot="16200000">
            <a:off x="8388000" y="3259080"/>
            <a:ext cx="168480" cy="2104920"/>
          </a:xfrm>
          <a:custGeom>
            <a:avLst/>
            <a:gdLst>
              <a:gd name="textAreaLeft" fmla="*/ 107640 w 168480"/>
              <a:gd name="textAreaRight" fmla="*/ 168840 w 168480"/>
              <a:gd name="textAreaTop" fmla="*/ 54720 h 2104920"/>
              <a:gd name="textAreaBottom" fmla="*/ 2050200 h 21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mplex Supply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457200" y="100656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yers converge to provide integrated services and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mplex Supply Chains: 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012680" y="2008080"/>
            <a:ext cx="2490840" cy="16718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eight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wa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012680" y="3848040"/>
            <a:ext cx="2490840" cy="16718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t Based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bsidi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666960" y="3848040"/>
            <a:ext cx="2490840" cy="16718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ract Logistic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H="1" flipV="1">
            <a:off x="987120" y="1930320"/>
            <a:ext cx="11160" cy="3602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987480" y="5524560"/>
            <a:ext cx="545148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666960" y="2008080"/>
            <a:ext cx="2490840" cy="1671840"/>
          </a:xfrm>
          <a:prstGeom prst="rect">
            <a:avLst/>
          </a:prstGeom>
          <a:solidFill>
            <a:srgbClr val="8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grated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rvice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6" name=""/>
          <p:cNvGrpSpPr/>
          <p:nvPr/>
        </p:nvGrpSpPr>
        <p:grpSpPr>
          <a:xfrm>
            <a:off x="3236040" y="2525760"/>
            <a:ext cx="1956600" cy="1631880"/>
            <a:chOff x="3236040" y="2525760"/>
            <a:chExt cx="1956600" cy="1631880"/>
          </a:xfrm>
        </p:grpSpPr>
        <p:sp>
          <p:nvSpPr>
            <p:cNvPr id="2237" name=""/>
            <p:cNvSpPr/>
            <p:nvPr/>
          </p:nvSpPr>
          <p:spPr>
            <a:xfrm>
              <a:off x="3276720" y="2525760"/>
              <a:ext cx="512640" cy="654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rot="18900000">
              <a:off x="3395520" y="3385800"/>
              <a:ext cx="546120" cy="6778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rot="16200000">
              <a:off x="4610160" y="3466800"/>
              <a:ext cx="523800" cy="641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0" name=""/>
          <p:cNvSpPr/>
          <p:nvPr/>
        </p:nvSpPr>
        <p:spPr>
          <a:xfrm>
            <a:off x="6157800" y="2008080"/>
            <a:ext cx="2630520" cy="1671840"/>
          </a:xfrm>
          <a:prstGeom prst="rect">
            <a:avLst/>
          </a:prstGeom>
          <a:solidFill>
            <a:srgbClr val="8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553080" y="2298600"/>
            <a:ext cx="1981440" cy="106704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715000" y="25020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/>
          <p:nvPr/>
        </p:nvSpPr>
        <p:spPr>
          <a:xfrm>
            <a:off x="457200" y="1676520"/>
            <a:ext cx="906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1120" indent="-681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914400" y="44845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914400" y="3019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Coping with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85800" y="2011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llenges for Container Sh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914400" y="37479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Complex Supply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"/>
          <p:cNvSpPr/>
          <p:nvPr/>
        </p:nvSpPr>
        <p:spPr>
          <a:xfrm>
            <a:off x="685800" y="184464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8580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aling with Cyclic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:  Dealing with Cycl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2" name="" descr=""/>
          <p:cNvPicPr/>
          <p:nvPr/>
        </p:nvPicPr>
        <p:blipFill>
          <a:blip r:embed="rId1"/>
          <a:stretch/>
        </p:blipFill>
        <p:spPr>
          <a:xfrm>
            <a:off x="330120" y="1014480"/>
            <a:ext cx="9244080" cy="538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:  Dealing with Cycl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85800" y="1676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yclicality:  Reducing Fluc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129528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6" name=""/>
          <p:cNvGrpSpPr/>
          <p:nvPr/>
        </p:nvGrpSpPr>
        <p:grpSpPr>
          <a:xfrm>
            <a:off x="1295280" y="3398760"/>
            <a:ext cx="8305920" cy="1935720"/>
            <a:chOff x="1295280" y="3398760"/>
            <a:chExt cx="8305920" cy="1935720"/>
          </a:xfrm>
        </p:grpSpPr>
        <p:sp>
          <p:nvSpPr>
            <p:cNvPr id="2257" name=""/>
            <p:cNvSpPr/>
            <p:nvPr/>
          </p:nvSpPr>
          <p:spPr>
            <a:xfrm>
              <a:off x="1600200" y="3960720"/>
              <a:ext cx="5699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rvice Integr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tegrated Servi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lobal covera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295280" y="3398760"/>
              <a:ext cx="830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1880" indent="-4618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N-PRIC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Facto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"/>
          <p:cNvSpPr/>
          <p:nvPr/>
        </p:nvSpPr>
        <p:spPr>
          <a:xfrm>
            <a:off x="685800" y="3352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novation and R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85800" y="184464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580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Dealing with Cyclic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274320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Dominance of Market Econom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981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he Global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:  Innovation and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57200" y="12952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 Value of Supply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828800" y="2438280"/>
            <a:ext cx="61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count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1 + 1 = 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"/>
          <p:cNvSpPr/>
          <p:nvPr/>
        </p:nvSpPr>
        <p:spPr>
          <a:xfrm>
            <a:off x="1828800" y="2438280"/>
            <a:ext cx="6172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unts vs Value Ad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count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1 + 1 = 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lue Adding: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1 + 1 =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57200" y="12952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 Value of Supply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:  Innovation and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"/>
          <p:cNvSpPr/>
          <p:nvPr/>
        </p:nvSpPr>
        <p:spPr>
          <a:xfrm>
            <a:off x="685800" y="40384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dustry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685800" y="3352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Innovation and R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85800" y="184464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8580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Cyclic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:  Indust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57200" y="100656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:  Rosettanet – data and process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6" name=""/>
          <p:cNvGrpSpPr/>
          <p:nvPr/>
        </p:nvGrpSpPr>
        <p:grpSpPr>
          <a:xfrm>
            <a:off x="1676520" y="1752480"/>
            <a:ext cx="6453720" cy="4339440"/>
            <a:chOff x="1676520" y="1752480"/>
            <a:chExt cx="6453720" cy="4339440"/>
          </a:xfrm>
        </p:grpSpPr>
        <p:sp>
          <p:nvSpPr>
            <p:cNvPr id="2277" name=""/>
            <p:cNvSpPr/>
            <p:nvPr/>
          </p:nvSpPr>
          <p:spPr>
            <a:xfrm>
              <a:off x="1972080" y="4786200"/>
              <a:ext cx="7826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038680" y="481824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Suppli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883240" y="3886200"/>
              <a:ext cx="1036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950920" y="3917880"/>
              <a:ext cx="104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Manufactur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342560" y="4092480"/>
              <a:ext cx="75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407000" y="4124520"/>
              <a:ext cx="723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End Us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140360" y="3886200"/>
              <a:ext cx="86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5880" y="391788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Distribut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508800" y="5119560"/>
              <a:ext cx="80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577200" y="5149800"/>
              <a:ext cx="77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Financ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623280" y="5315040"/>
              <a:ext cx="66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Provid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573960" y="2535120"/>
              <a:ext cx="78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640920" y="256716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Publish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0" name=""/>
            <p:cNvGrpSpPr/>
            <p:nvPr/>
          </p:nvGrpSpPr>
          <p:grpSpPr>
            <a:xfrm>
              <a:off x="2362320" y="1878120"/>
              <a:ext cx="3087720" cy="504720"/>
              <a:chOff x="2362320" y="1878120"/>
              <a:chExt cx="3087720" cy="504720"/>
            </a:xfrm>
          </p:grpSpPr>
          <p:sp>
            <p:nvSpPr>
              <p:cNvPr id="2291" name=""/>
              <p:cNvSpPr/>
              <p:nvPr/>
            </p:nvSpPr>
            <p:spPr>
              <a:xfrm>
                <a:off x="2362320" y="1878120"/>
                <a:ext cx="3087720" cy="504720"/>
              </a:xfrm>
              <a:custGeom>
                <a:avLst/>
                <a:gdLst/>
                <a:ahLst/>
                <a:rect l="l" t="t" r="r" b="b"/>
                <a:pathLst>
                  <a:path w="4477" h="733">
                    <a:moveTo>
                      <a:pt x="0" y="704"/>
                    </a:moveTo>
                    <a:lnTo>
                      <a:pt x="24" y="733"/>
                    </a:lnTo>
                    <a:lnTo>
                      <a:pt x="74" y="691"/>
                    </a:lnTo>
                    <a:lnTo>
                      <a:pt x="126" y="652"/>
                    </a:lnTo>
                    <a:lnTo>
                      <a:pt x="179" y="613"/>
                    </a:lnTo>
                    <a:lnTo>
                      <a:pt x="234" y="576"/>
                    </a:lnTo>
                    <a:lnTo>
                      <a:pt x="221" y="563"/>
                    </a:lnTo>
                    <a:lnTo>
                      <a:pt x="228" y="581"/>
                    </a:lnTo>
                    <a:lnTo>
                      <a:pt x="285" y="544"/>
                    </a:lnTo>
                    <a:lnTo>
                      <a:pt x="343" y="510"/>
                    </a:lnTo>
                    <a:lnTo>
                      <a:pt x="464" y="442"/>
                    </a:lnTo>
                    <a:lnTo>
                      <a:pt x="590" y="380"/>
                    </a:lnTo>
                    <a:lnTo>
                      <a:pt x="723" y="322"/>
                    </a:lnTo>
                    <a:lnTo>
                      <a:pt x="861" y="270"/>
                    </a:lnTo>
                    <a:lnTo>
                      <a:pt x="1003" y="221"/>
                    </a:lnTo>
                    <a:lnTo>
                      <a:pt x="1149" y="179"/>
                    </a:lnTo>
                    <a:lnTo>
                      <a:pt x="1299" y="142"/>
                    </a:lnTo>
                    <a:lnTo>
                      <a:pt x="1453" y="111"/>
                    </a:lnTo>
                    <a:lnTo>
                      <a:pt x="1447" y="94"/>
                    </a:lnTo>
                    <a:lnTo>
                      <a:pt x="1447" y="113"/>
                    </a:lnTo>
                    <a:lnTo>
                      <a:pt x="1604" y="86"/>
                    </a:lnTo>
                    <a:lnTo>
                      <a:pt x="1762" y="66"/>
                    </a:lnTo>
                    <a:lnTo>
                      <a:pt x="1924" y="50"/>
                    </a:lnTo>
                    <a:lnTo>
                      <a:pt x="2089" y="42"/>
                    </a:lnTo>
                    <a:lnTo>
                      <a:pt x="2254" y="39"/>
                    </a:lnTo>
                    <a:lnTo>
                      <a:pt x="2416" y="42"/>
                    </a:lnTo>
                    <a:lnTo>
                      <a:pt x="2576" y="50"/>
                    </a:lnTo>
                    <a:lnTo>
                      <a:pt x="2735" y="64"/>
                    </a:lnTo>
                    <a:lnTo>
                      <a:pt x="2892" y="84"/>
                    </a:lnTo>
                    <a:lnTo>
                      <a:pt x="3046" y="110"/>
                    </a:lnTo>
                    <a:lnTo>
                      <a:pt x="3046" y="90"/>
                    </a:lnTo>
                    <a:lnTo>
                      <a:pt x="3038" y="108"/>
                    </a:lnTo>
                    <a:lnTo>
                      <a:pt x="3190" y="137"/>
                    </a:lnTo>
                    <a:lnTo>
                      <a:pt x="3337" y="173"/>
                    </a:lnTo>
                    <a:lnTo>
                      <a:pt x="3481" y="213"/>
                    </a:lnTo>
                    <a:lnTo>
                      <a:pt x="3620" y="259"/>
                    </a:lnTo>
                    <a:lnTo>
                      <a:pt x="3756" y="310"/>
                    </a:lnTo>
                    <a:lnTo>
                      <a:pt x="3886" y="365"/>
                    </a:lnTo>
                    <a:lnTo>
                      <a:pt x="4012" y="425"/>
                    </a:lnTo>
                    <a:lnTo>
                      <a:pt x="4132" y="488"/>
                    </a:lnTo>
                    <a:lnTo>
                      <a:pt x="4247" y="558"/>
                    </a:lnTo>
                    <a:lnTo>
                      <a:pt x="4302" y="594"/>
                    </a:lnTo>
                    <a:lnTo>
                      <a:pt x="4308" y="576"/>
                    </a:lnTo>
                    <a:lnTo>
                      <a:pt x="4295" y="590"/>
                    </a:lnTo>
                    <a:lnTo>
                      <a:pt x="4349" y="628"/>
                    </a:lnTo>
                    <a:lnTo>
                      <a:pt x="4400" y="665"/>
                    </a:lnTo>
                    <a:lnTo>
                      <a:pt x="4452" y="705"/>
                    </a:lnTo>
                    <a:lnTo>
                      <a:pt x="4477" y="676"/>
                    </a:lnTo>
                    <a:lnTo>
                      <a:pt x="4428" y="637"/>
                    </a:lnTo>
                    <a:lnTo>
                      <a:pt x="4376" y="600"/>
                    </a:lnTo>
                    <a:lnTo>
                      <a:pt x="4323" y="563"/>
                    </a:lnTo>
                    <a:lnTo>
                      <a:pt x="4316" y="558"/>
                    </a:lnTo>
                    <a:lnTo>
                      <a:pt x="4261" y="522"/>
                    </a:lnTo>
                    <a:lnTo>
                      <a:pt x="4146" y="453"/>
                    </a:lnTo>
                    <a:lnTo>
                      <a:pt x="4027" y="390"/>
                    </a:lnTo>
                    <a:lnTo>
                      <a:pt x="3900" y="330"/>
                    </a:lnTo>
                    <a:lnTo>
                      <a:pt x="3771" y="275"/>
                    </a:lnTo>
                    <a:lnTo>
                      <a:pt x="3635" y="223"/>
                    </a:lnTo>
                    <a:lnTo>
                      <a:pt x="3496" y="178"/>
                    </a:lnTo>
                    <a:lnTo>
                      <a:pt x="3352" y="137"/>
                    </a:lnTo>
                    <a:lnTo>
                      <a:pt x="3204" y="102"/>
                    </a:lnTo>
                    <a:lnTo>
                      <a:pt x="3052" y="73"/>
                    </a:lnTo>
                    <a:lnTo>
                      <a:pt x="3046" y="71"/>
                    </a:lnTo>
                    <a:lnTo>
                      <a:pt x="2892" y="45"/>
                    </a:lnTo>
                    <a:lnTo>
                      <a:pt x="2735" y="26"/>
                    </a:lnTo>
                    <a:lnTo>
                      <a:pt x="2576" y="11"/>
                    </a:lnTo>
                    <a:lnTo>
                      <a:pt x="2416" y="3"/>
                    </a:lnTo>
                    <a:lnTo>
                      <a:pt x="2254" y="0"/>
                    </a:lnTo>
                    <a:lnTo>
                      <a:pt x="2089" y="3"/>
                    </a:lnTo>
                    <a:lnTo>
                      <a:pt x="1924" y="11"/>
                    </a:lnTo>
                    <a:lnTo>
                      <a:pt x="1762" y="27"/>
                    </a:lnTo>
                    <a:lnTo>
                      <a:pt x="1604" y="47"/>
                    </a:lnTo>
                    <a:lnTo>
                      <a:pt x="1447" y="74"/>
                    </a:lnTo>
                    <a:lnTo>
                      <a:pt x="1439" y="76"/>
                    </a:lnTo>
                    <a:lnTo>
                      <a:pt x="1285" y="107"/>
                    </a:lnTo>
                    <a:lnTo>
                      <a:pt x="1134" y="144"/>
                    </a:lnTo>
                    <a:lnTo>
                      <a:pt x="989" y="186"/>
                    </a:lnTo>
                    <a:lnTo>
                      <a:pt x="846" y="234"/>
                    </a:lnTo>
                    <a:lnTo>
                      <a:pt x="709" y="286"/>
                    </a:lnTo>
                    <a:lnTo>
                      <a:pt x="576" y="344"/>
                    </a:lnTo>
                    <a:lnTo>
                      <a:pt x="450" y="406"/>
                    </a:lnTo>
                    <a:lnTo>
                      <a:pt x="328" y="474"/>
                    </a:lnTo>
                    <a:lnTo>
                      <a:pt x="270" y="508"/>
                    </a:lnTo>
                    <a:lnTo>
                      <a:pt x="213" y="545"/>
                    </a:lnTo>
                    <a:lnTo>
                      <a:pt x="207" y="548"/>
                    </a:lnTo>
                    <a:lnTo>
                      <a:pt x="152" y="586"/>
                    </a:lnTo>
                    <a:lnTo>
                      <a:pt x="98" y="624"/>
                    </a:lnTo>
                    <a:lnTo>
                      <a:pt x="47" y="663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2370240" y="2252880"/>
                <a:ext cx="131040" cy="119880"/>
              </a:xfrm>
              <a:custGeom>
                <a:avLst/>
                <a:gdLst/>
                <a:ahLst/>
                <a:rect l="l" t="t" r="r" b="b"/>
                <a:pathLst>
                  <a:path w="189" h="174">
                    <a:moveTo>
                      <a:pt x="83" y="0"/>
                    </a:moveTo>
                    <a:lnTo>
                      <a:pt x="0" y="174"/>
                    </a:lnTo>
                    <a:lnTo>
                      <a:pt x="189" y="135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309280" y="2235240"/>
                <a:ext cx="131040" cy="118440"/>
              </a:xfrm>
              <a:custGeom>
                <a:avLst/>
                <a:gdLst/>
                <a:ahLst/>
                <a:rect l="l" t="t" r="r" b="b"/>
                <a:pathLst>
                  <a:path w="191" h="173">
                    <a:moveTo>
                      <a:pt x="0" y="139"/>
                    </a:moveTo>
                    <a:lnTo>
                      <a:pt x="191" y="173"/>
                    </a:lnTo>
                    <a:lnTo>
                      <a:pt x="103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"/>
            <p:cNvGrpSpPr/>
            <p:nvPr/>
          </p:nvGrpSpPr>
          <p:grpSpPr>
            <a:xfrm>
              <a:off x="2641680" y="4087800"/>
              <a:ext cx="2732400" cy="824040"/>
              <a:chOff x="2641680" y="4087800"/>
              <a:chExt cx="2732400" cy="824040"/>
            </a:xfrm>
          </p:grpSpPr>
          <p:sp>
            <p:nvSpPr>
              <p:cNvPr id="2295" name=""/>
              <p:cNvSpPr/>
              <p:nvPr/>
            </p:nvSpPr>
            <p:spPr>
              <a:xfrm>
                <a:off x="2641680" y="4087800"/>
                <a:ext cx="2732400" cy="824040"/>
              </a:xfrm>
              <a:custGeom>
                <a:avLst/>
                <a:gdLst/>
                <a:ahLst/>
                <a:rect l="l" t="t" r="r" b="b"/>
                <a:pathLst>
                  <a:path w="3962" h="1196">
                    <a:moveTo>
                      <a:pt x="13" y="947"/>
                    </a:moveTo>
                    <a:lnTo>
                      <a:pt x="0" y="982"/>
                    </a:lnTo>
                    <a:lnTo>
                      <a:pt x="154" y="1031"/>
                    </a:lnTo>
                    <a:lnTo>
                      <a:pt x="313" y="1075"/>
                    </a:lnTo>
                    <a:lnTo>
                      <a:pt x="476" y="1110"/>
                    </a:lnTo>
                    <a:lnTo>
                      <a:pt x="483" y="1112"/>
                    </a:lnTo>
                    <a:lnTo>
                      <a:pt x="565" y="1128"/>
                    </a:lnTo>
                    <a:lnTo>
                      <a:pt x="649" y="1143"/>
                    </a:lnTo>
                    <a:lnTo>
                      <a:pt x="733" y="1156"/>
                    </a:lnTo>
                    <a:lnTo>
                      <a:pt x="818" y="1165"/>
                    </a:lnTo>
                    <a:lnTo>
                      <a:pt x="903" y="1175"/>
                    </a:lnTo>
                    <a:lnTo>
                      <a:pt x="989" y="1183"/>
                    </a:lnTo>
                    <a:lnTo>
                      <a:pt x="1075" y="1188"/>
                    </a:lnTo>
                    <a:lnTo>
                      <a:pt x="1162" y="1193"/>
                    </a:lnTo>
                    <a:lnTo>
                      <a:pt x="1248" y="1196"/>
                    </a:lnTo>
                    <a:lnTo>
                      <a:pt x="1336" y="1196"/>
                    </a:lnTo>
                    <a:lnTo>
                      <a:pt x="1447" y="1194"/>
                    </a:lnTo>
                    <a:lnTo>
                      <a:pt x="1557" y="1191"/>
                    </a:lnTo>
                    <a:lnTo>
                      <a:pt x="1666" y="1183"/>
                    </a:lnTo>
                    <a:lnTo>
                      <a:pt x="1774" y="1175"/>
                    </a:lnTo>
                    <a:lnTo>
                      <a:pt x="1881" y="1162"/>
                    </a:lnTo>
                    <a:lnTo>
                      <a:pt x="1986" y="1148"/>
                    </a:lnTo>
                    <a:lnTo>
                      <a:pt x="2090" y="1131"/>
                    </a:lnTo>
                    <a:lnTo>
                      <a:pt x="2193" y="1112"/>
                    </a:lnTo>
                    <a:lnTo>
                      <a:pt x="2200" y="1110"/>
                    </a:lnTo>
                    <a:lnTo>
                      <a:pt x="2300" y="1088"/>
                    </a:lnTo>
                    <a:lnTo>
                      <a:pt x="2401" y="1063"/>
                    </a:lnTo>
                    <a:lnTo>
                      <a:pt x="2498" y="1037"/>
                    </a:lnTo>
                    <a:lnTo>
                      <a:pt x="2593" y="1008"/>
                    </a:lnTo>
                    <a:lnTo>
                      <a:pt x="2687" y="978"/>
                    </a:lnTo>
                    <a:lnTo>
                      <a:pt x="2778" y="945"/>
                    </a:lnTo>
                    <a:lnTo>
                      <a:pt x="2868" y="910"/>
                    </a:lnTo>
                    <a:lnTo>
                      <a:pt x="2954" y="872"/>
                    </a:lnTo>
                    <a:lnTo>
                      <a:pt x="3040" y="832"/>
                    </a:lnTo>
                    <a:lnTo>
                      <a:pt x="3121" y="791"/>
                    </a:lnTo>
                    <a:lnTo>
                      <a:pt x="3200" y="748"/>
                    </a:lnTo>
                    <a:lnTo>
                      <a:pt x="3278" y="702"/>
                    </a:lnTo>
                    <a:lnTo>
                      <a:pt x="3352" y="656"/>
                    </a:lnTo>
                    <a:lnTo>
                      <a:pt x="3359" y="651"/>
                    </a:lnTo>
                    <a:lnTo>
                      <a:pt x="3428" y="602"/>
                    </a:lnTo>
                    <a:lnTo>
                      <a:pt x="3498" y="552"/>
                    </a:lnTo>
                    <a:lnTo>
                      <a:pt x="3563" y="499"/>
                    </a:lnTo>
                    <a:lnTo>
                      <a:pt x="3624" y="445"/>
                    </a:lnTo>
                    <a:lnTo>
                      <a:pt x="3682" y="388"/>
                    </a:lnTo>
                    <a:lnTo>
                      <a:pt x="3738" y="332"/>
                    </a:lnTo>
                    <a:lnTo>
                      <a:pt x="3789" y="272"/>
                    </a:lnTo>
                    <a:lnTo>
                      <a:pt x="3838" y="212"/>
                    </a:lnTo>
                    <a:lnTo>
                      <a:pt x="3882" y="151"/>
                    </a:lnTo>
                    <a:lnTo>
                      <a:pt x="3885" y="144"/>
                    </a:lnTo>
                    <a:lnTo>
                      <a:pt x="3925" y="81"/>
                    </a:lnTo>
                    <a:lnTo>
                      <a:pt x="3962" y="18"/>
                    </a:lnTo>
                    <a:lnTo>
                      <a:pt x="3929" y="0"/>
                    </a:lnTo>
                    <a:lnTo>
                      <a:pt x="3890" y="66"/>
                    </a:lnTo>
                    <a:lnTo>
                      <a:pt x="3849" y="130"/>
                    </a:lnTo>
                    <a:lnTo>
                      <a:pt x="3867" y="136"/>
                    </a:lnTo>
                    <a:lnTo>
                      <a:pt x="3854" y="123"/>
                    </a:lnTo>
                    <a:lnTo>
                      <a:pt x="3810" y="185"/>
                    </a:lnTo>
                    <a:lnTo>
                      <a:pt x="3762" y="244"/>
                    </a:lnTo>
                    <a:lnTo>
                      <a:pt x="3710" y="304"/>
                    </a:lnTo>
                    <a:lnTo>
                      <a:pt x="3655" y="361"/>
                    </a:lnTo>
                    <a:lnTo>
                      <a:pt x="3597" y="418"/>
                    </a:lnTo>
                    <a:lnTo>
                      <a:pt x="3535" y="471"/>
                    </a:lnTo>
                    <a:lnTo>
                      <a:pt x="3470" y="524"/>
                    </a:lnTo>
                    <a:lnTo>
                      <a:pt x="3401" y="575"/>
                    </a:lnTo>
                    <a:lnTo>
                      <a:pt x="3331" y="623"/>
                    </a:lnTo>
                    <a:lnTo>
                      <a:pt x="3344" y="638"/>
                    </a:lnTo>
                    <a:lnTo>
                      <a:pt x="3338" y="620"/>
                    </a:lnTo>
                    <a:lnTo>
                      <a:pt x="3263" y="667"/>
                    </a:lnTo>
                    <a:lnTo>
                      <a:pt x="3186" y="712"/>
                    </a:lnTo>
                    <a:lnTo>
                      <a:pt x="3106" y="756"/>
                    </a:lnTo>
                    <a:lnTo>
                      <a:pt x="3025" y="796"/>
                    </a:lnTo>
                    <a:lnTo>
                      <a:pt x="2940" y="837"/>
                    </a:lnTo>
                    <a:lnTo>
                      <a:pt x="2854" y="874"/>
                    </a:lnTo>
                    <a:lnTo>
                      <a:pt x="2763" y="910"/>
                    </a:lnTo>
                    <a:lnTo>
                      <a:pt x="2673" y="942"/>
                    </a:lnTo>
                    <a:lnTo>
                      <a:pt x="2579" y="973"/>
                    </a:lnTo>
                    <a:lnTo>
                      <a:pt x="2483" y="1002"/>
                    </a:lnTo>
                    <a:lnTo>
                      <a:pt x="2386" y="1028"/>
                    </a:lnTo>
                    <a:lnTo>
                      <a:pt x="2286" y="1052"/>
                    </a:lnTo>
                    <a:lnTo>
                      <a:pt x="2185" y="1075"/>
                    </a:lnTo>
                    <a:lnTo>
                      <a:pt x="2193" y="1092"/>
                    </a:lnTo>
                    <a:lnTo>
                      <a:pt x="2193" y="1073"/>
                    </a:lnTo>
                    <a:lnTo>
                      <a:pt x="2090" y="1092"/>
                    </a:lnTo>
                    <a:lnTo>
                      <a:pt x="1986" y="1109"/>
                    </a:lnTo>
                    <a:lnTo>
                      <a:pt x="1881" y="1123"/>
                    </a:lnTo>
                    <a:lnTo>
                      <a:pt x="1774" y="1136"/>
                    </a:lnTo>
                    <a:lnTo>
                      <a:pt x="1666" y="1144"/>
                    </a:lnTo>
                    <a:lnTo>
                      <a:pt x="1557" y="1152"/>
                    </a:lnTo>
                    <a:lnTo>
                      <a:pt x="1447" y="1156"/>
                    </a:lnTo>
                    <a:lnTo>
                      <a:pt x="1336" y="1157"/>
                    </a:lnTo>
                    <a:lnTo>
                      <a:pt x="1248" y="1157"/>
                    </a:lnTo>
                    <a:lnTo>
                      <a:pt x="1162" y="1154"/>
                    </a:lnTo>
                    <a:lnTo>
                      <a:pt x="1075" y="1149"/>
                    </a:lnTo>
                    <a:lnTo>
                      <a:pt x="989" y="1144"/>
                    </a:lnTo>
                    <a:lnTo>
                      <a:pt x="903" y="1136"/>
                    </a:lnTo>
                    <a:lnTo>
                      <a:pt x="818" y="1126"/>
                    </a:lnTo>
                    <a:lnTo>
                      <a:pt x="733" y="1117"/>
                    </a:lnTo>
                    <a:lnTo>
                      <a:pt x="649" y="1104"/>
                    </a:lnTo>
                    <a:lnTo>
                      <a:pt x="565" y="1089"/>
                    </a:lnTo>
                    <a:lnTo>
                      <a:pt x="483" y="1073"/>
                    </a:lnTo>
                    <a:lnTo>
                      <a:pt x="483" y="1092"/>
                    </a:lnTo>
                    <a:lnTo>
                      <a:pt x="491" y="1075"/>
                    </a:lnTo>
                    <a:lnTo>
                      <a:pt x="327" y="1039"/>
                    </a:lnTo>
                    <a:lnTo>
                      <a:pt x="169" y="995"/>
                    </a:lnTo>
                    <a:lnTo>
                      <a:pt x="13" y="947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645640" y="4731480"/>
                <a:ext cx="131040" cy="112680"/>
              </a:xfrm>
              <a:custGeom>
                <a:avLst/>
                <a:gdLst/>
                <a:ahLst/>
                <a:rect l="l" t="t" r="r" b="b"/>
                <a:pathLst>
                  <a:path w="191" h="165">
                    <a:moveTo>
                      <a:pt x="191" y="0"/>
                    </a:moveTo>
                    <a:lnTo>
                      <a:pt x="0" y="31"/>
                    </a:lnTo>
                    <a:lnTo>
                      <a:pt x="139" y="165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248440" y="4093200"/>
                <a:ext cx="113040" cy="132120"/>
              </a:xfrm>
              <a:custGeom>
                <a:avLst/>
                <a:gdLst/>
                <a:ahLst/>
                <a:rect l="l" t="t" r="r" b="b"/>
                <a:pathLst>
                  <a:path w="164" h="193">
                    <a:moveTo>
                      <a:pt x="148" y="193"/>
                    </a:moveTo>
                    <a:lnTo>
                      <a:pt x="164" y="0"/>
                    </a:lnTo>
                    <a:lnTo>
                      <a:pt x="0" y="102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4434120" y="1976400"/>
              <a:ext cx="2177640" cy="1471680"/>
              <a:chOff x="4434120" y="1976400"/>
              <a:chExt cx="2177640" cy="1471680"/>
            </a:xfrm>
          </p:grpSpPr>
          <p:sp>
            <p:nvSpPr>
              <p:cNvPr id="2299" name=""/>
              <p:cNvSpPr/>
              <p:nvPr/>
            </p:nvSpPr>
            <p:spPr>
              <a:xfrm>
                <a:off x="4460040" y="1976400"/>
                <a:ext cx="2151720" cy="1471680"/>
              </a:xfrm>
              <a:custGeom>
                <a:avLst/>
                <a:gdLst/>
                <a:ahLst/>
                <a:rect l="l" t="t" r="r" b="b"/>
                <a:pathLst>
                  <a:path w="3120" h="2133">
                    <a:moveTo>
                      <a:pt x="3095" y="482"/>
                    </a:moveTo>
                    <a:lnTo>
                      <a:pt x="3120" y="453"/>
                    </a:lnTo>
                    <a:lnTo>
                      <a:pt x="3059" y="402"/>
                    </a:lnTo>
                    <a:lnTo>
                      <a:pt x="2994" y="351"/>
                    </a:lnTo>
                    <a:lnTo>
                      <a:pt x="2929" y="304"/>
                    </a:lnTo>
                    <a:lnTo>
                      <a:pt x="2923" y="300"/>
                    </a:lnTo>
                    <a:lnTo>
                      <a:pt x="2857" y="256"/>
                    </a:lnTo>
                    <a:lnTo>
                      <a:pt x="2789" y="217"/>
                    </a:lnTo>
                    <a:lnTo>
                      <a:pt x="2719" y="180"/>
                    </a:lnTo>
                    <a:lnTo>
                      <a:pt x="2649" y="146"/>
                    </a:lnTo>
                    <a:lnTo>
                      <a:pt x="2580" y="117"/>
                    </a:lnTo>
                    <a:lnTo>
                      <a:pt x="2509" y="89"/>
                    </a:lnTo>
                    <a:lnTo>
                      <a:pt x="2437" y="67"/>
                    </a:lnTo>
                    <a:lnTo>
                      <a:pt x="2365" y="47"/>
                    </a:lnTo>
                    <a:lnTo>
                      <a:pt x="2292" y="31"/>
                    </a:lnTo>
                    <a:lnTo>
                      <a:pt x="2284" y="29"/>
                    </a:lnTo>
                    <a:lnTo>
                      <a:pt x="2211" y="16"/>
                    </a:lnTo>
                    <a:lnTo>
                      <a:pt x="2136" y="8"/>
                    </a:lnTo>
                    <a:lnTo>
                      <a:pt x="2062" y="2"/>
                    </a:lnTo>
                    <a:lnTo>
                      <a:pt x="1987" y="0"/>
                    </a:lnTo>
                    <a:lnTo>
                      <a:pt x="1898" y="3"/>
                    </a:lnTo>
                    <a:lnTo>
                      <a:pt x="1809" y="10"/>
                    </a:lnTo>
                    <a:lnTo>
                      <a:pt x="1724" y="23"/>
                    </a:lnTo>
                    <a:lnTo>
                      <a:pt x="1716" y="24"/>
                    </a:lnTo>
                    <a:lnTo>
                      <a:pt x="1630" y="42"/>
                    </a:lnTo>
                    <a:lnTo>
                      <a:pt x="1544" y="65"/>
                    </a:lnTo>
                    <a:lnTo>
                      <a:pt x="1460" y="91"/>
                    </a:lnTo>
                    <a:lnTo>
                      <a:pt x="1377" y="123"/>
                    </a:lnTo>
                    <a:lnTo>
                      <a:pt x="1296" y="159"/>
                    </a:lnTo>
                    <a:lnTo>
                      <a:pt x="1217" y="199"/>
                    </a:lnTo>
                    <a:lnTo>
                      <a:pt x="1139" y="245"/>
                    </a:lnTo>
                    <a:lnTo>
                      <a:pt x="1063" y="293"/>
                    </a:lnTo>
                    <a:lnTo>
                      <a:pt x="1057" y="296"/>
                    </a:lnTo>
                    <a:lnTo>
                      <a:pt x="982" y="350"/>
                    </a:lnTo>
                    <a:lnTo>
                      <a:pt x="910" y="406"/>
                    </a:lnTo>
                    <a:lnTo>
                      <a:pt x="838" y="468"/>
                    </a:lnTo>
                    <a:lnTo>
                      <a:pt x="770" y="533"/>
                    </a:lnTo>
                    <a:lnTo>
                      <a:pt x="702" y="601"/>
                    </a:lnTo>
                    <a:lnTo>
                      <a:pt x="639" y="672"/>
                    </a:lnTo>
                    <a:lnTo>
                      <a:pt x="576" y="748"/>
                    </a:lnTo>
                    <a:lnTo>
                      <a:pt x="518" y="827"/>
                    </a:lnTo>
                    <a:lnTo>
                      <a:pt x="460" y="908"/>
                    </a:lnTo>
                    <a:lnTo>
                      <a:pt x="456" y="915"/>
                    </a:lnTo>
                    <a:lnTo>
                      <a:pt x="401" y="1000"/>
                    </a:lnTo>
                    <a:lnTo>
                      <a:pt x="350" y="1089"/>
                    </a:lnTo>
                    <a:lnTo>
                      <a:pt x="301" y="1180"/>
                    </a:lnTo>
                    <a:lnTo>
                      <a:pt x="254" y="1275"/>
                    </a:lnTo>
                    <a:lnTo>
                      <a:pt x="212" y="1373"/>
                    </a:lnTo>
                    <a:lnTo>
                      <a:pt x="171" y="1471"/>
                    </a:lnTo>
                    <a:lnTo>
                      <a:pt x="134" y="1575"/>
                    </a:lnTo>
                    <a:lnTo>
                      <a:pt x="100" y="1680"/>
                    </a:lnTo>
                    <a:lnTo>
                      <a:pt x="71" y="1787"/>
                    </a:lnTo>
                    <a:lnTo>
                      <a:pt x="44" y="1897"/>
                    </a:lnTo>
                    <a:lnTo>
                      <a:pt x="19" y="2009"/>
                    </a:lnTo>
                    <a:lnTo>
                      <a:pt x="18" y="2017"/>
                    </a:lnTo>
                    <a:lnTo>
                      <a:pt x="0" y="2127"/>
                    </a:lnTo>
                    <a:lnTo>
                      <a:pt x="37" y="2133"/>
                    </a:lnTo>
                    <a:lnTo>
                      <a:pt x="57" y="2017"/>
                    </a:lnTo>
                    <a:lnTo>
                      <a:pt x="37" y="2017"/>
                    </a:lnTo>
                    <a:lnTo>
                      <a:pt x="55" y="2023"/>
                    </a:lnTo>
                    <a:lnTo>
                      <a:pt x="79" y="1911"/>
                    </a:lnTo>
                    <a:lnTo>
                      <a:pt x="107" y="1801"/>
                    </a:lnTo>
                    <a:lnTo>
                      <a:pt x="136" y="1695"/>
                    </a:lnTo>
                    <a:lnTo>
                      <a:pt x="170" y="1589"/>
                    </a:lnTo>
                    <a:lnTo>
                      <a:pt x="207" y="1486"/>
                    </a:lnTo>
                    <a:lnTo>
                      <a:pt x="248" y="1387"/>
                    </a:lnTo>
                    <a:lnTo>
                      <a:pt x="290" y="1290"/>
                    </a:lnTo>
                    <a:lnTo>
                      <a:pt x="337" y="1195"/>
                    </a:lnTo>
                    <a:lnTo>
                      <a:pt x="385" y="1104"/>
                    </a:lnTo>
                    <a:lnTo>
                      <a:pt x="437" y="1015"/>
                    </a:lnTo>
                    <a:lnTo>
                      <a:pt x="492" y="929"/>
                    </a:lnTo>
                    <a:lnTo>
                      <a:pt x="474" y="923"/>
                    </a:lnTo>
                    <a:lnTo>
                      <a:pt x="487" y="936"/>
                    </a:lnTo>
                    <a:lnTo>
                      <a:pt x="545" y="855"/>
                    </a:lnTo>
                    <a:lnTo>
                      <a:pt x="604" y="775"/>
                    </a:lnTo>
                    <a:lnTo>
                      <a:pt x="667" y="699"/>
                    </a:lnTo>
                    <a:lnTo>
                      <a:pt x="730" y="628"/>
                    </a:lnTo>
                    <a:lnTo>
                      <a:pt x="798" y="560"/>
                    </a:lnTo>
                    <a:lnTo>
                      <a:pt x="866" y="495"/>
                    </a:lnTo>
                    <a:lnTo>
                      <a:pt x="937" y="434"/>
                    </a:lnTo>
                    <a:lnTo>
                      <a:pt x="1010" y="377"/>
                    </a:lnTo>
                    <a:lnTo>
                      <a:pt x="1084" y="324"/>
                    </a:lnTo>
                    <a:lnTo>
                      <a:pt x="1070" y="311"/>
                    </a:lnTo>
                    <a:lnTo>
                      <a:pt x="1078" y="329"/>
                    </a:lnTo>
                    <a:lnTo>
                      <a:pt x="1154" y="280"/>
                    </a:lnTo>
                    <a:lnTo>
                      <a:pt x="1232" y="235"/>
                    </a:lnTo>
                    <a:lnTo>
                      <a:pt x="1311" y="194"/>
                    </a:lnTo>
                    <a:lnTo>
                      <a:pt x="1392" y="159"/>
                    </a:lnTo>
                    <a:lnTo>
                      <a:pt x="1474" y="126"/>
                    </a:lnTo>
                    <a:lnTo>
                      <a:pt x="1559" y="100"/>
                    </a:lnTo>
                    <a:lnTo>
                      <a:pt x="1644" y="78"/>
                    </a:lnTo>
                    <a:lnTo>
                      <a:pt x="1730" y="60"/>
                    </a:lnTo>
                    <a:lnTo>
                      <a:pt x="1724" y="42"/>
                    </a:lnTo>
                    <a:lnTo>
                      <a:pt x="1724" y="62"/>
                    </a:lnTo>
                    <a:lnTo>
                      <a:pt x="1809" y="49"/>
                    </a:lnTo>
                    <a:lnTo>
                      <a:pt x="1898" y="42"/>
                    </a:lnTo>
                    <a:lnTo>
                      <a:pt x="1987" y="39"/>
                    </a:lnTo>
                    <a:lnTo>
                      <a:pt x="2062" y="41"/>
                    </a:lnTo>
                    <a:lnTo>
                      <a:pt x="2136" y="47"/>
                    </a:lnTo>
                    <a:lnTo>
                      <a:pt x="2211" y="55"/>
                    </a:lnTo>
                    <a:lnTo>
                      <a:pt x="2284" y="68"/>
                    </a:lnTo>
                    <a:lnTo>
                      <a:pt x="2284" y="49"/>
                    </a:lnTo>
                    <a:lnTo>
                      <a:pt x="2277" y="67"/>
                    </a:lnTo>
                    <a:lnTo>
                      <a:pt x="2350" y="83"/>
                    </a:lnTo>
                    <a:lnTo>
                      <a:pt x="2423" y="102"/>
                    </a:lnTo>
                    <a:lnTo>
                      <a:pt x="2494" y="125"/>
                    </a:lnTo>
                    <a:lnTo>
                      <a:pt x="2565" y="152"/>
                    </a:lnTo>
                    <a:lnTo>
                      <a:pt x="2635" y="181"/>
                    </a:lnTo>
                    <a:lnTo>
                      <a:pt x="2705" y="215"/>
                    </a:lnTo>
                    <a:lnTo>
                      <a:pt x="2774" y="253"/>
                    </a:lnTo>
                    <a:lnTo>
                      <a:pt x="2842" y="291"/>
                    </a:lnTo>
                    <a:lnTo>
                      <a:pt x="2908" y="335"/>
                    </a:lnTo>
                    <a:lnTo>
                      <a:pt x="2915" y="317"/>
                    </a:lnTo>
                    <a:lnTo>
                      <a:pt x="2902" y="332"/>
                    </a:lnTo>
                    <a:lnTo>
                      <a:pt x="2967" y="379"/>
                    </a:lnTo>
                    <a:lnTo>
                      <a:pt x="3031" y="429"/>
                    </a:lnTo>
                    <a:lnTo>
                      <a:pt x="3095" y="48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472440" y="2177640"/>
                <a:ext cx="131040" cy="121320"/>
              </a:xfrm>
              <a:custGeom>
                <a:avLst/>
                <a:gdLst/>
                <a:ahLst/>
                <a:rect l="l" t="t" r="r" b="b"/>
                <a:pathLst>
                  <a:path w="190" h="177">
                    <a:moveTo>
                      <a:pt x="0" y="136"/>
                    </a:moveTo>
                    <a:lnTo>
                      <a:pt x="190" y="177"/>
                    </a:lnTo>
                    <a:lnTo>
                      <a:pt x="109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434120" y="3317040"/>
                <a:ext cx="117000" cy="128160"/>
              </a:xfrm>
              <a:custGeom>
                <a:avLst/>
                <a:gdLst/>
                <a:ahLst/>
                <a:rect l="l" t="t" r="r" b="b"/>
                <a:pathLst>
                  <a:path w="170" h="186">
                    <a:moveTo>
                      <a:pt x="0" y="0"/>
                    </a:moveTo>
                    <a:lnTo>
                      <a:pt x="55" y="186"/>
                    </a:lnTo>
                    <a:lnTo>
                      <a:pt x="170" y="31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2567160" y="2881440"/>
              <a:ext cx="529920" cy="555120"/>
              <a:chOff x="2567160" y="2881440"/>
              <a:chExt cx="529920" cy="555120"/>
            </a:xfrm>
          </p:grpSpPr>
          <p:sp>
            <p:nvSpPr>
              <p:cNvPr id="2303" name=""/>
              <p:cNvSpPr/>
              <p:nvPr/>
            </p:nvSpPr>
            <p:spPr>
              <a:xfrm>
                <a:off x="2567160" y="2922840"/>
                <a:ext cx="516240" cy="513720"/>
              </a:xfrm>
              <a:custGeom>
                <a:avLst/>
                <a:gdLst/>
                <a:ahLst/>
                <a:rect l="l" t="t" r="r" b="b"/>
                <a:pathLst>
                  <a:path w="748" h="745">
                    <a:moveTo>
                      <a:pt x="0" y="11"/>
                    </a:moveTo>
                    <a:lnTo>
                      <a:pt x="9" y="49"/>
                    </a:lnTo>
                    <a:lnTo>
                      <a:pt x="55" y="41"/>
                    </a:lnTo>
                    <a:lnTo>
                      <a:pt x="49" y="23"/>
                    </a:lnTo>
                    <a:lnTo>
                      <a:pt x="49" y="42"/>
                    </a:lnTo>
                    <a:lnTo>
                      <a:pt x="93" y="39"/>
                    </a:lnTo>
                    <a:lnTo>
                      <a:pt x="120" y="41"/>
                    </a:lnTo>
                    <a:lnTo>
                      <a:pt x="148" y="42"/>
                    </a:lnTo>
                    <a:lnTo>
                      <a:pt x="175" y="47"/>
                    </a:lnTo>
                    <a:lnTo>
                      <a:pt x="175" y="28"/>
                    </a:lnTo>
                    <a:lnTo>
                      <a:pt x="167" y="45"/>
                    </a:lnTo>
                    <a:lnTo>
                      <a:pt x="195" y="50"/>
                    </a:lnTo>
                    <a:lnTo>
                      <a:pt x="246" y="66"/>
                    </a:lnTo>
                    <a:lnTo>
                      <a:pt x="298" y="89"/>
                    </a:lnTo>
                    <a:lnTo>
                      <a:pt x="347" y="118"/>
                    </a:lnTo>
                    <a:lnTo>
                      <a:pt x="355" y="100"/>
                    </a:lnTo>
                    <a:lnTo>
                      <a:pt x="340" y="115"/>
                    </a:lnTo>
                    <a:lnTo>
                      <a:pt x="387" y="149"/>
                    </a:lnTo>
                    <a:lnTo>
                      <a:pt x="433" y="188"/>
                    </a:lnTo>
                    <a:lnTo>
                      <a:pt x="476" y="233"/>
                    </a:lnTo>
                    <a:lnTo>
                      <a:pt x="517" y="283"/>
                    </a:lnTo>
                    <a:lnTo>
                      <a:pt x="556" y="338"/>
                    </a:lnTo>
                    <a:lnTo>
                      <a:pt x="569" y="324"/>
                    </a:lnTo>
                    <a:lnTo>
                      <a:pt x="551" y="332"/>
                    </a:lnTo>
                    <a:lnTo>
                      <a:pt x="586" y="390"/>
                    </a:lnTo>
                    <a:lnTo>
                      <a:pt x="619" y="455"/>
                    </a:lnTo>
                    <a:lnTo>
                      <a:pt x="646" y="521"/>
                    </a:lnTo>
                    <a:lnTo>
                      <a:pt x="672" y="594"/>
                    </a:lnTo>
                    <a:lnTo>
                      <a:pt x="693" y="669"/>
                    </a:lnTo>
                    <a:lnTo>
                      <a:pt x="711" y="662"/>
                    </a:lnTo>
                    <a:lnTo>
                      <a:pt x="692" y="662"/>
                    </a:lnTo>
                    <a:lnTo>
                      <a:pt x="711" y="745"/>
                    </a:lnTo>
                    <a:lnTo>
                      <a:pt x="748" y="736"/>
                    </a:lnTo>
                    <a:lnTo>
                      <a:pt x="730" y="662"/>
                    </a:lnTo>
                    <a:lnTo>
                      <a:pt x="729" y="654"/>
                    </a:lnTo>
                    <a:lnTo>
                      <a:pt x="708" y="580"/>
                    </a:lnTo>
                    <a:lnTo>
                      <a:pt x="682" y="507"/>
                    </a:lnTo>
                    <a:lnTo>
                      <a:pt x="654" y="440"/>
                    </a:lnTo>
                    <a:lnTo>
                      <a:pt x="622" y="376"/>
                    </a:lnTo>
                    <a:lnTo>
                      <a:pt x="586" y="317"/>
                    </a:lnTo>
                    <a:lnTo>
                      <a:pt x="583" y="311"/>
                    </a:lnTo>
                    <a:lnTo>
                      <a:pt x="544" y="256"/>
                    </a:lnTo>
                    <a:lnTo>
                      <a:pt x="504" y="206"/>
                    </a:lnTo>
                    <a:lnTo>
                      <a:pt x="460" y="160"/>
                    </a:lnTo>
                    <a:lnTo>
                      <a:pt x="415" y="122"/>
                    </a:lnTo>
                    <a:lnTo>
                      <a:pt x="368" y="88"/>
                    </a:lnTo>
                    <a:lnTo>
                      <a:pt x="361" y="83"/>
                    </a:lnTo>
                    <a:lnTo>
                      <a:pt x="313" y="54"/>
                    </a:lnTo>
                    <a:lnTo>
                      <a:pt x="261" y="31"/>
                    </a:lnTo>
                    <a:lnTo>
                      <a:pt x="209" y="15"/>
                    </a:lnTo>
                    <a:lnTo>
                      <a:pt x="182" y="10"/>
                    </a:lnTo>
                    <a:lnTo>
                      <a:pt x="175" y="8"/>
                    </a:lnTo>
                    <a:lnTo>
                      <a:pt x="148" y="3"/>
                    </a:lnTo>
                    <a:lnTo>
                      <a:pt x="120" y="2"/>
                    </a:lnTo>
                    <a:lnTo>
                      <a:pt x="93" y="0"/>
                    </a:lnTo>
                    <a:lnTo>
                      <a:pt x="49" y="3"/>
                    </a:lnTo>
                    <a:lnTo>
                      <a:pt x="41" y="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2569320" y="2881440"/>
                <a:ext cx="118800" cy="12024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1" y="0"/>
                    </a:moveTo>
                    <a:lnTo>
                      <a:pt x="0" y="89"/>
                    </a:lnTo>
                    <a:lnTo>
                      <a:pt x="173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2981160" y="3302640"/>
                <a:ext cx="115920" cy="131040"/>
              </a:xfrm>
              <a:custGeom>
                <a:avLst/>
                <a:gdLst/>
                <a:ahLst/>
                <a:rect l="l" t="t" r="r" b="b"/>
                <a:pathLst>
                  <a:path w="167" h="190">
                    <a:moveTo>
                      <a:pt x="0" y="44"/>
                    </a:moveTo>
                    <a:lnTo>
                      <a:pt x="128" y="190"/>
                    </a:lnTo>
                    <a:lnTo>
                      <a:pt x="167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6" name=""/>
            <p:cNvGrpSpPr/>
            <p:nvPr/>
          </p:nvGrpSpPr>
          <p:grpSpPr>
            <a:xfrm>
              <a:off x="2302200" y="2703600"/>
              <a:ext cx="118440" cy="474480"/>
              <a:chOff x="2302200" y="2703600"/>
              <a:chExt cx="118440" cy="474480"/>
            </a:xfrm>
          </p:grpSpPr>
          <p:sp>
            <p:nvSpPr>
              <p:cNvPr id="2307" name=""/>
              <p:cNvSpPr/>
              <p:nvPr/>
            </p:nvSpPr>
            <p:spPr>
              <a:xfrm>
                <a:off x="2348280" y="2703600"/>
                <a:ext cx="25920" cy="4744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2303640" y="2703600"/>
                <a:ext cx="117000" cy="11988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173"/>
                    </a:moveTo>
                    <a:lnTo>
                      <a:pt x="86" y="0"/>
                    </a:lnTo>
                    <a:lnTo>
                      <a:pt x="0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2302200" y="3058200"/>
                <a:ext cx="117360" cy="11952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0" y="0"/>
                    </a:moveTo>
                    <a:lnTo>
                      <a:pt x="87" y="173"/>
                    </a:lnTo>
                    <a:lnTo>
                      <a:pt x="173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0" name=""/>
            <p:cNvGrpSpPr/>
            <p:nvPr/>
          </p:nvGrpSpPr>
          <p:grpSpPr>
            <a:xfrm>
              <a:off x="2302200" y="3417840"/>
              <a:ext cx="118440" cy="439920"/>
              <a:chOff x="2302200" y="3417840"/>
              <a:chExt cx="118440" cy="439920"/>
            </a:xfrm>
          </p:grpSpPr>
          <p:sp>
            <p:nvSpPr>
              <p:cNvPr id="2311" name=""/>
              <p:cNvSpPr/>
              <p:nvPr/>
            </p:nvSpPr>
            <p:spPr>
              <a:xfrm>
                <a:off x="2348280" y="3417840"/>
                <a:ext cx="25920" cy="43992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2303640" y="3417840"/>
                <a:ext cx="117000" cy="11988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173"/>
                    </a:moveTo>
                    <a:lnTo>
                      <a:pt x="86" y="0"/>
                    </a:lnTo>
                    <a:lnTo>
                      <a:pt x="0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2302200" y="3737160"/>
                <a:ext cx="117360" cy="12024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0" y="0"/>
                    </a:moveTo>
                    <a:lnTo>
                      <a:pt x="87" y="173"/>
                    </a:lnTo>
                    <a:lnTo>
                      <a:pt x="173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2291040" y="3998880"/>
              <a:ext cx="121680" cy="436680"/>
              <a:chOff x="2291040" y="3998880"/>
              <a:chExt cx="121680" cy="436680"/>
            </a:xfrm>
          </p:grpSpPr>
          <p:sp>
            <p:nvSpPr>
              <p:cNvPr id="2315" name=""/>
              <p:cNvSpPr/>
              <p:nvPr/>
            </p:nvSpPr>
            <p:spPr>
              <a:xfrm>
                <a:off x="2338200" y="3998880"/>
                <a:ext cx="27360" cy="436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2292120" y="3998880"/>
                <a:ext cx="120600" cy="11988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173"/>
                    </a:moveTo>
                    <a:lnTo>
                      <a:pt x="86" y="0"/>
                    </a:lnTo>
                    <a:lnTo>
                      <a:pt x="0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291040" y="4317120"/>
                <a:ext cx="120240" cy="118080"/>
              </a:xfrm>
              <a:custGeom>
                <a:avLst/>
                <a:gdLst/>
                <a:ahLst/>
                <a:rect l="l" t="t" r="r" b="b"/>
                <a:pathLst>
                  <a:path w="173" h="174">
                    <a:moveTo>
                      <a:pt x="0" y="0"/>
                    </a:moveTo>
                    <a:lnTo>
                      <a:pt x="87" y="174"/>
                    </a:lnTo>
                    <a:lnTo>
                      <a:pt x="173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2579760" y="3316320"/>
              <a:ext cx="432000" cy="283680"/>
              <a:chOff x="2579760" y="3316320"/>
              <a:chExt cx="432000" cy="283680"/>
            </a:xfrm>
          </p:grpSpPr>
          <p:sp>
            <p:nvSpPr>
              <p:cNvPr id="2319" name=""/>
              <p:cNvSpPr/>
              <p:nvPr/>
            </p:nvSpPr>
            <p:spPr>
              <a:xfrm>
                <a:off x="2579760" y="3358800"/>
                <a:ext cx="432000" cy="241200"/>
              </a:xfrm>
              <a:custGeom>
                <a:avLst/>
                <a:gdLst/>
                <a:ahLst/>
                <a:rect l="l" t="t" r="r" b="b"/>
                <a:pathLst>
                  <a:path w="625" h="351">
                    <a:moveTo>
                      <a:pt x="0" y="7"/>
                    </a:moveTo>
                    <a:lnTo>
                      <a:pt x="5" y="44"/>
                    </a:lnTo>
                    <a:lnTo>
                      <a:pt x="39" y="41"/>
                    </a:lnTo>
                    <a:lnTo>
                      <a:pt x="76" y="39"/>
                    </a:lnTo>
                    <a:lnTo>
                      <a:pt x="122" y="41"/>
                    </a:lnTo>
                    <a:lnTo>
                      <a:pt x="167" y="46"/>
                    </a:lnTo>
                    <a:lnTo>
                      <a:pt x="211" y="52"/>
                    </a:lnTo>
                    <a:lnTo>
                      <a:pt x="211" y="33"/>
                    </a:lnTo>
                    <a:lnTo>
                      <a:pt x="204" y="50"/>
                    </a:lnTo>
                    <a:lnTo>
                      <a:pt x="246" y="62"/>
                    </a:lnTo>
                    <a:lnTo>
                      <a:pt x="287" y="75"/>
                    </a:lnTo>
                    <a:lnTo>
                      <a:pt x="327" y="89"/>
                    </a:lnTo>
                    <a:lnTo>
                      <a:pt x="364" y="107"/>
                    </a:lnTo>
                    <a:lnTo>
                      <a:pt x="400" y="128"/>
                    </a:lnTo>
                    <a:lnTo>
                      <a:pt x="434" y="151"/>
                    </a:lnTo>
                    <a:lnTo>
                      <a:pt x="442" y="133"/>
                    </a:lnTo>
                    <a:lnTo>
                      <a:pt x="428" y="146"/>
                    </a:lnTo>
                    <a:lnTo>
                      <a:pt x="460" y="172"/>
                    </a:lnTo>
                    <a:lnTo>
                      <a:pt x="489" y="198"/>
                    </a:lnTo>
                    <a:lnTo>
                      <a:pt x="517" y="227"/>
                    </a:lnTo>
                    <a:lnTo>
                      <a:pt x="539" y="258"/>
                    </a:lnTo>
                    <a:lnTo>
                      <a:pt x="554" y="243"/>
                    </a:lnTo>
                    <a:lnTo>
                      <a:pt x="536" y="251"/>
                    </a:lnTo>
                    <a:lnTo>
                      <a:pt x="557" y="284"/>
                    </a:lnTo>
                    <a:lnTo>
                      <a:pt x="575" y="317"/>
                    </a:lnTo>
                    <a:lnTo>
                      <a:pt x="589" y="351"/>
                    </a:lnTo>
                    <a:lnTo>
                      <a:pt x="625" y="339"/>
                    </a:lnTo>
                    <a:lnTo>
                      <a:pt x="610" y="303"/>
                    </a:lnTo>
                    <a:lnTo>
                      <a:pt x="593" y="269"/>
                    </a:lnTo>
                    <a:lnTo>
                      <a:pt x="572" y="237"/>
                    </a:lnTo>
                    <a:lnTo>
                      <a:pt x="567" y="230"/>
                    </a:lnTo>
                    <a:lnTo>
                      <a:pt x="544" y="199"/>
                    </a:lnTo>
                    <a:lnTo>
                      <a:pt x="517" y="170"/>
                    </a:lnTo>
                    <a:lnTo>
                      <a:pt x="487" y="144"/>
                    </a:lnTo>
                    <a:lnTo>
                      <a:pt x="455" y="118"/>
                    </a:lnTo>
                    <a:lnTo>
                      <a:pt x="449" y="115"/>
                    </a:lnTo>
                    <a:lnTo>
                      <a:pt x="415" y="93"/>
                    </a:lnTo>
                    <a:lnTo>
                      <a:pt x="379" y="72"/>
                    </a:lnTo>
                    <a:lnTo>
                      <a:pt x="342" y="54"/>
                    </a:lnTo>
                    <a:lnTo>
                      <a:pt x="301" y="39"/>
                    </a:lnTo>
                    <a:lnTo>
                      <a:pt x="261" y="26"/>
                    </a:lnTo>
                    <a:lnTo>
                      <a:pt x="219" y="15"/>
                    </a:lnTo>
                    <a:lnTo>
                      <a:pt x="211" y="13"/>
                    </a:lnTo>
                    <a:lnTo>
                      <a:pt x="167" y="7"/>
                    </a:lnTo>
                    <a:lnTo>
                      <a:pt x="122" y="2"/>
                    </a:lnTo>
                    <a:lnTo>
                      <a:pt x="76" y="0"/>
                    </a:lnTo>
                    <a:lnTo>
                      <a:pt x="39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2581200" y="3316320"/>
                <a:ext cx="119880" cy="11844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0"/>
                    </a:moveTo>
                    <a:lnTo>
                      <a:pt x="0" y="86"/>
                    </a:lnTo>
                    <a:lnTo>
                      <a:pt x="173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884680" y="3463560"/>
                <a:ext cx="114480" cy="132480"/>
              </a:xfrm>
              <a:custGeom>
                <a:avLst/>
                <a:gdLst/>
                <a:ahLst/>
                <a:rect l="l" t="t" r="r" b="b"/>
                <a:pathLst>
                  <a:path w="165" h="193">
                    <a:moveTo>
                      <a:pt x="0" y="91"/>
                    </a:moveTo>
                    <a:lnTo>
                      <a:pt x="165" y="193"/>
                    </a:lnTo>
                    <a:lnTo>
                      <a:pt x="147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2" name=""/>
            <p:cNvGrpSpPr/>
            <p:nvPr/>
          </p:nvGrpSpPr>
          <p:grpSpPr>
            <a:xfrm>
              <a:off x="4351680" y="4178160"/>
              <a:ext cx="2233080" cy="1590840"/>
              <a:chOff x="4351680" y="4178160"/>
              <a:chExt cx="2233080" cy="1590840"/>
            </a:xfrm>
          </p:grpSpPr>
          <p:sp>
            <p:nvSpPr>
              <p:cNvPr id="2323" name=""/>
              <p:cNvSpPr/>
              <p:nvPr/>
            </p:nvSpPr>
            <p:spPr>
              <a:xfrm>
                <a:off x="4380480" y="4178160"/>
                <a:ext cx="2204280" cy="1590840"/>
              </a:xfrm>
              <a:custGeom>
                <a:avLst/>
                <a:gdLst/>
                <a:ahLst/>
                <a:rect l="l" t="t" r="r" b="b"/>
                <a:pathLst>
                  <a:path w="3197" h="2310">
                    <a:moveTo>
                      <a:pt x="3197" y="1856"/>
                    </a:moveTo>
                    <a:lnTo>
                      <a:pt x="3171" y="1827"/>
                    </a:lnTo>
                    <a:lnTo>
                      <a:pt x="3106" y="1881"/>
                    </a:lnTo>
                    <a:lnTo>
                      <a:pt x="3041" y="1931"/>
                    </a:lnTo>
                    <a:lnTo>
                      <a:pt x="2975" y="1978"/>
                    </a:lnTo>
                    <a:lnTo>
                      <a:pt x="2988" y="1992"/>
                    </a:lnTo>
                    <a:lnTo>
                      <a:pt x="2981" y="1975"/>
                    </a:lnTo>
                    <a:lnTo>
                      <a:pt x="2913" y="2018"/>
                    </a:lnTo>
                    <a:lnTo>
                      <a:pt x="2845" y="2057"/>
                    </a:lnTo>
                    <a:lnTo>
                      <a:pt x="2776" y="2094"/>
                    </a:lnTo>
                    <a:lnTo>
                      <a:pt x="2705" y="2128"/>
                    </a:lnTo>
                    <a:lnTo>
                      <a:pt x="2633" y="2157"/>
                    </a:lnTo>
                    <a:lnTo>
                      <a:pt x="2561" y="2185"/>
                    </a:lnTo>
                    <a:lnTo>
                      <a:pt x="2488" y="2208"/>
                    </a:lnTo>
                    <a:lnTo>
                      <a:pt x="2413" y="2227"/>
                    </a:lnTo>
                    <a:lnTo>
                      <a:pt x="2339" y="2243"/>
                    </a:lnTo>
                    <a:lnTo>
                      <a:pt x="2347" y="2261"/>
                    </a:lnTo>
                    <a:lnTo>
                      <a:pt x="2347" y="2242"/>
                    </a:lnTo>
                    <a:lnTo>
                      <a:pt x="2271" y="2255"/>
                    </a:lnTo>
                    <a:lnTo>
                      <a:pt x="2196" y="2264"/>
                    </a:lnTo>
                    <a:lnTo>
                      <a:pt x="2120" y="2269"/>
                    </a:lnTo>
                    <a:lnTo>
                      <a:pt x="2044" y="2271"/>
                    </a:lnTo>
                    <a:lnTo>
                      <a:pt x="1949" y="2267"/>
                    </a:lnTo>
                    <a:lnTo>
                      <a:pt x="1855" y="2259"/>
                    </a:lnTo>
                    <a:lnTo>
                      <a:pt x="1761" y="2245"/>
                    </a:lnTo>
                    <a:lnTo>
                      <a:pt x="1761" y="2264"/>
                    </a:lnTo>
                    <a:lnTo>
                      <a:pt x="1769" y="2246"/>
                    </a:lnTo>
                    <a:lnTo>
                      <a:pt x="1677" y="2227"/>
                    </a:lnTo>
                    <a:lnTo>
                      <a:pt x="1586" y="2203"/>
                    </a:lnTo>
                    <a:lnTo>
                      <a:pt x="1497" y="2174"/>
                    </a:lnTo>
                    <a:lnTo>
                      <a:pt x="1408" y="2138"/>
                    </a:lnTo>
                    <a:lnTo>
                      <a:pt x="1322" y="2099"/>
                    </a:lnTo>
                    <a:lnTo>
                      <a:pt x="1238" y="2055"/>
                    </a:lnTo>
                    <a:lnTo>
                      <a:pt x="1156" y="2005"/>
                    </a:lnTo>
                    <a:lnTo>
                      <a:pt x="1076" y="1952"/>
                    </a:lnTo>
                    <a:lnTo>
                      <a:pt x="1068" y="1970"/>
                    </a:lnTo>
                    <a:lnTo>
                      <a:pt x="1083" y="1957"/>
                    </a:lnTo>
                    <a:lnTo>
                      <a:pt x="1003" y="1899"/>
                    </a:lnTo>
                    <a:lnTo>
                      <a:pt x="927" y="1835"/>
                    </a:lnTo>
                    <a:lnTo>
                      <a:pt x="853" y="1769"/>
                    </a:lnTo>
                    <a:lnTo>
                      <a:pt x="782" y="1698"/>
                    </a:lnTo>
                    <a:lnTo>
                      <a:pt x="714" y="1623"/>
                    </a:lnTo>
                    <a:lnTo>
                      <a:pt x="646" y="1546"/>
                    </a:lnTo>
                    <a:lnTo>
                      <a:pt x="583" y="1463"/>
                    </a:lnTo>
                    <a:lnTo>
                      <a:pt x="521" y="1377"/>
                    </a:lnTo>
                    <a:lnTo>
                      <a:pt x="508" y="1392"/>
                    </a:lnTo>
                    <a:lnTo>
                      <a:pt x="526" y="1384"/>
                    </a:lnTo>
                    <a:lnTo>
                      <a:pt x="468" y="1295"/>
                    </a:lnTo>
                    <a:lnTo>
                      <a:pt x="413" y="1203"/>
                    </a:lnTo>
                    <a:lnTo>
                      <a:pt x="361" y="1106"/>
                    </a:lnTo>
                    <a:lnTo>
                      <a:pt x="312" y="1007"/>
                    </a:lnTo>
                    <a:lnTo>
                      <a:pt x="267" y="905"/>
                    </a:lnTo>
                    <a:lnTo>
                      <a:pt x="225" y="800"/>
                    </a:lnTo>
                    <a:lnTo>
                      <a:pt x="188" y="693"/>
                    </a:lnTo>
                    <a:lnTo>
                      <a:pt x="152" y="583"/>
                    </a:lnTo>
                    <a:lnTo>
                      <a:pt x="121" y="469"/>
                    </a:lnTo>
                    <a:lnTo>
                      <a:pt x="94" y="355"/>
                    </a:lnTo>
                    <a:lnTo>
                      <a:pt x="76" y="361"/>
                    </a:lnTo>
                    <a:lnTo>
                      <a:pt x="95" y="361"/>
                    </a:lnTo>
                    <a:lnTo>
                      <a:pt x="73" y="243"/>
                    </a:lnTo>
                    <a:lnTo>
                      <a:pt x="53" y="123"/>
                    </a:lnTo>
                    <a:lnTo>
                      <a:pt x="39" y="0"/>
                    </a:lnTo>
                    <a:lnTo>
                      <a:pt x="0" y="3"/>
                    </a:lnTo>
                    <a:lnTo>
                      <a:pt x="15" y="123"/>
                    </a:lnTo>
                    <a:lnTo>
                      <a:pt x="34" y="243"/>
                    </a:lnTo>
                    <a:lnTo>
                      <a:pt x="57" y="361"/>
                    </a:lnTo>
                    <a:lnTo>
                      <a:pt x="58" y="369"/>
                    </a:lnTo>
                    <a:lnTo>
                      <a:pt x="86" y="484"/>
                    </a:lnTo>
                    <a:lnTo>
                      <a:pt x="117" y="597"/>
                    </a:lnTo>
                    <a:lnTo>
                      <a:pt x="152" y="707"/>
                    </a:lnTo>
                    <a:lnTo>
                      <a:pt x="189" y="814"/>
                    </a:lnTo>
                    <a:lnTo>
                      <a:pt x="231" y="919"/>
                    </a:lnTo>
                    <a:lnTo>
                      <a:pt x="277" y="1021"/>
                    </a:lnTo>
                    <a:lnTo>
                      <a:pt x="325" y="1120"/>
                    </a:lnTo>
                    <a:lnTo>
                      <a:pt x="377" y="1217"/>
                    </a:lnTo>
                    <a:lnTo>
                      <a:pt x="432" y="1309"/>
                    </a:lnTo>
                    <a:lnTo>
                      <a:pt x="490" y="1398"/>
                    </a:lnTo>
                    <a:lnTo>
                      <a:pt x="494" y="1405"/>
                    </a:lnTo>
                    <a:lnTo>
                      <a:pt x="555" y="1491"/>
                    </a:lnTo>
                    <a:lnTo>
                      <a:pt x="618" y="1573"/>
                    </a:lnTo>
                    <a:lnTo>
                      <a:pt x="686" y="1651"/>
                    </a:lnTo>
                    <a:lnTo>
                      <a:pt x="754" y="1725"/>
                    </a:lnTo>
                    <a:lnTo>
                      <a:pt x="825" y="1797"/>
                    </a:lnTo>
                    <a:lnTo>
                      <a:pt x="900" y="1863"/>
                    </a:lnTo>
                    <a:lnTo>
                      <a:pt x="976" y="1926"/>
                    </a:lnTo>
                    <a:lnTo>
                      <a:pt x="1055" y="1984"/>
                    </a:lnTo>
                    <a:lnTo>
                      <a:pt x="1062" y="1988"/>
                    </a:lnTo>
                    <a:lnTo>
                      <a:pt x="1141" y="2041"/>
                    </a:lnTo>
                    <a:lnTo>
                      <a:pt x="1224" y="2091"/>
                    </a:lnTo>
                    <a:lnTo>
                      <a:pt x="1308" y="2135"/>
                    </a:lnTo>
                    <a:lnTo>
                      <a:pt x="1394" y="2174"/>
                    </a:lnTo>
                    <a:lnTo>
                      <a:pt x="1483" y="2209"/>
                    </a:lnTo>
                    <a:lnTo>
                      <a:pt x="1572" y="2238"/>
                    </a:lnTo>
                    <a:lnTo>
                      <a:pt x="1662" y="2263"/>
                    </a:lnTo>
                    <a:lnTo>
                      <a:pt x="1754" y="2282"/>
                    </a:lnTo>
                    <a:lnTo>
                      <a:pt x="1761" y="2284"/>
                    </a:lnTo>
                    <a:lnTo>
                      <a:pt x="1855" y="2298"/>
                    </a:lnTo>
                    <a:lnTo>
                      <a:pt x="1949" y="2306"/>
                    </a:lnTo>
                    <a:lnTo>
                      <a:pt x="2044" y="2310"/>
                    </a:lnTo>
                    <a:lnTo>
                      <a:pt x="2120" y="2308"/>
                    </a:lnTo>
                    <a:lnTo>
                      <a:pt x="2196" y="2303"/>
                    </a:lnTo>
                    <a:lnTo>
                      <a:pt x="2271" y="2293"/>
                    </a:lnTo>
                    <a:lnTo>
                      <a:pt x="2347" y="2280"/>
                    </a:lnTo>
                    <a:lnTo>
                      <a:pt x="2353" y="2279"/>
                    </a:lnTo>
                    <a:lnTo>
                      <a:pt x="2428" y="2263"/>
                    </a:lnTo>
                    <a:lnTo>
                      <a:pt x="2502" y="2243"/>
                    </a:lnTo>
                    <a:lnTo>
                      <a:pt x="2575" y="2221"/>
                    </a:lnTo>
                    <a:lnTo>
                      <a:pt x="2648" y="2193"/>
                    </a:lnTo>
                    <a:lnTo>
                      <a:pt x="2719" y="2164"/>
                    </a:lnTo>
                    <a:lnTo>
                      <a:pt x="2790" y="2130"/>
                    </a:lnTo>
                    <a:lnTo>
                      <a:pt x="2860" y="2093"/>
                    </a:lnTo>
                    <a:lnTo>
                      <a:pt x="2928" y="2054"/>
                    </a:lnTo>
                    <a:lnTo>
                      <a:pt x="2996" y="2010"/>
                    </a:lnTo>
                    <a:lnTo>
                      <a:pt x="3002" y="2005"/>
                    </a:lnTo>
                    <a:lnTo>
                      <a:pt x="3069" y="1958"/>
                    </a:lnTo>
                    <a:lnTo>
                      <a:pt x="3134" y="1908"/>
                    </a:lnTo>
                    <a:lnTo>
                      <a:pt x="3197" y="1856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445800" y="5446080"/>
                <a:ext cx="129240" cy="122760"/>
              </a:xfrm>
              <a:custGeom>
                <a:avLst/>
                <a:gdLst/>
                <a:ahLst/>
                <a:rect l="l" t="t" r="r" b="b"/>
                <a:pathLst>
                  <a:path w="190" h="176">
                    <a:moveTo>
                      <a:pt x="110" y="176"/>
                    </a:moveTo>
                    <a:lnTo>
                      <a:pt x="190" y="0"/>
                    </a:lnTo>
                    <a:lnTo>
                      <a:pt x="0" y="42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351680" y="4178160"/>
                <a:ext cx="118800" cy="126720"/>
              </a:xfrm>
              <a:custGeom>
                <a:avLst/>
                <a:gdLst/>
                <a:ahLst/>
                <a:rect l="l" t="t" r="r" b="b"/>
                <a:pathLst>
                  <a:path w="173" h="183">
                    <a:moveTo>
                      <a:pt x="173" y="160"/>
                    </a:moveTo>
                    <a:lnTo>
                      <a:pt x="63" y="0"/>
                    </a:lnTo>
                    <a:lnTo>
                      <a:pt x="0" y="18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3748320" y="2840040"/>
              <a:ext cx="1754280" cy="503280"/>
              <a:chOff x="3748320" y="2840040"/>
              <a:chExt cx="1754280" cy="503280"/>
            </a:xfrm>
          </p:grpSpPr>
          <p:sp>
            <p:nvSpPr>
              <p:cNvPr id="2327" name=""/>
              <p:cNvSpPr/>
              <p:nvPr/>
            </p:nvSpPr>
            <p:spPr>
              <a:xfrm>
                <a:off x="3748320" y="2840040"/>
                <a:ext cx="1754280" cy="503280"/>
              </a:xfrm>
              <a:custGeom>
                <a:avLst/>
                <a:gdLst/>
                <a:ahLst/>
                <a:rect l="l" t="t" r="r" b="b"/>
                <a:pathLst>
                  <a:path w="2545" h="730">
                    <a:moveTo>
                      <a:pt x="0" y="709"/>
                    </a:moveTo>
                    <a:lnTo>
                      <a:pt x="31" y="730"/>
                    </a:lnTo>
                    <a:lnTo>
                      <a:pt x="89" y="646"/>
                    </a:lnTo>
                    <a:lnTo>
                      <a:pt x="71" y="639"/>
                    </a:lnTo>
                    <a:lnTo>
                      <a:pt x="86" y="652"/>
                    </a:lnTo>
                    <a:lnTo>
                      <a:pt x="148" y="576"/>
                    </a:lnTo>
                    <a:lnTo>
                      <a:pt x="212" y="505"/>
                    </a:lnTo>
                    <a:lnTo>
                      <a:pt x="280" y="439"/>
                    </a:lnTo>
                    <a:lnTo>
                      <a:pt x="351" y="376"/>
                    </a:lnTo>
                    <a:lnTo>
                      <a:pt x="428" y="319"/>
                    </a:lnTo>
                    <a:lnTo>
                      <a:pt x="504" y="266"/>
                    </a:lnTo>
                    <a:lnTo>
                      <a:pt x="491" y="253"/>
                    </a:lnTo>
                    <a:lnTo>
                      <a:pt x="497" y="270"/>
                    </a:lnTo>
                    <a:lnTo>
                      <a:pt x="578" y="222"/>
                    </a:lnTo>
                    <a:lnTo>
                      <a:pt x="661" y="180"/>
                    </a:lnTo>
                    <a:lnTo>
                      <a:pt x="746" y="143"/>
                    </a:lnTo>
                    <a:lnTo>
                      <a:pt x="832" y="112"/>
                    </a:lnTo>
                    <a:lnTo>
                      <a:pt x="921" y="84"/>
                    </a:lnTo>
                    <a:lnTo>
                      <a:pt x="1012" y="65"/>
                    </a:lnTo>
                    <a:lnTo>
                      <a:pt x="1004" y="47"/>
                    </a:lnTo>
                    <a:lnTo>
                      <a:pt x="1004" y="66"/>
                    </a:lnTo>
                    <a:lnTo>
                      <a:pt x="1096" y="50"/>
                    </a:lnTo>
                    <a:lnTo>
                      <a:pt x="1188" y="42"/>
                    </a:lnTo>
                    <a:lnTo>
                      <a:pt x="1282" y="39"/>
                    </a:lnTo>
                    <a:lnTo>
                      <a:pt x="1373" y="42"/>
                    </a:lnTo>
                    <a:lnTo>
                      <a:pt x="1463" y="50"/>
                    </a:lnTo>
                    <a:lnTo>
                      <a:pt x="1554" y="65"/>
                    </a:lnTo>
                    <a:lnTo>
                      <a:pt x="1554" y="45"/>
                    </a:lnTo>
                    <a:lnTo>
                      <a:pt x="1546" y="63"/>
                    </a:lnTo>
                    <a:lnTo>
                      <a:pt x="1635" y="83"/>
                    </a:lnTo>
                    <a:lnTo>
                      <a:pt x="1721" y="109"/>
                    </a:lnTo>
                    <a:lnTo>
                      <a:pt x="1807" y="138"/>
                    </a:lnTo>
                    <a:lnTo>
                      <a:pt x="1889" y="173"/>
                    </a:lnTo>
                    <a:lnTo>
                      <a:pt x="1970" y="214"/>
                    </a:lnTo>
                    <a:lnTo>
                      <a:pt x="2049" y="259"/>
                    </a:lnTo>
                    <a:lnTo>
                      <a:pt x="2125" y="311"/>
                    </a:lnTo>
                    <a:lnTo>
                      <a:pt x="2134" y="293"/>
                    </a:lnTo>
                    <a:lnTo>
                      <a:pt x="2119" y="306"/>
                    </a:lnTo>
                    <a:lnTo>
                      <a:pt x="2193" y="361"/>
                    </a:lnTo>
                    <a:lnTo>
                      <a:pt x="2263" y="421"/>
                    </a:lnTo>
                    <a:lnTo>
                      <a:pt x="2331" y="486"/>
                    </a:lnTo>
                    <a:lnTo>
                      <a:pt x="2396" y="554"/>
                    </a:lnTo>
                    <a:lnTo>
                      <a:pt x="2457" y="628"/>
                    </a:lnTo>
                    <a:lnTo>
                      <a:pt x="2514" y="703"/>
                    </a:lnTo>
                    <a:lnTo>
                      <a:pt x="2545" y="680"/>
                    </a:lnTo>
                    <a:lnTo>
                      <a:pt x="2485" y="601"/>
                    </a:lnTo>
                    <a:lnTo>
                      <a:pt x="2423" y="526"/>
                    </a:lnTo>
                    <a:lnTo>
                      <a:pt x="2358" y="458"/>
                    </a:lnTo>
                    <a:lnTo>
                      <a:pt x="2291" y="393"/>
                    </a:lnTo>
                    <a:lnTo>
                      <a:pt x="2221" y="334"/>
                    </a:lnTo>
                    <a:lnTo>
                      <a:pt x="2146" y="279"/>
                    </a:lnTo>
                    <a:lnTo>
                      <a:pt x="2140" y="275"/>
                    </a:lnTo>
                    <a:lnTo>
                      <a:pt x="2064" y="223"/>
                    </a:lnTo>
                    <a:lnTo>
                      <a:pt x="1985" y="178"/>
                    </a:lnTo>
                    <a:lnTo>
                      <a:pt x="1904" y="138"/>
                    </a:lnTo>
                    <a:lnTo>
                      <a:pt x="1821" y="102"/>
                    </a:lnTo>
                    <a:lnTo>
                      <a:pt x="1735" y="73"/>
                    </a:lnTo>
                    <a:lnTo>
                      <a:pt x="1650" y="47"/>
                    </a:lnTo>
                    <a:lnTo>
                      <a:pt x="1561" y="28"/>
                    </a:lnTo>
                    <a:lnTo>
                      <a:pt x="1554" y="26"/>
                    </a:lnTo>
                    <a:lnTo>
                      <a:pt x="1463" y="11"/>
                    </a:lnTo>
                    <a:lnTo>
                      <a:pt x="1373" y="3"/>
                    </a:lnTo>
                    <a:lnTo>
                      <a:pt x="1282" y="0"/>
                    </a:lnTo>
                    <a:lnTo>
                      <a:pt x="1188" y="3"/>
                    </a:lnTo>
                    <a:lnTo>
                      <a:pt x="1096" y="11"/>
                    </a:lnTo>
                    <a:lnTo>
                      <a:pt x="1004" y="28"/>
                    </a:lnTo>
                    <a:lnTo>
                      <a:pt x="997" y="29"/>
                    </a:lnTo>
                    <a:lnTo>
                      <a:pt x="907" y="49"/>
                    </a:lnTo>
                    <a:lnTo>
                      <a:pt x="818" y="76"/>
                    </a:lnTo>
                    <a:lnTo>
                      <a:pt x="732" y="107"/>
                    </a:lnTo>
                    <a:lnTo>
                      <a:pt x="646" y="144"/>
                    </a:lnTo>
                    <a:lnTo>
                      <a:pt x="564" y="186"/>
                    </a:lnTo>
                    <a:lnTo>
                      <a:pt x="483" y="235"/>
                    </a:lnTo>
                    <a:lnTo>
                      <a:pt x="476" y="238"/>
                    </a:lnTo>
                    <a:lnTo>
                      <a:pt x="400" y="291"/>
                    </a:lnTo>
                    <a:lnTo>
                      <a:pt x="324" y="348"/>
                    </a:lnTo>
                    <a:lnTo>
                      <a:pt x="253" y="411"/>
                    </a:lnTo>
                    <a:lnTo>
                      <a:pt x="185" y="478"/>
                    </a:lnTo>
                    <a:lnTo>
                      <a:pt x="120" y="549"/>
                    </a:lnTo>
                    <a:lnTo>
                      <a:pt x="59" y="625"/>
                    </a:lnTo>
                    <a:lnTo>
                      <a:pt x="54" y="631"/>
                    </a:lnTo>
                    <a:lnTo>
                      <a:pt x="0" y="70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3757680" y="3202560"/>
                <a:ext cx="119880" cy="132480"/>
              </a:xfrm>
              <a:custGeom>
                <a:avLst/>
                <a:gdLst/>
                <a:ahLst/>
                <a:rect l="l" t="t" r="r" b="b"/>
                <a:pathLst>
                  <a:path w="173" h="191">
                    <a:moveTo>
                      <a:pt x="34" y="0"/>
                    </a:moveTo>
                    <a:lnTo>
                      <a:pt x="0" y="191"/>
                    </a:lnTo>
                    <a:lnTo>
                      <a:pt x="173" y="10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370120" y="3184560"/>
                <a:ext cx="121320" cy="131040"/>
              </a:xfrm>
              <a:custGeom>
                <a:avLst/>
                <a:gdLst/>
                <a:ahLst/>
                <a:rect l="l" t="t" r="r" b="b"/>
                <a:pathLst>
                  <a:path w="174" h="189">
                    <a:moveTo>
                      <a:pt x="0" y="107"/>
                    </a:moveTo>
                    <a:lnTo>
                      <a:pt x="174" y="189"/>
                    </a:lnTo>
                    <a:lnTo>
                      <a:pt x="136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0" name=""/>
            <p:cNvGrpSpPr/>
            <p:nvPr/>
          </p:nvGrpSpPr>
          <p:grpSpPr>
            <a:xfrm>
              <a:off x="5977080" y="2986200"/>
              <a:ext cx="1542960" cy="372960"/>
              <a:chOff x="5977080" y="2986200"/>
              <a:chExt cx="1542960" cy="372960"/>
            </a:xfrm>
          </p:grpSpPr>
          <p:sp>
            <p:nvSpPr>
              <p:cNvPr id="2331" name=""/>
              <p:cNvSpPr/>
              <p:nvPr/>
            </p:nvSpPr>
            <p:spPr>
              <a:xfrm>
                <a:off x="5977080" y="2986200"/>
                <a:ext cx="1542960" cy="372960"/>
              </a:xfrm>
              <a:custGeom>
                <a:avLst/>
                <a:gdLst/>
                <a:ahLst/>
                <a:rect l="l" t="t" r="r" b="b"/>
                <a:pathLst>
                  <a:path w="2238" h="539">
                    <a:moveTo>
                      <a:pt x="0" y="450"/>
                    </a:moveTo>
                    <a:lnTo>
                      <a:pt x="29" y="475"/>
                    </a:lnTo>
                    <a:lnTo>
                      <a:pt x="72" y="426"/>
                    </a:lnTo>
                    <a:lnTo>
                      <a:pt x="121" y="377"/>
                    </a:lnTo>
                    <a:lnTo>
                      <a:pt x="174" y="334"/>
                    </a:lnTo>
                    <a:lnTo>
                      <a:pt x="231" y="292"/>
                    </a:lnTo>
                    <a:lnTo>
                      <a:pt x="216" y="277"/>
                    </a:lnTo>
                    <a:lnTo>
                      <a:pt x="224" y="295"/>
                    </a:lnTo>
                    <a:lnTo>
                      <a:pt x="284" y="256"/>
                    </a:lnTo>
                    <a:lnTo>
                      <a:pt x="348" y="219"/>
                    </a:lnTo>
                    <a:lnTo>
                      <a:pt x="412" y="186"/>
                    </a:lnTo>
                    <a:lnTo>
                      <a:pt x="480" y="156"/>
                    </a:lnTo>
                    <a:lnTo>
                      <a:pt x="551" y="128"/>
                    </a:lnTo>
                    <a:lnTo>
                      <a:pt x="624" y="106"/>
                    </a:lnTo>
                    <a:lnTo>
                      <a:pt x="700" y="85"/>
                    </a:lnTo>
                    <a:lnTo>
                      <a:pt x="778" y="68"/>
                    </a:lnTo>
                    <a:lnTo>
                      <a:pt x="770" y="51"/>
                    </a:lnTo>
                    <a:lnTo>
                      <a:pt x="770" y="70"/>
                    </a:lnTo>
                    <a:lnTo>
                      <a:pt x="849" y="57"/>
                    </a:lnTo>
                    <a:lnTo>
                      <a:pt x="929" y="47"/>
                    </a:lnTo>
                    <a:lnTo>
                      <a:pt x="1009" y="41"/>
                    </a:lnTo>
                    <a:lnTo>
                      <a:pt x="1092" y="39"/>
                    </a:lnTo>
                    <a:lnTo>
                      <a:pt x="1181" y="41"/>
                    </a:lnTo>
                    <a:lnTo>
                      <a:pt x="1270" y="49"/>
                    </a:lnTo>
                    <a:lnTo>
                      <a:pt x="1356" y="60"/>
                    </a:lnTo>
                    <a:lnTo>
                      <a:pt x="1440" y="75"/>
                    </a:lnTo>
                    <a:lnTo>
                      <a:pt x="1440" y="55"/>
                    </a:lnTo>
                    <a:lnTo>
                      <a:pt x="1434" y="73"/>
                    </a:lnTo>
                    <a:lnTo>
                      <a:pt x="1516" y="93"/>
                    </a:lnTo>
                    <a:lnTo>
                      <a:pt x="1597" y="117"/>
                    </a:lnTo>
                    <a:lnTo>
                      <a:pt x="1675" y="144"/>
                    </a:lnTo>
                    <a:lnTo>
                      <a:pt x="1749" y="175"/>
                    </a:lnTo>
                    <a:lnTo>
                      <a:pt x="1820" y="211"/>
                    </a:lnTo>
                    <a:lnTo>
                      <a:pt x="1890" y="248"/>
                    </a:lnTo>
                    <a:lnTo>
                      <a:pt x="1955" y="290"/>
                    </a:lnTo>
                    <a:lnTo>
                      <a:pt x="1961" y="272"/>
                    </a:lnTo>
                    <a:lnTo>
                      <a:pt x="1948" y="287"/>
                    </a:lnTo>
                    <a:lnTo>
                      <a:pt x="2008" y="331"/>
                    </a:lnTo>
                    <a:lnTo>
                      <a:pt x="2065" y="379"/>
                    </a:lnTo>
                    <a:lnTo>
                      <a:pt x="2118" y="431"/>
                    </a:lnTo>
                    <a:lnTo>
                      <a:pt x="2165" y="484"/>
                    </a:lnTo>
                    <a:lnTo>
                      <a:pt x="2207" y="539"/>
                    </a:lnTo>
                    <a:lnTo>
                      <a:pt x="2238" y="518"/>
                    </a:lnTo>
                    <a:lnTo>
                      <a:pt x="2193" y="457"/>
                    </a:lnTo>
                    <a:lnTo>
                      <a:pt x="2146" y="403"/>
                    </a:lnTo>
                    <a:lnTo>
                      <a:pt x="2092" y="352"/>
                    </a:lnTo>
                    <a:lnTo>
                      <a:pt x="2036" y="303"/>
                    </a:lnTo>
                    <a:lnTo>
                      <a:pt x="1976" y="259"/>
                    </a:lnTo>
                    <a:lnTo>
                      <a:pt x="1969" y="254"/>
                    </a:lnTo>
                    <a:lnTo>
                      <a:pt x="1905" y="212"/>
                    </a:lnTo>
                    <a:lnTo>
                      <a:pt x="1835" y="175"/>
                    </a:lnTo>
                    <a:lnTo>
                      <a:pt x="1764" y="140"/>
                    </a:lnTo>
                    <a:lnTo>
                      <a:pt x="1689" y="109"/>
                    </a:lnTo>
                    <a:lnTo>
                      <a:pt x="1612" y="81"/>
                    </a:lnTo>
                    <a:lnTo>
                      <a:pt x="1531" y="57"/>
                    </a:lnTo>
                    <a:lnTo>
                      <a:pt x="1448" y="38"/>
                    </a:lnTo>
                    <a:lnTo>
                      <a:pt x="1440" y="36"/>
                    </a:lnTo>
                    <a:lnTo>
                      <a:pt x="1356" y="21"/>
                    </a:lnTo>
                    <a:lnTo>
                      <a:pt x="1270" y="10"/>
                    </a:lnTo>
                    <a:lnTo>
                      <a:pt x="1181" y="2"/>
                    </a:lnTo>
                    <a:lnTo>
                      <a:pt x="1092" y="0"/>
                    </a:lnTo>
                    <a:lnTo>
                      <a:pt x="1009" y="2"/>
                    </a:lnTo>
                    <a:lnTo>
                      <a:pt x="929" y="8"/>
                    </a:lnTo>
                    <a:lnTo>
                      <a:pt x="849" y="18"/>
                    </a:lnTo>
                    <a:lnTo>
                      <a:pt x="770" y="31"/>
                    </a:lnTo>
                    <a:lnTo>
                      <a:pt x="763" y="33"/>
                    </a:lnTo>
                    <a:lnTo>
                      <a:pt x="686" y="49"/>
                    </a:lnTo>
                    <a:lnTo>
                      <a:pt x="610" y="70"/>
                    </a:lnTo>
                    <a:lnTo>
                      <a:pt x="537" y="93"/>
                    </a:lnTo>
                    <a:lnTo>
                      <a:pt x="466" y="120"/>
                    </a:lnTo>
                    <a:lnTo>
                      <a:pt x="398" y="151"/>
                    </a:lnTo>
                    <a:lnTo>
                      <a:pt x="333" y="183"/>
                    </a:lnTo>
                    <a:lnTo>
                      <a:pt x="270" y="220"/>
                    </a:lnTo>
                    <a:lnTo>
                      <a:pt x="210" y="259"/>
                    </a:lnTo>
                    <a:lnTo>
                      <a:pt x="203" y="264"/>
                    </a:lnTo>
                    <a:lnTo>
                      <a:pt x="147" y="306"/>
                    </a:lnTo>
                    <a:lnTo>
                      <a:pt x="93" y="350"/>
                    </a:lnTo>
                    <a:lnTo>
                      <a:pt x="45" y="399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986440" y="3178080"/>
                <a:ext cx="125640" cy="127080"/>
              </a:xfrm>
              <a:custGeom>
                <a:avLst/>
                <a:gdLst/>
                <a:ahLst/>
                <a:rect l="l" t="t" r="r" b="b"/>
                <a:pathLst>
                  <a:path w="183" h="185">
                    <a:moveTo>
                      <a:pt x="60" y="0"/>
                    </a:moveTo>
                    <a:lnTo>
                      <a:pt x="0" y="185"/>
                    </a:lnTo>
                    <a:lnTo>
                      <a:pt x="183" y="12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386120" y="3220920"/>
                <a:ext cx="122760" cy="129960"/>
              </a:xfrm>
              <a:custGeom>
                <a:avLst/>
                <a:gdLst/>
                <a:ahLst/>
                <a:rect l="l" t="t" r="r" b="b"/>
                <a:pathLst>
                  <a:path w="178" h="188">
                    <a:moveTo>
                      <a:pt x="0" y="112"/>
                    </a:moveTo>
                    <a:lnTo>
                      <a:pt x="178" y="188"/>
                    </a:lnTo>
                    <a:lnTo>
                      <a:pt x="132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"/>
            <p:cNvGrpSpPr/>
            <p:nvPr/>
          </p:nvGrpSpPr>
          <p:grpSpPr>
            <a:xfrm>
              <a:off x="6283440" y="2381400"/>
              <a:ext cx="414360" cy="282240"/>
              <a:chOff x="6283440" y="2381400"/>
              <a:chExt cx="414360" cy="282240"/>
            </a:xfrm>
          </p:grpSpPr>
          <p:sp>
            <p:nvSpPr>
              <p:cNvPr id="2335" name=""/>
              <p:cNvSpPr/>
              <p:nvPr/>
            </p:nvSpPr>
            <p:spPr>
              <a:xfrm>
                <a:off x="6283440" y="2381400"/>
                <a:ext cx="414360" cy="240840"/>
              </a:xfrm>
              <a:custGeom>
                <a:avLst/>
                <a:gdLst/>
                <a:ahLst/>
                <a:rect l="l" t="t" r="r" b="b"/>
                <a:pathLst>
                  <a:path w="602" h="351">
                    <a:moveTo>
                      <a:pt x="4" y="309"/>
                    </a:moveTo>
                    <a:lnTo>
                      <a:pt x="0" y="346"/>
                    </a:lnTo>
                    <a:lnTo>
                      <a:pt x="37" y="349"/>
                    </a:lnTo>
                    <a:lnTo>
                      <a:pt x="72" y="351"/>
                    </a:lnTo>
                    <a:lnTo>
                      <a:pt x="116" y="349"/>
                    </a:lnTo>
                    <a:lnTo>
                      <a:pt x="160" y="344"/>
                    </a:lnTo>
                    <a:lnTo>
                      <a:pt x="202" y="338"/>
                    </a:lnTo>
                    <a:lnTo>
                      <a:pt x="208" y="336"/>
                    </a:lnTo>
                    <a:lnTo>
                      <a:pt x="250" y="325"/>
                    </a:lnTo>
                    <a:lnTo>
                      <a:pt x="289" y="312"/>
                    </a:lnTo>
                    <a:lnTo>
                      <a:pt x="328" y="297"/>
                    </a:lnTo>
                    <a:lnTo>
                      <a:pt x="364" y="280"/>
                    </a:lnTo>
                    <a:lnTo>
                      <a:pt x="399" y="259"/>
                    </a:lnTo>
                    <a:lnTo>
                      <a:pt x="406" y="255"/>
                    </a:lnTo>
                    <a:lnTo>
                      <a:pt x="438" y="233"/>
                    </a:lnTo>
                    <a:lnTo>
                      <a:pt x="469" y="207"/>
                    </a:lnTo>
                    <a:lnTo>
                      <a:pt x="497" y="181"/>
                    </a:lnTo>
                    <a:lnTo>
                      <a:pt x="522" y="152"/>
                    </a:lnTo>
                    <a:lnTo>
                      <a:pt x="547" y="121"/>
                    </a:lnTo>
                    <a:lnTo>
                      <a:pt x="550" y="115"/>
                    </a:lnTo>
                    <a:lnTo>
                      <a:pt x="571" y="82"/>
                    </a:lnTo>
                    <a:lnTo>
                      <a:pt x="587" y="48"/>
                    </a:lnTo>
                    <a:lnTo>
                      <a:pt x="602" y="13"/>
                    </a:lnTo>
                    <a:lnTo>
                      <a:pt x="566" y="0"/>
                    </a:lnTo>
                    <a:lnTo>
                      <a:pt x="552" y="34"/>
                    </a:lnTo>
                    <a:lnTo>
                      <a:pt x="535" y="68"/>
                    </a:lnTo>
                    <a:lnTo>
                      <a:pt x="514" y="100"/>
                    </a:lnTo>
                    <a:lnTo>
                      <a:pt x="532" y="108"/>
                    </a:lnTo>
                    <a:lnTo>
                      <a:pt x="519" y="93"/>
                    </a:lnTo>
                    <a:lnTo>
                      <a:pt x="495" y="124"/>
                    </a:lnTo>
                    <a:lnTo>
                      <a:pt x="469" y="153"/>
                    </a:lnTo>
                    <a:lnTo>
                      <a:pt x="441" y="179"/>
                    </a:lnTo>
                    <a:lnTo>
                      <a:pt x="411" y="205"/>
                    </a:lnTo>
                    <a:lnTo>
                      <a:pt x="378" y="228"/>
                    </a:lnTo>
                    <a:lnTo>
                      <a:pt x="391" y="241"/>
                    </a:lnTo>
                    <a:lnTo>
                      <a:pt x="385" y="223"/>
                    </a:lnTo>
                    <a:lnTo>
                      <a:pt x="349" y="244"/>
                    </a:lnTo>
                    <a:lnTo>
                      <a:pt x="314" y="262"/>
                    </a:lnTo>
                    <a:lnTo>
                      <a:pt x="275" y="276"/>
                    </a:lnTo>
                    <a:lnTo>
                      <a:pt x="236" y="289"/>
                    </a:lnTo>
                    <a:lnTo>
                      <a:pt x="194" y="301"/>
                    </a:lnTo>
                    <a:lnTo>
                      <a:pt x="202" y="318"/>
                    </a:lnTo>
                    <a:lnTo>
                      <a:pt x="202" y="299"/>
                    </a:lnTo>
                    <a:lnTo>
                      <a:pt x="160" y="305"/>
                    </a:lnTo>
                    <a:lnTo>
                      <a:pt x="116" y="310"/>
                    </a:lnTo>
                    <a:lnTo>
                      <a:pt x="72" y="312"/>
                    </a:lnTo>
                    <a:lnTo>
                      <a:pt x="37" y="310"/>
                    </a:lnTo>
                    <a:lnTo>
                      <a:pt x="4" y="30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284880" y="2543760"/>
                <a:ext cx="120960" cy="119880"/>
              </a:xfrm>
              <a:custGeom>
                <a:avLst/>
                <a:gdLst/>
                <a:ahLst/>
                <a:rect l="l" t="t" r="r" b="b"/>
                <a:pathLst>
                  <a:path w="175" h="173">
                    <a:moveTo>
                      <a:pt x="172" y="0"/>
                    </a:moveTo>
                    <a:lnTo>
                      <a:pt x="0" y="91"/>
                    </a:lnTo>
                    <a:lnTo>
                      <a:pt x="175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575040" y="2385360"/>
                <a:ext cx="109800" cy="133560"/>
              </a:xfrm>
              <a:custGeom>
                <a:avLst/>
                <a:gdLst/>
                <a:ahLst/>
                <a:rect l="l" t="t" r="r" b="b"/>
                <a:pathLst>
                  <a:path w="162" h="194">
                    <a:moveTo>
                      <a:pt x="149" y="194"/>
                    </a:moveTo>
                    <a:lnTo>
                      <a:pt x="162" y="0"/>
                    </a:lnTo>
                    <a:lnTo>
                      <a:pt x="0" y="105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6223320" y="2770200"/>
              <a:ext cx="713880" cy="763200"/>
              <a:chOff x="6223320" y="2770200"/>
              <a:chExt cx="713880" cy="763200"/>
            </a:xfrm>
          </p:grpSpPr>
          <p:sp>
            <p:nvSpPr>
              <p:cNvPr id="2339" name=""/>
              <p:cNvSpPr/>
              <p:nvPr/>
            </p:nvSpPr>
            <p:spPr>
              <a:xfrm>
                <a:off x="6223320" y="2770200"/>
                <a:ext cx="669600" cy="718200"/>
              </a:xfrm>
              <a:custGeom>
                <a:avLst/>
                <a:gdLst/>
                <a:ahLst/>
                <a:rect l="l" t="t" r="r" b="b"/>
                <a:pathLst>
                  <a:path w="971" h="1043">
                    <a:moveTo>
                      <a:pt x="5" y="997"/>
                    </a:moveTo>
                    <a:lnTo>
                      <a:pt x="0" y="1035"/>
                    </a:lnTo>
                    <a:lnTo>
                      <a:pt x="58" y="1041"/>
                    </a:lnTo>
                    <a:lnTo>
                      <a:pt x="115" y="1043"/>
                    </a:lnTo>
                    <a:lnTo>
                      <a:pt x="159" y="1041"/>
                    </a:lnTo>
                    <a:lnTo>
                      <a:pt x="201" y="1038"/>
                    </a:lnTo>
                    <a:lnTo>
                      <a:pt x="243" y="1031"/>
                    </a:lnTo>
                    <a:lnTo>
                      <a:pt x="249" y="1030"/>
                    </a:lnTo>
                    <a:lnTo>
                      <a:pt x="292" y="1022"/>
                    </a:lnTo>
                    <a:lnTo>
                      <a:pt x="332" y="1010"/>
                    </a:lnTo>
                    <a:lnTo>
                      <a:pt x="371" y="997"/>
                    </a:lnTo>
                    <a:lnTo>
                      <a:pt x="410" y="983"/>
                    </a:lnTo>
                    <a:lnTo>
                      <a:pt x="449" y="967"/>
                    </a:lnTo>
                    <a:lnTo>
                      <a:pt x="484" y="947"/>
                    </a:lnTo>
                    <a:lnTo>
                      <a:pt x="521" y="926"/>
                    </a:lnTo>
                    <a:lnTo>
                      <a:pt x="555" y="902"/>
                    </a:lnTo>
                    <a:lnTo>
                      <a:pt x="562" y="899"/>
                    </a:lnTo>
                    <a:lnTo>
                      <a:pt x="596" y="873"/>
                    </a:lnTo>
                    <a:lnTo>
                      <a:pt x="630" y="847"/>
                    </a:lnTo>
                    <a:lnTo>
                      <a:pt x="661" y="818"/>
                    </a:lnTo>
                    <a:lnTo>
                      <a:pt x="691" y="789"/>
                    </a:lnTo>
                    <a:lnTo>
                      <a:pt x="720" y="756"/>
                    </a:lnTo>
                    <a:lnTo>
                      <a:pt x="774" y="688"/>
                    </a:lnTo>
                    <a:lnTo>
                      <a:pt x="779" y="682"/>
                    </a:lnTo>
                    <a:lnTo>
                      <a:pt x="827" y="609"/>
                    </a:lnTo>
                    <a:lnTo>
                      <a:pt x="848" y="570"/>
                    </a:lnTo>
                    <a:lnTo>
                      <a:pt x="869" y="530"/>
                    </a:lnTo>
                    <a:lnTo>
                      <a:pt x="887" y="488"/>
                    </a:lnTo>
                    <a:lnTo>
                      <a:pt x="903" y="445"/>
                    </a:lnTo>
                    <a:lnTo>
                      <a:pt x="920" y="402"/>
                    </a:lnTo>
                    <a:lnTo>
                      <a:pt x="933" y="358"/>
                    </a:lnTo>
                    <a:lnTo>
                      <a:pt x="944" y="311"/>
                    </a:lnTo>
                    <a:lnTo>
                      <a:pt x="954" y="266"/>
                    </a:lnTo>
                    <a:lnTo>
                      <a:pt x="955" y="258"/>
                    </a:lnTo>
                    <a:lnTo>
                      <a:pt x="962" y="211"/>
                    </a:lnTo>
                    <a:lnTo>
                      <a:pt x="966" y="164"/>
                    </a:lnTo>
                    <a:lnTo>
                      <a:pt x="970" y="114"/>
                    </a:lnTo>
                    <a:lnTo>
                      <a:pt x="971" y="65"/>
                    </a:lnTo>
                    <a:lnTo>
                      <a:pt x="971" y="34"/>
                    </a:lnTo>
                    <a:lnTo>
                      <a:pt x="970" y="0"/>
                    </a:lnTo>
                    <a:lnTo>
                      <a:pt x="931" y="4"/>
                    </a:lnTo>
                    <a:lnTo>
                      <a:pt x="933" y="34"/>
                    </a:lnTo>
                    <a:lnTo>
                      <a:pt x="933" y="65"/>
                    </a:lnTo>
                    <a:lnTo>
                      <a:pt x="931" y="114"/>
                    </a:lnTo>
                    <a:lnTo>
                      <a:pt x="928" y="164"/>
                    </a:lnTo>
                    <a:lnTo>
                      <a:pt x="923" y="211"/>
                    </a:lnTo>
                    <a:lnTo>
                      <a:pt x="916" y="258"/>
                    </a:lnTo>
                    <a:lnTo>
                      <a:pt x="936" y="258"/>
                    </a:lnTo>
                    <a:lnTo>
                      <a:pt x="918" y="251"/>
                    </a:lnTo>
                    <a:lnTo>
                      <a:pt x="908" y="297"/>
                    </a:lnTo>
                    <a:lnTo>
                      <a:pt x="897" y="344"/>
                    </a:lnTo>
                    <a:lnTo>
                      <a:pt x="884" y="387"/>
                    </a:lnTo>
                    <a:lnTo>
                      <a:pt x="868" y="431"/>
                    </a:lnTo>
                    <a:lnTo>
                      <a:pt x="852" y="473"/>
                    </a:lnTo>
                    <a:lnTo>
                      <a:pt x="834" y="515"/>
                    </a:lnTo>
                    <a:lnTo>
                      <a:pt x="813" y="556"/>
                    </a:lnTo>
                    <a:lnTo>
                      <a:pt x="792" y="594"/>
                    </a:lnTo>
                    <a:lnTo>
                      <a:pt x="743" y="667"/>
                    </a:lnTo>
                    <a:lnTo>
                      <a:pt x="761" y="675"/>
                    </a:lnTo>
                    <a:lnTo>
                      <a:pt x="746" y="661"/>
                    </a:lnTo>
                    <a:lnTo>
                      <a:pt x="693" y="729"/>
                    </a:lnTo>
                    <a:lnTo>
                      <a:pt x="664" y="761"/>
                    </a:lnTo>
                    <a:lnTo>
                      <a:pt x="633" y="790"/>
                    </a:lnTo>
                    <a:lnTo>
                      <a:pt x="602" y="819"/>
                    </a:lnTo>
                    <a:lnTo>
                      <a:pt x="568" y="845"/>
                    </a:lnTo>
                    <a:lnTo>
                      <a:pt x="534" y="871"/>
                    </a:lnTo>
                    <a:lnTo>
                      <a:pt x="549" y="884"/>
                    </a:lnTo>
                    <a:lnTo>
                      <a:pt x="541" y="866"/>
                    </a:lnTo>
                    <a:lnTo>
                      <a:pt x="507" y="891"/>
                    </a:lnTo>
                    <a:lnTo>
                      <a:pt x="470" y="912"/>
                    </a:lnTo>
                    <a:lnTo>
                      <a:pt x="434" y="931"/>
                    </a:lnTo>
                    <a:lnTo>
                      <a:pt x="395" y="947"/>
                    </a:lnTo>
                    <a:lnTo>
                      <a:pt x="356" y="962"/>
                    </a:lnTo>
                    <a:lnTo>
                      <a:pt x="317" y="975"/>
                    </a:lnTo>
                    <a:lnTo>
                      <a:pt x="277" y="986"/>
                    </a:lnTo>
                    <a:lnTo>
                      <a:pt x="235" y="994"/>
                    </a:lnTo>
                    <a:lnTo>
                      <a:pt x="243" y="1012"/>
                    </a:lnTo>
                    <a:lnTo>
                      <a:pt x="243" y="992"/>
                    </a:lnTo>
                    <a:lnTo>
                      <a:pt x="201" y="999"/>
                    </a:lnTo>
                    <a:lnTo>
                      <a:pt x="159" y="1002"/>
                    </a:lnTo>
                    <a:lnTo>
                      <a:pt x="115" y="1004"/>
                    </a:lnTo>
                    <a:lnTo>
                      <a:pt x="58" y="1002"/>
                    </a:lnTo>
                    <a:lnTo>
                      <a:pt x="5" y="997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223320" y="3413520"/>
                <a:ext cx="122760" cy="119880"/>
              </a:xfrm>
              <a:custGeom>
                <a:avLst/>
                <a:gdLst/>
                <a:ahLst/>
                <a:rect l="l" t="t" r="r" b="b"/>
                <a:pathLst>
                  <a:path w="176" h="173">
                    <a:moveTo>
                      <a:pt x="176" y="0"/>
                    </a:moveTo>
                    <a:lnTo>
                      <a:pt x="0" y="81"/>
                    </a:lnTo>
                    <a:lnTo>
                      <a:pt x="170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816960" y="2771280"/>
                <a:ext cx="120240" cy="119880"/>
              </a:xfrm>
              <a:custGeom>
                <a:avLst/>
                <a:gdLst/>
                <a:ahLst/>
                <a:rect l="l" t="t" r="r" b="b"/>
                <a:pathLst>
                  <a:path w="173" h="175">
                    <a:moveTo>
                      <a:pt x="173" y="175"/>
                    </a:moveTo>
                    <a:lnTo>
                      <a:pt x="89" y="0"/>
                    </a:lnTo>
                    <a:lnTo>
                      <a:pt x="0" y="172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2" name=""/>
            <p:cNvGrpSpPr/>
            <p:nvPr/>
          </p:nvGrpSpPr>
          <p:grpSpPr>
            <a:xfrm>
              <a:off x="6175440" y="2755800"/>
              <a:ext cx="1045800" cy="1935000"/>
              <a:chOff x="6175440" y="2755800"/>
              <a:chExt cx="1045800" cy="1935000"/>
            </a:xfrm>
          </p:grpSpPr>
          <p:sp>
            <p:nvSpPr>
              <p:cNvPr id="2343" name=""/>
              <p:cNvSpPr/>
              <p:nvPr/>
            </p:nvSpPr>
            <p:spPr>
              <a:xfrm>
                <a:off x="6175440" y="2755800"/>
                <a:ext cx="1001880" cy="1925640"/>
              </a:xfrm>
              <a:custGeom>
                <a:avLst/>
                <a:gdLst/>
                <a:ahLst/>
                <a:rect l="l" t="t" r="r" b="b"/>
                <a:pathLst>
                  <a:path w="1453" h="2794">
                    <a:moveTo>
                      <a:pt x="0" y="2756"/>
                    </a:moveTo>
                    <a:lnTo>
                      <a:pt x="8" y="2794"/>
                    </a:lnTo>
                    <a:lnTo>
                      <a:pt x="87" y="2773"/>
                    </a:lnTo>
                    <a:lnTo>
                      <a:pt x="161" y="2747"/>
                    </a:lnTo>
                    <a:lnTo>
                      <a:pt x="236" y="2718"/>
                    </a:lnTo>
                    <a:lnTo>
                      <a:pt x="309" y="2682"/>
                    </a:lnTo>
                    <a:lnTo>
                      <a:pt x="378" y="2643"/>
                    </a:lnTo>
                    <a:lnTo>
                      <a:pt x="448" y="2601"/>
                    </a:lnTo>
                    <a:lnTo>
                      <a:pt x="454" y="2596"/>
                    </a:lnTo>
                    <a:lnTo>
                      <a:pt x="522" y="2549"/>
                    </a:lnTo>
                    <a:lnTo>
                      <a:pt x="587" y="2498"/>
                    </a:lnTo>
                    <a:lnTo>
                      <a:pt x="652" y="2442"/>
                    </a:lnTo>
                    <a:lnTo>
                      <a:pt x="713" y="2383"/>
                    </a:lnTo>
                    <a:lnTo>
                      <a:pt x="773" y="2319"/>
                    </a:lnTo>
                    <a:lnTo>
                      <a:pt x="832" y="2253"/>
                    </a:lnTo>
                    <a:lnTo>
                      <a:pt x="887" y="2184"/>
                    </a:lnTo>
                    <a:lnTo>
                      <a:pt x="940" y="2109"/>
                    </a:lnTo>
                    <a:lnTo>
                      <a:pt x="945" y="2103"/>
                    </a:lnTo>
                    <a:lnTo>
                      <a:pt x="997" y="2027"/>
                    </a:lnTo>
                    <a:lnTo>
                      <a:pt x="1045" y="1946"/>
                    </a:lnTo>
                    <a:lnTo>
                      <a:pt x="1092" y="1863"/>
                    </a:lnTo>
                    <a:lnTo>
                      <a:pt x="1136" y="1777"/>
                    </a:lnTo>
                    <a:lnTo>
                      <a:pt x="1178" y="1688"/>
                    </a:lnTo>
                    <a:lnTo>
                      <a:pt x="1217" y="1598"/>
                    </a:lnTo>
                    <a:lnTo>
                      <a:pt x="1252" y="1504"/>
                    </a:lnTo>
                    <a:lnTo>
                      <a:pt x="1286" y="1407"/>
                    </a:lnTo>
                    <a:lnTo>
                      <a:pt x="1315" y="1308"/>
                    </a:lnTo>
                    <a:lnTo>
                      <a:pt x="1343" y="1208"/>
                    </a:lnTo>
                    <a:lnTo>
                      <a:pt x="1369" y="1106"/>
                    </a:lnTo>
                    <a:lnTo>
                      <a:pt x="1390" y="1001"/>
                    </a:lnTo>
                    <a:lnTo>
                      <a:pt x="1392" y="994"/>
                    </a:lnTo>
                    <a:lnTo>
                      <a:pt x="1409" y="887"/>
                    </a:lnTo>
                    <a:lnTo>
                      <a:pt x="1426" y="779"/>
                    </a:lnTo>
                    <a:lnTo>
                      <a:pt x="1437" y="669"/>
                    </a:lnTo>
                    <a:lnTo>
                      <a:pt x="1447" y="559"/>
                    </a:lnTo>
                    <a:lnTo>
                      <a:pt x="1451" y="445"/>
                    </a:lnTo>
                    <a:lnTo>
                      <a:pt x="1453" y="332"/>
                    </a:lnTo>
                    <a:lnTo>
                      <a:pt x="1451" y="250"/>
                    </a:lnTo>
                    <a:lnTo>
                      <a:pt x="1450" y="167"/>
                    </a:lnTo>
                    <a:lnTo>
                      <a:pt x="1445" y="85"/>
                    </a:lnTo>
                    <a:lnTo>
                      <a:pt x="1439" y="0"/>
                    </a:lnTo>
                    <a:lnTo>
                      <a:pt x="1400" y="4"/>
                    </a:lnTo>
                    <a:lnTo>
                      <a:pt x="1406" y="85"/>
                    </a:lnTo>
                    <a:lnTo>
                      <a:pt x="1411" y="167"/>
                    </a:lnTo>
                    <a:lnTo>
                      <a:pt x="1413" y="250"/>
                    </a:lnTo>
                    <a:lnTo>
                      <a:pt x="1414" y="332"/>
                    </a:lnTo>
                    <a:lnTo>
                      <a:pt x="1413" y="445"/>
                    </a:lnTo>
                    <a:lnTo>
                      <a:pt x="1408" y="559"/>
                    </a:lnTo>
                    <a:lnTo>
                      <a:pt x="1398" y="669"/>
                    </a:lnTo>
                    <a:lnTo>
                      <a:pt x="1387" y="779"/>
                    </a:lnTo>
                    <a:lnTo>
                      <a:pt x="1371" y="887"/>
                    </a:lnTo>
                    <a:lnTo>
                      <a:pt x="1353" y="994"/>
                    </a:lnTo>
                    <a:lnTo>
                      <a:pt x="1372" y="994"/>
                    </a:lnTo>
                    <a:lnTo>
                      <a:pt x="1354" y="986"/>
                    </a:lnTo>
                    <a:lnTo>
                      <a:pt x="1333" y="1091"/>
                    </a:lnTo>
                    <a:lnTo>
                      <a:pt x="1307" y="1193"/>
                    </a:lnTo>
                    <a:lnTo>
                      <a:pt x="1280" y="1293"/>
                    </a:lnTo>
                    <a:lnTo>
                      <a:pt x="1251" y="1392"/>
                    </a:lnTo>
                    <a:lnTo>
                      <a:pt x="1217" y="1489"/>
                    </a:lnTo>
                    <a:lnTo>
                      <a:pt x="1181" y="1583"/>
                    </a:lnTo>
                    <a:lnTo>
                      <a:pt x="1142" y="1674"/>
                    </a:lnTo>
                    <a:lnTo>
                      <a:pt x="1100" y="1763"/>
                    </a:lnTo>
                    <a:lnTo>
                      <a:pt x="1057" y="1849"/>
                    </a:lnTo>
                    <a:lnTo>
                      <a:pt x="1010" y="1931"/>
                    </a:lnTo>
                    <a:lnTo>
                      <a:pt x="961" y="2012"/>
                    </a:lnTo>
                    <a:lnTo>
                      <a:pt x="909" y="2088"/>
                    </a:lnTo>
                    <a:lnTo>
                      <a:pt x="927" y="2096"/>
                    </a:lnTo>
                    <a:lnTo>
                      <a:pt x="912" y="2082"/>
                    </a:lnTo>
                    <a:lnTo>
                      <a:pt x="859" y="2156"/>
                    </a:lnTo>
                    <a:lnTo>
                      <a:pt x="804" y="2226"/>
                    </a:lnTo>
                    <a:lnTo>
                      <a:pt x="746" y="2292"/>
                    </a:lnTo>
                    <a:lnTo>
                      <a:pt x="686" y="2355"/>
                    </a:lnTo>
                    <a:lnTo>
                      <a:pt x="624" y="2415"/>
                    </a:lnTo>
                    <a:lnTo>
                      <a:pt x="560" y="2470"/>
                    </a:lnTo>
                    <a:lnTo>
                      <a:pt x="495" y="2522"/>
                    </a:lnTo>
                    <a:lnTo>
                      <a:pt x="427" y="2569"/>
                    </a:lnTo>
                    <a:lnTo>
                      <a:pt x="441" y="2583"/>
                    </a:lnTo>
                    <a:lnTo>
                      <a:pt x="433" y="2565"/>
                    </a:lnTo>
                    <a:lnTo>
                      <a:pt x="364" y="2608"/>
                    </a:lnTo>
                    <a:lnTo>
                      <a:pt x="294" y="2646"/>
                    </a:lnTo>
                    <a:lnTo>
                      <a:pt x="221" y="2682"/>
                    </a:lnTo>
                    <a:lnTo>
                      <a:pt x="147" y="2711"/>
                    </a:lnTo>
                    <a:lnTo>
                      <a:pt x="72" y="2737"/>
                    </a:lnTo>
                    <a:lnTo>
                      <a:pt x="0" y="2756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176880" y="4574880"/>
                <a:ext cx="132120" cy="115920"/>
              </a:xfrm>
              <a:custGeom>
                <a:avLst/>
                <a:gdLst/>
                <a:ahLst/>
                <a:rect l="l" t="t" r="r" b="b"/>
                <a:pathLst>
                  <a:path w="191" h="167">
                    <a:moveTo>
                      <a:pt x="141" y="0"/>
                    </a:moveTo>
                    <a:lnTo>
                      <a:pt x="0" y="134"/>
                    </a:lnTo>
                    <a:lnTo>
                      <a:pt x="191" y="167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101720" y="2756880"/>
                <a:ext cx="119520" cy="122760"/>
              </a:xfrm>
              <a:custGeom>
                <a:avLst/>
                <a:gdLst/>
                <a:ahLst/>
                <a:rect l="l" t="t" r="r" b="b"/>
                <a:pathLst>
                  <a:path w="173" h="178">
                    <a:moveTo>
                      <a:pt x="173" y="167"/>
                    </a:moveTo>
                    <a:lnTo>
                      <a:pt x="74" y="0"/>
                    </a:lnTo>
                    <a:lnTo>
                      <a:pt x="0" y="178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6" name=""/>
            <p:cNvGrpSpPr/>
            <p:nvPr/>
          </p:nvGrpSpPr>
          <p:grpSpPr>
            <a:xfrm>
              <a:off x="7194600" y="4371840"/>
              <a:ext cx="517680" cy="419400"/>
              <a:chOff x="7194600" y="4371840"/>
              <a:chExt cx="517680" cy="419400"/>
            </a:xfrm>
          </p:grpSpPr>
          <p:sp>
            <p:nvSpPr>
              <p:cNvPr id="2347" name=""/>
              <p:cNvSpPr/>
              <p:nvPr/>
            </p:nvSpPr>
            <p:spPr>
              <a:xfrm>
                <a:off x="7194600" y="4371840"/>
                <a:ext cx="517680" cy="376560"/>
              </a:xfrm>
              <a:custGeom>
                <a:avLst/>
                <a:gdLst/>
                <a:ahLst/>
                <a:rect l="l" t="t" r="r" b="b"/>
                <a:pathLst>
                  <a:path w="749" h="545">
                    <a:moveTo>
                      <a:pt x="6" y="501"/>
                    </a:moveTo>
                    <a:lnTo>
                      <a:pt x="0" y="539"/>
                    </a:lnTo>
                    <a:lnTo>
                      <a:pt x="49" y="544"/>
                    </a:lnTo>
                    <a:lnTo>
                      <a:pt x="92" y="545"/>
                    </a:lnTo>
                    <a:lnTo>
                      <a:pt x="147" y="544"/>
                    </a:lnTo>
                    <a:lnTo>
                      <a:pt x="201" y="535"/>
                    </a:lnTo>
                    <a:lnTo>
                      <a:pt x="209" y="534"/>
                    </a:lnTo>
                    <a:lnTo>
                      <a:pt x="261" y="522"/>
                    </a:lnTo>
                    <a:lnTo>
                      <a:pt x="312" y="506"/>
                    </a:lnTo>
                    <a:lnTo>
                      <a:pt x="363" y="485"/>
                    </a:lnTo>
                    <a:lnTo>
                      <a:pt x="409" y="461"/>
                    </a:lnTo>
                    <a:lnTo>
                      <a:pt x="455" y="432"/>
                    </a:lnTo>
                    <a:lnTo>
                      <a:pt x="461" y="427"/>
                    </a:lnTo>
                    <a:lnTo>
                      <a:pt x="505" y="395"/>
                    </a:lnTo>
                    <a:lnTo>
                      <a:pt x="545" y="359"/>
                    </a:lnTo>
                    <a:lnTo>
                      <a:pt x="584" y="319"/>
                    </a:lnTo>
                    <a:lnTo>
                      <a:pt x="618" y="277"/>
                    </a:lnTo>
                    <a:lnTo>
                      <a:pt x="651" y="230"/>
                    </a:lnTo>
                    <a:lnTo>
                      <a:pt x="655" y="223"/>
                    </a:lnTo>
                    <a:lnTo>
                      <a:pt x="683" y="175"/>
                    </a:lnTo>
                    <a:lnTo>
                      <a:pt x="709" y="123"/>
                    </a:lnTo>
                    <a:lnTo>
                      <a:pt x="730" y="69"/>
                    </a:lnTo>
                    <a:lnTo>
                      <a:pt x="749" y="9"/>
                    </a:lnTo>
                    <a:lnTo>
                      <a:pt x="712" y="0"/>
                    </a:lnTo>
                    <a:lnTo>
                      <a:pt x="694" y="55"/>
                    </a:lnTo>
                    <a:lnTo>
                      <a:pt x="673" y="108"/>
                    </a:lnTo>
                    <a:lnTo>
                      <a:pt x="647" y="160"/>
                    </a:lnTo>
                    <a:lnTo>
                      <a:pt x="620" y="209"/>
                    </a:lnTo>
                    <a:lnTo>
                      <a:pt x="638" y="217"/>
                    </a:lnTo>
                    <a:lnTo>
                      <a:pt x="623" y="202"/>
                    </a:lnTo>
                    <a:lnTo>
                      <a:pt x="591" y="249"/>
                    </a:lnTo>
                    <a:lnTo>
                      <a:pt x="557" y="291"/>
                    </a:lnTo>
                    <a:lnTo>
                      <a:pt x="518" y="332"/>
                    </a:lnTo>
                    <a:lnTo>
                      <a:pt x="477" y="367"/>
                    </a:lnTo>
                    <a:lnTo>
                      <a:pt x="434" y="400"/>
                    </a:lnTo>
                    <a:lnTo>
                      <a:pt x="448" y="414"/>
                    </a:lnTo>
                    <a:lnTo>
                      <a:pt x="440" y="396"/>
                    </a:lnTo>
                    <a:lnTo>
                      <a:pt x="395" y="425"/>
                    </a:lnTo>
                    <a:lnTo>
                      <a:pt x="348" y="450"/>
                    </a:lnTo>
                    <a:lnTo>
                      <a:pt x="298" y="471"/>
                    </a:lnTo>
                    <a:lnTo>
                      <a:pt x="246" y="487"/>
                    </a:lnTo>
                    <a:lnTo>
                      <a:pt x="194" y="498"/>
                    </a:lnTo>
                    <a:lnTo>
                      <a:pt x="201" y="516"/>
                    </a:lnTo>
                    <a:lnTo>
                      <a:pt x="201" y="497"/>
                    </a:lnTo>
                    <a:lnTo>
                      <a:pt x="147" y="505"/>
                    </a:lnTo>
                    <a:lnTo>
                      <a:pt x="92" y="506"/>
                    </a:lnTo>
                    <a:lnTo>
                      <a:pt x="49" y="505"/>
                    </a:lnTo>
                    <a:lnTo>
                      <a:pt x="6" y="501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197120" y="4671360"/>
                <a:ext cx="121320" cy="11988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175" y="0"/>
                    </a:moveTo>
                    <a:lnTo>
                      <a:pt x="0" y="86"/>
                    </a:lnTo>
                    <a:lnTo>
                      <a:pt x="172" y="174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598880" y="4375800"/>
                <a:ext cx="111600" cy="132120"/>
              </a:xfrm>
              <a:custGeom>
                <a:avLst/>
                <a:gdLst/>
                <a:ahLst/>
                <a:rect l="l" t="t" r="r" b="b"/>
                <a:pathLst>
                  <a:path w="162" h="192">
                    <a:moveTo>
                      <a:pt x="162" y="192"/>
                    </a:moveTo>
                    <a:lnTo>
                      <a:pt x="144" y="0"/>
                    </a:lnTo>
                    <a:lnTo>
                      <a:pt x="0" y="129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6208920" y="4898880"/>
              <a:ext cx="480960" cy="284040"/>
              <a:chOff x="6208920" y="4898880"/>
              <a:chExt cx="480960" cy="284040"/>
            </a:xfrm>
          </p:grpSpPr>
          <p:sp>
            <p:nvSpPr>
              <p:cNvPr id="2351" name=""/>
              <p:cNvSpPr/>
              <p:nvPr/>
            </p:nvSpPr>
            <p:spPr>
              <a:xfrm>
                <a:off x="6208920" y="4898880"/>
                <a:ext cx="480960" cy="241200"/>
              </a:xfrm>
              <a:custGeom>
                <a:avLst/>
                <a:gdLst/>
                <a:ahLst/>
                <a:rect l="l" t="t" r="r" b="b"/>
                <a:pathLst>
                  <a:path w="698" h="350">
                    <a:moveTo>
                      <a:pt x="16" y="272"/>
                    </a:moveTo>
                    <a:lnTo>
                      <a:pt x="0" y="308"/>
                    </a:lnTo>
                    <a:lnTo>
                      <a:pt x="49" y="326"/>
                    </a:lnTo>
                    <a:lnTo>
                      <a:pt x="101" y="338"/>
                    </a:lnTo>
                    <a:lnTo>
                      <a:pt x="107" y="340"/>
                    </a:lnTo>
                    <a:lnTo>
                      <a:pt x="159" y="348"/>
                    </a:lnTo>
                    <a:lnTo>
                      <a:pt x="211" y="350"/>
                    </a:lnTo>
                    <a:lnTo>
                      <a:pt x="251" y="348"/>
                    </a:lnTo>
                    <a:lnTo>
                      <a:pt x="290" y="343"/>
                    </a:lnTo>
                    <a:lnTo>
                      <a:pt x="329" y="337"/>
                    </a:lnTo>
                    <a:lnTo>
                      <a:pt x="337" y="335"/>
                    </a:lnTo>
                    <a:lnTo>
                      <a:pt x="374" y="324"/>
                    </a:lnTo>
                    <a:lnTo>
                      <a:pt x="411" y="311"/>
                    </a:lnTo>
                    <a:lnTo>
                      <a:pt x="445" y="296"/>
                    </a:lnTo>
                    <a:lnTo>
                      <a:pt x="479" y="279"/>
                    </a:lnTo>
                    <a:lnTo>
                      <a:pt x="512" y="258"/>
                    </a:lnTo>
                    <a:lnTo>
                      <a:pt x="518" y="254"/>
                    </a:lnTo>
                    <a:lnTo>
                      <a:pt x="547" y="232"/>
                    </a:lnTo>
                    <a:lnTo>
                      <a:pt x="575" y="206"/>
                    </a:lnTo>
                    <a:lnTo>
                      <a:pt x="601" y="180"/>
                    </a:lnTo>
                    <a:lnTo>
                      <a:pt x="625" y="151"/>
                    </a:lnTo>
                    <a:lnTo>
                      <a:pt x="646" y="120"/>
                    </a:lnTo>
                    <a:lnTo>
                      <a:pt x="651" y="114"/>
                    </a:lnTo>
                    <a:lnTo>
                      <a:pt x="669" y="81"/>
                    </a:lnTo>
                    <a:lnTo>
                      <a:pt x="685" y="47"/>
                    </a:lnTo>
                    <a:lnTo>
                      <a:pt x="698" y="12"/>
                    </a:lnTo>
                    <a:lnTo>
                      <a:pt x="662" y="0"/>
                    </a:lnTo>
                    <a:lnTo>
                      <a:pt x="649" y="33"/>
                    </a:lnTo>
                    <a:lnTo>
                      <a:pt x="633" y="67"/>
                    </a:lnTo>
                    <a:lnTo>
                      <a:pt x="615" y="99"/>
                    </a:lnTo>
                    <a:lnTo>
                      <a:pt x="633" y="107"/>
                    </a:lnTo>
                    <a:lnTo>
                      <a:pt x="618" y="93"/>
                    </a:lnTo>
                    <a:lnTo>
                      <a:pt x="597" y="123"/>
                    </a:lnTo>
                    <a:lnTo>
                      <a:pt x="573" y="152"/>
                    </a:lnTo>
                    <a:lnTo>
                      <a:pt x="547" y="178"/>
                    </a:lnTo>
                    <a:lnTo>
                      <a:pt x="520" y="204"/>
                    </a:lnTo>
                    <a:lnTo>
                      <a:pt x="491" y="227"/>
                    </a:lnTo>
                    <a:lnTo>
                      <a:pt x="504" y="240"/>
                    </a:lnTo>
                    <a:lnTo>
                      <a:pt x="497" y="222"/>
                    </a:lnTo>
                    <a:lnTo>
                      <a:pt x="465" y="243"/>
                    </a:lnTo>
                    <a:lnTo>
                      <a:pt x="431" y="261"/>
                    </a:lnTo>
                    <a:lnTo>
                      <a:pt x="397" y="275"/>
                    </a:lnTo>
                    <a:lnTo>
                      <a:pt x="359" y="288"/>
                    </a:lnTo>
                    <a:lnTo>
                      <a:pt x="322" y="300"/>
                    </a:lnTo>
                    <a:lnTo>
                      <a:pt x="329" y="317"/>
                    </a:lnTo>
                    <a:lnTo>
                      <a:pt x="329" y="298"/>
                    </a:lnTo>
                    <a:lnTo>
                      <a:pt x="290" y="305"/>
                    </a:lnTo>
                    <a:lnTo>
                      <a:pt x="251" y="309"/>
                    </a:lnTo>
                    <a:lnTo>
                      <a:pt x="211" y="311"/>
                    </a:lnTo>
                    <a:lnTo>
                      <a:pt x="159" y="309"/>
                    </a:lnTo>
                    <a:lnTo>
                      <a:pt x="107" y="301"/>
                    </a:lnTo>
                    <a:lnTo>
                      <a:pt x="107" y="321"/>
                    </a:lnTo>
                    <a:lnTo>
                      <a:pt x="115" y="303"/>
                    </a:lnTo>
                    <a:lnTo>
                      <a:pt x="63" y="290"/>
                    </a:lnTo>
                    <a:lnTo>
                      <a:pt x="16" y="27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214320" y="5067360"/>
                <a:ext cx="129240" cy="115560"/>
              </a:xfrm>
              <a:custGeom>
                <a:avLst/>
                <a:gdLst/>
                <a:ahLst/>
                <a:rect l="l" t="t" r="r" b="b"/>
                <a:pathLst>
                  <a:path w="188" h="170">
                    <a:moveTo>
                      <a:pt x="188" y="0"/>
                    </a:moveTo>
                    <a:lnTo>
                      <a:pt x="0" y="47"/>
                    </a:lnTo>
                    <a:lnTo>
                      <a:pt x="151" y="17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568560" y="4902840"/>
                <a:ext cx="108720" cy="133920"/>
              </a:xfrm>
              <a:custGeom>
                <a:avLst/>
                <a:gdLst/>
                <a:ahLst/>
                <a:rect l="l" t="t" r="r" b="b"/>
                <a:pathLst>
                  <a:path w="159" h="194">
                    <a:moveTo>
                      <a:pt x="152" y="194"/>
                    </a:moveTo>
                    <a:lnTo>
                      <a:pt x="159" y="0"/>
                    </a:lnTo>
                    <a:lnTo>
                      <a:pt x="0" y="11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4" name=""/>
            <p:cNvGrpSpPr/>
            <p:nvPr/>
          </p:nvGrpSpPr>
          <p:grpSpPr>
            <a:xfrm>
              <a:off x="6769440" y="1889280"/>
              <a:ext cx="405720" cy="613440"/>
              <a:chOff x="6769440" y="1889280"/>
              <a:chExt cx="405720" cy="613440"/>
            </a:xfrm>
          </p:grpSpPr>
          <p:grpSp>
            <p:nvGrpSpPr>
              <p:cNvPr id="2355" name=""/>
              <p:cNvGrpSpPr/>
              <p:nvPr/>
            </p:nvGrpSpPr>
            <p:grpSpPr>
              <a:xfrm>
                <a:off x="6902640" y="1889280"/>
                <a:ext cx="272520" cy="605160"/>
                <a:chOff x="6902640" y="1889280"/>
                <a:chExt cx="272520" cy="605160"/>
              </a:xfrm>
            </p:grpSpPr>
            <p:sp>
              <p:nvSpPr>
                <p:cNvPr id="2356" name=""/>
                <p:cNvSpPr/>
                <p:nvPr/>
              </p:nvSpPr>
              <p:spPr>
                <a:xfrm>
                  <a:off x="6920640" y="1907280"/>
                  <a:ext cx="254520" cy="587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6902640" y="1889280"/>
                  <a:ext cx="254880" cy="58752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6953400" y="1934640"/>
                  <a:ext cx="136440" cy="529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6935760" y="1916640"/>
                  <a:ext cx="136440" cy="5310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6952320" y="1946880"/>
                  <a:ext cx="20520" cy="3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6944040" y="1938960"/>
                  <a:ext cx="2052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6982560" y="1946880"/>
                  <a:ext cx="17640" cy="3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6972840" y="1938960"/>
                  <a:ext cx="1800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7008840" y="1946880"/>
                  <a:ext cx="20520" cy="3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6999120" y="1938960"/>
                  <a:ext cx="2052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7036200" y="1946880"/>
                  <a:ext cx="20520" cy="3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7026480" y="1938960"/>
                  <a:ext cx="2196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6952320" y="1991520"/>
                  <a:ext cx="2052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6944040" y="1981800"/>
                  <a:ext cx="2052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6982560" y="1991520"/>
                  <a:ext cx="1764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6972840" y="1981800"/>
                  <a:ext cx="1800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7008840" y="1991520"/>
                  <a:ext cx="2052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6999120" y="1981800"/>
                  <a:ext cx="2052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6952320" y="2032560"/>
                  <a:ext cx="20520" cy="3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944040" y="2024280"/>
                  <a:ext cx="20520" cy="356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6952320" y="2076840"/>
                  <a:ext cx="20520" cy="3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6944040" y="2067120"/>
                  <a:ext cx="20520" cy="356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6952320" y="2119680"/>
                  <a:ext cx="2052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6944040" y="2111040"/>
                  <a:ext cx="2052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0" name=""/>
              <p:cNvGrpSpPr/>
              <p:nvPr/>
            </p:nvGrpSpPr>
            <p:grpSpPr>
              <a:xfrm>
                <a:off x="6999480" y="2249280"/>
                <a:ext cx="81000" cy="209160"/>
                <a:chOff x="6999480" y="2249280"/>
                <a:chExt cx="81000" cy="209160"/>
              </a:xfrm>
            </p:grpSpPr>
            <p:sp>
              <p:nvSpPr>
                <p:cNvPr id="2381" name=""/>
                <p:cNvSpPr/>
                <p:nvPr/>
              </p:nvSpPr>
              <p:spPr>
                <a:xfrm>
                  <a:off x="7008840" y="2258640"/>
                  <a:ext cx="13680" cy="199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6999480" y="2249280"/>
                  <a:ext cx="15120" cy="201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7037640" y="2258640"/>
                  <a:ext cx="11160" cy="199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7028280" y="2249280"/>
                  <a:ext cx="11880" cy="201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7066800" y="2258640"/>
                  <a:ext cx="13680" cy="199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7058520" y="2249280"/>
                  <a:ext cx="13680" cy="201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7" name=""/>
              <p:cNvGrpSpPr/>
              <p:nvPr/>
            </p:nvGrpSpPr>
            <p:grpSpPr>
              <a:xfrm>
                <a:off x="6769440" y="2038320"/>
                <a:ext cx="211680" cy="464400"/>
                <a:chOff x="6769440" y="2038320"/>
                <a:chExt cx="211680" cy="464400"/>
              </a:xfrm>
            </p:grpSpPr>
            <p:sp>
              <p:nvSpPr>
                <p:cNvPr id="2388" name=""/>
                <p:cNvSpPr/>
                <p:nvPr/>
              </p:nvSpPr>
              <p:spPr>
                <a:xfrm>
                  <a:off x="6787080" y="2055960"/>
                  <a:ext cx="194040" cy="446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6769440" y="2038320"/>
                  <a:ext cx="193680" cy="44640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6813360" y="2076480"/>
                  <a:ext cx="102960" cy="40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6795360" y="2058840"/>
                  <a:ext cx="103320" cy="40248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6809040" y="2083320"/>
                  <a:ext cx="1800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6800760" y="2073960"/>
                  <a:ext cx="16200" cy="288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6832440" y="2083320"/>
                  <a:ext cx="1404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6824160" y="2073960"/>
                  <a:ext cx="13680" cy="288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6851880" y="2083320"/>
                  <a:ext cx="1620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6843600" y="2073960"/>
                  <a:ext cx="14760" cy="288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6873840" y="2083320"/>
                  <a:ext cx="1620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6864120" y="2073960"/>
                  <a:ext cx="16200" cy="288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6809040" y="2116800"/>
                  <a:ext cx="1800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6800760" y="2108160"/>
                  <a:ext cx="1620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6832440" y="2116800"/>
                  <a:ext cx="1404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6824160" y="2108160"/>
                  <a:ext cx="1368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6851880" y="2116800"/>
                  <a:ext cx="1620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6843600" y="2108160"/>
                  <a:ext cx="1476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6809040" y="2148120"/>
                  <a:ext cx="1800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6800760" y="2140200"/>
                  <a:ext cx="1620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6809040" y="2183040"/>
                  <a:ext cx="1800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6800760" y="2173320"/>
                  <a:ext cx="16200" cy="273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6809040" y="2214720"/>
                  <a:ext cx="1800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6800760" y="2206440"/>
                  <a:ext cx="1620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2" name=""/>
              <p:cNvGrpSpPr/>
              <p:nvPr/>
            </p:nvGrpSpPr>
            <p:grpSpPr>
              <a:xfrm>
                <a:off x="6843600" y="2312640"/>
                <a:ext cx="63000" cy="160920"/>
                <a:chOff x="6843600" y="2312640"/>
                <a:chExt cx="63000" cy="160920"/>
              </a:xfrm>
            </p:grpSpPr>
            <p:sp>
              <p:nvSpPr>
                <p:cNvPr id="2413" name=""/>
                <p:cNvSpPr/>
                <p:nvPr/>
              </p:nvSpPr>
              <p:spPr>
                <a:xfrm>
                  <a:off x="6851520" y="2320920"/>
                  <a:ext cx="1080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6843600" y="2312640"/>
                  <a:ext cx="10800" cy="151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6873840" y="2320920"/>
                  <a:ext cx="936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6865200" y="2312640"/>
                  <a:ext cx="8280" cy="151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6897240" y="2320920"/>
                  <a:ext cx="936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6887520" y="2312640"/>
                  <a:ext cx="9360" cy="151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9" name=""/>
            <p:cNvGrpSpPr/>
            <p:nvPr/>
          </p:nvGrpSpPr>
          <p:grpSpPr>
            <a:xfrm>
              <a:off x="6721560" y="4506840"/>
              <a:ext cx="394560" cy="596160"/>
              <a:chOff x="6721560" y="4506840"/>
              <a:chExt cx="394560" cy="596160"/>
            </a:xfrm>
          </p:grpSpPr>
          <p:grpSp>
            <p:nvGrpSpPr>
              <p:cNvPr id="2420" name=""/>
              <p:cNvGrpSpPr/>
              <p:nvPr/>
            </p:nvGrpSpPr>
            <p:grpSpPr>
              <a:xfrm>
                <a:off x="6850800" y="4506840"/>
                <a:ext cx="265320" cy="589680"/>
                <a:chOff x="6850800" y="4506840"/>
                <a:chExt cx="265320" cy="589680"/>
              </a:xfrm>
            </p:grpSpPr>
            <p:sp>
              <p:nvSpPr>
                <p:cNvPr id="2421" name=""/>
                <p:cNvSpPr/>
                <p:nvPr/>
              </p:nvSpPr>
              <p:spPr>
                <a:xfrm>
                  <a:off x="6868440" y="4524480"/>
                  <a:ext cx="247680" cy="572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6850800" y="4506840"/>
                  <a:ext cx="247680" cy="57204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6901560" y="4551840"/>
                  <a:ext cx="132120" cy="51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6883560" y="4535640"/>
                  <a:ext cx="131760" cy="51408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6900120" y="4564440"/>
                  <a:ext cx="1908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6890760" y="4554720"/>
                  <a:ext cx="20520" cy="34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6929280" y="4564440"/>
                  <a:ext cx="1764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6919560" y="4554720"/>
                  <a:ext cx="17640" cy="34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6954120" y="4564440"/>
                  <a:ext cx="1908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6944400" y="4554720"/>
                  <a:ext cx="20520" cy="34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6981480" y="4564440"/>
                  <a:ext cx="1908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6971760" y="4554720"/>
                  <a:ext cx="20520" cy="34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6900120" y="4605840"/>
                  <a:ext cx="19080" cy="34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6890760" y="4597560"/>
                  <a:ext cx="2052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6929280" y="4605840"/>
                  <a:ext cx="17640" cy="34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6919560" y="4597560"/>
                  <a:ext cx="1764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954120" y="4605840"/>
                  <a:ext cx="19080" cy="34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944400" y="4597560"/>
                  <a:ext cx="2052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6900120" y="4647240"/>
                  <a:ext cx="1908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6890760" y="4638960"/>
                  <a:ext cx="20520" cy="34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6900120" y="4690080"/>
                  <a:ext cx="19080" cy="34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6890760" y="4681800"/>
                  <a:ext cx="2052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6900120" y="4731480"/>
                  <a:ext cx="19080" cy="33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6890760" y="4721760"/>
                  <a:ext cx="2052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5" name=""/>
              <p:cNvGrpSpPr/>
              <p:nvPr/>
            </p:nvGrpSpPr>
            <p:grpSpPr>
              <a:xfrm>
                <a:off x="6944400" y="4856760"/>
                <a:ext cx="79560" cy="203760"/>
                <a:chOff x="6944400" y="4856760"/>
                <a:chExt cx="79560" cy="203760"/>
              </a:xfrm>
            </p:grpSpPr>
            <p:sp>
              <p:nvSpPr>
                <p:cNvPr id="2446" name=""/>
                <p:cNvSpPr/>
                <p:nvPr/>
              </p:nvSpPr>
              <p:spPr>
                <a:xfrm>
                  <a:off x="6953760" y="4866120"/>
                  <a:ext cx="13680" cy="194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6944400" y="4856760"/>
                  <a:ext cx="15120" cy="1954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982560" y="4866120"/>
                  <a:ext cx="11160" cy="194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973200" y="4856760"/>
                  <a:ext cx="10800" cy="1954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7010280" y="4866120"/>
                  <a:ext cx="13680" cy="194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7000920" y="4856760"/>
                  <a:ext cx="13680" cy="1954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2" name=""/>
              <p:cNvGrpSpPr/>
              <p:nvPr/>
            </p:nvGrpSpPr>
            <p:grpSpPr>
              <a:xfrm>
                <a:off x="6721560" y="4651560"/>
                <a:ext cx="205920" cy="451440"/>
                <a:chOff x="6721560" y="4651560"/>
                <a:chExt cx="205920" cy="451440"/>
              </a:xfrm>
            </p:grpSpPr>
            <p:sp>
              <p:nvSpPr>
                <p:cNvPr id="2453" name=""/>
                <p:cNvSpPr/>
                <p:nvPr/>
              </p:nvSpPr>
              <p:spPr>
                <a:xfrm>
                  <a:off x="6739200" y="4669200"/>
                  <a:ext cx="188280" cy="433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721560" y="4651560"/>
                  <a:ext cx="188280" cy="43380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763680" y="4689720"/>
                  <a:ext cx="101880" cy="391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746040" y="4672080"/>
                  <a:ext cx="101520" cy="39096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761160" y="4696560"/>
                  <a:ext cx="147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752880" y="4687200"/>
                  <a:ext cx="1512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783120" y="4696560"/>
                  <a:ext cx="1368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773400" y="4687200"/>
                  <a:ext cx="1368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802560" y="4696560"/>
                  <a:ext cx="147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792840" y="4687200"/>
                  <a:ext cx="1476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823080" y="4696560"/>
                  <a:ext cx="147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815160" y="4687200"/>
                  <a:ext cx="1476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761160" y="4728600"/>
                  <a:ext cx="1476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752880" y="4719960"/>
                  <a:ext cx="15120" cy="248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783120" y="4728600"/>
                  <a:ext cx="1368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773400" y="4719960"/>
                  <a:ext cx="13680" cy="248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802560" y="4728600"/>
                  <a:ext cx="1476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792840" y="4719960"/>
                  <a:ext cx="14760" cy="248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761160" y="4758840"/>
                  <a:ext cx="1476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752880" y="4750560"/>
                  <a:ext cx="1512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761160" y="4791960"/>
                  <a:ext cx="1476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752880" y="4783680"/>
                  <a:ext cx="1512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761160" y="4823640"/>
                  <a:ext cx="1476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752880" y="4815360"/>
                  <a:ext cx="15120" cy="244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7" name=""/>
              <p:cNvGrpSpPr/>
              <p:nvPr/>
            </p:nvGrpSpPr>
            <p:grpSpPr>
              <a:xfrm>
                <a:off x="6792840" y="4917600"/>
                <a:ext cx="61200" cy="156600"/>
                <a:chOff x="6792840" y="4917600"/>
                <a:chExt cx="61200" cy="156600"/>
              </a:xfrm>
            </p:grpSpPr>
            <p:sp>
              <p:nvSpPr>
                <p:cNvPr id="2478" name=""/>
                <p:cNvSpPr/>
                <p:nvPr/>
              </p:nvSpPr>
              <p:spPr>
                <a:xfrm>
                  <a:off x="6802200" y="4926960"/>
                  <a:ext cx="10800" cy="147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792840" y="4917600"/>
                  <a:ext cx="10800" cy="148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824160" y="4926960"/>
                  <a:ext cx="8280" cy="147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814800" y="4917600"/>
                  <a:ext cx="9000" cy="148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845040" y="4926960"/>
                  <a:ext cx="9000" cy="147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836400" y="4917600"/>
                  <a:ext cx="9360" cy="148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4" name=""/>
            <p:cNvGrpSpPr/>
            <p:nvPr/>
          </p:nvGrpSpPr>
          <p:grpSpPr>
            <a:xfrm>
              <a:off x="7296480" y="2193840"/>
              <a:ext cx="556920" cy="1061640"/>
              <a:chOff x="7296480" y="2193840"/>
              <a:chExt cx="556920" cy="1061640"/>
            </a:xfrm>
          </p:grpSpPr>
          <p:sp>
            <p:nvSpPr>
              <p:cNvPr id="2485" name=""/>
              <p:cNvSpPr/>
              <p:nvPr/>
            </p:nvSpPr>
            <p:spPr>
              <a:xfrm>
                <a:off x="7296480" y="2234880"/>
                <a:ext cx="532080" cy="1020600"/>
              </a:xfrm>
              <a:custGeom>
                <a:avLst/>
                <a:gdLst/>
                <a:ahLst/>
                <a:rect l="l" t="t" r="r" b="b"/>
                <a:pathLst>
                  <a:path w="774" h="1480">
                    <a:moveTo>
                      <a:pt x="0" y="11"/>
                    </a:moveTo>
                    <a:lnTo>
                      <a:pt x="8" y="48"/>
                    </a:lnTo>
                    <a:lnTo>
                      <a:pt x="55" y="40"/>
                    </a:lnTo>
                    <a:lnTo>
                      <a:pt x="49" y="22"/>
                    </a:lnTo>
                    <a:lnTo>
                      <a:pt x="49" y="42"/>
                    </a:lnTo>
                    <a:lnTo>
                      <a:pt x="92" y="38"/>
                    </a:lnTo>
                    <a:lnTo>
                      <a:pt x="126" y="40"/>
                    </a:lnTo>
                    <a:lnTo>
                      <a:pt x="160" y="43"/>
                    </a:lnTo>
                    <a:lnTo>
                      <a:pt x="193" y="50"/>
                    </a:lnTo>
                    <a:lnTo>
                      <a:pt x="193" y="30"/>
                    </a:lnTo>
                    <a:lnTo>
                      <a:pt x="186" y="48"/>
                    </a:lnTo>
                    <a:lnTo>
                      <a:pt x="219" y="58"/>
                    </a:lnTo>
                    <a:lnTo>
                      <a:pt x="251" y="69"/>
                    </a:lnTo>
                    <a:lnTo>
                      <a:pt x="282" y="82"/>
                    </a:lnTo>
                    <a:lnTo>
                      <a:pt x="312" y="98"/>
                    </a:lnTo>
                    <a:lnTo>
                      <a:pt x="343" y="116"/>
                    </a:lnTo>
                    <a:lnTo>
                      <a:pt x="350" y="98"/>
                    </a:lnTo>
                    <a:lnTo>
                      <a:pt x="337" y="111"/>
                    </a:lnTo>
                    <a:lnTo>
                      <a:pt x="366" y="132"/>
                    </a:lnTo>
                    <a:lnTo>
                      <a:pt x="395" y="153"/>
                    </a:lnTo>
                    <a:lnTo>
                      <a:pt x="422" y="178"/>
                    </a:lnTo>
                    <a:lnTo>
                      <a:pt x="448" y="204"/>
                    </a:lnTo>
                    <a:lnTo>
                      <a:pt x="474" y="231"/>
                    </a:lnTo>
                    <a:lnTo>
                      <a:pt x="500" y="262"/>
                    </a:lnTo>
                    <a:lnTo>
                      <a:pt x="524" y="293"/>
                    </a:lnTo>
                    <a:lnTo>
                      <a:pt x="547" y="327"/>
                    </a:lnTo>
                    <a:lnTo>
                      <a:pt x="560" y="312"/>
                    </a:lnTo>
                    <a:lnTo>
                      <a:pt x="542" y="320"/>
                    </a:lnTo>
                    <a:lnTo>
                      <a:pt x="565" y="354"/>
                    </a:lnTo>
                    <a:lnTo>
                      <a:pt x="586" y="391"/>
                    </a:lnTo>
                    <a:lnTo>
                      <a:pt x="623" y="467"/>
                    </a:lnTo>
                    <a:lnTo>
                      <a:pt x="657" y="550"/>
                    </a:lnTo>
                    <a:lnTo>
                      <a:pt x="685" y="639"/>
                    </a:lnTo>
                    <a:lnTo>
                      <a:pt x="707" y="729"/>
                    </a:lnTo>
                    <a:lnTo>
                      <a:pt x="725" y="723"/>
                    </a:lnTo>
                    <a:lnTo>
                      <a:pt x="706" y="723"/>
                    </a:lnTo>
                    <a:lnTo>
                      <a:pt x="722" y="819"/>
                    </a:lnTo>
                    <a:lnTo>
                      <a:pt x="727" y="869"/>
                    </a:lnTo>
                    <a:lnTo>
                      <a:pt x="732" y="919"/>
                    </a:lnTo>
                    <a:lnTo>
                      <a:pt x="733" y="969"/>
                    </a:lnTo>
                    <a:lnTo>
                      <a:pt x="735" y="1021"/>
                    </a:lnTo>
                    <a:lnTo>
                      <a:pt x="733" y="1079"/>
                    </a:lnTo>
                    <a:lnTo>
                      <a:pt x="730" y="1137"/>
                    </a:lnTo>
                    <a:lnTo>
                      <a:pt x="725" y="1196"/>
                    </a:lnTo>
                    <a:lnTo>
                      <a:pt x="717" y="1254"/>
                    </a:lnTo>
                    <a:lnTo>
                      <a:pt x="707" y="1310"/>
                    </a:lnTo>
                    <a:lnTo>
                      <a:pt x="727" y="1310"/>
                    </a:lnTo>
                    <a:lnTo>
                      <a:pt x="709" y="1302"/>
                    </a:lnTo>
                    <a:lnTo>
                      <a:pt x="696" y="1359"/>
                    </a:lnTo>
                    <a:lnTo>
                      <a:pt x="681" y="1414"/>
                    </a:lnTo>
                    <a:lnTo>
                      <a:pt x="665" y="1467"/>
                    </a:lnTo>
                    <a:lnTo>
                      <a:pt x="701" y="1480"/>
                    </a:lnTo>
                    <a:lnTo>
                      <a:pt x="717" y="1429"/>
                    </a:lnTo>
                    <a:lnTo>
                      <a:pt x="732" y="1374"/>
                    </a:lnTo>
                    <a:lnTo>
                      <a:pt x="745" y="1317"/>
                    </a:lnTo>
                    <a:lnTo>
                      <a:pt x="746" y="1310"/>
                    </a:lnTo>
                    <a:lnTo>
                      <a:pt x="746" y="1310"/>
                    </a:lnTo>
                    <a:lnTo>
                      <a:pt x="756" y="1254"/>
                    </a:lnTo>
                    <a:lnTo>
                      <a:pt x="764" y="1196"/>
                    </a:lnTo>
                    <a:lnTo>
                      <a:pt x="769" y="1137"/>
                    </a:lnTo>
                    <a:lnTo>
                      <a:pt x="772" y="1079"/>
                    </a:lnTo>
                    <a:lnTo>
                      <a:pt x="774" y="1021"/>
                    </a:lnTo>
                    <a:lnTo>
                      <a:pt x="772" y="969"/>
                    </a:lnTo>
                    <a:lnTo>
                      <a:pt x="770" y="919"/>
                    </a:lnTo>
                    <a:lnTo>
                      <a:pt x="766" y="869"/>
                    </a:lnTo>
                    <a:lnTo>
                      <a:pt x="761" y="819"/>
                    </a:lnTo>
                    <a:lnTo>
                      <a:pt x="745" y="723"/>
                    </a:lnTo>
                    <a:lnTo>
                      <a:pt x="743" y="715"/>
                    </a:lnTo>
                    <a:lnTo>
                      <a:pt x="720" y="624"/>
                    </a:lnTo>
                    <a:lnTo>
                      <a:pt x="693" y="535"/>
                    </a:lnTo>
                    <a:lnTo>
                      <a:pt x="659" y="453"/>
                    </a:lnTo>
                    <a:lnTo>
                      <a:pt x="622" y="377"/>
                    </a:lnTo>
                    <a:lnTo>
                      <a:pt x="601" y="339"/>
                    </a:lnTo>
                    <a:lnTo>
                      <a:pt x="578" y="305"/>
                    </a:lnTo>
                    <a:lnTo>
                      <a:pt x="575" y="299"/>
                    </a:lnTo>
                    <a:lnTo>
                      <a:pt x="552" y="265"/>
                    </a:lnTo>
                    <a:lnTo>
                      <a:pt x="528" y="234"/>
                    </a:lnTo>
                    <a:lnTo>
                      <a:pt x="502" y="204"/>
                    </a:lnTo>
                    <a:lnTo>
                      <a:pt x="476" y="176"/>
                    </a:lnTo>
                    <a:lnTo>
                      <a:pt x="450" y="150"/>
                    </a:lnTo>
                    <a:lnTo>
                      <a:pt x="422" y="126"/>
                    </a:lnTo>
                    <a:lnTo>
                      <a:pt x="393" y="105"/>
                    </a:lnTo>
                    <a:lnTo>
                      <a:pt x="364" y="84"/>
                    </a:lnTo>
                    <a:lnTo>
                      <a:pt x="358" y="81"/>
                    </a:lnTo>
                    <a:lnTo>
                      <a:pt x="327" y="63"/>
                    </a:lnTo>
                    <a:lnTo>
                      <a:pt x="296" y="47"/>
                    </a:lnTo>
                    <a:lnTo>
                      <a:pt x="265" y="34"/>
                    </a:lnTo>
                    <a:lnTo>
                      <a:pt x="233" y="22"/>
                    </a:lnTo>
                    <a:lnTo>
                      <a:pt x="201" y="13"/>
                    </a:lnTo>
                    <a:lnTo>
                      <a:pt x="193" y="11"/>
                    </a:lnTo>
                    <a:lnTo>
                      <a:pt x="160" y="4"/>
                    </a:lnTo>
                    <a:lnTo>
                      <a:pt x="126" y="1"/>
                    </a:lnTo>
                    <a:lnTo>
                      <a:pt x="92" y="0"/>
                    </a:lnTo>
                    <a:lnTo>
                      <a:pt x="49" y="3"/>
                    </a:lnTo>
                    <a:lnTo>
                      <a:pt x="40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297560" y="2193840"/>
                <a:ext cx="119880" cy="11844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2" y="0"/>
                    </a:moveTo>
                    <a:lnTo>
                      <a:pt x="0" y="89"/>
                    </a:lnTo>
                    <a:lnTo>
                      <a:pt x="173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739280" y="3120480"/>
                <a:ext cx="114120" cy="131040"/>
              </a:xfrm>
              <a:custGeom>
                <a:avLst/>
                <a:gdLst/>
                <a:ahLst/>
                <a:rect l="l" t="t" r="r" b="b"/>
                <a:pathLst>
                  <a:path w="166" h="189">
                    <a:moveTo>
                      <a:pt x="0" y="0"/>
                    </a:moveTo>
                    <a:lnTo>
                      <a:pt x="40" y="189"/>
                    </a:lnTo>
                    <a:lnTo>
                      <a:pt x="166" y="4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8" name=""/>
            <p:cNvGrpSpPr/>
            <p:nvPr/>
          </p:nvGrpSpPr>
          <p:grpSpPr>
            <a:xfrm>
              <a:off x="6261480" y="2700360"/>
              <a:ext cx="771120" cy="1727280"/>
              <a:chOff x="6261480" y="2700360"/>
              <a:chExt cx="771120" cy="1727280"/>
            </a:xfrm>
          </p:grpSpPr>
          <p:sp>
            <p:nvSpPr>
              <p:cNvPr id="2489" name=""/>
              <p:cNvSpPr/>
              <p:nvPr/>
            </p:nvSpPr>
            <p:spPr>
              <a:xfrm>
                <a:off x="6261480" y="2700360"/>
                <a:ext cx="739800" cy="1727280"/>
              </a:xfrm>
              <a:custGeom>
                <a:avLst/>
                <a:gdLst/>
                <a:ahLst/>
                <a:rect l="l" t="t" r="r" b="b"/>
                <a:pathLst>
                  <a:path w="1075" h="2506">
                    <a:moveTo>
                      <a:pt x="991" y="2498"/>
                    </a:moveTo>
                    <a:lnTo>
                      <a:pt x="1028" y="2506"/>
                    </a:lnTo>
                    <a:lnTo>
                      <a:pt x="1049" y="2379"/>
                    </a:lnTo>
                    <a:lnTo>
                      <a:pt x="1064" y="2258"/>
                    </a:lnTo>
                    <a:lnTo>
                      <a:pt x="1072" y="2137"/>
                    </a:lnTo>
                    <a:lnTo>
                      <a:pt x="1075" y="2014"/>
                    </a:lnTo>
                    <a:lnTo>
                      <a:pt x="1073" y="1938"/>
                    </a:lnTo>
                    <a:lnTo>
                      <a:pt x="1070" y="1862"/>
                    </a:lnTo>
                    <a:lnTo>
                      <a:pt x="1065" y="1786"/>
                    </a:lnTo>
                    <a:lnTo>
                      <a:pt x="1057" y="1709"/>
                    </a:lnTo>
                    <a:lnTo>
                      <a:pt x="1046" y="1635"/>
                    </a:lnTo>
                    <a:lnTo>
                      <a:pt x="1035" y="1562"/>
                    </a:lnTo>
                    <a:lnTo>
                      <a:pt x="1020" y="1488"/>
                    </a:lnTo>
                    <a:lnTo>
                      <a:pt x="1018" y="1481"/>
                    </a:lnTo>
                    <a:lnTo>
                      <a:pt x="1001" y="1408"/>
                    </a:lnTo>
                    <a:lnTo>
                      <a:pt x="983" y="1336"/>
                    </a:lnTo>
                    <a:lnTo>
                      <a:pt x="962" y="1264"/>
                    </a:lnTo>
                    <a:lnTo>
                      <a:pt x="939" y="1195"/>
                    </a:lnTo>
                    <a:lnTo>
                      <a:pt x="913" y="1125"/>
                    </a:lnTo>
                    <a:lnTo>
                      <a:pt x="887" y="1057"/>
                    </a:lnTo>
                    <a:lnTo>
                      <a:pt x="858" y="989"/>
                    </a:lnTo>
                    <a:lnTo>
                      <a:pt x="827" y="925"/>
                    </a:lnTo>
                    <a:lnTo>
                      <a:pt x="793" y="858"/>
                    </a:lnTo>
                    <a:lnTo>
                      <a:pt x="759" y="795"/>
                    </a:lnTo>
                    <a:lnTo>
                      <a:pt x="722" y="732"/>
                    </a:lnTo>
                    <a:lnTo>
                      <a:pt x="685" y="670"/>
                    </a:lnTo>
                    <a:lnTo>
                      <a:pt x="644" y="611"/>
                    </a:lnTo>
                    <a:lnTo>
                      <a:pt x="640" y="604"/>
                    </a:lnTo>
                    <a:lnTo>
                      <a:pt x="597" y="544"/>
                    </a:lnTo>
                    <a:lnTo>
                      <a:pt x="554" y="488"/>
                    </a:lnTo>
                    <a:lnTo>
                      <a:pt x="508" y="431"/>
                    </a:lnTo>
                    <a:lnTo>
                      <a:pt x="462" y="378"/>
                    </a:lnTo>
                    <a:lnTo>
                      <a:pt x="411" y="324"/>
                    </a:lnTo>
                    <a:lnTo>
                      <a:pt x="361" y="274"/>
                    </a:lnTo>
                    <a:lnTo>
                      <a:pt x="309" y="224"/>
                    </a:lnTo>
                    <a:lnTo>
                      <a:pt x="254" y="175"/>
                    </a:lnTo>
                    <a:lnTo>
                      <a:pt x="199" y="130"/>
                    </a:lnTo>
                    <a:lnTo>
                      <a:pt x="143" y="86"/>
                    </a:lnTo>
                    <a:lnTo>
                      <a:pt x="84" y="44"/>
                    </a:lnTo>
                    <a:lnTo>
                      <a:pt x="78" y="39"/>
                    </a:lnTo>
                    <a:lnTo>
                      <a:pt x="21" y="0"/>
                    </a:lnTo>
                    <a:lnTo>
                      <a:pt x="0" y="33"/>
                    </a:lnTo>
                    <a:lnTo>
                      <a:pt x="63" y="75"/>
                    </a:lnTo>
                    <a:lnTo>
                      <a:pt x="70" y="57"/>
                    </a:lnTo>
                    <a:lnTo>
                      <a:pt x="57" y="72"/>
                    </a:lnTo>
                    <a:lnTo>
                      <a:pt x="115" y="114"/>
                    </a:lnTo>
                    <a:lnTo>
                      <a:pt x="172" y="157"/>
                    </a:lnTo>
                    <a:lnTo>
                      <a:pt x="227" y="203"/>
                    </a:lnTo>
                    <a:lnTo>
                      <a:pt x="282" y="251"/>
                    </a:lnTo>
                    <a:lnTo>
                      <a:pt x="334" y="301"/>
                    </a:lnTo>
                    <a:lnTo>
                      <a:pt x="384" y="352"/>
                    </a:lnTo>
                    <a:lnTo>
                      <a:pt x="434" y="405"/>
                    </a:lnTo>
                    <a:lnTo>
                      <a:pt x="481" y="458"/>
                    </a:lnTo>
                    <a:lnTo>
                      <a:pt x="526" y="515"/>
                    </a:lnTo>
                    <a:lnTo>
                      <a:pt x="570" y="572"/>
                    </a:lnTo>
                    <a:lnTo>
                      <a:pt x="612" y="632"/>
                    </a:lnTo>
                    <a:lnTo>
                      <a:pt x="627" y="617"/>
                    </a:lnTo>
                    <a:lnTo>
                      <a:pt x="609" y="625"/>
                    </a:lnTo>
                    <a:lnTo>
                      <a:pt x="649" y="685"/>
                    </a:lnTo>
                    <a:lnTo>
                      <a:pt x="687" y="747"/>
                    </a:lnTo>
                    <a:lnTo>
                      <a:pt x="724" y="810"/>
                    </a:lnTo>
                    <a:lnTo>
                      <a:pt x="758" y="873"/>
                    </a:lnTo>
                    <a:lnTo>
                      <a:pt x="792" y="939"/>
                    </a:lnTo>
                    <a:lnTo>
                      <a:pt x="822" y="1004"/>
                    </a:lnTo>
                    <a:lnTo>
                      <a:pt x="852" y="1072"/>
                    </a:lnTo>
                    <a:lnTo>
                      <a:pt x="878" y="1140"/>
                    </a:lnTo>
                    <a:lnTo>
                      <a:pt x="903" y="1209"/>
                    </a:lnTo>
                    <a:lnTo>
                      <a:pt x="926" y="1279"/>
                    </a:lnTo>
                    <a:lnTo>
                      <a:pt x="947" y="1350"/>
                    </a:lnTo>
                    <a:lnTo>
                      <a:pt x="965" y="1423"/>
                    </a:lnTo>
                    <a:lnTo>
                      <a:pt x="983" y="1496"/>
                    </a:lnTo>
                    <a:lnTo>
                      <a:pt x="1001" y="1488"/>
                    </a:lnTo>
                    <a:lnTo>
                      <a:pt x="981" y="1488"/>
                    </a:lnTo>
                    <a:lnTo>
                      <a:pt x="996" y="1562"/>
                    </a:lnTo>
                    <a:lnTo>
                      <a:pt x="1007" y="1635"/>
                    </a:lnTo>
                    <a:lnTo>
                      <a:pt x="1018" y="1709"/>
                    </a:lnTo>
                    <a:lnTo>
                      <a:pt x="1026" y="1786"/>
                    </a:lnTo>
                    <a:lnTo>
                      <a:pt x="1031" y="1862"/>
                    </a:lnTo>
                    <a:lnTo>
                      <a:pt x="1035" y="1938"/>
                    </a:lnTo>
                    <a:lnTo>
                      <a:pt x="1036" y="2014"/>
                    </a:lnTo>
                    <a:lnTo>
                      <a:pt x="1033" y="2137"/>
                    </a:lnTo>
                    <a:lnTo>
                      <a:pt x="1025" y="2258"/>
                    </a:lnTo>
                    <a:lnTo>
                      <a:pt x="1010" y="2379"/>
                    </a:lnTo>
                    <a:lnTo>
                      <a:pt x="991" y="2498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915600" y="4296600"/>
                <a:ext cx="117000" cy="126360"/>
              </a:xfrm>
              <a:custGeom>
                <a:avLst/>
                <a:gdLst/>
                <a:ahLst/>
                <a:rect l="l" t="t" r="r" b="b"/>
                <a:pathLst>
                  <a:path w="170" h="185">
                    <a:moveTo>
                      <a:pt x="0" y="0"/>
                    </a:moveTo>
                    <a:lnTo>
                      <a:pt x="59" y="185"/>
                    </a:lnTo>
                    <a:lnTo>
                      <a:pt x="170" y="28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68320" y="2711160"/>
                <a:ext cx="132120" cy="117000"/>
              </a:xfrm>
              <a:custGeom>
                <a:avLst/>
                <a:gdLst/>
                <a:ahLst/>
                <a:rect l="l" t="t" r="r" b="b"/>
                <a:pathLst>
                  <a:path w="193" h="170">
                    <a:moveTo>
                      <a:pt x="193" y="27"/>
                    </a:moveTo>
                    <a:lnTo>
                      <a:pt x="0" y="0"/>
                    </a:lnTo>
                    <a:lnTo>
                      <a:pt x="92" y="17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2" name=""/>
            <p:cNvGrpSpPr/>
            <p:nvPr/>
          </p:nvGrpSpPr>
          <p:grpSpPr>
            <a:xfrm>
              <a:off x="6189840" y="3805200"/>
              <a:ext cx="630000" cy="761760"/>
              <a:chOff x="6189840" y="3805200"/>
              <a:chExt cx="630000" cy="761760"/>
            </a:xfrm>
          </p:grpSpPr>
          <p:sp>
            <p:nvSpPr>
              <p:cNvPr id="2493" name=""/>
              <p:cNvSpPr/>
              <p:nvPr/>
            </p:nvSpPr>
            <p:spPr>
              <a:xfrm>
                <a:off x="6189840" y="3832920"/>
                <a:ext cx="587520" cy="734040"/>
              </a:xfrm>
              <a:custGeom>
                <a:avLst/>
                <a:gdLst/>
                <a:ahLst/>
                <a:rect l="l" t="t" r="r" b="b"/>
                <a:pathLst>
                  <a:path w="851" h="1067">
                    <a:moveTo>
                      <a:pt x="1" y="0"/>
                    </a:moveTo>
                    <a:lnTo>
                      <a:pt x="0" y="39"/>
                    </a:lnTo>
                    <a:lnTo>
                      <a:pt x="43" y="43"/>
                    </a:lnTo>
                    <a:lnTo>
                      <a:pt x="85" y="49"/>
                    </a:lnTo>
                    <a:lnTo>
                      <a:pt x="128" y="57"/>
                    </a:lnTo>
                    <a:lnTo>
                      <a:pt x="128" y="38"/>
                    </a:lnTo>
                    <a:lnTo>
                      <a:pt x="121" y="56"/>
                    </a:lnTo>
                    <a:lnTo>
                      <a:pt x="162" y="65"/>
                    </a:lnTo>
                    <a:lnTo>
                      <a:pt x="202" y="78"/>
                    </a:lnTo>
                    <a:lnTo>
                      <a:pt x="242" y="93"/>
                    </a:lnTo>
                    <a:lnTo>
                      <a:pt x="281" y="109"/>
                    </a:lnTo>
                    <a:lnTo>
                      <a:pt x="319" y="128"/>
                    </a:lnTo>
                    <a:lnTo>
                      <a:pt x="356" y="149"/>
                    </a:lnTo>
                    <a:lnTo>
                      <a:pt x="391" y="170"/>
                    </a:lnTo>
                    <a:lnTo>
                      <a:pt x="399" y="153"/>
                    </a:lnTo>
                    <a:lnTo>
                      <a:pt x="385" y="167"/>
                    </a:lnTo>
                    <a:lnTo>
                      <a:pt x="420" y="191"/>
                    </a:lnTo>
                    <a:lnTo>
                      <a:pt x="454" y="217"/>
                    </a:lnTo>
                    <a:lnTo>
                      <a:pt x="487" y="245"/>
                    </a:lnTo>
                    <a:lnTo>
                      <a:pt x="518" y="274"/>
                    </a:lnTo>
                    <a:lnTo>
                      <a:pt x="577" y="337"/>
                    </a:lnTo>
                    <a:lnTo>
                      <a:pt x="629" y="407"/>
                    </a:lnTo>
                    <a:lnTo>
                      <a:pt x="644" y="392"/>
                    </a:lnTo>
                    <a:lnTo>
                      <a:pt x="626" y="400"/>
                    </a:lnTo>
                    <a:lnTo>
                      <a:pt x="673" y="475"/>
                    </a:lnTo>
                    <a:lnTo>
                      <a:pt x="696" y="514"/>
                    </a:lnTo>
                    <a:lnTo>
                      <a:pt x="715" y="554"/>
                    </a:lnTo>
                    <a:lnTo>
                      <a:pt x="733" y="594"/>
                    </a:lnTo>
                    <a:lnTo>
                      <a:pt x="749" y="636"/>
                    </a:lnTo>
                    <a:lnTo>
                      <a:pt x="764" y="680"/>
                    </a:lnTo>
                    <a:lnTo>
                      <a:pt x="777" y="726"/>
                    </a:lnTo>
                    <a:lnTo>
                      <a:pt x="788" y="771"/>
                    </a:lnTo>
                    <a:lnTo>
                      <a:pt x="806" y="763"/>
                    </a:lnTo>
                    <a:lnTo>
                      <a:pt x="786" y="763"/>
                    </a:lnTo>
                    <a:lnTo>
                      <a:pt x="796" y="810"/>
                    </a:lnTo>
                    <a:lnTo>
                      <a:pt x="802" y="857"/>
                    </a:lnTo>
                    <a:lnTo>
                      <a:pt x="807" y="904"/>
                    </a:lnTo>
                    <a:lnTo>
                      <a:pt x="811" y="952"/>
                    </a:lnTo>
                    <a:lnTo>
                      <a:pt x="812" y="1001"/>
                    </a:lnTo>
                    <a:lnTo>
                      <a:pt x="812" y="1033"/>
                    </a:lnTo>
                    <a:lnTo>
                      <a:pt x="811" y="1064"/>
                    </a:lnTo>
                    <a:lnTo>
                      <a:pt x="849" y="1067"/>
                    </a:lnTo>
                    <a:lnTo>
                      <a:pt x="851" y="1033"/>
                    </a:lnTo>
                    <a:lnTo>
                      <a:pt x="851" y="1001"/>
                    </a:lnTo>
                    <a:lnTo>
                      <a:pt x="849" y="952"/>
                    </a:lnTo>
                    <a:lnTo>
                      <a:pt x="846" y="904"/>
                    </a:lnTo>
                    <a:lnTo>
                      <a:pt x="841" y="857"/>
                    </a:lnTo>
                    <a:lnTo>
                      <a:pt x="835" y="810"/>
                    </a:lnTo>
                    <a:lnTo>
                      <a:pt x="825" y="763"/>
                    </a:lnTo>
                    <a:lnTo>
                      <a:pt x="824" y="756"/>
                    </a:lnTo>
                    <a:lnTo>
                      <a:pt x="812" y="711"/>
                    </a:lnTo>
                    <a:lnTo>
                      <a:pt x="799" y="666"/>
                    </a:lnTo>
                    <a:lnTo>
                      <a:pt x="785" y="622"/>
                    </a:lnTo>
                    <a:lnTo>
                      <a:pt x="768" y="580"/>
                    </a:lnTo>
                    <a:lnTo>
                      <a:pt x="751" y="539"/>
                    </a:lnTo>
                    <a:lnTo>
                      <a:pt x="731" y="499"/>
                    </a:lnTo>
                    <a:lnTo>
                      <a:pt x="709" y="460"/>
                    </a:lnTo>
                    <a:lnTo>
                      <a:pt x="662" y="386"/>
                    </a:lnTo>
                    <a:lnTo>
                      <a:pt x="657" y="379"/>
                    </a:lnTo>
                    <a:lnTo>
                      <a:pt x="605" y="310"/>
                    </a:lnTo>
                    <a:lnTo>
                      <a:pt x="545" y="246"/>
                    </a:lnTo>
                    <a:lnTo>
                      <a:pt x="514" y="217"/>
                    </a:lnTo>
                    <a:lnTo>
                      <a:pt x="482" y="190"/>
                    </a:lnTo>
                    <a:lnTo>
                      <a:pt x="448" y="164"/>
                    </a:lnTo>
                    <a:lnTo>
                      <a:pt x="412" y="140"/>
                    </a:lnTo>
                    <a:lnTo>
                      <a:pt x="406" y="135"/>
                    </a:lnTo>
                    <a:lnTo>
                      <a:pt x="370" y="114"/>
                    </a:lnTo>
                    <a:lnTo>
                      <a:pt x="333" y="93"/>
                    </a:lnTo>
                    <a:lnTo>
                      <a:pt x="296" y="73"/>
                    </a:lnTo>
                    <a:lnTo>
                      <a:pt x="257" y="57"/>
                    </a:lnTo>
                    <a:lnTo>
                      <a:pt x="217" y="43"/>
                    </a:lnTo>
                    <a:lnTo>
                      <a:pt x="176" y="30"/>
                    </a:lnTo>
                    <a:lnTo>
                      <a:pt x="136" y="20"/>
                    </a:lnTo>
                    <a:lnTo>
                      <a:pt x="128" y="18"/>
                    </a:lnTo>
                    <a:lnTo>
                      <a:pt x="85" y="10"/>
                    </a:lnTo>
                    <a:lnTo>
                      <a:pt x="43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189840" y="3805200"/>
                <a:ext cx="128520" cy="117000"/>
              </a:xfrm>
              <a:custGeom>
                <a:avLst/>
                <a:gdLst/>
                <a:ahLst/>
                <a:rect l="l" t="t" r="r" b="b"/>
                <a:pathLst>
                  <a:path w="184" h="170">
                    <a:moveTo>
                      <a:pt x="184" y="0"/>
                    </a:moveTo>
                    <a:lnTo>
                      <a:pt x="0" y="58"/>
                    </a:lnTo>
                    <a:lnTo>
                      <a:pt x="157" y="17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699960" y="4446000"/>
                <a:ext cx="119880" cy="119880"/>
              </a:xfrm>
              <a:custGeom>
                <a:avLst/>
                <a:gdLst/>
                <a:ahLst/>
                <a:rect l="l" t="t" r="r" b="b"/>
                <a:pathLst>
                  <a:path w="174" h="174">
                    <a:moveTo>
                      <a:pt x="0" y="3"/>
                    </a:moveTo>
                    <a:lnTo>
                      <a:pt x="91" y="174"/>
                    </a:lnTo>
                    <a:lnTo>
                      <a:pt x="174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6" name=""/>
            <p:cNvGrpSpPr/>
            <p:nvPr/>
          </p:nvGrpSpPr>
          <p:grpSpPr>
            <a:xfrm>
              <a:off x="3605400" y="4140360"/>
              <a:ext cx="1766520" cy="1054080"/>
              <a:chOff x="3605400" y="4140360"/>
              <a:chExt cx="1766520" cy="1054080"/>
            </a:xfrm>
          </p:grpSpPr>
          <p:sp>
            <p:nvSpPr>
              <p:cNvPr id="2497" name=""/>
              <p:cNvSpPr/>
              <p:nvPr/>
            </p:nvSpPr>
            <p:spPr>
              <a:xfrm>
                <a:off x="3638520" y="4140360"/>
                <a:ext cx="1733400" cy="1054080"/>
              </a:xfrm>
              <a:custGeom>
                <a:avLst/>
                <a:gdLst/>
                <a:ahLst/>
                <a:rect l="l" t="t" r="r" b="b"/>
                <a:pathLst>
                  <a:path w="2512" h="1530">
                    <a:moveTo>
                      <a:pt x="2512" y="1343"/>
                    </a:moveTo>
                    <a:lnTo>
                      <a:pt x="2494" y="1309"/>
                    </a:lnTo>
                    <a:lnTo>
                      <a:pt x="2402" y="1350"/>
                    </a:lnTo>
                    <a:lnTo>
                      <a:pt x="2307" y="1387"/>
                    </a:lnTo>
                    <a:lnTo>
                      <a:pt x="2210" y="1419"/>
                    </a:lnTo>
                    <a:lnTo>
                      <a:pt x="2111" y="1445"/>
                    </a:lnTo>
                    <a:lnTo>
                      <a:pt x="2009" y="1466"/>
                    </a:lnTo>
                    <a:lnTo>
                      <a:pt x="2017" y="1484"/>
                    </a:lnTo>
                    <a:lnTo>
                      <a:pt x="2017" y="1465"/>
                    </a:lnTo>
                    <a:lnTo>
                      <a:pt x="1915" y="1479"/>
                    </a:lnTo>
                    <a:lnTo>
                      <a:pt x="1811" y="1487"/>
                    </a:lnTo>
                    <a:lnTo>
                      <a:pt x="1708" y="1491"/>
                    </a:lnTo>
                    <a:lnTo>
                      <a:pt x="1624" y="1489"/>
                    </a:lnTo>
                    <a:lnTo>
                      <a:pt x="1540" y="1483"/>
                    </a:lnTo>
                    <a:lnTo>
                      <a:pt x="1457" y="1473"/>
                    </a:lnTo>
                    <a:lnTo>
                      <a:pt x="1376" y="1460"/>
                    </a:lnTo>
                    <a:lnTo>
                      <a:pt x="1376" y="1479"/>
                    </a:lnTo>
                    <a:lnTo>
                      <a:pt x="1384" y="1462"/>
                    </a:lnTo>
                    <a:lnTo>
                      <a:pt x="1303" y="1445"/>
                    </a:lnTo>
                    <a:lnTo>
                      <a:pt x="1226" y="1426"/>
                    </a:lnTo>
                    <a:lnTo>
                      <a:pt x="1148" y="1402"/>
                    </a:lnTo>
                    <a:lnTo>
                      <a:pt x="1073" y="1376"/>
                    </a:lnTo>
                    <a:lnTo>
                      <a:pt x="999" y="1345"/>
                    </a:lnTo>
                    <a:lnTo>
                      <a:pt x="928" y="1313"/>
                    </a:lnTo>
                    <a:lnTo>
                      <a:pt x="858" y="1275"/>
                    </a:lnTo>
                    <a:lnTo>
                      <a:pt x="792" y="1237"/>
                    </a:lnTo>
                    <a:lnTo>
                      <a:pt x="725" y="1195"/>
                    </a:lnTo>
                    <a:lnTo>
                      <a:pt x="719" y="1212"/>
                    </a:lnTo>
                    <a:lnTo>
                      <a:pt x="732" y="1199"/>
                    </a:lnTo>
                    <a:lnTo>
                      <a:pt x="669" y="1154"/>
                    </a:lnTo>
                    <a:lnTo>
                      <a:pt x="609" y="1107"/>
                    </a:lnTo>
                    <a:lnTo>
                      <a:pt x="551" y="1057"/>
                    </a:lnTo>
                    <a:lnTo>
                      <a:pt x="494" y="1005"/>
                    </a:lnTo>
                    <a:lnTo>
                      <a:pt x="441" y="950"/>
                    </a:lnTo>
                    <a:lnTo>
                      <a:pt x="390" y="893"/>
                    </a:lnTo>
                    <a:lnTo>
                      <a:pt x="343" y="835"/>
                    </a:lnTo>
                    <a:lnTo>
                      <a:pt x="298" y="774"/>
                    </a:lnTo>
                    <a:lnTo>
                      <a:pt x="285" y="787"/>
                    </a:lnTo>
                    <a:lnTo>
                      <a:pt x="303" y="780"/>
                    </a:lnTo>
                    <a:lnTo>
                      <a:pt x="261" y="717"/>
                    </a:lnTo>
                    <a:lnTo>
                      <a:pt x="224" y="652"/>
                    </a:lnTo>
                    <a:lnTo>
                      <a:pt x="188" y="584"/>
                    </a:lnTo>
                    <a:lnTo>
                      <a:pt x="156" y="516"/>
                    </a:lnTo>
                    <a:lnTo>
                      <a:pt x="128" y="445"/>
                    </a:lnTo>
                    <a:lnTo>
                      <a:pt x="104" y="374"/>
                    </a:lnTo>
                    <a:lnTo>
                      <a:pt x="83" y="300"/>
                    </a:lnTo>
                    <a:lnTo>
                      <a:pt x="65" y="225"/>
                    </a:lnTo>
                    <a:lnTo>
                      <a:pt x="47" y="232"/>
                    </a:lnTo>
                    <a:lnTo>
                      <a:pt x="67" y="232"/>
                    </a:lnTo>
                    <a:lnTo>
                      <a:pt x="54" y="156"/>
                    </a:lnTo>
                    <a:lnTo>
                      <a:pt x="44" y="79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5" y="79"/>
                    </a:lnTo>
                    <a:lnTo>
                      <a:pt x="15" y="156"/>
                    </a:lnTo>
                    <a:lnTo>
                      <a:pt x="28" y="232"/>
                    </a:lnTo>
                    <a:lnTo>
                      <a:pt x="29" y="240"/>
                    </a:lnTo>
                    <a:lnTo>
                      <a:pt x="47" y="314"/>
                    </a:lnTo>
                    <a:lnTo>
                      <a:pt x="68" y="389"/>
                    </a:lnTo>
                    <a:lnTo>
                      <a:pt x="93" y="460"/>
                    </a:lnTo>
                    <a:lnTo>
                      <a:pt x="120" y="531"/>
                    </a:lnTo>
                    <a:lnTo>
                      <a:pt x="152" y="599"/>
                    </a:lnTo>
                    <a:lnTo>
                      <a:pt x="188" y="667"/>
                    </a:lnTo>
                    <a:lnTo>
                      <a:pt x="225" y="732"/>
                    </a:lnTo>
                    <a:lnTo>
                      <a:pt x="267" y="795"/>
                    </a:lnTo>
                    <a:lnTo>
                      <a:pt x="271" y="801"/>
                    </a:lnTo>
                    <a:lnTo>
                      <a:pt x="316" y="863"/>
                    </a:lnTo>
                    <a:lnTo>
                      <a:pt x="363" y="921"/>
                    </a:lnTo>
                    <a:lnTo>
                      <a:pt x="413" y="978"/>
                    </a:lnTo>
                    <a:lnTo>
                      <a:pt x="466" y="1033"/>
                    </a:lnTo>
                    <a:lnTo>
                      <a:pt x="523" y="1084"/>
                    </a:lnTo>
                    <a:lnTo>
                      <a:pt x="581" y="1135"/>
                    </a:lnTo>
                    <a:lnTo>
                      <a:pt x="641" y="1182"/>
                    </a:lnTo>
                    <a:lnTo>
                      <a:pt x="704" y="1227"/>
                    </a:lnTo>
                    <a:lnTo>
                      <a:pt x="711" y="1230"/>
                    </a:lnTo>
                    <a:lnTo>
                      <a:pt x="777" y="1272"/>
                    </a:lnTo>
                    <a:lnTo>
                      <a:pt x="844" y="1311"/>
                    </a:lnTo>
                    <a:lnTo>
                      <a:pt x="913" y="1348"/>
                    </a:lnTo>
                    <a:lnTo>
                      <a:pt x="984" y="1381"/>
                    </a:lnTo>
                    <a:lnTo>
                      <a:pt x="1059" y="1411"/>
                    </a:lnTo>
                    <a:lnTo>
                      <a:pt x="1133" y="1437"/>
                    </a:lnTo>
                    <a:lnTo>
                      <a:pt x="1211" y="1462"/>
                    </a:lnTo>
                    <a:lnTo>
                      <a:pt x="1289" y="1481"/>
                    </a:lnTo>
                    <a:lnTo>
                      <a:pt x="1370" y="1497"/>
                    </a:lnTo>
                    <a:lnTo>
                      <a:pt x="1376" y="1499"/>
                    </a:lnTo>
                    <a:lnTo>
                      <a:pt x="1457" y="1512"/>
                    </a:lnTo>
                    <a:lnTo>
                      <a:pt x="1540" y="1521"/>
                    </a:lnTo>
                    <a:lnTo>
                      <a:pt x="1624" y="1528"/>
                    </a:lnTo>
                    <a:lnTo>
                      <a:pt x="1708" y="1530"/>
                    </a:lnTo>
                    <a:lnTo>
                      <a:pt x="1811" y="1526"/>
                    </a:lnTo>
                    <a:lnTo>
                      <a:pt x="1915" y="1518"/>
                    </a:lnTo>
                    <a:lnTo>
                      <a:pt x="2017" y="1504"/>
                    </a:lnTo>
                    <a:lnTo>
                      <a:pt x="2023" y="1502"/>
                    </a:lnTo>
                    <a:lnTo>
                      <a:pt x="2125" y="1481"/>
                    </a:lnTo>
                    <a:lnTo>
                      <a:pt x="2224" y="1455"/>
                    </a:lnTo>
                    <a:lnTo>
                      <a:pt x="2321" y="1423"/>
                    </a:lnTo>
                    <a:lnTo>
                      <a:pt x="2417" y="1385"/>
                    </a:lnTo>
                    <a:lnTo>
                      <a:pt x="2512" y="1343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5232600" y="5047200"/>
                <a:ext cx="132120" cy="108720"/>
              </a:xfrm>
              <a:custGeom>
                <a:avLst/>
                <a:gdLst/>
                <a:ahLst/>
                <a:rect l="l" t="t" r="r" b="b"/>
                <a:pathLst>
                  <a:path w="193" h="158">
                    <a:moveTo>
                      <a:pt x="70" y="158"/>
                    </a:moveTo>
                    <a:lnTo>
                      <a:pt x="193" y="10"/>
                    </a:lnTo>
                    <a:lnTo>
                      <a:pt x="0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3605400" y="4140360"/>
                <a:ext cx="118440" cy="125280"/>
              </a:xfrm>
              <a:custGeom>
                <a:avLst/>
                <a:gdLst/>
                <a:ahLst/>
                <a:rect l="l" t="t" r="r" b="b"/>
                <a:pathLst>
                  <a:path w="173" h="181">
                    <a:moveTo>
                      <a:pt x="173" y="164"/>
                    </a:moveTo>
                    <a:lnTo>
                      <a:pt x="68" y="0"/>
                    </a:lnTo>
                    <a:lnTo>
                      <a:pt x="0" y="181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3356280" y="1752480"/>
              <a:ext cx="3288960" cy="1473480"/>
              <a:chOff x="3356280" y="1752480"/>
              <a:chExt cx="3288960" cy="1473480"/>
            </a:xfrm>
          </p:grpSpPr>
          <p:sp>
            <p:nvSpPr>
              <p:cNvPr id="2501" name=""/>
              <p:cNvSpPr/>
              <p:nvPr/>
            </p:nvSpPr>
            <p:spPr>
              <a:xfrm>
                <a:off x="3369960" y="1752480"/>
                <a:ext cx="3275280" cy="1473480"/>
              </a:xfrm>
              <a:custGeom>
                <a:avLst/>
                <a:gdLst/>
                <a:ahLst/>
                <a:rect l="l" t="t" r="r" b="b"/>
                <a:pathLst>
                  <a:path w="4749" h="2135">
                    <a:moveTo>
                      <a:pt x="4730" y="484"/>
                    </a:moveTo>
                    <a:lnTo>
                      <a:pt x="4749" y="452"/>
                    </a:lnTo>
                    <a:lnTo>
                      <a:pt x="4650" y="397"/>
                    </a:lnTo>
                    <a:lnTo>
                      <a:pt x="4553" y="347"/>
                    </a:lnTo>
                    <a:lnTo>
                      <a:pt x="4453" y="300"/>
                    </a:lnTo>
                    <a:lnTo>
                      <a:pt x="4351" y="256"/>
                    </a:lnTo>
                    <a:lnTo>
                      <a:pt x="4247" y="217"/>
                    </a:lnTo>
                    <a:lnTo>
                      <a:pt x="4144" y="180"/>
                    </a:lnTo>
                    <a:lnTo>
                      <a:pt x="4037" y="146"/>
                    </a:lnTo>
                    <a:lnTo>
                      <a:pt x="3930" y="117"/>
                    </a:lnTo>
                    <a:lnTo>
                      <a:pt x="3820" y="89"/>
                    </a:lnTo>
                    <a:lnTo>
                      <a:pt x="3710" y="67"/>
                    </a:lnTo>
                    <a:lnTo>
                      <a:pt x="3703" y="65"/>
                    </a:lnTo>
                    <a:lnTo>
                      <a:pt x="3592" y="46"/>
                    </a:lnTo>
                    <a:lnTo>
                      <a:pt x="3480" y="30"/>
                    </a:lnTo>
                    <a:lnTo>
                      <a:pt x="3368" y="17"/>
                    </a:lnTo>
                    <a:lnTo>
                      <a:pt x="3255" y="9"/>
                    </a:lnTo>
                    <a:lnTo>
                      <a:pt x="3142" y="2"/>
                    </a:lnTo>
                    <a:lnTo>
                      <a:pt x="3027" y="0"/>
                    </a:lnTo>
                    <a:lnTo>
                      <a:pt x="2891" y="4"/>
                    </a:lnTo>
                    <a:lnTo>
                      <a:pt x="2757" y="10"/>
                    </a:lnTo>
                    <a:lnTo>
                      <a:pt x="2622" y="23"/>
                    </a:lnTo>
                    <a:lnTo>
                      <a:pt x="2491" y="41"/>
                    </a:lnTo>
                    <a:lnTo>
                      <a:pt x="2362" y="64"/>
                    </a:lnTo>
                    <a:lnTo>
                      <a:pt x="2354" y="65"/>
                    </a:lnTo>
                    <a:lnTo>
                      <a:pt x="2226" y="91"/>
                    </a:lnTo>
                    <a:lnTo>
                      <a:pt x="2099" y="123"/>
                    </a:lnTo>
                    <a:lnTo>
                      <a:pt x="1975" y="159"/>
                    </a:lnTo>
                    <a:lnTo>
                      <a:pt x="1853" y="200"/>
                    </a:lnTo>
                    <a:lnTo>
                      <a:pt x="1735" y="245"/>
                    </a:lnTo>
                    <a:lnTo>
                      <a:pt x="1619" y="293"/>
                    </a:lnTo>
                    <a:lnTo>
                      <a:pt x="1504" y="345"/>
                    </a:lnTo>
                    <a:lnTo>
                      <a:pt x="1392" y="403"/>
                    </a:lnTo>
                    <a:lnTo>
                      <a:pt x="1285" y="463"/>
                    </a:lnTo>
                    <a:lnTo>
                      <a:pt x="1180" y="528"/>
                    </a:lnTo>
                    <a:lnTo>
                      <a:pt x="1078" y="596"/>
                    </a:lnTo>
                    <a:lnTo>
                      <a:pt x="1072" y="601"/>
                    </a:lnTo>
                    <a:lnTo>
                      <a:pt x="973" y="672"/>
                    </a:lnTo>
                    <a:lnTo>
                      <a:pt x="879" y="748"/>
                    </a:lnTo>
                    <a:lnTo>
                      <a:pt x="788" y="827"/>
                    </a:lnTo>
                    <a:lnTo>
                      <a:pt x="701" y="908"/>
                    </a:lnTo>
                    <a:lnTo>
                      <a:pt x="617" y="994"/>
                    </a:lnTo>
                    <a:lnTo>
                      <a:pt x="538" y="1083"/>
                    </a:lnTo>
                    <a:lnTo>
                      <a:pt x="463" y="1174"/>
                    </a:lnTo>
                    <a:lnTo>
                      <a:pt x="394" y="1269"/>
                    </a:lnTo>
                    <a:lnTo>
                      <a:pt x="327" y="1366"/>
                    </a:lnTo>
                    <a:lnTo>
                      <a:pt x="322" y="1373"/>
                    </a:lnTo>
                    <a:lnTo>
                      <a:pt x="262" y="1472"/>
                    </a:lnTo>
                    <a:lnTo>
                      <a:pt x="206" y="1575"/>
                    </a:lnTo>
                    <a:lnTo>
                      <a:pt x="154" y="1680"/>
                    </a:lnTo>
                    <a:lnTo>
                      <a:pt x="107" y="1787"/>
                    </a:lnTo>
                    <a:lnTo>
                      <a:pt x="67" y="1897"/>
                    </a:lnTo>
                    <a:lnTo>
                      <a:pt x="31" y="2009"/>
                    </a:lnTo>
                    <a:lnTo>
                      <a:pt x="0" y="2125"/>
                    </a:lnTo>
                    <a:lnTo>
                      <a:pt x="37" y="2135"/>
                    </a:lnTo>
                    <a:lnTo>
                      <a:pt x="67" y="2023"/>
                    </a:lnTo>
                    <a:lnTo>
                      <a:pt x="102" y="1912"/>
                    </a:lnTo>
                    <a:lnTo>
                      <a:pt x="143" y="1802"/>
                    </a:lnTo>
                    <a:lnTo>
                      <a:pt x="190" y="1695"/>
                    </a:lnTo>
                    <a:lnTo>
                      <a:pt x="241" y="1590"/>
                    </a:lnTo>
                    <a:lnTo>
                      <a:pt x="298" y="1486"/>
                    </a:lnTo>
                    <a:lnTo>
                      <a:pt x="358" y="1387"/>
                    </a:lnTo>
                    <a:lnTo>
                      <a:pt x="340" y="1379"/>
                    </a:lnTo>
                    <a:lnTo>
                      <a:pt x="355" y="1394"/>
                    </a:lnTo>
                    <a:lnTo>
                      <a:pt x="421" y="1297"/>
                    </a:lnTo>
                    <a:lnTo>
                      <a:pt x="491" y="1201"/>
                    </a:lnTo>
                    <a:lnTo>
                      <a:pt x="565" y="1111"/>
                    </a:lnTo>
                    <a:lnTo>
                      <a:pt x="644" y="1022"/>
                    </a:lnTo>
                    <a:lnTo>
                      <a:pt x="729" y="936"/>
                    </a:lnTo>
                    <a:lnTo>
                      <a:pt x="816" y="855"/>
                    </a:lnTo>
                    <a:lnTo>
                      <a:pt x="907" y="776"/>
                    </a:lnTo>
                    <a:lnTo>
                      <a:pt x="1000" y="700"/>
                    </a:lnTo>
                    <a:lnTo>
                      <a:pt x="1099" y="628"/>
                    </a:lnTo>
                    <a:lnTo>
                      <a:pt x="1086" y="614"/>
                    </a:lnTo>
                    <a:lnTo>
                      <a:pt x="1093" y="632"/>
                    </a:lnTo>
                    <a:lnTo>
                      <a:pt x="1195" y="564"/>
                    </a:lnTo>
                    <a:lnTo>
                      <a:pt x="1300" y="499"/>
                    </a:lnTo>
                    <a:lnTo>
                      <a:pt x="1407" y="439"/>
                    </a:lnTo>
                    <a:lnTo>
                      <a:pt x="1518" y="381"/>
                    </a:lnTo>
                    <a:lnTo>
                      <a:pt x="1633" y="329"/>
                    </a:lnTo>
                    <a:lnTo>
                      <a:pt x="1750" y="280"/>
                    </a:lnTo>
                    <a:lnTo>
                      <a:pt x="1868" y="235"/>
                    </a:lnTo>
                    <a:lnTo>
                      <a:pt x="1989" y="195"/>
                    </a:lnTo>
                    <a:lnTo>
                      <a:pt x="2114" y="159"/>
                    </a:lnTo>
                    <a:lnTo>
                      <a:pt x="2240" y="127"/>
                    </a:lnTo>
                    <a:lnTo>
                      <a:pt x="2368" y="101"/>
                    </a:lnTo>
                    <a:lnTo>
                      <a:pt x="2362" y="83"/>
                    </a:lnTo>
                    <a:lnTo>
                      <a:pt x="2362" y="102"/>
                    </a:lnTo>
                    <a:lnTo>
                      <a:pt x="2491" y="80"/>
                    </a:lnTo>
                    <a:lnTo>
                      <a:pt x="2622" y="62"/>
                    </a:lnTo>
                    <a:lnTo>
                      <a:pt x="2757" y="49"/>
                    </a:lnTo>
                    <a:lnTo>
                      <a:pt x="2891" y="43"/>
                    </a:lnTo>
                    <a:lnTo>
                      <a:pt x="3027" y="39"/>
                    </a:lnTo>
                    <a:lnTo>
                      <a:pt x="3142" y="41"/>
                    </a:lnTo>
                    <a:lnTo>
                      <a:pt x="3255" y="47"/>
                    </a:lnTo>
                    <a:lnTo>
                      <a:pt x="3368" y="56"/>
                    </a:lnTo>
                    <a:lnTo>
                      <a:pt x="3480" y="68"/>
                    </a:lnTo>
                    <a:lnTo>
                      <a:pt x="3592" y="85"/>
                    </a:lnTo>
                    <a:lnTo>
                      <a:pt x="3703" y="104"/>
                    </a:lnTo>
                    <a:lnTo>
                      <a:pt x="3703" y="85"/>
                    </a:lnTo>
                    <a:lnTo>
                      <a:pt x="3695" y="102"/>
                    </a:lnTo>
                    <a:lnTo>
                      <a:pt x="3805" y="125"/>
                    </a:lnTo>
                    <a:lnTo>
                      <a:pt x="3915" y="153"/>
                    </a:lnTo>
                    <a:lnTo>
                      <a:pt x="4022" y="182"/>
                    </a:lnTo>
                    <a:lnTo>
                      <a:pt x="4129" y="216"/>
                    </a:lnTo>
                    <a:lnTo>
                      <a:pt x="4233" y="253"/>
                    </a:lnTo>
                    <a:lnTo>
                      <a:pt x="4336" y="292"/>
                    </a:lnTo>
                    <a:lnTo>
                      <a:pt x="4438" y="335"/>
                    </a:lnTo>
                    <a:lnTo>
                      <a:pt x="4539" y="382"/>
                    </a:lnTo>
                    <a:lnTo>
                      <a:pt x="4636" y="433"/>
                    </a:lnTo>
                    <a:lnTo>
                      <a:pt x="4730" y="484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504840" y="1965960"/>
                <a:ext cx="133560" cy="10908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0" y="152"/>
                    </a:moveTo>
                    <a:lnTo>
                      <a:pt x="194" y="158"/>
                    </a:lnTo>
                    <a:lnTo>
                      <a:pt x="84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356280" y="3090600"/>
                <a:ext cx="115560" cy="131040"/>
              </a:xfrm>
              <a:custGeom>
                <a:avLst/>
                <a:gdLst/>
                <a:ahLst/>
                <a:rect l="l" t="t" r="r" b="b"/>
                <a:pathLst>
                  <a:path w="166" h="191">
                    <a:moveTo>
                      <a:pt x="0" y="0"/>
                    </a:moveTo>
                    <a:lnTo>
                      <a:pt x="37" y="191"/>
                    </a:lnTo>
                    <a:lnTo>
                      <a:pt x="166" y="47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4" name=""/>
            <p:cNvGrpSpPr/>
            <p:nvPr/>
          </p:nvGrpSpPr>
          <p:grpSpPr>
            <a:xfrm>
              <a:off x="3722760" y="2400480"/>
              <a:ext cx="1651320" cy="690120"/>
              <a:chOff x="3722760" y="2400480"/>
              <a:chExt cx="1651320" cy="690120"/>
            </a:xfrm>
          </p:grpSpPr>
          <p:sp>
            <p:nvSpPr>
              <p:cNvPr id="2505" name=""/>
              <p:cNvSpPr/>
              <p:nvPr/>
            </p:nvSpPr>
            <p:spPr>
              <a:xfrm>
                <a:off x="3722760" y="2441880"/>
                <a:ext cx="1651320" cy="648720"/>
              </a:xfrm>
              <a:custGeom>
                <a:avLst/>
                <a:gdLst/>
                <a:ahLst/>
                <a:rect l="l" t="t" r="r" b="b"/>
                <a:pathLst>
                  <a:path w="2393" h="940">
                    <a:moveTo>
                      <a:pt x="2393" y="39"/>
                    </a:moveTo>
                    <a:lnTo>
                      <a:pt x="2393" y="0"/>
                    </a:lnTo>
                    <a:lnTo>
                      <a:pt x="2295" y="3"/>
                    </a:lnTo>
                    <a:lnTo>
                      <a:pt x="2196" y="8"/>
                    </a:lnTo>
                    <a:lnTo>
                      <a:pt x="2097" y="15"/>
                    </a:lnTo>
                    <a:lnTo>
                      <a:pt x="2002" y="23"/>
                    </a:lnTo>
                    <a:lnTo>
                      <a:pt x="1905" y="34"/>
                    </a:lnTo>
                    <a:lnTo>
                      <a:pt x="1811" y="47"/>
                    </a:lnTo>
                    <a:lnTo>
                      <a:pt x="1717" y="60"/>
                    </a:lnTo>
                    <a:lnTo>
                      <a:pt x="1626" y="76"/>
                    </a:lnTo>
                    <a:lnTo>
                      <a:pt x="1536" y="94"/>
                    </a:lnTo>
                    <a:lnTo>
                      <a:pt x="1528" y="95"/>
                    </a:lnTo>
                    <a:lnTo>
                      <a:pt x="1439" y="115"/>
                    </a:lnTo>
                    <a:lnTo>
                      <a:pt x="1351" y="136"/>
                    </a:lnTo>
                    <a:lnTo>
                      <a:pt x="1265" y="159"/>
                    </a:lnTo>
                    <a:lnTo>
                      <a:pt x="1181" y="183"/>
                    </a:lnTo>
                    <a:lnTo>
                      <a:pt x="1099" y="209"/>
                    </a:lnTo>
                    <a:lnTo>
                      <a:pt x="1018" y="236"/>
                    </a:lnTo>
                    <a:lnTo>
                      <a:pt x="938" y="265"/>
                    </a:lnTo>
                    <a:lnTo>
                      <a:pt x="862" y="296"/>
                    </a:lnTo>
                    <a:lnTo>
                      <a:pt x="788" y="327"/>
                    </a:lnTo>
                    <a:lnTo>
                      <a:pt x="715" y="361"/>
                    </a:lnTo>
                    <a:lnTo>
                      <a:pt x="645" y="395"/>
                    </a:lnTo>
                    <a:lnTo>
                      <a:pt x="577" y="432"/>
                    </a:lnTo>
                    <a:lnTo>
                      <a:pt x="511" y="469"/>
                    </a:lnTo>
                    <a:lnTo>
                      <a:pt x="448" y="508"/>
                    </a:lnTo>
                    <a:lnTo>
                      <a:pt x="388" y="549"/>
                    </a:lnTo>
                    <a:lnTo>
                      <a:pt x="382" y="552"/>
                    </a:lnTo>
                    <a:lnTo>
                      <a:pt x="323" y="594"/>
                    </a:lnTo>
                    <a:lnTo>
                      <a:pt x="268" y="636"/>
                    </a:lnTo>
                    <a:lnTo>
                      <a:pt x="217" y="680"/>
                    </a:lnTo>
                    <a:lnTo>
                      <a:pt x="168" y="725"/>
                    </a:lnTo>
                    <a:lnTo>
                      <a:pt x="121" y="770"/>
                    </a:lnTo>
                    <a:lnTo>
                      <a:pt x="77" y="817"/>
                    </a:lnTo>
                    <a:lnTo>
                      <a:pt x="37" y="866"/>
                    </a:lnTo>
                    <a:lnTo>
                      <a:pt x="0" y="918"/>
                    </a:lnTo>
                    <a:lnTo>
                      <a:pt x="30" y="940"/>
                    </a:lnTo>
                    <a:lnTo>
                      <a:pt x="64" y="893"/>
                    </a:lnTo>
                    <a:lnTo>
                      <a:pt x="105" y="845"/>
                    </a:lnTo>
                    <a:lnTo>
                      <a:pt x="149" y="798"/>
                    </a:lnTo>
                    <a:lnTo>
                      <a:pt x="196" y="753"/>
                    </a:lnTo>
                    <a:lnTo>
                      <a:pt x="244" y="707"/>
                    </a:lnTo>
                    <a:lnTo>
                      <a:pt x="296" y="664"/>
                    </a:lnTo>
                    <a:lnTo>
                      <a:pt x="351" y="621"/>
                    </a:lnTo>
                    <a:lnTo>
                      <a:pt x="409" y="579"/>
                    </a:lnTo>
                    <a:lnTo>
                      <a:pt x="395" y="566"/>
                    </a:lnTo>
                    <a:lnTo>
                      <a:pt x="403" y="584"/>
                    </a:lnTo>
                    <a:lnTo>
                      <a:pt x="463" y="544"/>
                    </a:lnTo>
                    <a:lnTo>
                      <a:pt x="526" y="505"/>
                    </a:lnTo>
                    <a:lnTo>
                      <a:pt x="592" y="468"/>
                    </a:lnTo>
                    <a:lnTo>
                      <a:pt x="660" y="430"/>
                    </a:lnTo>
                    <a:lnTo>
                      <a:pt x="730" y="397"/>
                    </a:lnTo>
                    <a:lnTo>
                      <a:pt x="802" y="363"/>
                    </a:lnTo>
                    <a:lnTo>
                      <a:pt x="877" y="332"/>
                    </a:lnTo>
                    <a:lnTo>
                      <a:pt x="953" y="301"/>
                    </a:lnTo>
                    <a:lnTo>
                      <a:pt x="1032" y="272"/>
                    </a:lnTo>
                    <a:lnTo>
                      <a:pt x="1113" y="244"/>
                    </a:lnTo>
                    <a:lnTo>
                      <a:pt x="1196" y="218"/>
                    </a:lnTo>
                    <a:lnTo>
                      <a:pt x="1280" y="194"/>
                    </a:lnTo>
                    <a:lnTo>
                      <a:pt x="1366" y="172"/>
                    </a:lnTo>
                    <a:lnTo>
                      <a:pt x="1453" y="151"/>
                    </a:lnTo>
                    <a:lnTo>
                      <a:pt x="1542" y="131"/>
                    </a:lnTo>
                    <a:lnTo>
                      <a:pt x="1536" y="113"/>
                    </a:lnTo>
                    <a:lnTo>
                      <a:pt x="1536" y="133"/>
                    </a:lnTo>
                    <a:lnTo>
                      <a:pt x="1626" y="115"/>
                    </a:lnTo>
                    <a:lnTo>
                      <a:pt x="1717" y="99"/>
                    </a:lnTo>
                    <a:lnTo>
                      <a:pt x="1811" y="86"/>
                    </a:lnTo>
                    <a:lnTo>
                      <a:pt x="1905" y="73"/>
                    </a:lnTo>
                    <a:lnTo>
                      <a:pt x="2002" y="62"/>
                    </a:lnTo>
                    <a:lnTo>
                      <a:pt x="2097" y="53"/>
                    </a:lnTo>
                    <a:lnTo>
                      <a:pt x="2196" y="47"/>
                    </a:lnTo>
                    <a:lnTo>
                      <a:pt x="2295" y="42"/>
                    </a:lnTo>
                    <a:lnTo>
                      <a:pt x="2393" y="3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252400" y="2400480"/>
                <a:ext cx="121320" cy="118800"/>
              </a:xfrm>
              <a:custGeom>
                <a:avLst/>
                <a:gdLst/>
                <a:ahLst/>
                <a:rect l="l" t="t" r="r" b="b"/>
                <a:pathLst>
                  <a:path w="176" h="173">
                    <a:moveTo>
                      <a:pt x="7" y="173"/>
                    </a:moveTo>
                    <a:lnTo>
                      <a:pt x="176" y="79"/>
                    </a:lnTo>
                    <a:lnTo>
                      <a:pt x="0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732120" y="2951640"/>
                <a:ext cx="121320" cy="131040"/>
              </a:xfrm>
              <a:custGeom>
                <a:avLst/>
                <a:gdLst/>
                <a:ahLst/>
                <a:rect l="l" t="t" r="r" b="b"/>
                <a:pathLst>
                  <a:path w="177" h="189">
                    <a:moveTo>
                      <a:pt x="44" y="0"/>
                    </a:moveTo>
                    <a:lnTo>
                      <a:pt x="0" y="189"/>
                    </a:lnTo>
                    <a:lnTo>
                      <a:pt x="177" y="11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8" name=""/>
            <p:cNvGrpSpPr/>
            <p:nvPr/>
          </p:nvGrpSpPr>
          <p:grpSpPr>
            <a:xfrm>
              <a:off x="2961000" y="4078440"/>
              <a:ext cx="5030280" cy="1846080"/>
              <a:chOff x="2961000" y="4078440"/>
              <a:chExt cx="5030280" cy="1846080"/>
            </a:xfrm>
          </p:grpSpPr>
          <p:sp>
            <p:nvSpPr>
              <p:cNvPr id="2509" name=""/>
              <p:cNvSpPr/>
              <p:nvPr/>
            </p:nvSpPr>
            <p:spPr>
              <a:xfrm>
                <a:off x="3004920" y="4078440"/>
                <a:ext cx="4956120" cy="1846080"/>
              </a:xfrm>
              <a:custGeom>
                <a:avLst/>
                <a:gdLst/>
                <a:ahLst/>
                <a:rect l="l" t="t" r="r" b="b"/>
                <a:pathLst>
                  <a:path w="7186" h="2677">
                    <a:moveTo>
                      <a:pt x="7186" y="275"/>
                    </a:moveTo>
                    <a:lnTo>
                      <a:pt x="7147" y="272"/>
                    </a:lnTo>
                    <a:lnTo>
                      <a:pt x="7141" y="337"/>
                    </a:lnTo>
                    <a:lnTo>
                      <a:pt x="7133" y="398"/>
                    </a:lnTo>
                    <a:lnTo>
                      <a:pt x="7122" y="460"/>
                    </a:lnTo>
                    <a:lnTo>
                      <a:pt x="7141" y="460"/>
                    </a:lnTo>
                    <a:lnTo>
                      <a:pt x="7123" y="453"/>
                    </a:lnTo>
                    <a:lnTo>
                      <a:pt x="7110" y="515"/>
                    </a:lnTo>
                    <a:lnTo>
                      <a:pt x="7096" y="575"/>
                    </a:lnTo>
                    <a:lnTo>
                      <a:pt x="7079" y="635"/>
                    </a:lnTo>
                    <a:lnTo>
                      <a:pt x="7060" y="694"/>
                    </a:lnTo>
                    <a:lnTo>
                      <a:pt x="7039" y="754"/>
                    </a:lnTo>
                    <a:lnTo>
                      <a:pt x="7018" y="813"/>
                    </a:lnTo>
                    <a:lnTo>
                      <a:pt x="6992" y="869"/>
                    </a:lnTo>
                    <a:lnTo>
                      <a:pt x="6966" y="927"/>
                    </a:lnTo>
                    <a:lnTo>
                      <a:pt x="6939" y="984"/>
                    </a:lnTo>
                    <a:lnTo>
                      <a:pt x="6908" y="1041"/>
                    </a:lnTo>
                    <a:lnTo>
                      <a:pt x="6877" y="1096"/>
                    </a:lnTo>
                    <a:lnTo>
                      <a:pt x="6843" y="1151"/>
                    </a:lnTo>
                    <a:lnTo>
                      <a:pt x="6808" y="1204"/>
                    </a:lnTo>
                    <a:lnTo>
                      <a:pt x="6825" y="1212"/>
                    </a:lnTo>
                    <a:lnTo>
                      <a:pt x="6812" y="1198"/>
                    </a:lnTo>
                    <a:lnTo>
                      <a:pt x="6775" y="1251"/>
                    </a:lnTo>
                    <a:lnTo>
                      <a:pt x="6736" y="1303"/>
                    </a:lnTo>
                    <a:lnTo>
                      <a:pt x="6696" y="1355"/>
                    </a:lnTo>
                    <a:lnTo>
                      <a:pt x="6654" y="1406"/>
                    </a:lnTo>
                    <a:lnTo>
                      <a:pt x="6565" y="1507"/>
                    </a:lnTo>
                    <a:lnTo>
                      <a:pt x="6471" y="1602"/>
                    </a:lnTo>
                    <a:lnTo>
                      <a:pt x="6371" y="1696"/>
                    </a:lnTo>
                    <a:lnTo>
                      <a:pt x="6264" y="1787"/>
                    </a:lnTo>
                    <a:lnTo>
                      <a:pt x="6150" y="1873"/>
                    </a:lnTo>
                    <a:lnTo>
                      <a:pt x="6034" y="1955"/>
                    </a:lnTo>
                    <a:lnTo>
                      <a:pt x="6047" y="1968"/>
                    </a:lnTo>
                    <a:lnTo>
                      <a:pt x="6040" y="1950"/>
                    </a:lnTo>
                    <a:lnTo>
                      <a:pt x="5917" y="2028"/>
                    </a:lnTo>
                    <a:lnTo>
                      <a:pt x="5789" y="2102"/>
                    </a:lnTo>
                    <a:lnTo>
                      <a:pt x="5657" y="2174"/>
                    </a:lnTo>
                    <a:lnTo>
                      <a:pt x="5519" y="2238"/>
                    </a:lnTo>
                    <a:lnTo>
                      <a:pt x="5377" y="2300"/>
                    </a:lnTo>
                    <a:lnTo>
                      <a:pt x="5231" y="2356"/>
                    </a:lnTo>
                    <a:lnTo>
                      <a:pt x="5082" y="2408"/>
                    </a:lnTo>
                    <a:lnTo>
                      <a:pt x="4928" y="2455"/>
                    </a:lnTo>
                    <a:lnTo>
                      <a:pt x="4771" y="2497"/>
                    </a:lnTo>
                    <a:lnTo>
                      <a:pt x="4611" y="2534"/>
                    </a:lnTo>
                    <a:lnTo>
                      <a:pt x="4618" y="2552"/>
                    </a:lnTo>
                    <a:lnTo>
                      <a:pt x="4618" y="2533"/>
                    </a:lnTo>
                    <a:lnTo>
                      <a:pt x="4454" y="2565"/>
                    </a:lnTo>
                    <a:lnTo>
                      <a:pt x="4287" y="2591"/>
                    </a:lnTo>
                    <a:lnTo>
                      <a:pt x="4119" y="2611"/>
                    </a:lnTo>
                    <a:lnTo>
                      <a:pt x="3946" y="2627"/>
                    </a:lnTo>
                    <a:lnTo>
                      <a:pt x="3773" y="2635"/>
                    </a:lnTo>
                    <a:lnTo>
                      <a:pt x="3596" y="2638"/>
                    </a:lnTo>
                    <a:lnTo>
                      <a:pt x="3504" y="2638"/>
                    </a:lnTo>
                    <a:lnTo>
                      <a:pt x="3412" y="2635"/>
                    </a:lnTo>
                    <a:lnTo>
                      <a:pt x="3321" y="2630"/>
                    </a:lnTo>
                    <a:lnTo>
                      <a:pt x="3231" y="2625"/>
                    </a:lnTo>
                    <a:lnTo>
                      <a:pt x="3053" y="2609"/>
                    </a:lnTo>
                    <a:lnTo>
                      <a:pt x="2876" y="2586"/>
                    </a:lnTo>
                    <a:lnTo>
                      <a:pt x="2703" y="2559"/>
                    </a:lnTo>
                    <a:lnTo>
                      <a:pt x="2703" y="2578"/>
                    </a:lnTo>
                    <a:lnTo>
                      <a:pt x="2709" y="2560"/>
                    </a:lnTo>
                    <a:lnTo>
                      <a:pt x="2541" y="2525"/>
                    </a:lnTo>
                    <a:lnTo>
                      <a:pt x="2374" y="2486"/>
                    </a:lnTo>
                    <a:lnTo>
                      <a:pt x="2212" y="2441"/>
                    </a:lnTo>
                    <a:lnTo>
                      <a:pt x="2054" y="2389"/>
                    </a:lnTo>
                    <a:lnTo>
                      <a:pt x="1898" y="2334"/>
                    </a:lnTo>
                    <a:lnTo>
                      <a:pt x="1750" y="2272"/>
                    </a:lnTo>
                    <a:lnTo>
                      <a:pt x="1604" y="2206"/>
                    </a:lnTo>
                    <a:lnTo>
                      <a:pt x="1463" y="2135"/>
                    </a:lnTo>
                    <a:lnTo>
                      <a:pt x="1329" y="2059"/>
                    </a:lnTo>
                    <a:lnTo>
                      <a:pt x="1199" y="1979"/>
                    </a:lnTo>
                    <a:lnTo>
                      <a:pt x="1191" y="1997"/>
                    </a:lnTo>
                    <a:lnTo>
                      <a:pt x="1206" y="1984"/>
                    </a:lnTo>
                    <a:lnTo>
                      <a:pt x="1081" y="1900"/>
                    </a:lnTo>
                    <a:lnTo>
                      <a:pt x="963" y="1811"/>
                    </a:lnTo>
                    <a:lnTo>
                      <a:pt x="850" y="1719"/>
                    </a:lnTo>
                    <a:lnTo>
                      <a:pt x="744" y="1623"/>
                    </a:lnTo>
                    <a:lnTo>
                      <a:pt x="693" y="1573"/>
                    </a:lnTo>
                    <a:lnTo>
                      <a:pt x="644" y="1523"/>
                    </a:lnTo>
                    <a:lnTo>
                      <a:pt x="597" y="1473"/>
                    </a:lnTo>
                    <a:lnTo>
                      <a:pt x="552" y="1421"/>
                    </a:lnTo>
                    <a:lnTo>
                      <a:pt x="507" y="1368"/>
                    </a:lnTo>
                    <a:lnTo>
                      <a:pt x="464" y="1314"/>
                    </a:lnTo>
                    <a:lnTo>
                      <a:pt x="424" y="1259"/>
                    </a:lnTo>
                    <a:lnTo>
                      <a:pt x="387" y="1204"/>
                    </a:lnTo>
                    <a:lnTo>
                      <a:pt x="372" y="1219"/>
                    </a:lnTo>
                    <a:lnTo>
                      <a:pt x="390" y="1211"/>
                    </a:lnTo>
                    <a:lnTo>
                      <a:pt x="353" y="1156"/>
                    </a:lnTo>
                    <a:lnTo>
                      <a:pt x="319" y="1099"/>
                    </a:lnTo>
                    <a:lnTo>
                      <a:pt x="285" y="1041"/>
                    </a:lnTo>
                    <a:lnTo>
                      <a:pt x="254" y="982"/>
                    </a:lnTo>
                    <a:lnTo>
                      <a:pt x="225" y="924"/>
                    </a:lnTo>
                    <a:lnTo>
                      <a:pt x="197" y="864"/>
                    </a:lnTo>
                    <a:lnTo>
                      <a:pt x="173" y="804"/>
                    </a:lnTo>
                    <a:lnTo>
                      <a:pt x="150" y="745"/>
                    </a:lnTo>
                    <a:lnTo>
                      <a:pt x="129" y="683"/>
                    </a:lnTo>
                    <a:lnTo>
                      <a:pt x="110" y="622"/>
                    </a:lnTo>
                    <a:lnTo>
                      <a:pt x="94" y="558"/>
                    </a:lnTo>
                    <a:lnTo>
                      <a:pt x="79" y="497"/>
                    </a:lnTo>
                    <a:lnTo>
                      <a:pt x="61" y="503"/>
                    </a:lnTo>
                    <a:lnTo>
                      <a:pt x="81" y="503"/>
                    </a:lnTo>
                    <a:lnTo>
                      <a:pt x="68" y="440"/>
                    </a:lnTo>
                    <a:lnTo>
                      <a:pt x="57" y="377"/>
                    </a:lnTo>
                    <a:lnTo>
                      <a:pt x="48" y="312"/>
                    </a:lnTo>
                    <a:lnTo>
                      <a:pt x="44" y="248"/>
                    </a:lnTo>
                    <a:lnTo>
                      <a:pt x="40" y="183"/>
                    </a:lnTo>
                    <a:lnTo>
                      <a:pt x="39" y="117"/>
                    </a:lnTo>
                    <a:lnTo>
                      <a:pt x="40" y="58"/>
                    </a:lnTo>
                    <a:lnTo>
                      <a:pt x="42" y="2"/>
                    </a:lnTo>
                    <a:lnTo>
                      <a:pt x="3" y="0"/>
                    </a:lnTo>
                    <a:lnTo>
                      <a:pt x="2" y="58"/>
                    </a:lnTo>
                    <a:lnTo>
                      <a:pt x="0" y="117"/>
                    </a:lnTo>
                    <a:lnTo>
                      <a:pt x="2" y="183"/>
                    </a:lnTo>
                    <a:lnTo>
                      <a:pt x="5" y="248"/>
                    </a:lnTo>
                    <a:lnTo>
                      <a:pt x="10" y="312"/>
                    </a:lnTo>
                    <a:lnTo>
                      <a:pt x="18" y="377"/>
                    </a:lnTo>
                    <a:lnTo>
                      <a:pt x="29" y="440"/>
                    </a:lnTo>
                    <a:lnTo>
                      <a:pt x="42" y="503"/>
                    </a:lnTo>
                    <a:lnTo>
                      <a:pt x="44" y="512"/>
                    </a:lnTo>
                    <a:lnTo>
                      <a:pt x="58" y="573"/>
                    </a:lnTo>
                    <a:lnTo>
                      <a:pt x="74" y="636"/>
                    </a:lnTo>
                    <a:lnTo>
                      <a:pt x="94" y="698"/>
                    </a:lnTo>
                    <a:lnTo>
                      <a:pt x="115" y="759"/>
                    </a:lnTo>
                    <a:lnTo>
                      <a:pt x="138" y="819"/>
                    </a:lnTo>
                    <a:lnTo>
                      <a:pt x="162" y="879"/>
                    </a:lnTo>
                    <a:lnTo>
                      <a:pt x="189" y="939"/>
                    </a:lnTo>
                    <a:lnTo>
                      <a:pt x="218" y="997"/>
                    </a:lnTo>
                    <a:lnTo>
                      <a:pt x="249" y="1055"/>
                    </a:lnTo>
                    <a:lnTo>
                      <a:pt x="283" y="1114"/>
                    </a:lnTo>
                    <a:lnTo>
                      <a:pt x="317" y="1170"/>
                    </a:lnTo>
                    <a:lnTo>
                      <a:pt x="354" y="1225"/>
                    </a:lnTo>
                    <a:lnTo>
                      <a:pt x="359" y="1232"/>
                    </a:lnTo>
                    <a:lnTo>
                      <a:pt x="396" y="1287"/>
                    </a:lnTo>
                    <a:lnTo>
                      <a:pt x="437" y="1342"/>
                    </a:lnTo>
                    <a:lnTo>
                      <a:pt x="479" y="1395"/>
                    </a:lnTo>
                    <a:lnTo>
                      <a:pt x="524" y="1449"/>
                    </a:lnTo>
                    <a:lnTo>
                      <a:pt x="570" y="1500"/>
                    </a:lnTo>
                    <a:lnTo>
                      <a:pt x="617" y="1551"/>
                    </a:lnTo>
                    <a:lnTo>
                      <a:pt x="665" y="1601"/>
                    </a:lnTo>
                    <a:lnTo>
                      <a:pt x="717" y="1651"/>
                    </a:lnTo>
                    <a:lnTo>
                      <a:pt x="822" y="1746"/>
                    </a:lnTo>
                    <a:lnTo>
                      <a:pt x="935" y="1839"/>
                    </a:lnTo>
                    <a:lnTo>
                      <a:pt x="1054" y="1928"/>
                    </a:lnTo>
                    <a:lnTo>
                      <a:pt x="1178" y="2012"/>
                    </a:lnTo>
                    <a:lnTo>
                      <a:pt x="1185" y="2015"/>
                    </a:lnTo>
                    <a:lnTo>
                      <a:pt x="1314" y="2094"/>
                    </a:lnTo>
                    <a:lnTo>
                      <a:pt x="1449" y="2170"/>
                    </a:lnTo>
                    <a:lnTo>
                      <a:pt x="1589" y="2242"/>
                    </a:lnTo>
                    <a:lnTo>
                      <a:pt x="1735" y="2308"/>
                    </a:lnTo>
                    <a:lnTo>
                      <a:pt x="1884" y="2369"/>
                    </a:lnTo>
                    <a:lnTo>
                      <a:pt x="2039" y="2424"/>
                    </a:lnTo>
                    <a:lnTo>
                      <a:pt x="2198" y="2476"/>
                    </a:lnTo>
                    <a:lnTo>
                      <a:pt x="2360" y="2522"/>
                    </a:lnTo>
                    <a:lnTo>
                      <a:pt x="2526" y="2560"/>
                    </a:lnTo>
                    <a:lnTo>
                      <a:pt x="2695" y="2596"/>
                    </a:lnTo>
                    <a:lnTo>
                      <a:pt x="2703" y="2598"/>
                    </a:lnTo>
                    <a:lnTo>
                      <a:pt x="2876" y="2625"/>
                    </a:lnTo>
                    <a:lnTo>
                      <a:pt x="3053" y="2648"/>
                    </a:lnTo>
                    <a:lnTo>
                      <a:pt x="3231" y="2664"/>
                    </a:lnTo>
                    <a:lnTo>
                      <a:pt x="3321" y="2669"/>
                    </a:lnTo>
                    <a:lnTo>
                      <a:pt x="3412" y="2674"/>
                    </a:lnTo>
                    <a:lnTo>
                      <a:pt x="3504" y="2677"/>
                    </a:lnTo>
                    <a:lnTo>
                      <a:pt x="3596" y="2677"/>
                    </a:lnTo>
                    <a:lnTo>
                      <a:pt x="3773" y="2674"/>
                    </a:lnTo>
                    <a:lnTo>
                      <a:pt x="3946" y="2666"/>
                    </a:lnTo>
                    <a:lnTo>
                      <a:pt x="4119" y="2649"/>
                    </a:lnTo>
                    <a:lnTo>
                      <a:pt x="4287" y="2630"/>
                    </a:lnTo>
                    <a:lnTo>
                      <a:pt x="4454" y="2604"/>
                    </a:lnTo>
                    <a:lnTo>
                      <a:pt x="4618" y="2572"/>
                    </a:lnTo>
                    <a:lnTo>
                      <a:pt x="4626" y="2570"/>
                    </a:lnTo>
                    <a:lnTo>
                      <a:pt x="4786" y="2533"/>
                    </a:lnTo>
                    <a:lnTo>
                      <a:pt x="4943" y="2491"/>
                    </a:lnTo>
                    <a:lnTo>
                      <a:pt x="5097" y="2444"/>
                    </a:lnTo>
                    <a:lnTo>
                      <a:pt x="5246" y="2392"/>
                    </a:lnTo>
                    <a:lnTo>
                      <a:pt x="5391" y="2335"/>
                    </a:lnTo>
                    <a:lnTo>
                      <a:pt x="5534" y="2274"/>
                    </a:lnTo>
                    <a:lnTo>
                      <a:pt x="5671" y="2209"/>
                    </a:lnTo>
                    <a:lnTo>
                      <a:pt x="5804" y="2138"/>
                    </a:lnTo>
                    <a:lnTo>
                      <a:pt x="5932" y="2064"/>
                    </a:lnTo>
                    <a:lnTo>
                      <a:pt x="6055" y="1986"/>
                    </a:lnTo>
                    <a:lnTo>
                      <a:pt x="6061" y="1983"/>
                    </a:lnTo>
                    <a:lnTo>
                      <a:pt x="6178" y="1900"/>
                    </a:lnTo>
                    <a:lnTo>
                      <a:pt x="6291" y="1814"/>
                    </a:lnTo>
                    <a:lnTo>
                      <a:pt x="6398" y="1724"/>
                    </a:lnTo>
                    <a:lnTo>
                      <a:pt x="6498" y="1630"/>
                    </a:lnTo>
                    <a:lnTo>
                      <a:pt x="6592" y="1534"/>
                    </a:lnTo>
                    <a:lnTo>
                      <a:pt x="6681" y="1434"/>
                    </a:lnTo>
                    <a:lnTo>
                      <a:pt x="6723" y="1382"/>
                    </a:lnTo>
                    <a:lnTo>
                      <a:pt x="6764" y="1330"/>
                    </a:lnTo>
                    <a:lnTo>
                      <a:pt x="6803" y="1279"/>
                    </a:lnTo>
                    <a:lnTo>
                      <a:pt x="6840" y="1225"/>
                    </a:lnTo>
                    <a:lnTo>
                      <a:pt x="6843" y="1219"/>
                    </a:lnTo>
                    <a:lnTo>
                      <a:pt x="6879" y="1165"/>
                    </a:lnTo>
                    <a:lnTo>
                      <a:pt x="6913" y="1110"/>
                    </a:lnTo>
                    <a:lnTo>
                      <a:pt x="6944" y="1055"/>
                    </a:lnTo>
                    <a:lnTo>
                      <a:pt x="6974" y="999"/>
                    </a:lnTo>
                    <a:lnTo>
                      <a:pt x="7002" y="942"/>
                    </a:lnTo>
                    <a:lnTo>
                      <a:pt x="7028" y="884"/>
                    </a:lnTo>
                    <a:lnTo>
                      <a:pt x="7054" y="827"/>
                    </a:lnTo>
                    <a:lnTo>
                      <a:pt x="7075" y="769"/>
                    </a:lnTo>
                    <a:lnTo>
                      <a:pt x="7096" y="709"/>
                    </a:lnTo>
                    <a:lnTo>
                      <a:pt x="7115" y="649"/>
                    </a:lnTo>
                    <a:lnTo>
                      <a:pt x="7131" y="589"/>
                    </a:lnTo>
                    <a:lnTo>
                      <a:pt x="7146" y="529"/>
                    </a:lnTo>
                    <a:lnTo>
                      <a:pt x="7159" y="468"/>
                    </a:lnTo>
                    <a:lnTo>
                      <a:pt x="7160" y="460"/>
                    </a:lnTo>
                    <a:lnTo>
                      <a:pt x="7160" y="460"/>
                    </a:lnTo>
                    <a:lnTo>
                      <a:pt x="7172" y="398"/>
                    </a:lnTo>
                    <a:lnTo>
                      <a:pt x="7180" y="337"/>
                    </a:lnTo>
                    <a:lnTo>
                      <a:pt x="7186" y="275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872840" y="4266000"/>
                <a:ext cx="118440" cy="126720"/>
              </a:xfrm>
              <a:custGeom>
                <a:avLst/>
                <a:gdLst/>
                <a:ahLst/>
                <a:rect l="l" t="t" r="r" b="b"/>
                <a:pathLst>
                  <a:path w="174" h="183">
                    <a:moveTo>
                      <a:pt x="174" y="183"/>
                    </a:moveTo>
                    <a:lnTo>
                      <a:pt x="109" y="0"/>
                    </a:lnTo>
                    <a:lnTo>
                      <a:pt x="0" y="16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2961000" y="4078440"/>
                <a:ext cx="119880" cy="11844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173"/>
                    </a:moveTo>
                    <a:lnTo>
                      <a:pt x="88" y="0"/>
                    </a:lnTo>
                    <a:lnTo>
                      <a:pt x="0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2" name=""/>
            <p:cNvGrpSpPr/>
            <p:nvPr/>
          </p:nvGrpSpPr>
          <p:grpSpPr>
            <a:xfrm>
              <a:off x="1676520" y="2494080"/>
              <a:ext cx="443160" cy="2041560"/>
              <a:chOff x="1676520" y="2494080"/>
              <a:chExt cx="443160" cy="2041560"/>
            </a:xfrm>
          </p:grpSpPr>
          <p:sp>
            <p:nvSpPr>
              <p:cNvPr id="2513" name=""/>
              <p:cNvSpPr/>
              <p:nvPr/>
            </p:nvSpPr>
            <p:spPr>
              <a:xfrm>
                <a:off x="1676520" y="2494080"/>
                <a:ext cx="443160" cy="2041560"/>
              </a:xfrm>
              <a:custGeom>
                <a:avLst/>
                <a:gdLst/>
                <a:ahLst/>
                <a:rect l="l" t="t" r="r" b="b"/>
                <a:pathLst>
                  <a:path w="641" h="2962">
                    <a:moveTo>
                      <a:pt x="492" y="2962"/>
                    </a:moveTo>
                    <a:lnTo>
                      <a:pt x="519" y="2934"/>
                    </a:lnTo>
                    <a:lnTo>
                      <a:pt x="463" y="2873"/>
                    </a:lnTo>
                    <a:lnTo>
                      <a:pt x="411" y="2808"/>
                    </a:lnTo>
                    <a:lnTo>
                      <a:pt x="361" y="2738"/>
                    </a:lnTo>
                    <a:lnTo>
                      <a:pt x="348" y="2751"/>
                    </a:lnTo>
                    <a:lnTo>
                      <a:pt x="366" y="2745"/>
                    </a:lnTo>
                    <a:lnTo>
                      <a:pt x="319" y="2670"/>
                    </a:lnTo>
                    <a:lnTo>
                      <a:pt x="277" y="2591"/>
                    </a:lnTo>
                    <a:lnTo>
                      <a:pt x="236" y="2509"/>
                    </a:lnTo>
                    <a:lnTo>
                      <a:pt x="199" y="2423"/>
                    </a:lnTo>
                    <a:lnTo>
                      <a:pt x="167" y="2334"/>
                    </a:lnTo>
                    <a:lnTo>
                      <a:pt x="137" y="2240"/>
                    </a:lnTo>
                    <a:lnTo>
                      <a:pt x="112" y="2144"/>
                    </a:lnTo>
                    <a:lnTo>
                      <a:pt x="89" y="2047"/>
                    </a:lnTo>
                    <a:lnTo>
                      <a:pt x="71" y="2054"/>
                    </a:lnTo>
                    <a:lnTo>
                      <a:pt x="90" y="2054"/>
                    </a:lnTo>
                    <a:lnTo>
                      <a:pt x="73" y="1953"/>
                    </a:lnTo>
                    <a:lnTo>
                      <a:pt x="58" y="1852"/>
                    </a:lnTo>
                    <a:lnTo>
                      <a:pt x="47" y="1748"/>
                    </a:lnTo>
                    <a:lnTo>
                      <a:pt x="40" y="1643"/>
                    </a:lnTo>
                    <a:lnTo>
                      <a:pt x="39" y="1536"/>
                    </a:lnTo>
                    <a:lnTo>
                      <a:pt x="42" y="1415"/>
                    </a:lnTo>
                    <a:lnTo>
                      <a:pt x="50" y="1295"/>
                    </a:lnTo>
                    <a:lnTo>
                      <a:pt x="63" y="1177"/>
                    </a:lnTo>
                    <a:lnTo>
                      <a:pt x="82" y="1060"/>
                    </a:lnTo>
                    <a:lnTo>
                      <a:pt x="63" y="1060"/>
                    </a:lnTo>
                    <a:lnTo>
                      <a:pt x="81" y="1068"/>
                    </a:lnTo>
                    <a:lnTo>
                      <a:pt x="103" y="957"/>
                    </a:lnTo>
                    <a:lnTo>
                      <a:pt x="133" y="847"/>
                    </a:lnTo>
                    <a:lnTo>
                      <a:pt x="165" y="741"/>
                    </a:lnTo>
                    <a:lnTo>
                      <a:pt x="202" y="639"/>
                    </a:lnTo>
                    <a:lnTo>
                      <a:pt x="244" y="544"/>
                    </a:lnTo>
                    <a:lnTo>
                      <a:pt x="291" y="452"/>
                    </a:lnTo>
                    <a:lnTo>
                      <a:pt x="341" y="364"/>
                    </a:lnTo>
                    <a:lnTo>
                      <a:pt x="395" y="283"/>
                    </a:lnTo>
                    <a:lnTo>
                      <a:pt x="377" y="275"/>
                    </a:lnTo>
                    <a:lnTo>
                      <a:pt x="392" y="290"/>
                    </a:lnTo>
                    <a:lnTo>
                      <a:pt x="448" y="214"/>
                    </a:lnTo>
                    <a:lnTo>
                      <a:pt x="479" y="180"/>
                    </a:lnTo>
                    <a:lnTo>
                      <a:pt x="510" y="146"/>
                    </a:lnTo>
                    <a:lnTo>
                      <a:pt x="542" y="113"/>
                    </a:lnTo>
                    <a:lnTo>
                      <a:pt x="574" y="83"/>
                    </a:lnTo>
                    <a:lnTo>
                      <a:pt x="608" y="55"/>
                    </a:lnTo>
                    <a:lnTo>
                      <a:pt x="641" y="31"/>
                    </a:lnTo>
                    <a:lnTo>
                      <a:pt x="618" y="0"/>
                    </a:lnTo>
                    <a:lnTo>
                      <a:pt x="581" y="28"/>
                    </a:lnTo>
                    <a:lnTo>
                      <a:pt x="547" y="55"/>
                    </a:lnTo>
                    <a:lnTo>
                      <a:pt x="515" y="86"/>
                    </a:lnTo>
                    <a:lnTo>
                      <a:pt x="482" y="118"/>
                    </a:lnTo>
                    <a:lnTo>
                      <a:pt x="451" y="152"/>
                    </a:lnTo>
                    <a:lnTo>
                      <a:pt x="421" y="186"/>
                    </a:lnTo>
                    <a:lnTo>
                      <a:pt x="364" y="262"/>
                    </a:lnTo>
                    <a:lnTo>
                      <a:pt x="359" y="269"/>
                    </a:lnTo>
                    <a:lnTo>
                      <a:pt x="306" y="350"/>
                    </a:lnTo>
                    <a:lnTo>
                      <a:pt x="256" y="437"/>
                    </a:lnTo>
                    <a:lnTo>
                      <a:pt x="209" y="529"/>
                    </a:lnTo>
                    <a:lnTo>
                      <a:pt x="167" y="625"/>
                    </a:lnTo>
                    <a:lnTo>
                      <a:pt x="129" y="727"/>
                    </a:lnTo>
                    <a:lnTo>
                      <a:pt x="97" y="832"/>
                    </a:lnTo>
                    <a:lnTo>
                      <a:pt x="68" y="942"/>
                    </a:lnTo>
                    <a:lnTo>
                      <a:pt x="45" y="1054"/>
                    </a:lnTo>
                    <a:lnTo>
                      <a:pt x="44" y="1060"/>
                    </a:lnTo>
                    <a:lnTo>
                      <a:pt x="44" y="1060"/>
                    </a:lnTo>
                    <a:lnTo>
                      <a:pt x="24" y="1177"/>
                    </a:lnTo>
                    <a:lnTo>
                      <a:pt x="11" y="1295"/>
                    </a:lnTo>
                    <a:lnTo>
                      <a:pt x="3" y="1415"/>
                    </a:lnTo>
                    <a:lnTo>
                      <a:pt x="0" y="1536"/>
                    </a:lnTo>
                    <a:lnTo>
                      <a:pt x="1" y="1643"/>
                    </a:lnTo>
                    <a:lnTo>
                      <a:pt x="8" y="1748"/>
                    </a:lnTo>
                    <a:lnTo>
                      <a:pt x="19" y="1852"/>
                    </a:lnTo>
                    <a:lnTo>
                      <a:pt x="34" y="1953"/>
                    </a:lnTo>
                    <a:lnTo>
                      <a:pt x="52" y="2054"/>
                    </a:lnTo>
                    <a:lnTo>
                      <a:pt x="53" y="2062"/>
                    </a:lnTo>
                    <a:lnTo>
                      <a:pt x="76" y="2159"/>
                    </a:lnTo>
                    <a:lnTo>
                      <a:pt x="102" y="2255"/>
                    </a:lnTo>
                    <a:lnTo>
                      <a:pt x="131" y="2348"/>
                    </a:lnTo>
                    <a:lnTo>
                      <a:pt x="163" y="2437"/>
                    </a:lnTo>
                    <a:lnTo>
                      <a:pt x="201" y="2523"/>
                    </a:lnTo>
                    <a:lnTo>
                      <a:pt x="241" y="2606"/>
                    </a:lnTo>
                    <a:lnTo>
                      <a:pt x="283" y="2685"/>
                    </a:lnTo>
                    <a:lnTo>
                      <a:pt x="330" y="2759"/>
                    </a:lnTo>
                    <a:lnTo>
                      <a:pt x="333" y="2766"/>
                    </a:lnTo>
                    <a:lnTo>
                      <a:pt x="383" y="2836"/>
                    </a:lnTo>
                    <a:lnTo>
                      <a:pt x="435" y="2900"/>
                    </a:lnTo>
                    <a:lnTo>
                      <a:pt x="492" y="296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901520" y="4395960"/>
                <a:ext cx="124200" cy="129600"/>
              </a:xfrm>
              <a:custGeom>
                <a:avLst/>
                <a:gdLst/>
                <a:ahLst/>
                <a:rect l="l" t="t" r="r" b="b"/>
                <a:pathLst>
                  <a:path w="180" h="188">
                    <a:moveTo>
                      <a:pt x="0" y="114"/>
                    </a:moveTo>
                    <a:lnTo>
                      <a:pt x="180" y="188"/>
                    </a:lnTo>
                    <a:lnTo>
                      <a:pt x="131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982880" y="2503440"/>
                <a:ext cx="128160" cy="123840"/>
              </a:xfrm>
              <a:custGeom>
                <a:avLst/>
                <a:gdLst/>
                <a:ahLst/>
                <a:rect l="l" t="t" r="r" b="b"/>
                <a:pathLst>
                  <a:path w="186" h="179">
                    <a:moveTo>
                      <a:pt x="114" y="179"/>
                    </a:moveTo>
                    <a:lnTo>
                      <a:pt x="186" y="0"/>
                    </a:lnTo>
                    <a:lnTo>
                      <a:pt x="0" y="5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6" name=""/>
            <p:cNvGrpSpPr/>
            <p:nvPr/>
          </p:nvGrpSpPr>
          <p:grpSpPr>
            <a:xfrm>
              <a:off x="1875240" y="2862360"/>
              <a:ext cx="258480" cy="1101600"/>
              <a:chOff x="1875240" y="2862360"/>
              <a:chExt cx="258480" cy="1101600"/>
            </a:xfrm>
          </p:grpSpPr>
          <p:sp>
            <p:nvSpPr>
              <p:cNvPr id="2517" name=""/>
              <p:cNvSpPr/>
              <p:nvPr/>
            </p:nvSpPr>
            <p:spPr>
              <a:xfrm>
                <a:off x="1875240" y="2862360"/>
                <a:ext cx="258480" cy="1101600"/>
              </a:xfrm>
              <a:custGeom>
                <a:avLst/>
                <a:gdLst/>
                <a:ahLst/>
                <a:rect l="l" t="t" r="r" b="b"/>
                <a:pathLst>
                  <a:path w="376" h="1599">
                    <a:moveTo>
                      <a:pt x="345" y="1599"/>
                    </a:moveTo>
                    <a:lnTo>
                      <a:pt x="361" y="1563"/>
                    </a:lnTo>
                    <a:lnTo>
                      <a:pt x="324" y="1544"/>
                    </a:lnTo>
                    <a:lnTo>
                      <a:pt x="318" y="1562"/>
                    </a:lnTo>
                    <a:lnTo>
                      <a:pt x="331" y="1549"/>
                    </a:lnTo>
                    <a:lnTo>
                      <a:pt x="297" y="1523"/>
                    </a:lnTo>
                    <a:lnTo>
                      <a:pt x="264" y="1494"/>
                    </a:lnTo>
                    <a:lnTo>
                      <a:pt x="232" y="1460"/>
                    </a:lnTo>
                    <a:lnTo>
                      <a:pt x="203" y="1423"/>
                    </a:lnTo>
                    <a:lnTo>
                      <a:pt x="190" y="1436"/>
                    </a:lnTo>
                    <a:lnTo>
                      <a:pt x="208" y="1429"/>
                    </a:lnTo>
                    <a:lnTo>
                      <a:pt x="180" y="1385"/>
                    </a:lnTo>
                    <a:lnTo>
                      <a:pt x="154" y="1340"/>
                    </a:lnTo>
                    <a:lnTo>
                      <a:pt x="131" y="1290"/>
                    </a:lnTo>
                    <a:lnTo>
                      <a:pt x="110" y="1237"/>
                    </a:lnTo>
                    <a:lnTo>
                      <a:pt x="91" y="1180"/>
                    </a:lnTo>
                    <a:lnTo>
                      <a:pt x="75" y="1122"/>
                    </a:lnTo>
                    <a:lnTo>
                      <a:pt x="62" y="1060"/>
                    </a:lnTo>
                    <a:lnTo>
                      <a:pt x="44" y="1068"/>
                    </a:lnTo>
                    <a:lnTo>
                      <a:pt x="63" y="1068"/>
                    </a:lnTo>
                    <a:lnTo>
                      <a:pt x="54" y="1004"/>
                    </a:lnTo>
                    <a:lnTo>
                      <a:pt x="46" y="939"/>
                    </a:lnTo>
                    <a:lnTo>
                      <a:pt x="41" y="871"/>
                    </a:lnTo>
                    <a:lnTo>
                      <a:pt x="39" y="803"/>
                    </a:lnTo>
                    <a:lnTo>
                      <a:pt x="41" y="733"/>
                    </a:lnTo>
                    <a:lnTo>
                      <a:pt x="46" y="664"/>
                    </a:lnTo>
                    <a:lnTo>
                      <a:pt x="54" y="597"/>
                    </a:lnTo>
                    <a:lnTo>
                      <a:pt x="65" y="531"/>
                    </a:lnTo>
                    <a:lnTo>
                      <a:pt x="46" y="531"/>
                    </a:lnTo>
                    <a:lnTo>
                      <a:pt x="63" y="539"/>
                    </a:lnTo>
                    <a:lnTo>
                      <a:pt x="78" y="476"/>
                    </a:lnTo>
                    <a:lnTo>
                      <a:pt x="94" y="416"/>
                    </a:lnTo>
                    <a:lnTo>
                      <a:pt x="114" y="359"/>
                    </a:lnTo>
                    <a:lnTo>
                      <a:pt x="135" y="306"/>
                    </a:lnTo>
                    <a:lnTo>
                      <a:pt x="159" y="256"/>
                    </a:lnTo>
                    <a:lnTo>
                      <a:pt x="186" y="209"/>
                    </a:lnTo>
                    <a:lnTo>
                      <a:pt x="169" y="201"/>
                    </a:lnTo>
                    <a:lnTo>
                      <a:pt x="182" y="215"/>
                    </a:lnTo>
                    <a:lnTo>
                      <a:pt x="211" y="173"/>
                    </a:lnTo>
                    <a:lnTo>
                      <a:pt x="242" y="134"/>
                    </a:lnTo>
                    <a:lnTo>
                      <a:pt x="274" y="100"/>
                    </a:lnTo>
                    <a:lnTo>
                      <a:pt x="308" y="73"/>
                    </a:lnTo>
                    <a:lnTo>
                      <a:pt x="295" y="58"/>
                    </a:lnTo>
                    <a:lnTo>
                      <a:pt x="301" y="76"/>
                    </a:lnTo>
                    <a:lnTo>
                      <a:pt x="337" y="54"/>
                    </a:lnTo>
                    <a:lnTo>
                      <a:pt x="376" y="36"/>
                    </a:lnTo>
                    <a:lnTo>
                      <a:pt x="361" y="0"/>
                    </a:lnTo>
                    <a:lnTo>
                      <a:pt x="322" y="18"/>
                    </a:lnTo>
                    <a:lnTo>
                      <a:pt x="287" y="41"/>
                    </a:lnTo>
                    <a:lnTo>
                      <a:pt x="280" y="45"/>
                    </a:lnTo>
                    <a:lnTo>
                      <a:pt x="246" y="73"/>
                    </a:lnTo>
                    <a:lnTo>
                      <a:pt x="214" y="107"/>
                    </a:lnTo>
                    <a:lnTo>
                      <a:pt x="183" y="146"/>
                    </a:lnTo>
                    <a:lnTo>
                      <a:pt x="154" y="188"/>
                    </a:lnTo>
                    <a:lnTo>
                      <a:pt x="151" y="194"/>
                    </a:lnTo>
                    <a:lnTo>
                      <a:pt x="123" y="241"/>
                    </a:lnTo>
                    <a:lnTo>
                      <a:pt x="99" y="291"/>
                    </a:lnTo>
                    <a:lnTo>
                      <a:pt x="78" y="345"/>
                    </a:lnTo>
                    <a:lnTo>
                      <a:pt x="59" y="401"/>
                    </a:lnTo>
                    <a:lnTo>
                      <a:pt x="42" y="461"/>
                    </a:lnTo>
                    <a:lnTo>
                      <a:pt x="28" y="524"/>
                    </a:lnTo>
                    <a:lnTo>
                      <a:pt x="26" y="531"/>
                    </a:lnTo>
                    <a:lnTo>
                      <a:pt x="26" y="531"/>
                    </a:lnTo>
                    <a:lnTo>
                      <a:pt x="15" y="597"/>
                    </a:lnTo>
                    <a:lnTo>
                      <a:pt x="7" y="664"/>
                    </a:lnTo>
                    <a:lnTo>
                      <a:pt x="2" y="733"/>
                    </a:lnTo>
                    <a:lnTo>
                      <a:pt x="0" y="803"/>
                    </a:lnTo>
                    <a:lnTo>
                      <a:pt x="2" y="871"/>
                    </a:lnTo>
                    <a:lnTo>
                      <a:pt x="7" y="939"/>
                    </a:lnTo>
                    <a:lnTo>
                      <a:pt x="15" y="1004"/>
                    </a:lnTo>
                    <a:lnTo>
                      <a:pt x="25" y="1068"/>
                    </a:lnTo>
                    <a:lnTo>
                      <a:pt x="26" y="1075"/>
                    </a:lnTo>
                    <a:lnTo>
                      <a:pt x="39" y="1136"/>
                    </a:lnTo>
                    <a:lnTo>
                      <a:pt x="55" y="1194"/>
                    </a:lnTo>
                    <a:lnTo>
                      <a:pt x="75" y="1251"/>
                    </a:lnTo>
                    <a:lnTo>
                      <a:pt x="96" y="1305"/>
                    </a:lnTo>
                    <a:lnTo>
                      <a:pt x="118" y="1355"/>
                    </a:lnTo>
                    <a:lnTo>
                      <a:pt x="144" y="1400"/>
                    </a:lnTo>
                    <a:lnTo>
                      <a:pt x="172" y="1444"/>
                    </a:lnTo>
                    <a:lnTo>
                      <a:pt x="175" y="1450"/>
                    </a:lnTo>
                    <a:lnTo>
                      <a:pt x="204" y="1487"/>
                    </a:lnTo>
                    <a:lnTo>
                      <a:pt x="237" y="1521"/>
                    </a:lnTo>
                    <a:lnTo>
                      <a:pt x="269" y="1551"/>
                    </a:lnTo>
                    <a:lnTo>
                      <a:pt x="303" y="1576"/>
                    </a:lnTo>
                    <a:lnTo>
                      <a:pt x="309" y="1580"/>
                    </a:lnTo>
                    <a:lnTo>
                      <a:pt x="345" y="159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987200" y="3831480"/>
                <a:ext cx="131400" cy="119520"/>
              </a:xfrm>
              <a:custGeom>
                <a:avLst/>
                <a:gdLst/>
                <a:ahLst/>
                <a:rect l="l" t="t" r="r" b="b"/>
                <a:pathLst>
                  <a:path w="189" h="175">
                    <a:moveTo>
                      <a:pt x="0" y="136"/>
                    </a:moveTo>
                    <a:lnTo>
                      <a:pt x="189" y="175"/>
                    </a:lnTo>
                    <a:lnTo>
                      <a:pt x="107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996920" y="2873160"/>
                <a:ext cx="131400" cy="119520"/>
              </a:xfrm>
              <a:custGeom>
                <a:avLst/>
                <a:gdLst/>
                <a:ahLst/>
                <a:rect l="l" t="t" r="r" b="b"/>
                <a:pathLst>
                  <a:path w="191" h="173">
                    <a:moveTo>
                      <a:pt x="103" y="173"/>
                    </a:moveTo>
                    <a:lnTo>
                      <a:pt x="191" y="0"/>
                    </a:lnTo>
                    <a:lnTo>
                      <a:pt x="0" y="34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0" name=""/>
            <p:cNvGrpSpPr/>
            <p:nvPr/>
          </p:nvGrpSpPr>
          <p:grpSpPr>
            <a:xfrm>
              <a:off x="1883160" y="3362400"/>
              <a:ext cx="260280" cy="1103400"/>
              <a:chOff x="1883160" y="3362400"/>
              <a:chExt cx="260280" cy="1103400"/>
            </a:xfrm>
          </p:grpSpPr>
          <p:sp>
            <p:nvSpPr>
              <p:cNvPr id="2521" name=""/>
              <p:cNvSpPr/>
              <p:nvPr/>
            </p:nvSpPr>
            <p:spPr>
              <a:xfrm>
                <a:off x="1883160" y="3362400"/>
                <a:ext cx="260280" cy="1103400"/>
              </a:xfrm>
              <a:custGeom>
                <a:avLst/>
                <a:gdLst/>
                <a:ahLst/>
                <a:rect l="l" t="t" r="r" b="b"/>
                <a:pathLst>
                  <a:path w="376" h="1599">
                    <a:moveTo>
                      <a:pt x="345" y="1599"/>
                    </a:moveTo>
                    <a:lnTo>
                      <a:pt x="361" y="1563"/>
                    </a:lnTo>
                    <a:lnTo>
                      <a:pt x="324" y="1544"/>
                    </a:lnTo>
                    <a:lnTo>
                      <a:pt x="318" y="1562"/>
                    </a:lnTo>
                    <a:lnTo>
                      <a:pt x="330" y="1549"/>
                    </a:lnTo>
                    <a:lnTo>
                      <a:pt x="296" y="1523"/>
                    </a:lnTo>
                    <a:lnTo>
                      <a:pt x="264" y="1494"/>
                    </a:lnTo>
                    <a:lnTo>
                      <a:pt x="232" y="1460"/>
                    </a:lnTo>
                    <a:lnTo>
                      <a:pt x="203" y="1423"/>
                    </a:lnTo>
                    <a:lnTo>
                      <a:pt x="190" y="1436"/>
                    </a:lnTo>
                    <a:lnTo>
                      <a:pt x="207" y="1429"/>
                    </a:lnTo>
                    <a:lnTo>
                      <a:pt x="180" y="1385"/>
                    </a:lnTo>
                    <a:lnTo>
                      <a:pt x="154" y="1340"/>
                    </a:lnTo>
                    <a:lnTo>
                      <a:pt x="131" y="1290"/>
                    </a:lnTo>
                    <a:lnTo>
                      <a:pt x="110" y="1237"/>
                    </a:lnTo>
                    <a:lnTo>
                      <a:pt x="91" y="1180"/>
                    </a:lnTo>
                    <a:lnTo>
                      <a:pt x="75" y="1122"/>
                    </a:lnTo>
                    <a:lnTo>
                      <a:pt x="62" y="1060"/>
                    </a:lnTo>
                    <a:lnTo>
                      <a:pt x="44" y="1068"/>
                    </a:lnTo>
                    <a:lnTo>
                      <a:pt x="63" y="1068"/>
                    </a:lnTo>
                    <a:lnTo>
                      <a:pt x="54" y="1004"/>
                    </a:lnTo>
                    <a:lnTo>
                      <a:pt x="46" y="939"/>
                    </a:lnTo>
                    <a:lnTo>
                      <a:pt x="41" y="871"/>
                    </a:lnTo>
                    <a:lnTo>
                      <a:pt x="39" y="803"/>
                    </a:lnTo>
                    <a:lnTo>
                      <a:pt x="41" y="733"/>
                    </a:lnTo>
                    <a:lnTo>
                      <a:pt x="46" y="664"/>
                    </a:lnTo>
                    <a:lnTo>
                      <a:pt x="54" y="597"/>
                    </a:lnTo>
                    <a:lnTo>
                      <a:pt x="65" y="531"/>
                    </a:lnTo>
                    <a:lnTo>
                      <a:pt x="46" y="531"/>
                    </a:lnTo>
                    <a:lnTo>
                      <a:pt x="63" y="539"/>
                    </a:lnTo>
                    <a:lnTo>
                      <a:pt x="78" y="476"/>
                    </a:lnTo>
                    <a:lnTo>
                      <a:pt x="94" y="416"/>
                    </a:lnTo>
                    <a:lnTo>
                      <a:pt x="114" y="359"/>
                    </a:lnTo>
                    <a:lnTo>
                      <a:pt x="135" y="306"/>
                    </a:lnTo>
                    <a:lnTo>
                      <a:pt x="159" y="256"/>
                    </a:lnTo>
                    <a:lnTo>
                      <a:pt x="186" y="209"/>
                    </a:lnTo>
                    <a:lnTo>
                      <a:pt x="169" y="201"/>
                    </a:lnTo>
                    <a:lnTo>
                      <a:pt x="182" y="215"/>
                    </a:lnTo>
                    <a:lnTo>
                      <a:pt x="211" y="173"/>
                    </a:lnTo>
                    <a:lnTo>
                      <a:pt x="241" y="134"/>
                    </a:lnTo>
                    <a:lnTo>
                      <a:pt x="274" y="100"/>
                    </a:lnTo>
                    <a:lnTo>
                      <a:pt x="308" y="73"/>
                    </a:lnTo>
                    <a:lnTo>
                      <a:pt x="295" y="58"/>
                    </a:lnTo>
                    <a:lnTo>
                      <a:pt x="301" y="76"/>
                    </a:lnTo>
                    <a:lnTo>
                      <a:pt x="337" y="54"/>
                    </a:lnTo>
                    <a:lnTo>
                      <a:pt x="376" y="36"/>
                    </a:lnTo>
                    <a:lnTo>
                      <a:pt x="361" y="0"/>
                    </a:lnTo>
                    <a:lnTo>
                      <a:pt x="322" y="18"/>
                    </a:lnTo>
                    <a:lnTo>
                      <a:pt x="287" y="41"/>
                    </a:lnTo>
                    <a:lnTo>
                      <a:pt x="280" y="45"/>
                    </a:lnTo>
                    <a:lnTo>
                      <a:pt x="246" y="73"/>
                    </a:lnTo>
                    <a:lnTo>
                      <a:pt x="214" y="107"/>
                    </a:lnTo>
                    <a:lnTo>
                      <a:pt x="183" y="146"/>
                    </a:lnTo>
                    <a:lnTo>
                      <a:pt x="154" y="188"/>
                    </a:lnTo>
                    <a:lnTo>
                      <a:pt x="151" y="194"/>
                    </a:lnTo>
                    <a:lnTo>
                      <a:pt x="123" y="241"/>
                    </a:lnTo>
                    <a:lnTo>
                      <a:pt x="99" y="291"/>
                    </a:lnTo>
                    <a:lnTo>
                      <a:pt x="78" y="345"/>
                    </a:lnTo>
                    <a:lnTo>
                      <a:pt x="59" y="402"/>
                    </a:lnTo>
                    <a:lnTo>
                      <a:pt x="42" y="461"/>
                    </a:lnTo>
                    <a:lnTo>
                      <a:pt x="28" y="525"/>
                    </a:lnTo>
                    <a:lnTo>
                      <a:pt x="26" y="531"/>
                    </a:lnTo>
                    <a:lnTo>
                      <a:pt x="26" y="531"/>
                    </a:lnTo>
                    <a:lnTo>
                      <a:pt x="15" y="597"/>
                    </a:lnTo>
                    <a:lnTo>
                      <a:pt x="7" y="664"/>
                    </a:lnTo>
                    <a:lnTo>
                      <a:pt x="2" y="733"/>
                    </a:lnTo>
                    <a:lnTo>
                      <a:pt x="0" y="803"/>
                    </a:lnTo>
                    <a:lnTo>
                      <a:pt x="2" y="871"/>
                    </a:lnTo>
                    <a:lnTo>
                      <a:pt x="7" y="939"/>
                    </a:lnTo>
                    <a:lnTo>
                      <a:pt x="15" y="1004"/>
                    </a:lnTo>
                    <a:lnTo>
                      <a:pt x="25" y="1068"/>
                    </a:lnTo>
                    <a:lnTo>
                      <a:pt x="26" y="1075"/>
                    </a:lnTo>
                    <a:lnTo>
                      <a:pt x="39" y="1136"/>
                    </a:lnTo>
                    <a:lnTo>
                      <a:pt x="55" y="1195"/>
                    </a:lnTo>
                    <a:lnTo>
                      <a:pt x="75" y="1251"/>
                    </a:lnTo>
                    <a:lnTo>
                      <a:pt x="96" y="1305"/>
                    </a:lnTo>
                    <a:lnTo>
                      <a:pt x="118" y="1355"/>
                    </a:lnTo>
                    <a:lnTo>
                      <a:pt x="144" y="1400"/>
                    </a:lnTo>
                    <a:lnTo>
                      <a:pt x="172" y="1444"/>
                    </a:lnTo>
                    <a:lnTo>
                      <a:pt x="175" y="1450"/>
                    </a:lnTo>
                    <a:lnTo>
                      <a:pt x="204" y="1487"/>
                    </a:lnTo>
                    <a:lnTo>
                      <a:pt x="237" y="1521"/>
                    </a:lnTo>
                    <a:lnTo>
                      <a:pt x="269" y="1551"/>
                    </a:lnTo>
                    <a:lnTo>
                      <a:pt x="303" y="1576"/>
                    </a:lnTo>
                    <a:lnTo>
                      <a:pt x="309" y="1580"/>
                    </a:lnTo>
                    <a:lnTo>
                      <a:pt x="345" y="159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996560" y="4331880"/>
                <a:ext cx="131400" cy="121320"/>
              </a:xfrm>
              <a:custGeom>
                <a:avLst/>
                <a:gdLst/>
                <a:ahLst/>
                <a:rect l="l" t="t" r="r" b="b"/>
                <a:pathLst>
                  <a:path w="189" h="174">
                    <a:moveTo>
                      <a:pt x="0" y="135"/>
                    </a:moveTo>
                    <a:lnTo>
                      <a:pt x="189" y="174"/>
                    </a:lnTo>
                    <a:lnTo>
                      <a:pt x="107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2004840" y="3374640"/>
                <a:ext cx="132840" cy="119520"/>
              </a:xfrm>
              <a:custGeom>
                <a:avLst/>
                <a:gdLst/>
                <a:ahLst/>
                <a:rect l="l" t="t" r="r" b="b"/>
                <a:pathLst>
                  <a:path w="191" h="173">
                    <a:moveTo>
                      <a:pt x="103" y="173"/>
                    </a:moveTo>
                    <a:lnTo>
                      <a:pt x="191" y="0"/>
                    </a:lnTo>
                    <a:lnTo>
                      <a:pt x="0" y="34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4" name=""/>
            <p:cNvGrpSpPr/>
            <p:nvPr/>
          </p:nvGrpSpPr>
          <p:grpSpPr>
            <a:xfrm>
              <a:off x="7402680" y="3414600"/>
              <a:ext cx="633240" cy="592920"/>
              <a:chOff x="7402680" y="3414600"/>
              <a:chExt cx="633240" cy="592920"/>
            </a:xfrm>
          </p:grpSpPr>
          <p:grpSp>
            <p:nvGrpSpPr>
              <p:cNvPr id="2525" name=""/>
              <p:cNvGrpSpPr/>
              <p:nvPr/>
            </p:nvGrpSpPr>
            <p:grpSpPr>
              <a:xfrm>
                <a:off x="7438680" y="3450240"/>
                <a:ext cx="597240" cy="557280"/>
                <a:chOff x="7438680" y="3450240"/>
                <a:chExt cx="597240" cy="557280"/>
              </a:xfrm>
            </p:grpSpPr>
            <p:sp>
              <p:nvSpPr>
                <p:cNvPr id="2526" name=""/>
                <p:cNvSpPr/>
                <p:nvPr/>
              </p:nvSpPr>
              <p:spPr>
                <a:xfrm>
                  <a:off x="7624800" y="3742200"/>
                  <a:ext cx="223200" cy="61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7548840" y="3450240"/>
                  <a:ext cx="376920" cy="30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7583400" y="3490200"/>
                  <a:ext cx="300600" cy="22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7522560" y="3870360"/>
                  <a:ext cx="42912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7484040" y="3772440"/>
                  <a:ext cx="495360" cy="10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1" name=""/>
                <p:cNvGrpSpPr/>
                <p:nvPr/>
              </p:nvGrpSpPr>
              <p:grpSpPr>
                <a:xfrm>
                  <a:off x="7819560" y="3809520"/>
                  <a:ext cx="112680" cy="15120"/>
                  <a:chOff x="7819560" y="3809520"/>
                  <a:chExt cx="112680" cy="15120"/>
                </a:xfrm>
              </p:grpSpPr>
              <p:sp>
                <p:nvSpPr>
                  <p:cNvPr id="2532" name=""/>
                  <p:cNvSpPr/>
                  <p:nvPr/>
                </p:nvSpPr>
                <p:spPr>
                  <a:xfrm>
                    <a:off x="7819560" y="3813480"/>
                    <a:ext cx="112680" cy="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7860600" y="3809520"/>
                    <a:ext cx="31320" cy="15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4" name=""/>
                <p:cNvGrpSpPr/>
                <p:nvPr/>
              </p:nvGrpSpPr>
              <p:grpSpPr>
                <a:xfrm>
                  <a:off x="7438680" y="3896640"/>
                  <a:ext cx="597240" cy="110880"/>
                  <a:chOff x="7438680" y="3896640"/>
                  <a:chExt cx="597240" cy="110880"/>
                </a:xfrm>
              </p:grpSpPr>
              <p:sp>
                <p:nvSpPr>
                  <p:cNvPr id="2535" name=""/>
                  <p:cNvSpPr/>
                  <p:nvPr/>
                </p:nvSpPr>
                <p:spPr>
                  <a:xfrm>
                    <a:off x="7439760" y="3969360"/>
                    <a:ext cx="596160" cy="38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7438680" y="3896640"/>
                    <a:ext cx="5947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106">
                        <a:moveTo>
                          <a:pt x="0" y="106"/>
                        </a:moveTo>
                        <a:lnTo>
                          <a:pt x="111" y="0"/>
                        </a:lnTo>
                        <a:lnTo>
                          <a:pt x="751" y="0"/>
                        </a:lnTo>
                        <a:lnTo>
                          <a:pt x="863" y="106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7" name=""/>
                <p:cNvGrpSpPr/>
                <p:nvPr/>
              </p:nvGrpSpPr>
              <p:grpSpPr>
                <a:xfrm>
                  <a:off x="7488000" y="3903480"/>
                  <a:ext cx="496440" cy="44640"/>
                  <a:chOff x="7488000" y="3903480"/>
                  <a:chExt cx="496440" cy="44640"/>
                </a:xfrm>
              </p:grpSpPr>
              <p:grpSp>
                <p:nvGrpSpPr>
                  <p:cNvPr id="2538" name=""/>
                  <p:cNvGrpSpPr/>
                  <p:nvPr/>
                </p:nvGrpSpPr>
                <p:grpSpPr>
                  <a:xfrm>
                    <a:off x="7488000" y="3912840"/>
                    <a:ext cx="496440" cy="35280"/>
                    <a:chOff x="7488000" y="3912840"/>
                    <a:chExt cx="496440" cy="35280"/>
                  </a:xfrm>
                </p:grpSpPr>
                <p:sp>
                  <p:nvSpPr>
                    <p:cNvPr id="2539" name=""/>
                    <p:cNvSpPr/>
                    <p:nvPr/>
                  </p:nvSpPr>
                  <p:spPr>
                    <a:xfrm>
                      <a:off x="7488000" y="3912840"/>
                      <a:ext cx="38772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51">
                          <a:moveTo>
                            <a:pt x="45" y="0"/>
                          </a:moveTo>
                          <a:lnTo>
                            <a:pt x="0" y="51"/>
                          </a:lnTo>
                          <a:lnTo>
                            <a:pt x="561" y="51"/>
                          </a:lnTo>
                          <a:lnTo>
                            <a:pt x="553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0" name=""/>
                    <p:cNvSpPr/>
                    <p:nvPr/>
                  </p:nvSpPr>
                  <p:spPr>
                    <a:xfrm>
                      <a:off x="7878240" y="3912840"/>
                      <a:ext cx="10620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51">
                          <a:moveTo>
                            <a:pt x="0" y="0"/>
                          </a:moveTo>
                          <a:lnTo>
                            <a:pt x="11" y="51"/>
                          </a:lnTo>
                          <a:lnTo>
                            <a:pt x="155" y="51"/>
                          </a:lnTo>
                          <a:lnTo>
                            <a:pt x="11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1" name=""/>
                  <p:cNvGrpSpPr/>
                  <p:nvPr/>
                </p:nvGrpSpPr>
                <p:grpSpPr>
                  <a:xfrm>
                    <a:off x="7488000" y="3903480"/>
                    <a:ext cx="496440" cy="33840"/>
                    <a:chOff x="7488000" y="3903480"/>
                    <a:chExt cx="496440" cy="33840"/>
                  </a:xfrm>
                </p:grpSpPr>
                <p:sp>
                  <p:nvSpPr>
                    <p:cNvPr id="2542" name=""/>
                    <p:cNvSpPr/>
                    <p:nvPr/>
                  </p:nvSpPr>
                  <p:spPr>
                    <a:xfrm>
                      <a:off x="7488000" y="3903480"/>
                      <a:ext cx="38772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52">
                          <a:moveTo>
                            <a:pt x="45" y="0"/>
                          </a:moveTo>
                          <a:lnTo>
                            <a:pt x="0" y="52"/>
                          </a:lnTo>
                          <a:lnTo>
                            <a:pt x="561" y="52"/>
                          </a:lnTo>
                          <a:lnTo>
                            <a:pt x="553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3" name=""/>
                    <p:cNvSpPr/>
                    <p:nvPr/>
                  </p:nvSpPr>
                  <p:spPr>
                    <a:xfrm>
                      <a:off x="7878240" y="3903480"/>
                      <a:ext cx="10620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52">
                          <a:moveTo>
                            <a:pt x="0" y="0"/>
                          </a:moveTo>
                          <a:lnTo>
                            <a:pt x="11" y="52"/>
                          </a:lnTo>
                          <a:lnTo>
                            <a:pt x="155" y="52"/>
                          </a:lnTo>
                          <a:lnTo>
                            <a:pt x="11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44" name=""/>
              <p:cNvGrpSpPr/>
              <p:nvPr/>
            </p:nvGrpSpPr>
            <p:grpSpPr>
              <a:xfrm>
                <a:off x="7402680" y="3414600"/>
                <a:ext cx="597240" cy="557280"/>
                <a:chOff x="7402680" y="3414600"/>
                <a:chExt cx="597240" cy="557280"/>
              </a:xfrm>
            </p:grpSpPr>
            <p:sp>
              <p:nvSpPr>
                <p:cNvPr id="2545" name=""/>
                <p:cNvSpPr/>
                <p:nvPr/>
              </p:nvSpPr>
              <p:spPr>
                <a:xfrm>
                  <a:off x="7588800" y="3706560"/>
                  <a:ext cx="223560" cy="61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7512840" y="3414600"/>
                  <a:ext cx="376920" cy="30564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7547400" y="3454560"/>
                  <a:ext cx="300600" cy="2260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7486560" y="3834720"/>
                  <a:ext cx="429120" cy="1908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7448040" y="3736800"/>
                  <a:ext cx="496800" cy="10188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0" name=""/>
                <p:cNvGrpSpPr/>
                <p:nvPr/>
              </p:nvGrpSpPr>
              <p:grpSpPr>
                <a:xfrm>
                  <a:off x="7783560" y="3773880"/>
                  <a:ext cx="114480" cy="15120"/>
                  <a:chOff x="7783560" y="3773880"/>
                  <a:chExt cx="114480" cy="15120"/>
                </a:xfrm>
              </p:grpSpPr>
              <p:sp>
                <p:nvSpPr>
                  <p:cNvPr id="2551" name=""/>
                  <p:cNvSpPr/>
                  <p:nvPr/>
                </p:nvSpPr>
                <p:spPr>
                  <a:xfrm>
                    <a:off x="7783560" y="3778200"/>
                    <a:ext cx="114480" cy="7920"/>
                  </a:xfrm>
                  <a:prstGeom prst="rect">
                    <a:avLst/>
                  </a:prstGeom>
                  <a:solidFill>
                    <a:srgbClr val="0025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7824600" y="3773880"/>
                    <a:ext cx="31680" cy="15120"/>
                  </a:xfrm>
                  <a:prstGeom prst="rect">
                    <a:avLst/>
                  </a:prstGeom>
                  <a:solidFill>
                    <a:srgbClr val="0025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3" name=""/>
                <p:cNvGrpSpPr/>
                <p:nvPr/>
              </p:nvGrpSpPr>
              <p:grpSpPr>
                <a:xfrm>
                  <a:off x="7402680" y="3861000"/>
                  <a:ext cx="597240" cy="110880"/>
                  <a:chOff x="7402680" y="3861000"/>
                  <a:chExt cx="597240" cy="110880"/>
                </a:xfrm>
              </p:grpSpPr>
              <p:sp>
                <p:nvSpPr>
                  <p:cNvPr id="2554" name=""/>
                  <p:cNvSpPr/>
                  <p:nvPr/>
                </p:nvSpPr>
                <p:spPr>
                  <a:xfrm>
                    <a:off x="7403760" y="3933720"/>
                    <a:ext cx="596160" cy="38160"/>
                  </a:xfrm>
                  <a:prstGeom prst="rect">
                    <a:avLst/>
                  </a:prstGeom>
                  <a:solidFill>
                    <a:srgbClr val="0864e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7402680" y="3861000"/>
                    <a:ext cx="59508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105">
                        <a:moveTo>
                          <a:pt x="0" y="105"/>
                        </a:moveTo>
                        <a:lnTo>
                          <a:pt x="112" y="0"/>
                        </a:lnTo>
                        <a:lnTo>
                          <a:pt x="751" y="0"/>
                        </a:lnTo>
                        <a:lnTo>
                          <a:pt x="863" y="105"/>
                        </a:lnTo>
                        <a:lnTo>
                          <a:pt x="0" y="105"/>
                        </a:lnTo>
                        <a:close/>
                      </a:path>
                    </a:pathLst>
                  </a:custGeom>
                  <a:solidFill>
                    <a:srgbClr val="0864e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6" name=""/>
                <p:cNvGrpSpPr/>
                <p:nvPr/>
              </p:nvGrpSpPr>
              <p:grpSpPr>
                <a:xfrm>
                  <a:off x="7452360" y="3867840"/>
                  <a:ext cx="498240" cy="45000"/>
                  <a:chOff x="7452360" y="3867840"/>
                  <a:chExt cx="498240" cy="45000"/>
                </a:xfrm>
              </p:grpSpPr>
              <p:grpSp>
                <p:nvGrpSpPr>
                  <p:cNvPr id="2557" name=""/>
                  <p:cNvGrpSpPr/>
                  <p:nvPr/>
                </p:nvGrpSpPr>
                <p:grpSpPr>
                  <a:xfrm>
                    <a:off x="7452360" y="3877200"/>
                    <a:ext cx="498240" cy="35640"/>
                    <a:chOff x="7452360" y="3877200"/>
                    <a:chExt cx="498240" cy="35640"/>
                  </a:xfrm>
                </p:grpSpPr>
                <p:sp>
                  <p:nvSpPr>
                    <p:cNvPr id="2558" name=""/>
                    <p:cNvSpPr/>
                    <p:nvPr/>
                  </p:nvSpPr>
                  <p:spPr>
                    <a:xfrm>
                      <a:off x="7452360" y="3877200"/>
                      <a:ext cx="3877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52">
                          <a:moveTo>
                            <a:pt x="45" y="0"/>
                          </a:moveTo>
                          <a:lnTo>
                            <a:pt x="0" y="52"/>
                          </a:lnTo>
                          <a:lnTo>
                            <a:pt x="561" y="52"/>
                          </a:lnTo>
                          <a:lnTo>
                            <a:pt x="553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864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9" name=""/>
                    <p:cNvSpPr/>
                    <p:nvPr/>
                  </p:nvSpPr>
                  <p:spPr>
                    <a:xfrm>
                      <a:off x="7842960" y="3877200"/>
                      <a:ext cx="1076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52">
                          <a:moveTo>
                            <a:pt x="0" y="0"/>
                          </a:moveTo>
                          <a:lnTo>
                            <a:pt x="11" y="52"/>
                          </a:lnTo>
                          <a:lnTo>
                            <a:pt x="155" y="52"/>
                          </a:lnTo>
                          <a:lnTo>
                            <a:pt x="11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864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0" name=""/>
                  <p:cNvGrpSpPr/>
                  <p:nvPr/>
                </p:nvGrpSpPr>
                <p:grpSpPr>
                  <a:xfrm>
                    <a:off x="7452360" y="3867840"/>
                    <a:ext cx="498240" cy="35640"/>
                    <a:chOff x="7452360" y="3867840"/>
                    <a:chExt cx="498240" cy="35640"/>
                  </a:xfrm>
                </p:grpSpPr>
                <p:sp>
                  <p:nvSpPr>
                    <p:cNvPr id="2561" name=""/>
                    <p:cNvSpPr/>
                    <p:nvPr/>
                  </p:nvSpPr>
                  <p:spPr>
                    <a:xfrm>
                      <a:off x="7452360" y="3867840"/>
                      <a:ext cx="3877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52">
                          <a:moveTo>
                            <a:pt x="45" y="0"/>
                          </a:moveTo>
                          <a:lnTo>
                            <a:pt x="0" y="52"/>
                          </a:lnTo>
                          <a:lnTo>
                            <a:pt x="561" y="52"/>
                          </a:lnTo>
                          <a:lnTo>
                            <a:pt x="553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864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2" name=""/>
                    <p:cNvSpPr/>
                    <p:nvPr/>
                  </p:nvSpPr>
                  <p:spPr>
                    <a:xfrm>
                      <a:off x="7842960" y="3867840"/>
                      <a:ext cx="1076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52">
                          <a:moveTo>
                            <a:pt x="0" y="0"/>
                          </a:moveTo>
                          <a:lnTo>
                            <a:pt x="11" y="52"/>
                          </a:lnTo>
                          <a:lnTo>
                            <a:pt x="155" y="52"/>
                          </a:lnTo>
                          <a:lnTo>
                            <a:pt x="11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864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563" name=""/>
            <p:cNvGrpSpPr/>
            <p:nvPr/>
          </p:nvGrpSpPr>
          <p:grpSpPr>
            <a:xfrm>
              <a:off x="3024360" y="3168720"/>
              <a:ext cx="717120" cy="698040"/>
              <a:chOff x="3024360" y="3168720"/>
              <a:chExt cx="717120" cy="698040"/>
            </a:xfrm>
          </p:grpSpPr>
          <p:grpSp>
            <p:nvGrpSpPr>
              <p:cNvPr id="2564" name=""/>
              <p:cNvGrpSpPr/>
              <p:nvPr/>
            </p:nvGrpSpPr>
            <p:grpSpPr>
              <a:xfrm>
                <a:off x="3024360" y="3168720"/>
                <a:ext cx="717120" cy="698040"/>
                <a:chOff x="3024360" y="3168720"/>
                <a:chExt cx="717120" cy="698040"/>
              </a:xfrm>
            </p:grpSpPr>
            <p:sp>
              <p:nvSpPr>
                <p:cNvPr id="2565" name=""/>
                <p:cNvSpPr/>
                <p:nvPr/>
              </p:nvSpPr>
              <p:spPr>
                <a:xfrm>
                  <a:off x="3024360" y="3186720"/>
                  <a:ext cx="699120" cy="680040"/>
                </a:xfrm>
                <a:custGeom>
                  <a:avLst/>
                  <a:gdLst/>
                  <a:ahLst/>
                  <a:rect l="l" t="t" r="r" b="b"/>
                  <a:pathLst>
                    <a:path w="1017" h="986">
                      <a:moveTo>
                        <a:pt x="0" y="986"/>
                      </a:moveTo>
                      <a:lnTo>
                        <a:pt x="0" y="633"/>
                      </a:lnTo>
                      <a:lnTo>
                        <a:pt x="94" y="633"/>
                      </a:lnTo>
                      <a:lnTo>
                        <a:pt x="94" y="696"/>
                      </a:lnTo>
                      <a:lnTo>
                        <a:pt x="159" y="696"/>
                      </a:lnTo>
                      <a:lnTo>
                        <a:pt x="159" y="625"/>
                      </a:lnTo>
                      <a:lnTo>
                        <a:pt x="253" y="625"/>
                      </a:lnTo>
                      <a:lnTo>
                        <a:pt x="253" y="699"/>
                      </a:lnTo>
                      <a:lnTo>
                        <a:pt x="335" y="699"/>
                      </a:lnTo>
                      <a:lnTo>
                        <a:pt x="335" y="511"/>
                      </a:lnTo>
                      <a:lnTo>
                        <a:pt x="569" y="513"/>
                      </a:lnTo>
                      <a:lnTo>
                        <a:pt x="569" y="86"/>
                      </a:lnTo>
                      <a:lnTo>
                        <a:pt x="682" y="86"/>
                      </a:lnTo>
                      <a:lnTo>
                        <a:pt x="682" y="511"/>
                      </a:lnTo>
                      <a:lnTo>
                        <a:pt x="760" y="513"/>
                      </a:lnTo>
                      <a:lnTo>
                        <a:pt x="760" y="2"/>
                      </a:lnTo>
                      <a:lnTo>
                        <a:pt x="855" y="0"/>
                      </a:lnTo>
                      <a:lnTo>
                        <a:pt x="855" y="508"/>
                      </a:lnTo>
                      <a:lnTo>
                        <a:pt x="1017" y="508"/>
                      </a:lnTo>
                      <a:lnTo>
                        <a:pt x="1017" y="986"/>
                      </a:lnTo>
                      <a:lnTo>
                        <a:pt x="0" y="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3042360" y="3168720"/>
                  <a:ext cx="699120" cy="680040"/>
                </a:xfrm>
                <a:custGeom>
                  <a:avLst/>
                  <a:gdLst/>
                  <a:ahLst/>
                  <a:rect l="l" t="t" r="r" b="b"/>
                  <a:pathLst>
                    <a:path w="1017" h="986">
                      <a:moveTo>
                        <a:pt x="0" y="986"/>
                      </a:moveTo>
                      <a:lnTo>
                        <a:pt x="0" y="633"/>
                      </a:lnTo>
                      <a:lnTo>
                        <a:pt x="94" y="633"/>
                      </a:lnTo>
                      <a:lnTo>
                        <a:pt x="94" y="696"/>
                      </a:lnTo>
                      <a:lnTo>
                        <a:pt x="159" y="696"/>
                      </a:lnTo>
                      <a:lnTo>
                        <a:pt x="159" y="625"/>
                      </a:lnTo>
                      <a:lnTo>
                        <a:pt x="253" y="625"/>
                      </a:lnTo>
                      <a:lnTo>
                        <a:pt x="253" y="699"/>
                      </a:lnTo>
                      <a:lnTo>
                        <a:pt x="335" y="699"/>
                      </a:lnTo>
                      <a:lnTo>
                        <a:pt x="335" y="512"/>
                      </a:lnTo>
                      <a:lnTo>
                        <a:pt x="568" y="513"/>
                      </a:lnTo>
                      <a:lnTo>
                        <a:pt x="568" y="86"/>
                      </a:lnTo>
                      <a:lnTo>
                        <a:pt x="682" y="86"/>
                      </a:lnTo>
                      <a:lnTo>
                        <a:pt x="682" y="512"/>
                      </a:lnTo>
                      <a:lnTo>
                        <a:pt x="759" y="513"/>
                      </a:lnTo>
                      <a:lnTo>
                        <a:pt x="759" y="2"/>
                      </a:lnTo>
                      <a:lnTo>
                        <a:pt x="855" y="0"/>
                      </a:lnTo>
                      <a:lnTo>
                        <a:pt x="855" y="508"/>
                      </a:lnTo>
                      <a:lnTo>
                        <a:pt x="1017" y="508"/>
                      </a:lnTo>
                      <a:lnTo>
                        <a:pt x="1017" y="986"/>
                      </a:lnTo>
                      <a:lnTo>
                        <a:pt x="0" y="986"/>
                      </a:lnTo>
                      <a:close/>
                    </a:path>
                  </a:pathLst>
                </a:cu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7" name=""/>
              <p:cNvSpPr/>
              <p:nvPr/>
            </p:nvSpPr>
            <p:spPr>
              <a:xfrm>
                <a:off x="3284640" y="3570480"/>
                <a:ext cx="8208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302280" y="3552120"/>
                <a:ext cx="82440" cy="6192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390480" y="3570480"/>
                <a:ext cx="8244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408120" y="3552120"/>
                <a:ext cx="82440" cy="6192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496680" y="3570480"/>
                <a:ext cx="8208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513240" y="3552120"/>
                <a:ext cx="83880" cy="6192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605400" y="3570480"/>
                <a:ext cx="8244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623040" y="3552120"/>
                <a:ext cx="82440" cy="6192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5" name=""/>
            <p:cNvGrpSpPr/>
            <p:nvPr/>
          </p:nvGrpSpPr>
          <p:grpSpPr>
            <a:xfrm>
              <a:off x="4216680" y="3525840"/>
              <a:ext cx="691560" cy="331560"/>
              <a:chOff x="4216680" y="3525840"/>
              <a:chExt cx="691560" cy="331560"/>
            </a:xfrm>
          </p:grpSpPr>
          <p:sp>
            <p:nvSpPr>
              <p:cNvPr id="2576" name=""/>
              <p:cNvSpPr/>
              <p:nvPr/>
            </p:nvSpPr>
            <p:spPr>
              <a:xfrm>
                <a:off x="4784040" y="3688920"/>
                <a:ext cx="106200" cy="10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4802040" y="3670920"/>
                <a:ext cx="106200" cy="10620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4216680" y="3543480"/>
                <a:ext cx="498240" cy="254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4233240" y="3525840"/>
                <a:ext cx="499680" cy="25416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255200" y="3745440"/>
                <a:ext cx="124200" cy="11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4272840" y="3727440"/>
                <a:ext cx="124200" cy="112320"/>
              </a:xfrm>
              <a:prstGeom prst="ellipse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4735800" y="3607200"/>
                <a:ext cx="53640" cy="185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4753800" y="3589200"/>
                <a:ext cx="53640" cy="18540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4759200" y="3737160"/>
                <a:ext cx="115560" cy="114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4777200" y="3719160"/>
                <a:ext cx="115560" cy="114480"/>
              </a:xfrm>
              <a:prstGeom prst="ellipse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4790880" y="3781440"/>
                <a:ext cx="69120" cy="69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4808880" y="3763440"/>
                <a:ext cx="69120" cy="70560"/>
              </a:xfrm>
              <a:prstGeom prst="ellipse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4541040" y="3745440"/>
                <a:ext cx="125280" cy="10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4559040" y="3727440"/>
                <a:ext cx="125280" cy="106560"/>
              </a:xfrm>
              <a:prstGeom prst="ellipse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4286520" y="3781440"/>
                <a:ext cx="69120" cy="67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4304880" y="3763440"/>
                <a:ext cx="68760" cy="67680"/>
              </a:xfrm>
              <a:prstGeom prst="ellipse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4574160" y="3782880"/>
                <a:ext cx="67320" cy="68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4592160" y="3764880"/>
                <a:ext cx="67320" cy="69120"/>
              </a:xfrm>
              <a:prstGeom prst="ellipse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4" name=""/>
            <p:cNvSpPr/>
            <p:nvPr/>
          </p:nvSpPr>
          <p:spPr>
            <a:xfrm>
              <a:off x="5340600" y="3862440"/>
              <a:ext cx="10015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5" name=""/>
            <p:cNvGrpSpPr/>
            <p:nvPr/>
          </p:nvGrpSpPr>
          <p:grpSpPr>
            <a:xfrm>
              <a:off x="5402520" y="3179880"/>
              <a:ext cx="809280" cy="647280"/>
              <a:chOff x="5402520" y="3179880"/>
              <a:chExt cx="809280" cy="647280"/>
            </a:xfrm>
          </p:grpSpPr>
          <p:sp>
            <p:nvSpPr>
              <p:cNvPr id="2596" name=""/>
              <p:cNvSpPr/>
              <p:nvPr/>
            </p:nvSpPr>
            <p:spPr>
              <a:xfrm>
                <a:off x="5428440" y="3215160"/>
                <a:ext cx="783360" cy="612000"/>
              </a:xfrm>
              <a:custGeom>
                <a:avLst/>
                <a:gdLst/>
                <a:ahLst/>
                <a:rect l="l" t="t" r="r" b="b"/>
                <a:pathLst>
                  <a:path w="1134" h="889">
                    <a:moveTo>
                      <a:pt x="1134" y="889"/>
                    </a:moveTo>
                    <a:lnTo>
                      <a:pt x="0" y="889"/>
                    </a:lnTo>
                    <a:lnTo>
                      <a:pt x="0" y="639"/>
                    </a:lnTo>
                    <a:lnTo>
                      <a:pt x="215" y="639"/>
                    </a:lnTo>
                    <a:lnTo>
                      <a:pt x="215" y="332"/>
                    </a:lnTo>
                    <a:lnTo>
                      <a:pt x="450" y="332"/>
                    </a:lnTo>
                    <a:lnTo>
                      <a:pt x="450" y="107"/>
                    </a:lnTo>
                    <a:lnTo>
                      <a:pt x="500" y="107"/>
                    </a:lnTo>
                    <a:lnTo>
                      <a:pt x="500" y="0"/>
                    </a:lnTo>
                    <a:lnTo>
                      <a:pt x="715" y="0"/>
                    </a:lnTo>
                    <a:lnTo>
                      <a:pt x="715" y="178"/>
                    </a:lnTo>
                    <a:lnTo>
                      <a:pt x="796" y="178"/>
                    </a:lnTo>
                    <a:lnTo>
                      <a:pt x="796" y="285"/>
                    </a:lnTo>
                    <a:lnTo>
                      <a:pt x="1002" y="285"/>
                    </a:lnTo>
                    <a:lnTo>
                      <a:pt x="1002" y="461"/>
                    </a:lnTo>
                    <a:lnTo>
                      <a:pt x="1134" y="461"/>
                    </a:lnTo>
                    <a:lnTo>
                      <a:pt x="1134" y="8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402520" y="3179880"/>
                <a:ext cx="781920" cy="612000"/>
              </a:xfrm>
              <a:custGeom>
                <a:avLst/>
                <a:gdLst/>
                <a:ahLst/>
                <a:rect l="l" t="t" r="r" b="b"/>
                <a:pathLst>
                  <a:path w="1135" h="889">
                    <a:moveTo>
                      <a:pt x="1135" y="889"/>
                    </a:moveTo>
                    <a:lnTo>
                      <a:pt x="0" y="889"/>
                    </a:lnTo>
                    <a:lnTo>
                      <a:pt x="0" y="640"/>
                    </a:lnTo>
                    <a:lnTo>
                      <a:pt x="215" y="640"/>
                    </a:lnTo>
                    <a:lnTo>
                      <a:pt x="215" y="332"/>
                    </a:lnTo>
                    <a:lnTo>
                      <a:pt x="450" y="332"/>
                    </a:lnTo>
                    <a:lnTo>
                      <a:pt x="450" y="107"/>
                    </a:lnTo>
                    <a:lnTo>
                      <a:pt x="500" y="107"/>
                    </a:lnTo>
                    <a:lnTo>
                      <a:pt x="500" y="0"/>
                    </a:lnTo>
                    <a:lnTo>
                      <a:pt x="715" y="0"/>
                    </a:lnTo>
                    <a:lnTo>
                      <a:pt x="715" y="178"/>
                    </a:lnTo>
                    <a:lnTo>
                      <a:pt x="796" y="178"/>
                    </a:lnTo>
                    <a:lnTo>
                      <a:pt x="796" y="285"/>
                    </a:lnTo>
                    <a:lnTo>
                      <a:pt x="1002" y="285"/>
                    </a:lnTo>
                    <a:lnTo>
                      <a:pt x="1002" y="462"/>
                    </a:lnTo>
                    <a:lnTo>
                      <a:pt x="1135" y="462"/>
                    </a:lnTo>
                    <a:lnTo>
                      <a:pt x="1135" y="889"/>
                    </a:lnTo>
                    <a:close/>
                  </a:path>
                </a:pathLst>
              </a:cu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475240" y="3409920"/>
                <a:ext cx="172080" cy="20520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647680" y="3254040"/>
                <a:ext cx="113040" cy="15552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677920" y="3180960"/>
                <a:ext cx="113040" cy="7308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726520" y="3409920"/>
                <a:ext cx="34200" cy="38016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850720" y="3385080"/>
                <a:ext cx="125280" cy="40104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813280" y="3615120"/>
                <a:ext cx="95040" cy="5760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6039720" y="3492720"/>
                <a:ext cx="60480" cy="29340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023160" y="3616560"/>
                <a:ext cx="37080" cy="16920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858640" y="3386160"/>
                <a:ext cx="1908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884920" y="3386160"/>
                <a:ext cx="1764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908680" y="3386160"/>
                <a:ext cx="1908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5934960" y="3386160"/>
                <a:ext cx="1908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5858640" y="3426480"/>
                <a:ext cx="1908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5884920" y="3426480"/>
                <a:ext cx="1764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5908680" y="3426480"/>
                <a:ext cx="1908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5858640" y="3465000"/>
                <a:ext cx="19080" cy="3132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5858640" y="3504960"/>
                <a:ext cx="1908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069960" y="3500640"/>
                <a:ext cx="19080" cy="3312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069960" y="3540600"/>
                <a:ext cx="1908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069960" y="3580920"/>
                <a:ext cx="1908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069960" y="3618000"/>
                <a:ext cx="19080" cy="3132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5655960" y="3265200"/>
                <a:ext cx="1764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5682240" y="3265200"/>
                <a:ext cx="1764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5707080" y="3265200"/>
                <a:ext cx="1764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5655960" y="3305160"/>
                <a:ext cx="1764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5682240" y="3305160"/>
                <a:ext cx="1764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5858640" y="3543480"/>
                <a:ext cx="19080" cy="3132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486400" y="3419280"/>
                <a:ext cx="13680" cy="183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5514120" y="3419280"/>
                <a:ext cx="10800" cy="183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5540400" y="3419280"/>
                <a:ext cx="11880" cy="183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566320" y="3419280"/>
                <a:ext cx="12240" cy="183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592600" y="3419280"/>
                <a:ext cx="12240" cy="183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618880" y="3419280"/>
                <a:ext cx="12240" cy="13356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5686560" y="3189240"/>
                <a:ext cx="1656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711040" y="3189240"/>
                <a:ext cx="1908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5736240" y="3189240"/>
                <a:ext cx="2052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5762160" y="3189240"/>
                <a:ext cx="1800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5849280" y="3623400"/>
                <a:ext cx="18000" cy="3420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6" name=""/>
              <p:cNvGrpSpPr/>
              <p:nvPr/>
            </p:nvGrpSpPr>
            <p:grpSpPr>
              <a:xfrm>
                <a:off x="5502600" y="3660840"/>
                <a:ext cx="123840" cy="123840"/>
                <a:chOff x="5502600" y="3660840"/>
                <a:chExt cx="123840" cy="123840"/>
              </a:xfrm>
            </p:grpSpPr>
            <p:sp>
              <p:nvSpPr>
                <p:cNvPr id="2637" name=""/>
                <p:cNvSpPr/>
                <p:nvPr/>
              </p:nvSpPr>
              <p:spPr>
                <a:xfrm>
                  <a:off x="5572800" y="3660840"/>
                  <a:ext cx="53640" cy="12384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5502600" y="3660840"/>
                  <a:ext cx="53640" cy="12384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39" name=""/>
            <p:cNvGrpSpPr/>
            <p:nvPr/>
          </p:nvGrpSpPr>
          <p:grpSpPr>
            <a:xfrm>
              <a:off x="5434200" y="4402080"/>
              <a:ext cx="853560" cy="1049040"/>
              <a:chOff x="5434200" y="4402080"/>
              <a:chExt cx="853560" cy="1049040"/>
            </a:xfrm>
          </p:grpSpPr>
          <p:sp>
            <p:nvSpPr>
              <p:cNvPr id="2640" name=""/>
              <p:cNvSpPr/>
              <p:nvPr/>
            </p:nvSpPr>
            <p:spPr>
              <a:xfrm>
                <a:off x="5434200" y="5056920"/>
                <a:ext cx="81288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500800" y="5089680"/>
                <a:ext cx="786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257e"/>
                    </a:solidFill>
                    <a:latin typeface="Arial"/>
                  </a:rPr>
                  <a:t>Corpo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5563440" y="5252760"/>
                <a:ext cx="640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257e"/>
                    </a:solidFill>
                    <a:latin typeface="Arial"/>
                  </a:rPr>
                  <a:t>Resell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3" name=""/>
              <p:cNvGrpSpPr/>
              <p:nvPr/>
            </p:nvGrpSpPr>
            <p:grpSpPr>
              <a:xfrm>
                <a:off x="5436720" y="4402080"/>
                <a:ext cx="810360" cy="649080"/>
                <a:chOff x="5436720" y="4402080"/>
                <a:chExt cx="810360" cy="64908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5463000" y="4437720"/>
                  <a:ext cx="784080" cy="613440"/>
                </a:xfrm>
                <a:custGeom>
                  <a:avLst/>
                  <a:gdLst/>
                  <a:ahLst/>
                  <a:rect l="l" t="t" r="r" b="b"/>
                  <a:pathLst>
                    <a:path w="1134" h="888">
                      <a:moveTo>
                        <a:pt x="1134" y="888"/>
                      </a:moveTo>
                      <a:lnTo>
                        <a:pt x="0" y="888"/>
                      </a:lnTo>
                      <a:lnTo>
                        <a:pt x="0" y="639"/>
                      </a:lnTo>
                      <a:lnTo>
                        <a:pt x="215" y="639"/>
                      </a:lnTo>
                      <a:lnTo>
                        <a:pt x="215" y="331"/>
                      </a:lnTo>
                      <a:lnTo>
                        <a:pt x="450" y="331"/>
                      </a:lnTo>
                      <a:lnTo>
                        <a:pt x="450" y="107"/>
                      </a:lnTo>
                      <a:lnTo>
                        <a:pt x="500" y="107"/>
                      </a:lnTo>
                      <a:lnTo>
                        <a:pt x="500" y="0"/>
                      </a:lnTo>
                      <a:lnTo>
                        <a:pt x="715" y="0"/>
                      </a:lnTo>
                      <a:lnTo>
                        <a:pt x="715" y="178"/>
                      </a:lnTo>
                      <a:lnTo>
                        <a:pt x="796" y="178"/>
                      </a:lnTo>
                      <a:lnTo>
                        <a:pt x="796" y="285"/>
                      </a:lnTo>
                      <a:lnTo>
                        <a:pt x="1001" y="285"/>
                      </a:lnTo>
                      <a:lnTo>
                        <a:pt x="1001" y="461"/>
                      </a:lnTo>
                      <a:lnTo>
                        <a:pt x="1134" y="461"/>
                      </a:lnTo>
                      <a:lnTo>
                        <a:pt x="1134" y="8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5436720" y="4402080"/>
                  <a:ext cx="782640" cy="613440"/>
                </a:xfrm>
                <a:custGeom>
                  <a:avLst/>
                  <a:gdLst/>
                  <a:ahLst/>
                  <a:rect l="l" t="t" r="r" b="b"/>
                  <a:pathLst>
                    <a:path w="1134" h="888">
                      <a:moveTo>
                        <a:pt x="1134" y="888"/>
                      </a:moveTo>
                      <a:lnTo>
                        <a:pt x="0" y="888"/>
                      </a:lnTo>
                      <a:lnTo>
                        <a:pt x="0" y="639"/>
                      </a:lnTo>
                      <a:lnTo>
                        <a:pt x="215" y="639"/>
                      </a:lnTo>
                      <a:lnTo>
                        <a:pt x="215" y="332"/>
                      </a:lnTo>
                      <a:lnTo>
                        <a:pt x="450" y="332"/>
                      </a:lnTo>
                      <a:lnTo>
                        <a:pt x="450" y="107"/>
                      </a:lnTo>
                      <a:lnTo>
                        <a:pt x="500" y="107"/>
                      </a:lnTo>
                      <a:lnTo>
                        <a:pt x="500" y="0"/>
                      </a:lnTo>
                      <a:lnTo>
                        <a:pt x="715" y="0"/>
                      </a:lnTo>
                      <a:lnTo>
                        <a:pt x="715" y="178"/>
                      </a:lnTo>
                      <a:lnTo>
                        <a:pt x="796" y="178"/>
                      </a:lnTo>
                      <a:lnTo>
                        <a:pt x="796" y="285"/>
                      </a:lnTo>
                      <a:lnTo>
                        <a:pt x="1002" y="285"/>
                      </a:lnTo>
                      <a:lnTo>
                        <a:pt x="1002" y="461"/>
                      </a:lnTo>
                      <a:lnTo>
                        <a:pt x="1134" y="461"/>
                      </a:lnTo>
                      <a:lnTo>
                        <a:pt x="1134" y="888"/>
                      </a:lnTo>
                      <a:close/>
                    </a:path>
                  </a:pathLst>
                </a:cu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5508360" y="4632120"/>
                  <a:ext cx="173880" cy="2052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5682240" y="4478040"/>
                  <a:ext cx="113040" cy="15408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5712480" y="4403160"/>
                  <a:ext cx="113040" cy="7452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5760720" y="4632120"/>
                  <a:ext cx="34560" cy="38052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5884920" y="4607280"/>
                  <a:ext cx="125640" cy="40248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5847840" y="4837320"/>
                  <a:ext cx="93600" cy="5796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6074280" y="4714920"/>
                  <a:ext cx="60840" cy="2934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6057720" y="4839120"/>
                  <a:ext cx="37080" cy="1710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5893560" y="4608720"/>
                  <a:ext cx="1908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5919840" y="4608720"/>
                  <a:ext cx="1656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5943240" y="4608720"/>
                  <a:ext cx="1908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5969160" y="4608720"/>
                  <a:ext cx="1908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5893560" y="464868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5919840" y="4648680"/>
                  <a:ext cx="1656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5943240" y="464868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5893560" y="468756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5893560" y="472752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6104520" y="472464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6104520" y="4763160"/>
                  <a:ext cx="19080" cy="30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6104520" y="480312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6104520" y="484020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5690880" y="4487400"/>
                  <a:ext cx="1764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5716800" y="4487400"/>
                  <a:ext cx="1800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5741640" y="4487400"/>
                  <a:ext cx="1764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5690880" y="4527360"/>
                  <a:ext cx="1764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5716800" y="4527360"/>
                  <a:ext cx="1800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5893560" y="476604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5520600" y="4641840"/>
                  <a:ext cx="1368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5548320" y="4641840"/>
                  <a:ext cx="1116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5574600" y="4641840"/>
                  <a:ext cx="1224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5600880" y="4641840"/>
                  <a:ext cx="1224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5627160" y="4641840"/>
                  <a:ext cx="1188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5653440" y="4641840"/>
                  <a:ext cx="11880" cy="1350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5719680" y="4411440"/>
                  <a:ext cx="1800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5745960" y="441144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5770440" y="441144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5795640" y="4411440"/>
                  <a:ext cx="1764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5883840" y="4847040"/>
                  <a:ext cx="1764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4" name=""/>
                <p:cNvGrpSpPr/>
                <p:nvPr/>
              </p:nvGrpSpPr>
              <p:grpSpPr>
                <a:xfrm>
                  <a:off x="5537160" y="4883040"/>
                  <a:ext cx="123840" cy="123840"/>
                  <a:chOff x="5537160" y="4883040"/>
                  <a:chExt cx="123840" cy="123840"/>
                </a:xfrm>
              </p:grpSpPr>
              <p:sp>
                <p:nvSpPr>
                  <p:cNvPr id="2685" name=""/>
                  <p:cNvSpPr/>
                  <p:nvPr/>
                </p:nvSpPr>
                <p:spPr>
                  <a:xfrm>
                    <a:off x="5607360" y="4883040"/>
                    <a:ext cx="53640" cy="123840"/>
                  </a:xfrm>
                  <a:prstGeom prst="rect">
                    <a:avLst/>
                  </a:prstGeom>
                  <a:solidFill>
                    <a:srgbClr val="0025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5537160" y="4883040"/>
                    <a:ext cx="53640" cy="123840"/>
                  </a:xfrm>
                  <a:prstGeom prst="rect">
                    <a:avLst/>
                  </a:prstGeom>
                  <a:solidFill>
                    <a:srgbClr val="0025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87" name=""/>
            <p:cNvGrpSpPr/>
            <p:nvPr/>
          </p:nvGrpSpPr>
          <p:grpSpPr>
            <a:xfrm>
              <a:off x="2152800" y="2505240"/>
              <a:ext cx="436320" cy="2229840"/>
              <a:chOff x="2152800" y="2505240"/>
              <a:chExt cx="436320" cy="2229840"/>
            </a:xfrm>
          </p:grpSpPr>
          <p:sp>
            <p:nvSpPr>
              <p:cNvPr id="2688" name=""/>
              <p:cNvSpPr/>
              <p:nvPr/>
            </p:nvSpPr>
            <p:spPr>
              <a:xfrm>
                <a:off x="2170800" y="2523240"/>
                <a:ext cx="418320" cy="35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152800" y="2505240"/>
                <a:ext cx="418680" cy="35568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170800" y="3142440"/>
                <a:ext cx="418320" cy="35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152800" y="3124440"/>
                <a:ext cx="418680" cy="35460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2170800" y="3761640"/>
                <a:ext cx="418320" cy="35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2152800" y="3743640"/>
                <a:ext cx="418680" cy="35460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2170800" y="4380840"/>
                <a:ext cx="418320" cy="35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2152800" y="4362840"/>
                <a:ext cx="418680" cy="35460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6" name=""/>
            <p:cNvGrpSpPr/>
            <p:nvPr/>
          </p:nvGrpSpPr>
          <p:grpSpPr>
            <a:xfrm>
              <a:off x="2606760" y="2533680"/>
              <a:ext cx="1639800" cy="858960"/>
              <a:chOff x="2606760" y="2533680"/>
              <a:chExt cx="1639800" cy="858960"/>
            </a:xfrm>
          </p:grpSpPr>
          <p:sp>
            <p:nvSpPr>
              <p:cNvPr id="2697" name=""/>
              <p:cNvSpPr/>
              <p:nvPr/>
            </p:nvSpPr>
            <p:spPr>
              <a:xfrm>
                <a:off x="2606760" y="2533680"/>
                <a:ext cx="1638720" cy="858960"/>
              </a:xfrm>
              <a:custGeom>
                <a:avLst/>
                <a:gdLst/>
                <a:ahLst/>
                <a:rect l="l" t="t" r="r" b="b"/>
                <a:pathLst>
                  <a:path w="2375" h="1246">
                    <a:moveTo>
                      <a:pt x="0" y="150"/>
                    </a:moveTo>
                    <a:lnTo>
                      <a:pt x="16" y="186"/>
                    </a:lnTo>
                    <a:lnTo>
                      <a:pt x="99" y="152"/>
                    </a:lnTo>
                    <a:lnTo>
                      <a:pt x="185" y="121"/>
                    </a:lnTo>
                    <a:lnTo>
                      <a:pt x="270" y="95"/>
                    </a:lnTo>
                    <a:lnTo>
                      <a:pt x="358" y="74"/>
                    </a:lnTo>
                    <a:lnTo>
                      <a:pt x="351" y="56"/>
                    </a:lnTo>
                    <a:lnTo>
                      <a:pt x="351" y="76"/>
                    </a:lnTo>
                    <a:lnTo>
                      <a:pt x="439" y="60"/>
                    </a:lnTo>
                    <a:lnTo>
                      <a:pt x="529" y="48"/>
                    </a:lnTo>
                    <a:lnTo>
                      <a:pt x="618" y="40"/>
                    </a:lnTo>
                    <a:lnTo>
                      <a:pt x="709" y="39"/>
                    </a:lnTo>
                    <a:lnTo>
                      <a:pt x="780" y="40"/>
                    </a:lnTo>
                    <a:lnTo>
                      <a:pt x="851" y="45"/>
                    </a:lnTo>
                    <a:lnTo>
                      <a:pt x="921" y="51"/>
                    </a:lnTo>
                    <a:lnTo>
                      <a:pt x="991" y="61"/>
                    </a:lnTo>
                    <a:lnTo>
                      <a:pt x="1059" y="74"/>
                    </a:lnTo>
                    <a:lnTo>
                      <a:pt x="1059" y="55"/>
                    </a:lnTo>
                    <a:lnTo>
                      <a:pt x="1051" y="73"/>
                    </a:lnTo>
                    <a:lnTo>
                      <a:pt x="1119" y="87"/>
                    </a:lnTo>
                    <a:lnTo>
                      <a:pt x="1185" y="105"/>
                    </a:lnTo>
                    <a:lnTo>
                      <a:pt x="1251" y="126"/>
                    </a:lnTo>
                    <a:lnTo>
                      <a:pt x="1314" y="149"/>
                    </a:lnTo>
                    <a:lnTo>
                      <a:pt x="1379" y="174"/>
                    </a:lnTo>
                    <a:lnTo>
                      <a:pt x="1441" y="202"/>
                    </a:lnTo>
                    <a:lnTo>
                      <a:pt x="1501" y="233"/>
                    </a:lnTo>
                    <a:lnTo>
                      <a:pt x="1560" y="265"/>
                    </a:lnTo>
                    <a:lnTo>
                      <a:pt x="1619" y="299"/>
                    </a:lnTo>
                    <a:lnTo>
                      <a:pt x="1675" y="336"/>
                    </a:lnTo>
                    <a:lnTo>
                      <a:pt x="1683" y="319"/>
                    </a:lnTo>
                    <a:lnTo>
                      <a:pt x="1669" y="333"/>
                    </a:lnTo>
                    <a:lnTo>
                      <a:pt x="1724" y="372"/>
                    </a:lnTo>
                    <a:lnTo>
                      <a:pt x="1777" y="412"/>
                    </a:lnTo>
                    <a:lnTo>
                      <a:pt x="1829" y="456"/>
                    </a:lnTo>
                    <a:lnTo>
                      <a:pt x="1879" y="501"/>
                    </a:lnTo>
                    <a:lnTo>
                      <a:pt x="1928" y="550"/>
                    </a:lnTo>
                    <a:lnTo>
                      <a:pt x="1975" y="599"/>
                    </a:lnTo>
                    <a:lnTo>
                      <a:pt x="2018" y="650"/>
                    </a:lnTo>
                    <a:lnTo>
                      <a:pt x="2061" y="702"/>
                    </a:lnTo>
                    <a:lnTo>
                      <a:pt x="2101" y="757"/>
                    </a:lnTo>
                    <a:lnTo>
                      <a:pt x="2140" y="814"/>
                    </a:lnTo>
                    <a:lnTo>
                      <a:pt x="2153" y="801"/>
                    </a:lnTo>
                    <a:lnTo>
                      <a:pt x="2135" y="807"/>
                    </a:lnTo>
                    <a:lnTo>
                      <a:pt x="2172" y="866"/>
                    </a:lnTo>
                    <a:lnTo>
                      <a:pt x="2205" y="925"/>
                    </a:lnTo>
                    <a:lnTo>
                      <a:pt x="2237" y="987"/>
                    </a:lnTo>
                    <a:lnTo>
                      <a:pt x="2266" y="1050"/>
                    </a:lnTo>
                    <a:lnTo>
                      <a:pt x="2292" y="1113"/>
                    </a:lnTo>
                    <a:lnTo>
                      <a:pt x="2316" y="1179"/>
                    </a:lnTo>
                    <a:lnTo>
                      <a:pt x="2337" y="1246"/>
                    </a:lnTo>
                    <a:lnTo>
                      <a:pt x="2375" y="1235"/>
                    </a:lnTo>
                    <a:lnTo>
                      <a:pt x="2352" y="1165"/>
                    </a:lnTo>
                    <a:lnTo>
                      <a:pt x="2328" y="1099"/>
                    </a:lnTo>
                    <a:lnTo>
                      <a:pt x="2302" y="1035"/>
                    </a:lnTo>
                    <a:lnTo>
                      <a:pt x="2273" y="972"/>
                    </a:lnTo>
                    <a:lnTo>
                      <a:pt x="2240" y="911"/>
                    </a:lnTo>
                    <a:lnTo>
                      <a:pt x="2208" y="851"/>
                    </a:lnTo>
                    <a:lnTo>
                      <a:pt x="2171" y="793"/>
                    </a:lnTo>
                    <a:lnTo>
                      <a:pt x="2167" y="786"/>
                    </a:lnTo>
                    <a:lnTo>
                      <a:pt x="2129" y="730"/>
                    </a:lnTo>
                    <a:lnTo>
                      <a:pt x="2088" y="675"/>
                    </a:lnTo>
                    <a:lnTo>
                      <a:pt x="2046" y="623"/>
                    </a:lnTo>
                    <a:lnTo>
                      <a:pt x="2002" y="571"/>
                    </a:lnTo>
                    <a:lnTo>
                      <a:pt x="1955" y="522"/>
                    </a:lnTo>
                    <a:lnTo>
                      <a:pt x="1907" y="474"/>
                    </a:lnTo>
                    <a:lnTo>
                      <a:pt x="1857" y="429"/>
                    </a:lnTo>
                    <a:lnTo>
                      <a:pt x="1805" y="385"/>
                    </a:lnTo>
                    <a:lnTo>
                      <a:pt x="1751" y="344"/>
                    </a:lnTo>
                    <a:lnTo>
                      <a:pt x="1696" y="306"/>
                    </a:lnTo>
                    <a:lnTo>
                      <a:pt x="1690" y="301"/>
                    </a:lnTo>
                    <a:lnTo>
                      <a:pt x="1633" y="264"/>
                    </a:lnTo>
                    <a:lnTo>
                      <a:pt x="1575" y="230"/>
                    </a:lnTo>
                    <a:lnTo>
                      <a:pt x="1515" y="197"/>
                    </a:lnTo>
                    <a:lnTo>
                      <a:pt x="1455" y="166"/>
                    </a:lnTo>
                    <a:lnTo>
                      <a:pt x="1394" y="139"/>
                    </a:lnTo>
                    <a:lnTo>
                      <a:pt x="1329" y="113"/>
                    </a:lnTo>
                    <a:lnTo>
                      <a:pt x="1266" y="90"/>
                    </a:lnTo>
                    <a:lnTo>
                      <a:pt x="1199" y="69"/>
                    </a:lnTo>
                    <a:lnTo>
                      <a:pt x="1133" y="51"/>
                    </a:lnTo>
                    <a:lnTo>
                      <a:pt x="1065" y="37"/>
                    </a:lnTo>
                    <a:lnTo>
                      <a:pt x="1059" y="35"/>
                    </a:lnTo>
                    <a:lnTo>
                      <a:pt x="991" y="22"/>
                    </a:lnTo>
                    <a:lnTo>
                      <a:pt x="921" y="13"/>
                    </a:lnTo>
                    <a:lnTo>
                      <a:pt x="851" y="6"/>
                    </a:lnTo>
                    <a:lnTo>
                      <a:pt x="780" y="1"/>
                    </a:lnTo>
                    <a:lnTo>
                      <a:pt x="709" y="0"/>
                    </a:lnTo>
                    <a:lnTo>
                      <a:pt x="618" y="1"/>
                    </a:lnTo>
                    <a:lnTo>
                      <a:pt x="529" y="9"/>
                    </a:lnTo>
                    <a:lnTo>
                      <a:pt x="439" y="21"/>
                    </a:lnTo>
                    <a:lnTo>
                      <a:pt x="351" y="37"/>
                    </a:lnTo>
                    <a:lnTo>
                      <a:pt x="343" y="39"/>
                    </a:lnTo>
                    <a:lnTo>
                      <a:pt x="256" y="60"/>
                    </a:lnTo>
                    <a:lnTo>
                      <a:pt x="170" y="85"/>
                    </a:lnTo>
                    <a:lnTo>
                      <a:pt x="84" y="11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2612160" y="2550240"/>
                <a:ext cx="132120" cy="111600"/>
              </a:xfrm>
              <a:custGeom>
                <a:avLst/>
                <a:gdLst/>
                <a:ahLst/>
                <a:rect l="l" t="t" r="r" b="b"/>
                <a:pathLst>
                  <a:path w="193" h="162">
                    <a:moveTo>
                      <a:pt x="130" y="0"/>
                    </a:moveTo>
                    <a:lnTo>
                      <a:pt x="0" y="144"/>
                    </a:lnTo>
                    <a:lnTo>
                      <a:pt x="193" y="162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4134960" y="3254760"/>
                <a:ext cx="111600" cy="133560"/>
              </a:xfrm>
              <a:custGeom>
                <a:avLst/>
                <a:gdLst/>
                <a:ahLst/>
                <a:rect l="l" t="t" r="r" b="b"/>
                <a:pathLst>
                  <a:path w="164" h="192">
                    <a:moveTo>
                      <a:pt x="0" y="58"/>
                    </a:moveTo>
                    <a:lnTo>
                      <a:pt x="141" y="192"/>
                    </a:lnTo>
                    <a:lnTo>
                      <a:pt x="164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0" name=""/>
            <p:cNvGrpSpPr/>
            <p:nvPr/>
          </p:nvGrpSpPr>
          <p:grpSpPr>
            <a:xfrm>
              <a:off x="2595960" y="4154400"/>
              <a:ext cx="823680" cy="448920"/>
              <a:chOff x="2595960" y="4154400"/>
              <a:chExt cx="823680" cy="448920"/>
            </a:xfrm>
          </p:grpSpPr>
          <p:sp>
            <p:nvSpPr>
              <p:cNvPr id="2701" name=""/>
              <p:cNvSpPr/>
              <p:nvPr/>
            </p:nvSpPr>
            <p:spPr>
              <a:xfrm>
                <a:off x="2595960" y="4154400"/>
                <a:ext cx="823680" cy="403560"/>
              </a:xfrm>
              <a:custGeom>
                <a:avLst/>
                <a:gdLst/>
                <a:ahLst/>
                <a:rect l="l" t="t" r="r" b="b"/>
                <a:pathLst>
                  <a:path w="1194" h="584">
                    <a:moveTo>
                      <a:pt x="3" y="539"/>
                    </a:moveTo>
                    <a:lnTo>
                      <a:pt x="0" y="578"/>
                    </a:lnTo>
                    <a:lnTo>
                      <a:pt x="74" y="583"/>
                    </a:lnTo>
                    <a:lnTo>
                      <a:pt x="147" y="584"/>
                    </a:lnTo>
                    <a:lnTo>
                      <a:pt x="236" y="581"/>
                    </a:lnTo>
                    <a:lnTo>
                      <a:pt x="322" y="575"/>
                    </a:lnTo>
                    <a:lnTo>
                      <a:pt x="408" y="562"/>
                    </a:lnTo>
                    <a:lnTo>
                      <a:pt x="414" y="560"/>
                    </a:lnTo>
                    <a:lnTo>
                      <a:pt x="497" y="542"/>
                    </a:lnTo>
                    <a:lnTo>
                      <a:pt x="578" y="520"/>
                    </a:lnTo>
                    <a:lnTo>
                      <a:pt x="654" y="494"/>
                    </a:lnTo>
                    <a:lnTo>
                      <a:pt x="728" y="463"/>
                    </a:lnTo>
                    <a:lnTo>
                      <a:pt x="798" y="427"/>
                    </a:lnTo>
                    <a:lnTo>
                      <a:pt x="863" y="389"/>
                    </a:lnTo>
                    <a:lnTo>
                      <a:pt x="869" y="385"/>
                    </a:lnTo>
                    <a:lnTo>
                      <a:pt x="931" y="342"/>
                    </a:lnTo>
                    <a:lnTo>
                      <a:pt x="987" y="296"/>
                    </a:lnTo>
                    <a:lnTo>
                      <a:pt x="1039" y="248"/>
                    </a:lnTo>
                    <a:lnTo>
                      <a:pt x="1086" y="194"/>
                    </a:lnTo>
                    <a:lnTo>
                      <a:pt x="1126" y="139"/>
                    </a:lnTo>
                    <a:lnTo>
                      <a:pt x="1131" y="133"/>
                    </a:lnTo>
                    <a:lnTo>
                      <a:pt x="1165" y="75"/>
                    </a:lnTo>
                    <a:lnTo>
                      <a:pt x="1181" y="44"/>
                    </a:lnTo>
                    <a:lnTo>
                      <a:pt x="1194" y="15"/>
                    </a:lnTo>
                    <a:lnTo>
                      <a:pt x="1159" y="0"/>
                    </a:lnTo>
                    <a:lnTo>
                      <a:pt x="1146" y="29"/>
                    </a:lnTo>
                    <a:lnTo>
                      <a:pt x="1130" y="60"/>
                    </a:lnTo>
                    <a:lnTo>
                      <a:pt x="1096" y="118"/>
                    </a:lnTo>
                    <a:lnTo>
                      <a:pt x="1113" y="125"/>
                    </a:lnTo>
                    <a:lnTo>
                      <a:pt x="1099" y="112"/>
                    </a:lnTo>
                    <a:lnTo>
                      <a:pt x="1058" y="167"/>
                    </a:lnTo>
                    <a:lnTo>
                      <a:pt x="1012" y="220"/>
                    </a:lnTo>
                    <a:lnTo>
                      <a:pt x="960" y="269"/>
                    </a:lnTo>
                    <a:lnTo>
                      <a:pt x="903" y="314"/>
                    </a:lnTo>
                    <a:lnTo>
                      <a:pt x="842" y="358"/>
                    </a:lnTo>
                    <a:lnTo>
                      <a:pt x="856" y="371"/>
                    </a:lnTo>
                    <a:lnTo>
                      <a:pt x="848" y="353"/>
                    </a:lnTo>
                    <a:lnTo>
                      <a:pt x="783" y="392"/>
                    </a:lnTo>
                    <a:lnTo>
                      <a:pt x="714" y="427"/>
                    </a:lnTo>
                    <a:lnTo>
                      <a:pt x="639" y="458"/>
                    </a:lnTo>
                    <a:lnTo>
                      <a:pt x="563" y="484"/>
                    </a:lnTo>
                    <a:lnTo>
                      <a:pt x="482" y="507"/>
                    </a:lnTo>
                    <a:lnTo>
                      <a:pt x="400" y="525"/>
                    </a:lnTo>
                    <a:lnTo>
                      <a:pt x="408" y="542"/>
                    </a:lnTo>
                    <a:lnTo>
                      <a:pt x="408" y="523"/>
                    </a:lnTo>
                    <a:lnTo>
                      <a:pt x="322" y="536"/>
                    </a:lnTo>
                    <a:lnTo>
                      <a:pt x="236" y="542"/>
                    </a:lnTo>
                    <a:lnTo>
                      <a:pt x="147" y="546"/>
                    </a:lnTo>
                    <a:lnTo>
                      <a:pt x="74" y="544"/>
                    </a:lnTo>
                    <a:lnTo>
                      <a:pt x="3" y="53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597040" y="4483080"/>
                <a:ext cx="120960" cy="120240"/>
              </a:xfrm>
              <a:custGeom>
                <a:avLst/>
                <a:gdLst/>
                <a:ahLst/>
                <a:rect l="l" t="t" r="r" b="b"/>
                <a:pathLst>
                  <a:path w="176" h="173">
                    <a:moveTo>
                      <a:pt x="176" y="0"/>
                    </a:moveTo>
                    <a:lnTo>
                      <a:pt x="0" y="81"/>
                    </a:lnTo>
                    <a:lnTo>
                      <a:pt x="169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3296880" y="4158720"/>
                <a:ext cx="110160" cy="133560"/>
              </a:xfrm>
              <a:custGeom>
                <a:avLst/>
                <a:gdLst/>
                <a:ahLst/>
                <a:rect l="l" t="t" r="r" b="b"/>
                <a:pathLst>
                  <a:path w="161" h="194">
                    <a:moveTo>
                      <a:pt x="151" y="194"/>
                    </a:moveTo>
                    <a:lnTo>
                      <a:pt x="161" y="0"/>
                    </a:lnTo>
                    <a:lnTo>
                      <a:pt x="0" y="108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4" name=""/>
            <p:cNvGrpSpPr/>
            <p:nvPr/>
          </p:nvGrpSpPr>
          <p:grpSpPr>
            <a:xfrm>
              <a:off x="2606760" y="3764160"/>
              <a:ext cx="393840" cy="281880"/>
              <a:chOff x="2606760" y="3764160"/>
              <a:chExt cx="393840" cy="281880"/>
            </a:xfrm>
          </p:grpSpPr>
          <p:sp>
            <p:nvSpPr>
              <p:cNvPr id="2705" name=""/>
              <p:cNvSpPr/>
              <p:nvPr/>
            </p:nvSpPr>
            <p:spPr>
              <a:xfrm>
                <a:off x="2606760" y="3764160"/>
                <a:ext cx="393840" cy="243360"/>
              </a:xfrm>
              <a:custGeom>
                <a:avLst/>
                <a:gdLst/>
                <a:ahLst/>
                <a:rect l="l" t="t" r="r" b="b"/>
                <a:pathLst>
                  <a:path w="573" h="352">
                    <a:moveTo>
                      <a:pt x="5" y="309"/>
                    </a:moveTo>
                    <a:lnTo>
                      <a:pt x="0" y="347"/>
                    </a:lnTo>
                    <a:lnTo>
                      <a:pt x="36" y="350"/>
                    </a:lnTo>
                    <a:lnTo>
                      <a:pt x="70" y="352"/>
                    </a:lnTo>
                    <a:lnTo>
                      <a:pt x="112" y="350"/>
                    </a:lnTo>
                    <a:lnTo>
                      <a:pt x="153" y="345"/>
                    </a:lnTo>
                    <a:lnTo>
                      <a:pt x="193" y="339"/>
                    </a:lnTo>
                    <a:lnTo>
                      <a:pt x="200" y="337"/>
                    </a:lnTo>
                    <a:lnTo>
                      <a:pt x="240" y="326"/>
                    </a:lnTo>
                    <a:lnTo>
                      <a:pt x="277" y="313"/>
                    </a:lnTo>
                    <a:lnTo>
                      <a:pt x="313" y="298"/>
                    </a:lnTo>
                    <a:lnTo>
                      <a:pt x="348" y="280"/>
                    </a:lnTo>
                    <a:lnTo>
                      <a:pt x="381" y="259"/>
                    </a:lnTo>
                    <a:lnTo>
                      <a:pt x="387" y="256"/>
                    </a:lnTo>
                    <a:lnTo>
                      <a:pt x="418" y="233"/>
                    </a:lnTo>
                    <a:lnTo>
                      <a:pt x="447" y="208"/>
                    </a:lnTo>
                    <a:lnTo>
                      <a:pt x="475" y="182"/>
                    </a:lnTo>
                    <a:lnTo>
                      <a:pt x="499" y="153"/>
                    </a:lnTo>
                    <a:lnTo>
                      <a:pt x="520" y="122"/>
                    </a:lnTo>
                    <a:lnTo>
                      <a:pt x="525" y="115"/>
                    </a:lnTo>
                    <a:lnTo>
                      <a:pt x="544" y="83"/>
                    </a:lnTo>
                    <a:lnTo>
                      <a:pt x="561" y="49"/>
                    </a:lnTo>
                    <a:lnTo>
                      <a:pt x="573" y="13"/>
                    </a:lnTo>
                    <a:lnTo>
                      <a:pt x="538" y="0"/>
                    </a:lnTo>
                    <a:lnTo>
                      <a:pt x="525" y="34"/>
                    </a:lnTo>
                    <a:lnTo>
                      <a:pt x="509" y="68"/>
                    </a:lnTo>
                    <a:lnTo>
                      <a:pt x="489" y="101"/>
                    </a:lnTo>
                    <a:lnTo>
                      <a:pt x="507" y="109"/>
                    </a:lnTo>
                    <a:lnTo>
                      <a:pt x="493" y="94"/>
                    </a:lnTo>
                    <a:lnTo>
                      <a:pt x="471" y="125"/>
                    </a:lnTo>
                    <a:lnTo>
                      <a:pt x="447" y="154"/>
                    </a:lnTo>
                    <a:lnTo>
                      <a:pt x="420" y="180"/>
                    </a:lnTo>
                    <a:lnTo>
                      <a:pt x="391" y="206"/>
                    </a:lnTo>
                    <a:lnTo>
                      <a:pt x="360" y="229"/>
                    </a:lnTo>
                    <a:lnTo>
                      <a:pt x="374" y="242"/>
                    </a:lnTo>
                    <a:lnTo>
                      <a:pt x="366" y="224"/>
                    </a:lnTo>
                    <a:lnTo>
                      <a:pt x="334" y="245"/>
                    </a:lnTo>
                    <a:lnTo>
                      <a:pt x="298" y="263"/>
                    </a:lnTo>
                    <a:lnTo>
                      <a:pt x="263" y="277"/>
                    </a:lnTo>
                    <a:lnTo>
                      <a:pt x="225" y="290"/>
                    </a:lnTo>
                    <a:lnTo>
                      <a:pt x="185" y="301"/>
                    </a:lnTo>
                    <a:lnTo>
                      <a:pt x="193" y="319"/>
                    </a:lnTo>
                    <a:lnTo>
                      <a:pt x="193" y="300"/>
                    </a:lnTo>
                    <a:lnTo>
                      <a:pt x="153" y="306"/>
                    </a:lnTo>
                    <a:lnTo>
                      <a:pt x="112" y="311"/>
                    </a:lnTo>
                    <a:lnTo>
                      <a:pt x="70" y="313"/>
                    </a:lnTo>
                    <a:lnTo>
                      <a:pt x="36" y="311"/>
                    </a:lnTo>
                    <a:lnTo>
                      <a:pt x="5" y="30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2607840" y="3927240"/>
                <a:ext cx="119880" cy="118800"/>
              </a:xfrm>
              <a:custGeom>
                <a:avLst/>
                <a:gdLst/>
                <a:ahLst/>
                <a:rect l="l" t="t" r="r" b="b"/>
                <a:pathLst>
                  <a:path w="175" h="173">
                    <a:moveTo>
                      <a:pt x="170" y="0"/>
                    </a:moveTo>
                    <a:lnTo>
                      <a:pt x="0" y="92"/>
                    </a:lnTo>
                    <a:lnTo>
                      <a:pt x="175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878200" y="3768480"/>
                <a:ext cx="110160" cy="135360"/>
              </a:xfrm>
              <a:custGeom>
                <a:avLst/>
                <a:gdLst/>
                <a:ahLst/>
                <a:rect l="l" t="t" r="r" b="b"/>
                <a:pathLst>
                  <a:path w="161" h="194">
                    <a:moveTo>
                      <a:pt x="151" y="194"/>
                    </a:moveTo>
                    <a:lnTo>
                      <a:pt x="161" y="0"/>
                    </a:lnTo>
                    <a:lnTo>
                      <a:pt x="0" y="108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8" name=""/>
            <p:cNvGrpSpPr/>
            <p:nvPr/>
          </p:nvGrpSpPr>
          <p:grpSpPr>
            <a:xfrm>
              <a:off x="2522880" y="4079880"/>
              <a:ext cx="1770120" cy="501840"/>
              <a:chOff x="2522880" y="4079880"/>
              <a:chExt cx="1770120" cy="501840"/>
            </a:xfrm>
          </p:grpSpPr>
          <p:sp>
            <p:nvSpPr>
              <p:cNvPr id="2709" name=""/>
              <p:cNvSpPr/>
              <p:nvPr/>
            </p:nvSpPr>
            <p:spPr>
              <a:xfrm>
                <a:off x="2522880" y="4079880"/>
                <a:ext cx="1770120" cy="501840"/>
              </a:xfrm>
              <a:custGeom>
                <a:avLst/>
                <a:gdLst/>
                <a:ahLst/>
                <a:rect l="l" t="t" r="r" b="b"/>
                <a:pathLst>
                  <a:path w="2565" h="729">
                    <a:moveTo>
                      <a:pt x="29" y="109"/>
                    </a:moveTo>
                    <a:lnTo>
                      <a:pt x="0" y="135"/>
                    </a:lnTo>
                    <a:lnTo>
                      <a:pt x="64" y="204"/>
                    </a:lnTo>
                    <a:lnTo>
                      <a:pt x="129" y="269"/>
                    </a:lnTo>
                    <a:lnTo>
                      <a:pt x="197" y="331"/>
                    </a:lnTo>
                    <a:lnTo>
                      <a:pt x="267" y="387"/>
                    </a:lnTo>
                    <a:lnTo>
                      <a:pt x="338" y="439"/>
                    </a:lnTo>
                    <a:lnTo>
                      <a:pt x="344" y="442"/>
                    </a:lnTo>
                    <a:lnTo>
                      <a:pt x="419" y="491"/>
                    </a:lnTo>
                    <a:lnTo>
                      <a:pt x="495" y="534"/>
                    </a:lnTo>
                    <a:lnTo>
                      <a:pt x="571" y="575"/>
                    </a:lnTo>
                    <a:lnTo>
                      <a:pt x="650" y="610"/>
                    </a:lnTo>
                    <a:lnTo>
                      <a:pt x="730" y="641"/>
                    </a:lnTo>
                    <a:lnTo>
                      <a:pt x="811" y="667"/>
                    </a:lnTo>
                    <a:lnTo>
                      <a:pt x="893" y="688"/>
                    </a:lnTo>
                    <a:lnTo>
                      <a:pt x="976" y="704"/>
                    </a:lnTo>
                    <a:lnTo>
                      <a:pt x="982" y="706"/>
                    </a:lnTo>
                    <a:lnTo>
                      <a:pt x="1066" y="719"/>
                    </a:lnTo>
                    <a:lnTo>
                      <a:pt x="1151" y="727"/>
                    </a:lnTo>
                    <a:lnTo>
                      <a:pt x="1236" y="729"/>
                    </a:lnTo>
                    <a:lnTo>
                      <a:pt x="1330" y="725"/>
                    </a:lnTo>
                    <a:lnTo>
                      <a:pt x="1422" y="717"/>
                    </a:lnTo>
                    <a:lnTo>
                      <a:pt x="1515" y="703"/>
                    </a:lnTo>
                    <a:lnTo>
                      <a:pt x="1521" y="701"/>
                    </a:lnTo>
                    <a:lnTo>
                      <a:pt x="1612" y="680"/>
                    </a:lnTo>
                    <a:lnTo>
                      <a:pt x="1702" y="654"/>
                    </a:lnTo>
                    <a:lnTo>
                      <a:pt x="1790" y="623"/>
                    </a:lnTo>
                    <a:lnTo>
                      <a:pt x="1877" y="586"/>
                    </a:lnTo>
                    <a:lnTo>
                      <a:pt x="1961" y="544"/>
                    </a:lnTo>
                    <a:lnTo>
                      <a:pt x="2044" y="497"/>
                    </a:lnTo>
                    <a:lnTo>
                      <a:pt x="2125" y="445"/>
                    </a:lnTo>
                    <a:lnTo>
                      <a:pt x="2131" y="441"/>
                    </a:lnTo>
                    <a:lnTo>
                      <a:pt x="2211" y="384"/>
                    </a:lnTo>
                    <a:lnTo>
                      <a:pt x="2287" y="321"/>
                    </a:lnTo>
                    <a:lnTo>
                      <a:pt x="2360" y="254"/>
                    </a:lnTo>
                    <a:lnTo>
                      <a:pt x="2431" y="183"/>
                    </a:lnTo>
                    <a:lnTo>
                      <a:pt x="2499" y="107"/>
                    </a:lnTo>
                    <a:lnTo>
                      <a:pt x="2565" y="23"/>
                    </a:lnTo>
                    <a:lnTo>
                      <a:pt x="2534" y="0"/>
                    </a:lnTo>
                    <a:lnTo>
                      <a:pt x="2471" y="80"/>
                    </a:lnTo>
                    <a:lnTo>
                      <a:pt x="2403" y="156"/>
                    </a:lnTo>
                    <a:lnTo>
                      <a:pt x="2332" y="227"/>
                    </a:lnTo>
                    <a:lnTo>
                      <a:pt x="2259" y="293"/>
                    </a:lnTo>
                    <a:lnTo>
                      <a:pt x="2183" y="356"/>
                    </a:lnTo>
                    <a:lnTo>
                      <a:pt x="2104" y="413"/>
                    </a:lnTo>
                    <a:lnTo>
                      <a:pt x="2117" y="428"/>
                    </a:lnTo>
                    <a:lnTo>
                      <a:pt x="2110" y="410"/>
                    </a:lnTo>
                    <a:lnTo>
                      <a:pt x="2029" y="462"/>
                    </a:lnTo>
                    <a:lnTo>
                      <a:pt x="1947" y="509"/>
                    </a:lnTo>
                    <a:lnTo>
                      <a:pt x="1863" y="551"/>
                    </a:lnTo>
                    <a:lnTo>
                      <a:pt x="1775" y="588"/>
                    </a:lnTo>
                    <a:lnTo>
                      <a:pt x="1688" y="619"/>
                    </a:lnTo>
                    <a:lnTo>
                      <a:pt x="1597" y="644"/>
                    </a:lnTo>
                    <a:lnTo>
                      <a:pt x="1507" y="666"/>
                    </a:lnTo>
                    <a:lnTo>
                      <a:pt x="1515" y="683"/>
                    </a:lnTo>
                    <a:lnTo>
                      <a:pt x="1515" y="664"/>
                    </a:lnTo>
                    <a:lnTo>
                      <a:pt x="1422" y="678"/>
                    </a:lnTo>
                    <a:lnTo>
                      <a:pt x="1330" y="687"/>
                    </a:lnTo>
                    <a:lnTo>
                      <a:pt x="1236" y="690"/>
                    </a:lnTo>
                    <a:lnTo>
                      <a:pt x="1151" y="688"/>
                    </a:lnTo>
                    <a:lnTo>
                      <a:pt x="1066" y="680"/>
                    </a:lnTo>
                    <a:lnTo>
                      <a:pt x="982" y="667"/>
                    </a:lnTo>
                    <a:lnTo>
                      <a:pt x="982" y="687"/>
                    </a:lnTo>
                    <a:lnTo>
                      <a:pt x="990" y="669"/>
                    </a:lnTo>
                    <a:lnTo>
                      <a:pt x="908" y="653"/>
                    </a:lnTo>
                    <a:lnTo>
                      <a:pt x="825" y="632"/>
                    </a:lnTo>
                    <a:lnTo>
                      <a:pt x="744" y="606"/>
                    </a:lnTo>
                    <a:lnTo>
                      <a:pt x="665" y="575"/>
                    </a:lnTo>
                    <a:lnTo>
                      <a:pt x="586" y="539"/>
                    </a:lnTo>
                    <a:lnTo>
                      <a:pt x="510" y="499"/>
                    </a:lnTo>
                    <a:lnTo>
                      <a:pt x="433" y="455"/>
                    </a:lnTo>
                    <a:lnTo>
                      <a:pt x="359" y="407"/>
                    </a:lnTo>
                    <a:lnTo>
                      <a:pt x="353" y="424"/>
                    </a:lnTo>
                    <a:lnTo>
                      <a:pt x="366" y="411"/>
                    </a:lnTo>
                    <a:lnTo>
                      <a:pt x="294" y="360"/>
                    </a:lnTo>
                    <a:lnTo>
                      <a:pt x="225" y="303"/>
                    </a:lnTo>
                    <a:lnTo>
                      <a:pt x="157" y="242"/>
                    </a:lnTo>
                    <a:lnTo>
                      <a:pt x="92" y="177"/>
                    </a:lnTo>
                    <a:lnTo>
                      <a:pt x="29" y="10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532240" y="4163760"/>
                <a:ext cx="126720" cy="1267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83" y="64"/>
                    </a:moveTo>
                    <a:lnTo>
                      <a:pt x="0" y="0"/>
                    </a:lnTo>
                    <a:lnTo>
                      <a:pt x="57" y="184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4159080" y="4088160"/>
                <a:ext cx="121320" cy="1306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132" y="189"/>
                    </a:moveTo>
                    <a:lnTo>
                      <a:pt x="176" y="0"/>
                    </a:lnTo>
                    <a:lnTo>
                      <a:pt x="0" y="77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2" name=""/>
            <p:cNvGrpSpPr/>
            <p:nvPr/>
          </p:nvGrpSpPr>
          <p:grpSpPr>
            <a:xfrm>
              <a:off x="3792600" y="3621240"/>
              <a:ext cx="411480" cy="120240"/>
              <a:chOff x="3792600" y="3621240"/>
              <a:chExt cx="411480" cy="120240"/>
            </a:xfrm>
          </p:grpSpPr>
          <p:sp>
            <p:nvSpPr>
              <p:cNvPr id="2713" name=""/>
              <p:cNvSpPr/>
              <p:nvPr/>
            </p:nvSpPr>
            <p:spPr>
              <a:xfrm>
                <a:off x="3792600" y="3668040"/>
                <a:ext cx="411480" cy="26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792600" y="3621240"/>
                <a:ext cx="120240" cy="11880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0"/>
                    </a:moveTo>
                    <a:lnTo>
                      <a:pt x="0" y="87"/>
                    </a:lnTo>
                    <a:lnTo>
                      <a:pt x="173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4083840" y="3622320"/>
                <a:ext cx="119880" cy="119160"/>
              </a:xfrm>
              <a:custGeom>
                <a:avLst/>
                <a:gdLst/>
                <a:ahLst/>
                <a:rect l="l" t="t" r="r" b="b"/>
                <a:pathLst>
                  <a:path w="174" h="173">
                    <a:moveTo>
                      <a:pt x="0" y="173"/>
                    </a:moveTo>
                    <a:lnTo>
                      <a:pt x="174" y="86"/>
                    </a:lnTo>
                    <a:lnTo>
                      <a:pt x="0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6" name=""/>
            <p:cNvGrpSpPr/>
            <p:nvPr/>
          </p:nvGrpSpPr>
          <p:grpSpPr>
            <a:xfrm>
              <a:off x="4961160" y="3610080"/>
              <a:ext cx="409680" cy="120240"/>
              <a:chOff x="4961160" y="3610080"/>
              <a:chExt cx="409680" cy="120240"/>
            </a:xfrm>
          </p:grpSpPr>
          <p:sp>
            <p:nvSpPr>
              <p:cNvPr id="2717" name=""/>
              <p:cNvSpPr/>
              <p:nvPr/>
            </p:nvSpPr>
            <p:spPr>
              <a:xfrm>
                <a:off x="4961160" y="3657240"/>
                <a:ext cx="409680" cy="2592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961160" y="361008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73" h="174">
                    <a:moveTo>
                      <a:pt x="173" y="0"/>
                    </a:moveTo>
                    <a:lnTo>
                      <a:pt x="0" y="88"/>
                    </a:lnTo>
                    <a:lnTo>
                      <a:pt x="173" y="174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252040" y="3611160"/>
                <a:ext cx="118440" cy="119160"/>
              </a:xfrm>
              <a:custGeom>
                <a:avLst/>
                <a:gdLst/>
                <a:ahLst/>
                <a:rect l="l" t="t" r="r" b="b"/>
                <a:pathLst>
                  <a:path w="174" h="173">
                    <a:moveTo>
                      <a:pt x="0" y="173"/>
                    </a:moveTo>
                    <a:lnTo>
                      <a:pt x="174" y="86"/>
                    </a:lnTo>
                    <a:lnTo>
                      <a:pt x="0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0" name=""/>
            <p:cNvGrpSpPr/>
            <p:nvPr/>
          </p:nvGrpSpPr>
          <p:grpSpPr>
            <a:xfrm>
              <a:off x="4924800" y="4124520"/>
              <a:ext cx="620640" cy="480600"/>
              <a:chOff x="4924800" y="4124520"/>
              <a:chExt cx="620640" cy="480600"/>
            </a:xfrm>
          </p:grpSpPr>
          <p:sp>
            <p:nvSpPr>
              <p:cNvPr id="2721" name=""/>
              <p:cNvSpPr/>
              <p:nvPr/>
            </p:nvSpPr>
            <p:spPr>
              <a:xfrm>
                <a:off x="4924800" y="4124520"/>
                <a:ext cx="620640" cy="435600"/>
              </a:xfrm>
              <a:custGeom>
                <a:avLst/>
                <a:gdLst/>
                <a:ahLst/>
                <a:rect l="l" t="t" r="r" b="b"/>
                <a:pathLst>
                  <a:path w="902" h="633">
                    <a:moveTo>
                      <a:pt x="902" y="625"/>
                    </a:moveTo>
                    <a:lnTo>
                      <a:pt x="897" y="588"/>
                    </a:lnTo>
                    <a:lnTo>
                      <a:pt x="845" y="593"/>
                    </a:lnTo>
                    <a:lnTo>
                      <a:pt x="790" y="594"/>
                    </a:lnTo>
                    <a:lnTo>
                      <a:pt x="724" y="591"/>
                    </a:lnTo>
                    <a:lnTo>
                      <a:pt x="659" y="583"/>
                    </a:lnTo>
                    <a:lnTo>
                      <a:pt x="659" y="603"/>
                    </a:lnTo>
                    <a:lnTo>
                      <a:pt x="665" y="585"/>
                    </a:lnTo>
                    <a:lnTo>
                      <a:pt x="602" y="570"/>
                    </a:lnTo>
                    <a:lnTo>
                      <a:pt x="539" y="552"/>
                    </a:lnTo>
                    <a:lnTo>
                      <a:pt x="479" y="528"/>
                    </a:lnTo>
                    <a:lnTo>
                      <a:pt x="423" y="499"/>
                    </a:lnTo>
                    <a:lnTo>
                      <a:pt x="368" y="465"/>
                    </a:lnTo>
                    <a:lnTo>
                      <a:pt x="360" y="483"/>
                    </a:lnTo>
                    <a:lnTo>
                      <a:pt x="374" y="470"/>
                    </a:lnTo>
                    <a:lnTo>
                      <a:pt x="321" y="431"/>
                    </a:lnTo>
                    <a:lnTo>
                      <a:pt x="272" y="389"/>
                    </a:lnTo>
                    <a:lnTo>
                      <a:pt x="225" y="342"/>
                    </a:lnTo>
                    <a:lnTo>
                      <a:pt x="183" y="293"/>
                    </a:lnTo>
                    <a:lnTo>
                      <a:pt x="144" y="238"/>
                    </a:lnTo>
                    <a:lnTo>
                      <a:pt x="131" y="253"/>
                    </a:lnTo>
                    <a:lnTo>
                      <a:pt x="149" y="245"/>
                    </a:lnTo>
                    <a:lnTo>
                      <a:pt x="114" y="188"/>
                    </a:lnTo>
                    <a:lnTo>
                      <a:pt x="83" y="128"/>
                    </a:lnTo>
                    <a:lnTo>
                      <a:pt x="57" y="65"/>
                    </a:lnTo>
                    <a:lnTo>
                      <a:pt x="37" y="0"/>
                    </a:lnTo>
                    <a:lnTo>
                      <a:pt x="0" y="12"/>
                    </a:lnTo>
                    <a:lnTo>
                      <a:pt x="21" y="80"/>
                    </a:lnTo>
                    <a:lnTo>
                      <a:pt x="47" y="143"/>
                    </a:lnTo>
                    <a:lnTo>
                      <a:pt x="78" y="203"/>
                    </a:lnTo>
                    <a:lnTo>
                      <a:pt x="114" y="259"/>
                    </a:lnTo>
                    <a:lnTo>
                      <a:pt x="117" y="266"/>
                    </a:lnTo>
                    <a:lnTo>
                      <a:pt x="156" y="321"/>
                    </a:lnTo>
                    <a:lnTo>
                      <a:pt x="198" y="369"/>
                    </a:lnTo>
                    <a:lnTo>
                      <a:pt x="245" y="416"/>
                    </a:lnTo>
                    <a:lnTo>
                      <a:pt x="293" y="458"/>
                    </a:lnTo>
                    <a:lnTo>
                      <a:pt x="347" y="497"/>
                    </a:lnTo>
                    <a:lnTo>
                      <a:pt x="353" y="501"/>
                    </a:lnTo>
                    <a:lnTo>
                      <a:pt x="408" y="535"/>
                    </a:lnTo>
                    <a:lnTo>
                      <a:pt x="465" y="564"/>
                    </a:lnTo>
                    <a:lnTo>
                      <a:pt x="525" y="588"/>
                    </a:lnTo>
                    <a:lnTo>
                      <a:pt x="588" y="606"/>
                    </a:lnTo>
                    <a:lnTo>
                      <a:pt x="651" y="620"/>
                    </a:lnTo>
                    <a:lnTo>
                      <a:pt x="659" y="622"/>
                    </a:lnTo>
                    <a:lnTo>
                      <a:pt x="724" y="630"/>
                    </a:lnTo>
                    <a:lnTo>
                      <a:pt x="790" y="633"/>
                    </a:lnTo>
                    <a:lnTo>
                      <a:pt x="845" y="632"/>
                    </a:lnTo>
                    <a:lnTo>
                      <a:pt x="902" y="625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422680" y="4485600"/>
                <a:ext cx="121320" cy="119520"/>
              </a:xfrm>
              <a:custGeom>
                <a:avLst/>
                <a:gdLst/>
                <a:ahLst/>
                <a:rect l="l" t="t" r="r" b="b"/>
                <a:pathLst>
                  <a:path w="175" h="173">
                    <a:moveTo>
                      <a:pt x="5" y="173"/>
                    </a:moveTo>
                    <a:lnTo>
                      <a:pt x="175" y="81"/>
                    </a:lnTo>
                    <a:lnTo>
                      <a:pt x="0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924800" y="4127040"/>
                <a:ext cx="111600" cy="132480"/>
              </a:xfrm>
              <a:custGeom>
                <a:avLst/>
                <a:gdLst/>
                <a:ahLst/>
                <a:rect l="l" t="t" r="r" b="b"/>
                <a:pathLst>
                  <a:path w="162" h="193">
                    <a:moveTo>
                      <a:pt x="162" y="131"/>
                    </a:moveTo>
                    <a:lnTo>
                      <a:pt x="18" y="0"/>
                    </a:lnTo>
                    <a:lnTo>
                      <a:pt x="0" y="19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4" name=""/>
            <p:cNvGrpSpPr/>
            <p:nvPr/>
          </p:nvGrpSpPr>
          <p:grpSpPr>
            <a:xfrm>
              <a:off x="4662720" y="2660760"/>
              <a:ext cx="606240" cy="701280"/>
              <a:chOff x="4662720" y="2660760"/>
              <a:chExt cx="606240" cy="701280"/>
            </a:xfrm>
          </p:grpSpPr>
          <p:sp>
            <p:nvSpPr>
              <p:cNvPr id="2725" name=""/>
              <p:cNvSpPr/>
              <p:nvPr/>
            </p:nvSpPr>
            <p:spPr>
              <a:xfrm>
                <a:off x="4684320" y="2703240"/>
                <a:ext cx="584640" cy="658800"/>
              </a:xfrm>
              <a:custGeom>
                <a:avLst/>
                <a:gdLst/>
                <a:ahLst/>
                <a:rect l="l" t="t" r="r" b="b"/>
                <a:pathLst>
                  <a:path w="848" h="955">
                    <a:moveTo>
                      <a:pt x="838" y="50"/>
                    </a:moveTo>
                    <a:lnTo>
                      <a:pt x="848" y="13"/>
                    </a:lnTo>
                    <a:lnTo>
                      <a:pt x="825" y="8"/>
                    </a:lnTo>
                    <a:lnTo>
                      <a:pt x="817" y="7"/>
                    </a:lnTo>
                    <a:lnTo>
                      <a:pt x="793" y="4"/>
                    </a:lnTo>
                    <a:lnTo>
                      <a:pt x="741" y="0"/>
                    </a:lnTo>
                    <a:lnTo>
                      <a:pt x="710" y="2"/>
                    </a:lnTo>
                    <a:lnTo>
                      <a:pt x="680" y="5"/>
                    </a:lnTo>
                    <a:lnTo>
                      <a:pt x="649" y="10"/>
                    </a:lnTo>
                    <a:lnTo>
                      <a:pt x="641" y="12"/>
                    </a:lnTo>
                    <a:lnTo>
                      <a:pt x="610" y="20"/>
                    </a:lnTo>
                    <a:lnTo>
                      <a:pt x="581" y="29"/>
                    </a:lnTo>
                    <a:lnTo>
                      <a:pt x="550" y="41"/>
                    </a:lnTo>
                    <a:lnTo>
                      <a:pt x="521" y="54"/>
                    </a:lnTo>
                    <a:lnTo>
                      <a:pt x="494" y="70"/>
                    </a:lnTo>
                    <a:lnTo>
                      <a:pt x="464" y="88"/>
                    </a:lnTo>
                    <a:lnTo>
                      <a:pt x="458" y="91"/>
                    </a:lnTo>
                    <a:lnTo>
                      <a:pt x="430" y="110"/>
                    </a:lnTo>
                    <a:lnTo>
                      <a:pt x="403" y="131"/>
                    </a:lnTo>
                    <a:lnTo>
                      <a:pt x="375" y="156"/>
                    </a:lnTo>
                    <a:lnTo>
                      <a:pt x="349" y="180"/>
                    </a:lnTo>
                    <a:lnTo>
                      <a:pt x="324" y="206"/>
                    </a:lnTo>
                    <a:lnTo>
                      <a:pt x="299" y="235"/>
                    </a:lnTo>
                    <a:lnTo>
                      <a:pt x="275" y="264"/>
                    </a:lnTo>
                    <a:lnTo>
                      <a:pt x="252" y="296"/>
                    </a:lnTo>
                    <a:lnTo>
                      <a:pt x="230" y="329"/>
                    </a:lnTo>
                    <a:lnTo>
                      <a:pt x="225" y="335"/>
                    </a:lnTo>
                    <a:lnTo>
                      <a:pt x="181" y="407"/>
                    </a:lnTo>
                    <a:lnTo>
                      <a:pt x="142" y="483"/>
                    </a:lnTo>
                    <a:lnTo>
                      <a:pt x="105" y="565"/>
                    </a:lnTo>
                    <a:lnTo>
                      <a:pt x="73" y="653"/>
                    </a:lnTo>
                    <a:lnTo>
                      <a:pt x="44" y="746"/>
                    </a:lnTo>
                    <a:lnTo>
                      <a:pt x="19" y="843"/>
                    </a:lnTo>
                    <a:lnTo>
                      <a:pt x="18" y="850"/>
                    </a:lnTo>
                    <a:lnTo>
                      <a:pt x="0" y="949"/>
                    </a:lnTo>
                    <a:lnTo>
                      <a:pt x="37" y="955"/>
                    </a:lnTo>
                    <a:lnTo>
                      <a:pt x="57" y="850"/>
                    </a:lnTo>
                    <a:lnTo>
                      <a:pt x="37" y="850"/>
                    </a:lnTo>
                    <a:lnTo>
                      <a:pt x="55" y="858"/>
                    </a:lnTo>
                    <a:lnTo>
                      <a:pt x="79" y="761"/>
                    </a:lnTo>
                    <a:lnTo>
                      <a:pt x="108" y="667"/>
                    </a:lnTo>
                    <a:lnTo>
                      <a:pt x="141" y="580"/>
                    </a:lnTo>
                    <a:lnTo>
                      <a:pt x="178" y="497"/>
                    </a:lnTo>
                    <a:lnTo>
                      <a:pt x="217" y="421"/>
                    </a:lnTo>
                    <a:lnTo>
                      <a:pt x="260" y="350"/>
                    </a:lnTo>
                    <a:lnTo>
                      <a:pt x="243" y="343"/>
                    </a:lnTo>
                    <a:lnTo>
                      <a:pt x="257" y="356"/>
                    </a:lnTo>
                    <a:lnTo>
                      <a:pt x="280" y="324"/>
                    </a:lnTo>
                    <a:lnTo>
                      <a:pt x="303" y="292"/>
                    </a:lnTo>
                    <a:lnTo>
                      <a:pt x="327" y="262"/>
                    </a:lnTo>
                    <a:lnTo>
                      <a:pt x="351" y="233"/>
                    </a:lnTo>
                    <a:lnTo>
                      <a:pt x="377" y="207"/>
                    </a:lnTo>
                    <a:lnTo>
                      <a:pt x="403" y="183"/>
                    </a:lnTo>
                    <a:lnTo>
                      <a:pt x="430" y="159"/>
                    </a:lnTo>
                    <a:lnTo>
                      <a:pt x="458" y="138"/>
                    </a:lnTo>
                    <a:lnTo>
                      <a:pt x="485" y="118"/>
                    </a:lnTo>
                    <a:lnTo>
                      <a:pt x="472" y="106"/>
                    </a:lnTo>
                    <a:lnTo>
                      <a:pt x="479" y="123"/>
                    </a:lnTo>
                    <a:lnTo>
                      <a:pt x="508" y="106"/>
                    </a:lnTo>
                    <a:lnTo>
                      <a:pt x="536" y="89"/>
                    </a:lnTo>
                    <a:lnTo>
                      <a:pt x="565" y="76"/>
                    </a:lnTo>
                    <a:lnTo>
                      <a:pt x="595" y="65"/>
                    </a:lnTo>
                    <a:lnTo>
                      <a:pt x="625" y="55"/>
                    </a:lnTo>
                    <a:lnTo>
                      <a:pt x="655" y="47"/>
                    </a:lnTo>
                    <a:lnTo>
                      <a:pt x="649" y="29"/>
                    </a:lnTo>
                    <a:lnTo>
                      <a:pt x="649" y="49"/>
                    </a:lnTo>
                    <a:lnTo>
                      <a:pt x="680" y="44"/>
                    </a:lnTo>
                    <a:lnTo>
                      <a:pt x="710" y="41"/>
                    </a:lnTo>
                    <a:lnTo>
                      <a:pt x="741" y="39"/>
                    </a:lnTo>
                    <a:lnTo>
                      <a:pt x="793" y="42"/>
                    </a:lnTo>
                    <a:lnTo>
                      <a:pt x="817" y="46"/>
                    </a:lnTo>
                    <a:lnTo>
                      <a:pt x="817" y="26"/>
                    </a:lnTo>
                    <a:lnTo>
                      <a:pt x="811" y="44"/>
                    </a:lnTo>
                    <a:lnTo>
                      <a:pt x="838" y="5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5145120" y="2660760"/>
                <a:ext cx="121320" cy="118440"/>
              </a:xfrm>
              <a:custGeom>
                <a:avLst/>
                <a:gdLst/>
                <a:ahLst/>
                <a:rect l="l" t="t" r="r" b="b"/>
                <a:pathLst>
                  <a:path w="176" h="173">
                    <a:moveTo>
                      <a:pt x="0" y="173"/>
                    </a:moveTo>
                    <a:lnTo>
                      <a:pt x="176" y="92"/>
                    </a:lnTo>
                    <a:lnTo>
                      <a:pt x="6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662720" y="3231000"/>
                <a:ext cx="117000" cy="128160"/>
              </a:xfrm>
              <a:custGeom>
                <a:avLst/>
                <a:gdLst/>
                <a:ahLst/>
                <a:rect l="l" t="t" r="r" b="b"/>
                <a:pathLst>
                  <a:path w="170" h="188">
                    <a:moveTo>
                      <a:pt x="0" y="0"/>
                    </a:moveTo>
                    <a:lnTo>
                      <a:pt x="51" y="188"/>
                    </a:lnTo>
                    <a:lnTo>
                      <a:pt x="170" y="36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8" name=""/>
            <p:cNvGrpSpPr/>
            <p:nvPr/>
          </p:nvGrpSpPr>
          <p:grpSpPr>
            <a:xfrm>
              <a:off x="6046920" y="2757600"/>
              <a:ext cx="1389240" cy="946080"/>
              <a:chOff x="6046920" y="2757600"/>
              <a:chExt cx="1389240" cy="946080"/>
            </a:xfrm>
          </p:grpSpPr>
          <p:sp>
            <p:nvSpPr>
              <p:cNvPr id="2729" name=""/>
              <p:cNvSpPr/>
              <p:nvPr/>
            </p:nvSpPr>
            <p:spPr>
              <a:xfrm>
                <a:off x="6046920" y="2757600"/>
                <a:ext cx="1389240" cy="946080"/>
              </a:xfrm>
              <a:custGeom>
                <a:avLst/>
                <a:gdLst/>
                <a:ahLst/>
                <a:rect l="l" t="t" r="r" b="b"/>
                <a:pathLst>
                  <a:path w="2016" h="1370">
                    <a:moveTo>
                      <a:pt x="2016" y="1160"/>
                    </a:moveTo>
                    <a:lnTo>
                      <a:pt x="1993" y="1129"/>
                    </a:lnTo>
                    <a:lnTo>
                      <a:pt x="1918" y="1178"/>
                    </a:lnTo>
                    <a:lnTo>
                      <a:pt x="1931" y="1192"/>
                    </a:lnTo>
                    <a:lnTo>
                      <a:pt x="1925" y="1175"/>
                    </a:lnTo>
                    <a:lnTo>
                      <a:pt x="1850" y="1215"/>
                    </a:lnTo>
                    <a:lnTo>
                      <a:pt x="1776" y="1251"/>
                    </a:lnTo>
                    <a:lnTo>
                      <a:pt x="1700" y="1281"/>
                    </a:lnTo>
                    <a:lnTo>
                      <a:pt x="1624" y="1304"/>
                    </a:lnTo>
                    <a:lnTo>
                      <a:pt x="1585" y="1312"/>
                    </a:lnTo>
                    <a:lnTo>
                      <a:pt x="1593" y="1330"/>
                    </a:lnTo>
                    <a:lnTo>
                      <a:pt x="1593" y="1310"/>
                    </a:lnTo>
                    <a:lnTo>
                      <a:pt x="1554" y="1319"/>
                    </a:lnTo>
                    <a:lnTo>
                      <a:pt x="1515" y="1323"/>
                    </a:lnTo>
                    <a:lnTo>
                      <a:pt x="1477" y="1328"/>
                    </a:lnTo>
                    <a:lnTo>
                      <a:pt x="1438" y="1332"/>
                    </a:lnTo>
                    <a:lnTo>
                      <a:pt x="1399" y="1332"/>
                    </a:lnTo>
                    <a:lnTo>
                      <a:pt x="1347" y="1330"/>
                    </a:lnTo>
                    <a:lnTo>
                      <a:pt x="1295" y="1325"/>
                    </a:lnTo>
                    <a:lnTo>
                      <a:pt x="1244" y="1319"/>
                    </a:lnTo>
                    <a:lnTo>
                      <a:pt x="1193" y="1309"/>
                    </a:lnTo>
                    <a:lnTo>
                      <a:pt x="1193" y="1328"/>
                    </a:lnTo>
                    <a:lnTo>
                      <a:pt x="1200" y="1310"/>
                    </a:lnTo>
                    <a:lnTo>
                      <a:pt x="1150" y="1298"/>
                    </a:lnTo>
                    <a:lnTo>
                      <a:pt x="1099" y="1281"/>
                    </a:lnTo>
                    <a:lnTo>
                      <a:pt x="1049" y="1262"/>
                    </a:lnTo>
                    <a:lnTo>
                      <a:pt x="999" y="1241"/>
                    </a:lnTo>
                    <a:lnTo>
                      <a:pt x="951" y="1217"/>
                    </a:lnTo>
                    <a:lnTo>
                      <a:pt x="902" y="1191"/>
                    </a:lnTo>
                    <a:lnTo>
                      <a:pt x="853" y="1162"/>
                    </a:lnTo>
                    <a:lnTo>
                      <a:pt x="847" y="1179"/>
                    </a:lnTo>
                    <a:lnTo>
                      <a:pt x="860" y="1165"/>
                    </a:lnTo>
                    <a:lnTo>
                      <a:pt x="813" y="1132"/>
                    </a:lnTo>
                    <a:lnTo>
                      <a:pt x="766" y="1098"/>
                    </a:lnTo>
                    <a:lnTo>
                      <a:pt x="719" y="1061"/>
                    </a:lnTo>
                    <a:lnTo>
                      <a:pt x="674" y="1022"/>
                    </a:lnTo>
                    <a:lnTo>
                      <a:pt x="628" y="980"/>
                    </a:lnTo>
                    <a:lnTo>
                      <a:pt x="585" y="935"/>
                    </a:lnTo>
                    <a:lnTo>
                      <a:pt x="541" y="888"/>
                    </a:lnTo>
                    <a:lnTo>
                      <a:pt x="499" y="840"/>
                    </a:lnTo>
                    <a:lnTo>
                      <a:pt x="457" y="788"/>
                    </a:lnTo>
                    <a:lnTo>
                      <a:pt x="416" y="733"/>
                    </a:lnTo>
                    <a:lnTo>
                      <a:pt x="376" y="676"/>
                    </a:lnTo>
                    <a:lnTo>
                      <a:pt x="363" y="691"/>
                    </a:lnTo>
                    <a:lnTo>
                      <a:pt x="381" y="683"/>
                    </a:lnTo>
                    <a:lnTo>
                      <a:pt x="340" y="624"/>
                    </a:lnTo>
                    <a:lnTo>
                      <a:pt x="303" y="563"/>
                    </a:lnTo>
                    <a:lnTo>
                      <a:pt x="266" y="500"/>
                    </a:lnTo>
                    <a:lnTo>
                      <a:pt x="230" y="435"/>
                    </a:lnTo>
                    <a:lnTo>
                      <a:pt x="195" y="367"/>
                    </a:lnTo>
                    <a:lnTo>
                      <a:pt x="161" y="297"/>
                    </a:lnTo>
                    <a:lnTo>
                      <a:pt x="128" y="226"/>
                    </a:lnTo>
                    <a:lnTo>
                      <a:pt x="96" y="152"/>
                    </a:lnTo>
                    <a:lnTo>
                      <a:pt x="65" y="77"/>
                    </a:lnTo>
                    <a:lnTo>
                      <a:pt x="36" y="0"/>
                    </a:lnTo>
                    <a:lnTo>
                      <a:pt x="0" y="13"/>
                    </a:lnTo>
                    <a:lnTo>
                      <a:pt x="30" y="92"/>
                    </a:lnTo>
                    <a:lnTo>
                      <a:pt x="60" y="166"/>
                    </a:lnTo>
                    <a:lnTo>
                      <a:pt x="93" y="241"/>
                    </a:lnTo>
                    <a:lnTo>
                      <a:pt x="125" y="312"/>
                    </a:lnTo>
                    <a:lnTo>
                      <a:pt x="159" y="382"/>
                    </a:lnTo>
                    <a:lnTo>
                      <a:pt x="195" y="450"/>
                    </a:lnTo>
                    <a:lnTo>
                      <a:pt x="230" y="514"/>
                    </a:lnTo>
                    <a:lnTo>
                      <a:pt x="268" y="577"/>
                    </a:lnTo>
                    <a:lnTo>
                      <a:pt x="305" y="639"/>
                    </a:lnTo>
                    <a:lnTo>
                      <a:pt x="345" y="697"/>
                    </a:lnTo>
                    <a:lnTo>
                      <a:pt x="348" y="704"/>
                    </a:lnTo>
                    <a:lnTo>
                      <a:pt x="389" y="760"/>
                    </a:lnTo>
                    <a:lnTo>
                      <a:pt x="429" y="815"/>
                    </a:lnTo>
                    <a:lnTo>
                      <a:pt x="471" y="867"/>
                    </a:lnTo>
                    <a:lnTo>
                      <a:pt x="514" y="916"/>
                    </a:lnTo>
                    <a:lnTo>
                      <a:pt x="557" y="963"/>
                    </a:lnTo>
                    <a:lnTo>
                      <a:pt x="601" y="1008"/>
                    </a:lnTo>
                    <a:lnTo>
                      <a:pt x="646" y="1050"/>
                    </a:lnTo>
                    <a:lnTo>
                      <a:pt x="692" y="1089"/>
                    </a:lnTo>
                    <a:lnTo>
                      <a:pt x="739" y="1126"/>
                    </a:lnTo>
                    <a:lnTo>
                      <a:pt x="785" y="1160"/>
                    </a:lnTo>
                    <a:lnTo>
                      <a:pt x="832" y="1192"/>
                    </a:lnTo>
                    <a:lnTo>
                      <a:pt x="839" y="1197"/>
                    </a:lnTo>
                    <a:lnTo>
                      <a:pt x="887" y="1226"/>
                    </a:lnTo>
                    <a:lnTo>
                      <a:pt x="936" y="1252"/>
                    </a:lnTo>
                    <a:lnTo>
                      <a:pt x="985" y="1277"/>
                    </a:lnTo>
                    <a:lnTo>
                      <a:pt x="1035" y="1298"/>
                    </a:lnTo>
                    <a:lnTo>
                      <a:pt x="1085" y="1317"/>
                    </a:lnTo>
                    <a:lnTo>
                      <a:pt x="1135" y="1333"/>
                    </a:lnTo>
                    <a:lnTo>
                      <a:pt x="1185" y="1346"/>
                    </a:lnTo>
                    <a:lnTo>
                      <a:pt x="1193" y="1348"/>
                    </a:lnTo>
                    <a:lnTo>
                      <a:pt x="1244" y="1357"/>
                    </a:lnTo>
                    <a:lnTo>
                      <a:pt x="1295" y="1364"/>
                    </a:lnTo>
                    <a:lnTo>
                      <a:pt x="1347" y="1369"/>
                    </a:lnTo>
                    <a:lnTo>
                      <a:pt x="1399" y="1370"/>
                    </a:lnTo>
                    <a:lnTo>
                      <a:pt x="1438" y="1370"/>
                    </a:lnTo>
                    <a:lnTo>
                      <a:pt x="1477" y="1367"/>
                    </a:lnTo>
                    <a:lnTo>
                      <a:pt x="1515" y="1362"/>
                    </a:lnTo>
                    <a:lnTo>
                      <a:pt x="1554" y="1357"/>
                    </a:lnTo>
                    <a:lnTo>
                      <a:pt x="1593" y="1349"/>
                    </a:lnTo>
                    <a:lnTo>
                      <a:pt x="1600" y="1348"/>
                    </a:lnTo>
                    <a:lnTo>
                      <a:pt x="1638" y="1340"/>
                    </a:lnTo>
                    <a:lnTo>
                      <a:pt x="1715" y="1317"/>
                    </a:lnTo>
                    <a:lnTo>
                      <a:pt x="1791" y="1286"/>
                    </a:lnTo>
                    <a:lnTo>
                      <a:pt x="1865" y="1251"/>
                    </a:lnTo>
                    <a:lnTo>
                      <a:pt x="1940" y="1210"/>
                    </a:lnTo>
                    <a:lnTo>
                      <a:pt x="1946" y="1205"/>
                    </a:lnTo>
                    <a:lnTo>
                      <a:pt x="2016" y="116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295400" y="3546360"/>
                <a:ext cx="133560" cy="114120"/>
              </a:xfrm>
              <a:custGeom>
                <a:avLst/>
                <a:gdLst/>
                <a:ahLst/>
                <a:rect l="l" t="t" r="r" b="b"/>
                <a:pathLst>
                  <a:path w="192" h="165">
                    <a:moveTo>
                      <a:pt x="89" y="165"/>
                    </a:moveTo>
                    <a:lnTo>
                      <a:pt x="192" y="0"/>
                    </a:lnTo>
                    <a:lnTo>
                      <a:pt x="0" y="16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046920" y="2763000"/>
                <a:ext cx="111600" cy="132120"/>
              </a:xfrm>
              <a:custGeom>
                <a:avLst/>
                <a:gdLst/>
                <a:ahLst/>
                <a:rect l="l" t="t" r="r" b="b"/>
                <a:pathLst>
                  <a:path w="162" h="193">
                    <a:moveTo>
                      <a:pt x="162" y="130"/>
                    </a:moveTo>
                    <a:lnTo>
                      <a:pt x="18" y="0"/>
                    </a:lnTo>
                    <a:lnTo>
                      <a:pt x="0" y="19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6005880" y="3694320"/>
              <a:ext cx="1385280" cy="877680"/>
              <a:chOff x="6005880" y="3694320"/>
              <a:chExt cx="1385280" cy="877680"/>
            </a:xfrm>
          </p:grpSpPr>
          <p:sp>
            <p:nvSpPr>
              <p:cNvPr id="2733" name=""/>
              <p:cNvSpPr/>
              <p:nvPr/>
            </p:nvSpPr>
            <p:spPr>
              <a:xfrm>
                <a:off x="6023520" y="3694320"/>
                <a:ext cx="1367640" cy="877680"/>
              </a:xfrm>
              <a:custGeom>
                <a:avLst/>
                <a:gdLst/>
                <a:ahLst/>
                <a:rect l="l" t="t" r="r" b="b"/>
                <a:pathLst>
                  <a:path w="1985" h="1272">
                    <a:moveTo>
                      <a:pt x="1967" y="191"/>
                    </a:moveTo>
                    <a:lnTo>
                      <a:pt x="1985" y="157"/>
                    </a:lnTo>
                    <a:lnTo>
                      <a:pt x="1912" y="120"/>
                    </a:lnTo>
                    <a:lnTo>
                      <a:pt x="1839" y="89"/>
                    </a:lnTo>
                    <a:lnTo>
                      <a:pt x="1766" y="62"/>
                    </a:lnTo>
                    <a:lnTo>
                      <a:pt x="1692" y="41"/>
                    </a:lnTo>
                    <a:lnTo>
                      <a:pt x="1616" y="23"/>
                    </a:lnTo>
                    <a:lnTo>
                      <a:pt x="1609" y="21"/>
                    </a:lnTo>
                    <a:lnTo>
                      <a:pt x="1533" y="10"/>
                    </a:lnTo>
                    <a:lnTo>
                      <a:pt x="1456" y="4"/>
                    </a:lnTo>
                    <a:lnTo>
                      <a:pt x="1378" y="0"/>
                    </a:lnTo>
                    <a:lnTo>
                      <a:pt x="1316" y="2"/>
                    </a:lnTo>
                    <a:lnTo>
                      <a:pt x="1256" y="7"/>
                    </a:lnTo>
                    <a:lnTo>
                      <a:pt x="1197" y="13"/>
                    </a:lnTo>
                    <a:lnTo>
                      <a:pt x="1138" y="25"/>
                    </a:lnTo>
                    <a:lnTo>
                      <a:pt x="1130" y="26"/>
                    </a:lnTo>
                    <a:lnTo>
                      <a:pt x="1072" y="39"/>
                    </a:lnTo>
                    <a:lnTo>
                      <a:pt x="1015" y="55"/>
                    </a:lnTo>
                    <a:lnTo>
                      <a:pt x="959" y="73"/>
                    </a:lnTo>
                    <a:lnTo>
                      <a:pt x="904" y="94"/>
                    </a:lnTo>
                    <a:lnTo>
                      <a:pt x="849" y="119"/>
                    </a:lnTo>
                    <a:lnTo>
                      <a:pt x="795" y="144"/>
                    </a:lnTo>
                    <a:lnTo>
                      <a:pt x="742" y="174"/>
                    </a:lnTo>
                    <a:lnTo>
                      <a:pt x="692" y="204"/>
                    </a:lnTo>
                    <a:lnTo>
                      <a:pt x="641" y="238"/>
                    </a:lnTo>
                    <a:lnTo>
                      <a:pt x="635" y="243"/>
                    </a:lnTo>
                    <a:lnTo>
                      <a:pt x="586" y="279"/>
                    </a:lnTo>
                    <a:lnTo>
                      <a:pt x="538" y="316"/>
                    </a:lnTo>
                    <a:lnTo>
                      <a:pt x="493" y="356"/>
                    </a:lnTo>
                    <a:lnTo>
                      <a:pt x="449" y="400"/>
                    </a:lnTo>
                    <a:lnTo>
                      <a:pt x="405" y="444"/>
                    </a:lnTo>
                    <a:lnTo>
                      <a:pt x="365" y="491"/>
                    </a:lnTo>
                    <a:lnTo>
                      <a:pt x="324" y="539"/>
                    </a:lnTo>
                    <a:lnTo>
                      <a:pt x="287" y="590"/>
                    </a:lnTo>
                    <a:lnTo>
                      <a:pt x="251" y="641"/>
                    </a:lnTo>
                    <a:lnTo>
                      <a:pt x="247" y="648"/>
                    </a:lnTo>
                    <a:lnTo>
                      <a:pt x="213" y="703"/>
                    </a:lnTo>
                    <a:lnTo>
                      <a:pt x="180" y="758"/>
                    </a:lnTo>
                    <a:lnTo>
                      <a:pt x="151" y="816"/>
                    </a:lnTo>
                    <a:lnTo>
                      <a:pt x="122" y="874"/>
                    </a:lnTo>
                    <a:lnTo>
                      <a:pt x="96" y="936"/>
                    </a:lnTo>
                    <a:lnTo>
                      <a:pt x="73" y="997"/>
                    </a:lnTo>
                    <a:lnTo>
                      <a:pt x="51" y="1062"/>
                    </a:lnTo>
                    <a:lnTo>
                      <a:pt x="31" y="1127"/>
                    </a:lnTo>
                    <a:lnTo>
                      <a:pt x="15" y="1193"/>
                    </a:lnTo>
                    <a:lnTo>
                      <a:pt x="13" y="1200"/>
                    </a:lnTo>
                    <a:lnTo>
                      <a:pt x="0" y="1264"/>
                    </a:lnTo>
                    <a:lnTo>
                      <a:pt x="38" y="1272"/>
                    </a:lnTo>
                    <a:lnTo>
                      <a:pt x="52" y="1200"/>
                    </a:lnTo>
                    <a:lnTo>
                      <a:pt x="33" y="1200"/>
                    </a:lnTo>
                    <a:lnTo>
                      <a:pt x="51" y="1208"/>
                    </a:lnTo>
                    <a:lnTo>
                      <a:pt x="67" y="1141"/>
                    </a:lnTo>
                    <a:lnTo>
                      <a:pt x="86" y="1077"/>
                    </a:lnTo>
                    <a:lnTo>
                      <a:pt x="109" y="1012"/>
                    </a:lnTo>
                    <a:lnTo>
                      <a:pt x="132" y="950"/>
                    </a:lnTo>
                    <a:lnTo>
                      <a:pt x="157" y="889"/>
                    </a:lnTo>
                    <a:lnTo>
                      <a:pt x="187" y="831"/>
                    </a:lnTo>
                    <a:lnTo>
                      <a:pt x="216" y="772"/>
                    </a:lnTo>
                    <a:lnTo>
                      <a:pt x="248" y="717"/>
                    </a:lnTo>
                    <a:lnTo>
                      <a:pt x="282" y="662"/>
                    </a:lnTo>
                    <a:lnTo>
                      <a:pt x="264" y="656"/>
                    </a:lnTo>
                    <a:lnTo>
                      <a:pt x="279" y="669"/>
                    </a:lnTo>
                    <a:lnTo>
                      <a:pt x="314" y="617"/>
                    </a:lnTo>
                    <a:lnTo>
                      <a:pt x="352" y="567"/>
                    </a:lnTo>
                    <a:lnTo>
                      <a:pt x="392" y="518"/>
                    </a:lnTo>
                    <a:lnTo>
                      <a:pt x="433" y="471"/>
                    </a:lnTo>
                    <a:lnTo>
                      <a:pt x="476" y="428"/>
                    </a:lnTo>
                    <a:lnTo>
                      <a:pt x="520" y="384"/>
                    </a:lnTo>
                    <a:lnTo>
                      <a:pt x="565" y="344"/>
                    </a:lnTo>
                    <a:lnTo>
                      <a:pt x="614" y="306"/>
                    </a:lnTo>
                    <a:lnTo>
                      <a:pt x="662" y="271"/>
                    </a:lnTo>
                    <a:lnTo>
                      <a:pt x="648" y="256"/>
                    </a:lnTo>
                    <a:lnTo>
                      <a:pt x="656" y="274"/>
                    </a:lnTo>
                    <a:lnTo>
                      <a:pt x="706" y="240"/>
                    </a:lnTo>
                    <a:lnTo>
                      <a:pt x="756" y="209"/>
                    </a:lnTo>
                    <a:lnTo>
                      <a:pt x="810" y="180"/>
                    </a:lnTo>
                    <a:lnTo>
                      <a:pt x="863" y="154"/>
                    </a:lnTo>
                    <a:lnTo>
                      <a:pt x="918" y="130"/>
                    </a:lnTo>
                    <a:lnTo>
                      <a:pt x="973" y="109"/>
                    </a:lnTo>
                    <a:lnTo>
                      <a:pt x="1030" y="91"/>
                    </a:lnTo>
                    <a:lnTo>
                      <a:pt x="1087" y="75"/>
                    </a:lnTo>
                    <a:lnTo>
                      <a:pt x="1145" y="62"/>
                    </a:lnTo>
                    <a:lnTo>
                      <a:pt x="1138" y="44"/>
                    </a:lnTo>
                    <a:lnTo>
                      <a:pt x="1138" y="64"/>
                    </a:lnTo>
                    <a:lnTo>
                      <a:pt x="1197" y="52"/>
                    </a:lnTo>
                    <a:lnTo>
                      <a:pt x="1256" y="46"/>
                    </a:lnTo>
                    <a:lnTo>
                      <a:pt x="1316" y="41"/>
                    </a:lnTo>
                    <a:lnTo>
                      <a:pt x="1378" y="39"/>
                    </a:lnTo>
                    <a:lnTo>
                      <a:pt x="1456" y="43"/>
                    </a:lnTo>
                    <a:lnTo>
                      <a:pt x="1533" y="49"/>
                    </a:lnTo>
                    <a:lnTo>
                      <a:pt x="1609" y="60"/>
                    </a:lnTo>
                    <a:lnTo>
                      <a:pt x="1609" y="41"/>
                    </a:lnTo>
                    <a:lnTo>
                      <a:pt x="1601" y="59"/>
                    </a:lnTo>
                    <a:lnTo>
                      <a:pt x="1677" y="76"/>
                    </a:lnTo>
                    <a:lnTo>
                      <a:pt x="1752" y="98"/>
                    </a:lnTo>
                    <a:lnTo>
                      <a:pt x="1825" y="125"/>
                    </a:lnTo>
                    <a:lnTo>
                      <a:pt x="1897" y="156"/>
                    </a:lnTo>
                    <a:lnTo>
                      <a:pt x="1967" y="191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250760" y="3710880"/>
                <a:ext cx="133560" cy="107280"/>
              </a:xfrm>
              <a:custGeom>
                <a:avLst/>
                <a:gdLst/>
                <a:ahLst/>
                <a:rect l="l" t="t" r="r" b="b"/>
                <a:pathLst>
                  <a:path w="194" h="157">
                    <a:moveTo>
                      <a:pt x="0" y="157"/>
                    </a:moveTo>
                    <a:lnTo>
                      <a:pt x="194" y="151"/>
                    </a:lnTo>
                    <a:lnTo>
                      <a:pt x="73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005880" y="4437720"/>
                <a:ext cx="115560" cy="131040"/>
              </a:xfrm>
              <a:custGeom>
                <a:avLst/>
                <a:gdLst/>
                <a:ahLst/>
                <a:rect l="l" t="t" r="r" b="b"/>
                <a:pathLst>
                  <a:path w="168" h="190">
                    <a:moveTo>
                      <a:pt x="0" y="0"/>
                    </a:moveTo>
                    <a:lnTo>
                      <a:pt x="43" y="190"/>
                    </a:lnTo>
                    <a:lnTo>
                      <a:pt x="168" y="42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6" name=""/>
            <p:cNvGrpSpPr/>
            <p:nvPr/>
          </p:nvGrpSpPr>
          <p:grpSpPr>
            <a:xfrm>
              <a:off x="6278760" y="3598920"/>
              <a:ext cx="1187640" cy="121680"/>
              <a:chOff x="6278760" y="3598920"/>
              <a:chExt cx="1187640" cy="121680"/>
            </a:xfrm>
          </p:grpSpPr>
          <p:sp>
            <p:nvSpPr>
              <p:cNvPr id="2737" name=""/>
              <p:cNvSpPr/>
              <p:nvPr/>
            </p:nvSpPr>
            <p:spPr>
              <a:xfrm>
                <a:off x="6278760" y="3646080"/>
                <a:ext cx="1187640" cy="273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278760" y="3598920"/>
                <a:ext cx="119880" cy="12060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0"/>
                    </a:moveTo>
                    <a:lnTo>
                      <a:pt x="0" y="87"/>
                    </a:lnTo>
                    <a:lnTo>
                      <a:pt x="173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347600" y="3600360"/>
                <a:ext cx="118440" cy="120240"/>
              </a:xfrm>
              <a:custGeom>
                <a:avLst/>
                <a:gdLst/>
                <a:ahLst/>
                <a:rect l="l" t="t" r="r" b="b"/>
                <a:pathLst>
                  <a:path w="173" h="174">
                    <a:moveTo>
                      <a:pt x="0" y="174"/>
                    </a:moveTo>
                    <a:lnTo>
                      <a:pt x="173" y="86"/>
                    </a:lnTo>
                    <a:lnTo>
                      <a:pt x="0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0" name=""/>
            <p:cNvGrpSpPr/>
            <p:nvPr/>
          </p:nvGrpSpPr>
          <p:grpSpPr>
            <a:xfrm>
              <a:off x="2332080" y="5050440"/>
              <a:ext cx="3125880" cy="869400"/>
              <a:chOff x="2332080" y="5050440"/>
              <a:chExt cx="3125880" cy="869400"/>
            </a:xfrm>
          </p:grpSpPr>
          <p:sp>
            <p:nvSpPr>
              <p:cNvPr id="2741" name=""/>
              <p:cNvSpPr/>
              <p:nvPr/>
            </p:nvSpPr>
            <p:spPr>
              <a:xfrm flipV="1" rot="411600">
                <a:off x="2350800" y="5232240"/>
                <a:ext cx="3087720" cy="504360"/>
              </a:xfrm>
              <a:custGeom>
                <a:avLst/>
                <a:gdLst/>
                <a:ahLst/>
                <a:rect l="l" t="t" r="r" b="b"/>
                <a:pathLst>
                  <a:path w="4477" h="733">
                    <a:moveTo>
                      <a:pt x="0" y="704"/>
                    </a:moveTo>
                    <a:lnTo>
                      <a:pt x="24" y="733"/>
                    </a:lnTo>
                    <a:lnTo>
                      <a:pt x="74" y="691"/>
                    </a:lnTo>
                    <a:lnTo>
                      <a:pt x="126" y="652"/>
                    </a:lnTo>
                    <a:lnTo>
                      <a:pt x="179" y="613"/>
                    </a:lnTo>
                    <a:lnTo>
                      <a:pt x="234" y="576"/>
                    </a:lnTo>
                    <a:lnTo>
                      <a:pt x="221" y="563"/>
                    </a:lnTo>
                    <a:lnTo>
                      <a:pt x="228" y="581"/>
                    </a:lnTo>
                    <a:lnTo>
                      <a:pt x="285" y="544"/>
                    </a:lnTo>
                    <a:lnTo>
                      <a:pt x="343" y="510"/>
                    </a:lnTo>
                    <a:lnTo>
                      <a:pt x="464" y="442"/>
                    </a:lnTo>
                    <a:lnTo>
                      <a:pt x="590" y="380"/>
                    </a:lnTo>
                    <a:lnTo>
                      <a:pt x="723" y="322"/>
                    </a:lnTo>
                    <a:lnTo>
                      <a:pt x="861" y="270"/>
                    </a:lnTo>
                    <a:lnTo>
                      <a:pt x="1003" y="221"/>
                    </a:lnTo>
                    <a:lnTo>
                      <a:pt x="1149" y="179"/>
                    </a:lnTo>
                    <a:lnTo>
                      <a:pt x="1299" y="142"/>
                    </a:lnTo>
                    <a:lnTo>
                      <a:pt x="1453" y="111"/>
                    </a:lnTo>
                    <a:lnTo>
                      <a:pt x="1447" y="94"/>
                    </a:lnTo>
                    <a:lnTo>
                      <a:pt x="1447" y="113"/>
                    </a:lnTo>
                    <a:lnTo>
                      <a:pt x="1604" y="86"/>
                    </a:lnTo>
                    <a:lnTo>
                      <a:pt x="1762" y="66"/>
                    </a:lnTo>
                    <a:lnTo>
                      <a:pt x="1924" y="50"/>
                    </a:lnTo>
                    <a:lnTo>
                      <a:pt x="2089" y="42"/>
                    </a:lnTo>
                    <a:lnTo>
                      <a:pt x="2254" y="39"/>
                    </a:lnTo>
                    <a:lnTo>
                      <a:pt x="2416" y="42"/>
                    </a:lnTo>
                    <a:lnTo>
                      <a:pt x="2576" y="50"/>
                    </a:lnTo>
                    <a:lnTo>
                      <a:pt x="2735" y="64"/>
                    </a:lnTo>
                    <a:lnTo>
                      <a:pt x="2892" y="84"/>
                    </a:lnTo>
                    <a:lnTo>
                      <a:pt x="3046" y="110"/>
                    </a:lnTo>
                    <a:lnTo>
                      <a:pt x="3046" y="90"/>
                    </a:lnTo>
                    <a:lnTo>
                      <a:pt x="3038" y="108"/>
                    </a:lnTo>
                    <a:lnTo>
                      <a:pt x="3190" y="137"/>
                    </a:lnTo>
                    <a:lnTo>
                      <a:pt x="3337" y="173"/>
                    </a:lnTo>
                    <a:lnTo>
                      <a:pt x="3481" y="213"/>
                    </a:lnTo>
                    <a:lnTo>
                      <a:pt x="3620" y="259"/>
                    </a:lnTo>
                    <a:lnTo>
                      <a:pt x="3756" y="310"/>
                    </a:lnTo>
                    <a:lnTo>
                      <a:pt x="3886" y="365"/>
                    </a:lnTo>
                    <a:lnTo>
                      <a:pt x="4012" y="425"/>
                    </a:lnTo>
                    <a:lnTo>
                      <a:pt x="4132" y="488"/>
                    </a:lnTo>
                    <a:lnTo>
                      <a:pt x="4247" y="558"/>
                    </a:lnTo>
                    <a:lnTo>
                      <a:pt x="4302" y="594"/>
                    </a:lnTo>
                    <a:lnTo>
                      <a:pt x="4308" y="576"/>
                    </a:lnTo>
                    <a:lnTo>
                      <a:pt x="4295" y="590"/>
                    </a:lnTo>
                    <a:lnTo>
                      <a:pt x="4349" y="628"/>
                    </a:lnTo>
                    <a:lnTo>
                      <a:pt x="4400" y="665"/>
                    </a:lnTo>
                    <a:lnTo>
                      <a:pt x="4452" y="705"/>
                    </a:lnTo>
                    <a:lnTo>
                      <a:pt x="4477" y="676"/>
                    </a:lnTo>
                    <a:lnTo>
                      <a:pt x="4428" y="637"/>
                    </a:lnTo>
                    <a:lnTo>
                      <a:pt x="4376" y="600"/>
                    </a:lnTo>
                    <a:lnTo>
                      <a:pt x="4323" y="563"/>
                    </a:lnTo>
                    <a:lnTo>
                      <a:pt x="4316" y="558"/>
                    </a:lnTo>
                    <a:lnTo>
                      <a:pt x="4261" y="522"/>
                    </a:lnTo>
                    <a:lnTo>
                      <a:pt x="4146" y="453"/>
                    </a:lnTo>
                    <a:lnTo>
                      <a:pt x="4027" y="390"/>
                    </a:lnTo>
                    <a:lnTo>
                      <a:pt x="3900" y="330"/>
                    </a:lnTo>
                    <a:lnTo>
                      <a:pt x="3771" y="275"/>
                    </a:lnTo>
                    <a:lnTo>
                      <a:pt x="3635" y="223"/>
                    </a:lnTo>
                    <a:lnTo>
                      <a:pt x="3496" y="178"/>
                    </a:lnTo>
                    <a:lnTo>
                      <a:pt x="3352" y="137"/>
                    </a:lnTo>
                    <a:lnTo>
                      <a:pt x="3204" y="102"/>
                    </a:lnTo>
                    <a:lnTo>
                      <a:pt x="3052" y="73"/>
                    </a:lnTo>
                    <a:lnTo>
                      <a:pt x="3046" y="71"/>
                    </a:lnTo>
                    <a:lnTo>
                      <a:pt x="2892" y="45"/>
                    </a:lnTo>
                    <a:lnTo>
                      <a:pt x="2735" y="26"/>
                    </a:lnTo>
                    <a:lnTo>
                      <a:pt x="2576" y="11"/>
                    </a:lnTo>
                    <a:lnTo>
                      <a:pt x="2416" y="3"/>
                    </a:lnTo>
                    <a:lnTo>
                      <a:pt x="2254" y="0"/>
                    </a:lnTo>
                    <a:lnTo>
                      <a:pt x="2089" y="3"/>
                    </a:lnTo>
                    <a:lnTo>
                      <a:pt x="1924" y="11"/>
                    </a:lnTo>
                    <a:lnTo>
                      <a:pt x="1762" y="27"/>
                    </a:lnTo>
                    <a:lnTo>
                      <a:pt x="1604" y="47"/>
                    </a:lnTo>
                    <a:lnTo>
                      <a:pt x="1447" y="74"/>
                    </a:lnTo>
                    <a:lnTo>
                      <a:pt x="1439" y="76"/>
                    </a:lnTo>
                    <a:lnTo>
                      <a:pt x="1285" y="107"/>
                    </a:lnTo>
                    <a:lnTo>
                      <a:pt x="1134" y="144"/>
                    </a:lnTo>
                    <a:lnTo>
                      <a:pt x="989" y="186"/>
                    </a:lnTo>
                    <a:lnTo>
                      <a:pt x="846" y="234"/>
                    </a:lnTo>
                    <a:lnTo>
                      <a:pt x="709" y="286"/>
                    </a:lnTo>
                    <a:lnTo>
                      <a:pt x="576" y="344"/>
                    </a:lnTo>
                    <a:lnTo>
                      <a:pt x="450" y="406"/>
                    </a:lnTo>
                    <a:lnTo>
                      <a:pt x="328" y="474"/>
                    </a:lnTo>
                    <a:lnTo>
                      <a:pt x="270" y="508"/>
                    </a:lnTo>
                    <a:lnTo>
                      <a:pt x="213" y="545"/>
                    </a:lnTo>
                    <a:lnTo>
                      <a:pt x="207" y="548"/>
                    </a:lnTo>
                    <a:lnTo>
                      <a:pt x="152" y="586"/>
                    </a:lnTo>
                    <a:lnTo>
                      <a:pt x="98" y="624"/>
                    </a:lnTo>
                    <a:lnTo>
                      <a:pt x="47" y="663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V="1" rot="411600">
                <a:off x="2391120" y="5068080"/>
                <a:ext cx="131040" cy="119520"/>
              </a:xfrm>
              <a:custGeom>
                <a:avLst/>
                <a:gdLst/>
                <a:ahLst/>
                <a:rect l="l" t="t" r="r" b="b"/>
                <a:pathLst>
                  <a:path w="189" h="174">
                    <a:moveTo>
                      <a:pt x="83" y="0"/>
                    </a:moveTo>
                    <a:lnTo>
                      <a:pt x="0" y="174"/>
                    </a:lnTo>
                    <a:lnTo>
                      <a:pt x="189" y="135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V="1" rot="411600">
                <a:off x="5307120" y="5438160"/>
                <a:ext cx="131040" cy="118080"/>
              </a:xfrm>
              <a:custGeom>
                <a:avLst/>
                <a:gdLst/>
                <a:ahLst/>
                <a:rect l="l" t="t" r="r" b="b"/>
                <a:pathLst>
                  <a:path w="191" h="173">
                    <a:moveTo>
                      <a:pt x="0" y="139"/>
                    </a:moveTo>
                    <a:lnTo>
                      <a:pt x="191" y="173"/>
                    </a:lnTo>
                    <a:lnTo>
                      <a:pt x="103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4" name=""/>
            <p:cNvSpPr/>
            <p:nvPr/>
          </p:nvSpPr>
          <p:spPr>
            <a:xfrm>
              <a:off x="6248520" y="3283560"/>
              <a:ext cx="1301760" cy="63720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Demand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810160" y="4534920"/>
              <a:ext cx="1301760" cy="63720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Supply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002480" y="4103280"/>
              <a:ext cx="1301760" cy="88056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echnical Product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413080" y="2814120"/>
              <a:ext cx="1301760" cy="63720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anufacturing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3868920" y="1969560"/>
              <a:ext cx="1301760" cy="88056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arketing Product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3935520" y="2858040"/>
              <a:ext cx="1301760" cy="63720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Project Status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378760" y="5454720"/>
              <a:ext cx="1303200" cy="63720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Financial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430240" y="3857760"/>
              <a:ext cx="116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Transpor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Operat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2" name=""/>
            <p:cNvGrpSpPr/>
            <p:nvPr/>
          </p:nvGrpSpPr>
          <p:grpSpPr>
            <a:xfrm>
              <a:off x="5436000" y="2073240"/>
              <a:ext cx="808920" cy="912600"/>
              <a:chOff x="5436000" y="2073240"/>
              <a:chExt cx="808920" cy="912600"/>
            </a:xfrm>
          </p:grpSpPr>
          <p:sp>
            <p:nvSpPr>
              <p:cNvPr id="2753" name=""/>
              <p:cNvSpPr/>
              <p:nvPr/>
            </p:nvSpPr>
            <p:spPr>
              <a:xfrm>
                <a:off x="5514480" y="2755800"/>
                <a:ext cx="654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578920" y="2787480"/>
                <a:ext cx="604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257e"/>
                    </a:solidFill>
                    <a:latin typeface="Arial"/>
                  </a:rPr>
                  <a:t>Retail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5" name=""/>
              <p:cNvGrpSpPr/>
              <p:nvPr/>
            </p:nvGrpSpPr>
            <p:grpSpPr>
              <a:xfrm>
                <a:off x="5436000" y="2073240"/>
                <a:ext cx="808920" cy="649440"/>
                <a:chOff x="5436000" y="2073240"/>
                <a:chExt cx="808920" cy="649440"/>
              </a:xfrm>
            </p:grpSpPr>
            <p:sp>
              <p:nvSpPr>
                <p:cNvPr id="2756" name=""/>
                <p:cNvSpPr/>
                <p:nvPr/>
              </p:nvSpPr>
              <p:spPr>
                <a:xfrm>
                  <a:off x="5461920" y="2108880"/>
                  <a:ext cx="783000" cy="613800"/>
                </a:xfrm>
                <a:custGeom>
                  <a:avLst/>
                  <a:gdLst/>
                  <a:ahLst/>
                  <a:rect l="l" t="t" r="r" b="b"/>
                  <a:pathLst>
                    <a:path w="1135" h="888">
                      <a:moveTo>
                        <a:pt x="1135" y="888"/>
                      </a:moveTo>
                      <a:lnTo>
                        <a:pt x="0" y="888"/>
                      </a:lnTo>
                      <a:lnTo>
                        <a:pt x="0" y="639"/>
                      </a:lnTo>
                      <a:lnTo>
                        <a:pt x="215" y="639"/>
                      </a:lnTo>
                      <a:lnTo>
                        <a:pt x="215" y="331"/>
                      </a:lnTo>
                      <a:lnTo>
                        <a:pt x="450" y="331"/>
                      </a:lnTo>
                      <a:lnTo>
                        <a:pt x="450" y="107"/>
                      </a:lnTo>
                      <a:lnTo>
                        <a:pt x="500" y="107"/>
                      </a:lnTo>
                      <a:lnTo>
                        <a:pt x="500" y="0"/>
                      </a:lnTo>
                      <a:lnTo>
                        <a:pt x="715" y="0"/>
                      </a:lnTo>
                      <a:lnTo>
                        <a:pt x="715" y="178"/>
                      </a:lnTo>
                      <a:lnTo>
                        <a:pt x="796" y="178"/>
                      </a:lnTo>
                      <a:lnTo>
                        <a:pt x="796" y="285"/>
                      </a:lnTo>
                      <a:lnTo>
                        <a:pt x="1002" y="285"/>
                      </a:lnTo>
                      <a:lnTo>
                        <a:pt x="1002" y="461"/>
                      </a:lnTo>
                      <a:lnTo>
                        <a:pt x="1135" y="461"/>
                      </a:lnTo>
                      <a:lnTo>
                        <a:pt x="1135" y="8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5436000" y="2073240"/>
                  <a:ext cx="781560" cy="613440"/>
                </a:xfrm>
                <a:custGeom>
                  <a:avLst/>
                  <a:gdLst/>
                  <a:ahLst/>
                  <a:rect l="l" t="t" r="r" b="b"/>
                  <a:pathLst>
                    <a:path w="1135" h="888">
                      <a:moveTo>
                        <a:pt x="1135" y="888"/>
                      </a:moveTo>
                      <a:lnTo>
                        <a:pt x="0" y="888"/>
                      </a:lnTo>
                      <a:lnTo>
                        <a:pt x="0" y="639"/>
                      </a:lnTo>
                      <a:lnTo>
                        <a:pt x="215" y="639"/>
                      </a:lnTo>
                      <a:lnTo>
                        <a:pt x="215" y="332"/>
                      </a:lnTo>
                      <a:lnTo>
                        <a:pt x="450" y="332"/>
                      </a:lnTo>
                      <a:lnTo>
                        <a:pt x="450" y="107"/>
                      </a:lnTo>
                      <a:lnTo>
                        <a:pt x="500" y="107"/>
                      </a:lnTo>
                      <a:lnTo>
                        <a:pt x="500" y="0"/>
                      </a:lnTo>
                      <a:lnTo>
                        <a:pt x="716" y="0"/>
                      </a:lnTo>
                      <a:lnTo>
                        <a:pt x="716" y="178"/>
                      </a:lnTo>
                      <a:lnTo>
                        <a:pt x="796" y="178"/>
                      </a:lnTo>
                      <a:lnTo>
                        <a:pt x="796" y="285"/>
                      </a:lnTo>
                      <a:lnTo>
                        <a:pt x="1002" y="285"/>
                      </a:lnTo>
                      <a:lnTo>
                        <a:pt x="1002" y="461"/>
                      </a:lnTo>
                      <a:lnTo>
                        <a:pt x="1135" y="461"/>
                      </a:lnTo>
                      <a:lnTo>
                        <a:pt x="1135" y="888"/>
                      </a:lnTo>
                      <a:close/>
                    </a:path>
                  </a:pathLst>
                </a:cu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5508720" y="2303280"/>
                  <a:ext cx="172440" cy="2052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5681160" y="2148840"/>
                  <a:ext cx="112680" cy="15444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5711760" y="2074320"/>
                  <a:ext cx="112680" cy="7416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5759640" y="2303280"/>
                  <a:ext cx="34200" cy="38052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5883840" y="2278440"/>
                  <a:ext cx="125280" cy="40212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5846760" y="2508480"/>
                  <a:ext cx="95040" cy="576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072840" y="2386080"/>
                  <a:ext cx="60480" cy="2934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056280" y="2510280"/>
                  <a:ext cx="37080" cy="17064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5892120" y="2279880"/>
                  <a:ext cx="1908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5918400" y="2279880"/>
                  <a:ext cx="1800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5941800" y="2279880"/>
                  <a:ext cx="1908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5968080" y="2279880"/>
                  <a:ext cx="1908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5892120" y="231984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5918400" y="2319840"/>
                  <a:ext cx="1800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5941800" y="231984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5892120" y="235872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5892120" y="239832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6103080" y="239580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6103080" y="2434320"/>
                  <a:ext cx="19080" cy="30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6103080" y="247428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6103080" y="251136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5689440" y="2158560"/>
                  <a:ext cx="1764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5715720" y="2158560"/>
                  <a:ext cx="1764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5740560" y="2158560"/>
                  <a:ext cx="1800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5689440" y="2198520"/>
                  <a:ext cx="1764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5715720" y="2198520"/>
                  <a:ext cx="1764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5892120" y="243720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5521320" y="2313000"/>
                  <a:ext cx="1224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5547600" y="2313000"/>
                  <a:ext cx="1080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5573880" y="2313000"/>
                  <a:ext cx="1188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5600160" y="2313000"/>
                  <a:ext cx="1188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5626080" y="2313000"/>
                  <a:ext cx="1224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5652360" y="2313000"/>
                  <a:ext cx="12240" cy="1350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5719680" y="2082600"/>
                  <a:ext cx="1800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5744880" y="2082600"/>
                  <a:ext cx="1872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5769360" y="2082600"/>
                  <a:ext cx="2052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5795640" y="2082600"/>
                  <a:ext cx="1764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5882760" y="2518200"/>
                  <a:ext cx="1764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6" name=""/>
                <p:cNvGrpSpPr/>
                <p:nvPr/>
              </p:nvGrpSpPr>
              <p:grpSpPr>
                <a:xfrm>
                  <a:off x="5536440" y="2554200"/>
                  <a:ext cx="124920" cy="123840"/>
                  <a:chOff x="5536440" y="2554200"/>
                  <a:chExt cx="124920" cy="123840"/>
                </a:xfrm>
              </p:grpSpPr>
              <p:sp>
                <p:nvSpPr>
                  <p:cNvPr id="2797" name=""/>
                  <p:cNvSpPr/>
                  <p:nvPr/>
                </p:nvSpPr>
                <p:spPr>
                  <a:xfrm>
                    <a:off x="5606640" y="2554200"/>
                    <a:ext cx="54720" cy="123840"/>
                  </a:xfrm>
                  <a:prstGeom prst="rect">
                    <a:avLst/>
                  </a:prstGeom>
                  <a:solidFill>
                    <a:srgbClr val="0025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5536440" y="2554200"/>
                    <a:ext cx="54720" cy="123840"/>
                  </a:xfrm>
                  <a:prstGeom prst="rect">
                    <a:avLst/>
                  </a:prstGeom>
                  <a:solidFill>
                    <a:srgbClr val="0025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609480" y="11430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lob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1066680" y="18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:  new resources and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609480" y="11430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lob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1066680" y="18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:  new resources and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66680" y="2443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dependence:  threats and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609480" y="11430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lob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1066680" y="18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:  new resources and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1066680" y="2443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dependence:  threats and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609480" y="32320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066680" y="3973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gence:  servicing global p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/>
          <p:nvPr/>
        </p:nvSpPr>
        <p:spPr>
          <a:xfrm>
            <a:off x="609480" y="11430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lob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066680" y="18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:  new resources and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1066680" y="2443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dependence:  threats and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609480" y="32320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066680" y="3973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:  servicing global p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066680" y="45403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, Innovation, Standards:  building fou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09480" y="11430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lob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1066680" y="18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row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new resources and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1066680" y="2443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depen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reats and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609480" y="32320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1066680" y="3973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verg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servicing global p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066680" y="45403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frastructure, Innovation, Stand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building fou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582840" y="560556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owards sustainable profits and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Dominance of Market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676520"/>
            <a:ext cx="90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osed Economies Open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81952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ources releas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7320" y="114480"/>
            <a:ext cx="84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Dominance of Market Economies:  Resources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06668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ina has added 1.3 billion people into the global market (more than US, EU and Japan combin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52600" y="2178000"/>
            <a:ext cx="6222960" cy="3597480"/>
            <a:chOff x="552600" y="2178000"/>
            <a:chExt cx="6222960" cy="3597480"/>
          </a:xfrm>
        </p:grpSpPr>
        <p:sp>
          <p:nvSpPr>
            <p:cNvPr id="57" name=""/>
            <p:cNvSpPr/>
            <p:nvPr/>
          </p:nvSpPr>
          <p:spPr>
            <a:xfrm>
              <a:off x="4767120" y="3481560"/>
              <a:ext cx="1046160" cy="742680"/>
            </a:xfrm>
            <a:custGeom>
              <a:avLst/>
              <a:gdLst/>
              <a:ahLst/>
              <a:rect l="l" t="t" r="r" b="b"/>
              <a:pathLst>
                <a:path w="1377" h="983">
                  <a:moveTo>
                    <a:pt x="286" y="175"/>
                  </a:moveTo>
                  <a:lnTo>
                    <a:pt x="315" y="159"/>
                  </a:lnTo>
                  <a:lnTo>
                    <a:pt x="341" y="203"/>
                  </a:lnTo>
                  <a:lnTo>
                    <a:pt x="374" y="203"/>
                  </a:lnTo>
                  <a:lnTo>
                    <a:pt x="386" y="232"/>
                  </a:lnTo>
                  <a:lnTo>
                    <a:pt x="386" y="293"/>
                  </a:lnTo>
                  <a:lnTo>
                    <a:pt x="474" y="322"/>
                  </a:lnTo>
                  <a:lnTo>
                    <a:pt x="518" y="366"/>
                  </a:lnTo>
                  <a:lnTo>
                    <a:pt x="600" y="366"/>
                  </a:lnTo>
                  <a:lnTo>
                    <a:pt x="644" y="395"/>
                  </a:lnTo>
                  <a:lnTo>
                    <a:pt x="704" y="408"/>
                  </a:lnTo>
                  <a:lnTo>
                    <a:pt x="760" y="380"/>
                  </a:lnTo>
                  <a:lnTo>
                    <a:pt x="819" y="380"/>
                  </a:lnTo>
                  <a:lnTo>
                    <a:pt x="859" y="335"/>
                  </a:lnTo>
                  <a:lnTo>
                    <a:pt x="848" y="322"/>
                  </a:lnTo>
                  <a:lnTo>
                    <a:pt x="877" y="293"/>
                  </a:lnTo>
                  <a:lnTo>
                    <a:pt x="903" y="307"/>
                  </a:lnTo>
                  <a:lnTo>
                    <a:pt x="948" y="278"/>
                  </a:lnTo>
                  <a:lnTo>
                    <a:pt x="976" y="249"/>
                  </a:lnTo>
                  <a:lnTo>
                    <a:pt x="1034" y="249"/>
                  </a:lnTo>
                  <a:lnTo>
                    <a:pt x="1019" y="221"/>
                  </a:lnTo>
                  <a:lnTo>
                    <a:pt x="1003" y="203"/>
                  </a:lnTo>
                  <a:lnTo>
                    <a:pt x="976" y="221"/>
                  </a:lnTo>
                  <a:lnTo>
                    <a:pt x="948" y="221"/>
                  </a:lnTo>
                  <a:lnTo>
                    <a:pt x="948" y="159"/>
                  </a:lnTo>
                  <a:lnTo>
                    <a:pt x="963" y="131"/>
                  </a:lnTo>
                  <a:lnTo>
                    <a:pt x="992" y="146"/>
                  </a:lnTo>
                  <a:lnTo>
                    <a:pt x="1034" y="131"/>
                  </a:lnTo>
                  <a:lnTo>
                    <a:pt x="1047" y="73"/>
                  </a:lnTo>
                  <a:lnTo>
                    <a:pt x="1063" y="58"/>
                  </a:lnTo>
                  <a:lnTo>
                    <a:pt x="1063" y="41"/>
                  </a:lnTo>
                  <a:lnTo>
                    <a:pt x="1047" y="41"/>
                  </a:lnTo>
                  <a:lnTo>
                    <a:pt x="1063" y="12"/>
                  </a:lnTo>
                  <a:lnTo>
                    <a:pt x="1118" y="0"/>
                  </a:lnTo>
                  <a:lnTo>
                    <a:pt x="1162" y="12"/>
                  </a:lnTo>
                  <a:lnTo>
                    <a:pt x="1191" y="41"/>
                  </a:lnTo>
                  <a:lnTo>
                    <a:pt x="1222" y="146"/>
                  </a:lnTo>
                  <a:lnTo>
                    <a:pt x="1251" y="146"/>
                  </a:lnTo>
                  <a:lnTo>
                    <a:pt x="1293" y="175"/>
                  </a:lnTo>
                  <a:lnTo>
                    <a:pt x="1293" y="203"/>
                  </a:lnTo>
                  <a:lnTo>
                    <a:pt x="1322" y="203"/>
                  </a:lnTo>
                  <a:lnTo>
                    <a:pt x="1377" y="188"/>
                  </a:lnTo>
                  <a:lnTo>
                    <a:pt x="1377" y="221"/>
                  </a:lnTo>
                  <a:lnTo>
                    <a:pt x="1337" y="307"/>
                  </a:lnTo>
                  <a:lnTo>
                    <a:pt x="1322" y="293"/>
                  </a:lnTo>
                  <a:lnTo>
                    <a:pt x="1293" y="307"/>
                  </a:lnTo>
                  <a:lnTo>
                    <a:pt x="1306" y="351"/>
                  </a:lnTo>
                  <a:lnTo>
                    <a:pt x="1293" y="380"/>
                  </a:lnTo>
                  <a:lnTo>
                    <a:pt x="1277" y="380"/>
                  </a:lnTo>
                  <a:lnTo>
                    <a:pt x="1251" y="395"/>
                  </a:lnTo>
                  <a:lnTo>
                    <a:pt x="1235" y="395"/>
                  </a:lnTo>
                  <a:lnTo>
                    <a:pt x="1222" y="408"/>
                  </a:lnTo>
                  <a:lnTo>
                    <a:pt x="1207" y="408"/>
                  </a:lnTo>
                  <a:lnTo>
                    <a:pt x="1151" y="452"/>
                  </a:lnTo>
                  <a:lnTo>
                    <a:pt x="1151" y="470"/>
                  </a:lnTo>
                  <a:lnTo>
                    <a:pt x="1118" y="470"/>
                  </a:lnTo>
                  <a:lnTo>
                    <a:pt x="1078" y="498"/>
                  </a:lnTo>
                  <a:lnTo>
                    <a:pt x="1078" y="470"/>
                  </a:lnTo>
                  <a:lnTo>
                    <a:pt x="1091" y="441"/>
                  </a:lnTo>
                  <a:lnTo>
                    <a:pt x="1078" y="424"/>
                  </a:lnTo>
                  <a:lnTo>
                    <a:pt x="1034" y="470"/>
                  </a:lnTo>
                  <a:lnTo>
                    <a:pt x="1019" y="481"/>
                  </a:lnTo>
                  <a:lnTo>
                    <a:pt x="1003" y="481"/>
                  </a:lnTo>
                  <a:lnTo>
                    <a:pt x="992" y="498"/>
                  </a:lnTo>
                  <a:lnTo>
                    <a:pt x="1034" y="542"/>
                  </a:lnTo>
                  <a:lnTo>
                    <a:pt x="1063" y="527"/>
                  </a:lnTo>
                  <a:lnTo>
                    <a:pt x="1107" y="542"/>
                  </a:lnTo>
                  <a:lnTo>
                    <a:pt x="1107" y="558"/>
                  </a:lnTo>
                  <a:lnTo>
                    <a:pt x="1091" y="542"/>
                  </a:lnTo>
                  <a:lnTo>
                    <a:pt x="1063" y="558"/>
                  </a:lnTo>
                  <a:lnTo>
                    <a:pt x="1034" y="600"/>
                  </a:lnTo>
                  <a:lnTo>
                    <a:pt x="1047" y="615"/>
                  </a:lnTo>
                  <a:lnTo>
                    <a:pt x="1063" y="673"/>
                  </a:lnTo>
                  <a:lnTo>
                    <a:pt x="1091" y="690"/>
                  </a:lnTo>
                  <a:lnTo>
                    <a:pt x="1078" y="690"/>
                  </a:lnTo>
                  <a:lnTo>
                    <a:pt x="1091" y="719"/>
                  </a:lnTo>
                  <a:lnTo>
                    <a:pt x="1047" y="734"/>
                  </a:lnTo>
                  <a:lnTo>
                    <a:pt x="1091" y="734"/>
                  </a:lnTo>
                  <a:lnTo>
                    <a:pt x="1078" y="791"/>
                  </a:lnTo>
                  <a:lnTo>
                    <a:pt x="1047" y="820"/>
                  </a:lnTo>
                  <a:lnTo>
                    <a:pt x="1034" y="820"/>
                  </a:lnTo>
                  <a:lnTo>
                    <a:pt x="1034" y="849"/>
                  </a:lnTo>
                  <a:lnTo>
                    <a:pt x="1019" y="881"/>
                  </a:lnTo>
                  <a:lnTo>
                    <a:pt x="1003" y="881"/>
                  </a:lnTo>
                  <a:lnTo>
                    <a:pt x="1003" y="893"/>
                  </a:lnTo>
                  <a:lnTo>
                    <a:pt x="963" y="925"/>
                  </a:lnTo>
                  <a:lnTo>
                    <a:pt x="919" y="925"/>
                  </a:lnTo>
                  <a:lnTo>
                    <a:pt x="919" y="939"/>
                  </a:lnTo>
                  <a:lnTo>
                    <a:pt x="903" y="925"/>
                  </a:lnTo>
                  <a:lnTo>
                    <a:pt x="903" y="939"/>
                  </a:lnTo>
                  <a:lnTo>
                    <a:pt x="892" y="939"/>
                  </a:lnTo>
                  <a:lnTo>
                    <a:pt x="832" y="967"/>
                  </a:lnTo>
                  <a:lnTo>
                    <a:pt x="819" y="983"/>
                  </a:lnTo>
                  <a:lnTo>
                    <a:pt x="819" y="954"/>
                  </a:lnTo>
                  <a:lnTo>
                    <a:pt x="748" y="954"/>
                  </a:lnTo>
                  <a:lnTo>
                    <a:pt x="748" y="925"/>
                  </a:lnTo>
                  <a:lnTo>
                    <a:pt x="717" y="925"/>
                  </a:lnTo>
                  <a:lnTo>
                    <a:pt x="660" y="939"/>
                  </a:lnTo>
                  <a:lnTo>
                    <a:pt x="644" y="925"/>
                  </a:lnTo>
                  <a:lnTo>
                    <a:pt x="644" y="939"/>
                  </a:lnTo>
                  <a:lnTo>
                    <a:pt x="633" y="939"/>
                  </a:lnTo>
                  <a:lnTo>
                    <a:pt x="633" y="967"/>
                  </a:lnTo>
                  <a:lnTo>
                    <a:pt x="618" y="967"/>
                  </a:lnTo>
                  <a:lnTo>
                    <a:pt x="618" y="954"/>
                  </a:lnTo>
                  <a:lnTo>
                    <a:pt x="600" y="954"/>
                  </a:lnTo>
                  <a:lnTo>
                    <a:pt x="573" y="939"/>
                  </a:lnTo>
                  <a:lnTo>
                    <a:pt x="573" y="910"/>
                  </a:lnTo>
                  <a:lnTo>
                    <a:pt x="560" y="893"/>
                  </a:lnTo>
                  <a:lnTo>
                    <a:pt x="545" y="893"/>
                  </a:lnTo>
                  <a:lnTo>
                    <a:pt x="560" y="820"/>
                  </a:lnTo>
                  <a:lnTo>
                    <a:pt x="545" y="791"/>
                  </a:lnTo>
                  <a:lnTo>
                    <a:pt x="529" y="791"/>
                  </a:lnTo>
                  <a:lnTo>
                    <a:pt x="501" y="763"/>
                  </a:lnTo>
                  <a:lnTo>
                    <a:pt x="474" y="763"/>
                  </a:lnTo>
                  <a:lnTo>
                    <a:pt x="401" y="791"/>
                  </a:lnTo>
                  <a:lnTo>
                    <a:pt x="359" y="791"/>
                  </a:lnTo>
                  <a:lnTo>
                    <a:pt x="341" y="807"/>
                  </a:lnTo>
                  <a:lnTo>
                    <a:pt x="330" y="791"/>
                  </a:lnTo>
                  <a:lnTo>
                    <a:pt x="270" y="791"/>
                  </a:lnTo>
                  <a:lnTo>
                    <a:pt x="242" y="776"/>
                  </a:lnTo>
                  <a:lnTo>
                    <a:pt x="226" y="763"/>
                  </a:lnTo>
                  <a:lnTo>
                    <a:pt x="215" y="763"/>
                  </a:lnTo>
                  <a:lnTo>
                    <a:pt x="186" y="734"/>
                  </a:lnTo>
                  <a:lnTo>
                    <a:pt x="155" y="734"/>
                  </a:lnTo>
                  <a:lnTo>
                    <a:pt x="115" y="719"/>
                  </a:lnTo>
                  <a:lnTo>
                    <a:pt x="100" y="673"/>
                  </a:lnTo>
                  <a:lnTo>
                    <a:pt x="127" y="673"/>
                  </a:lnTo>
                  <a:lnTo>
                    <a:pt x="115" y="644"/>
                  </a:lnTo>
                  <a:lnTo>
                    <a:pt x="142" y="615"/>
                  </a:lnTo>
                  <a:lnTo>
                    <a:pt x="142" y="586"/>
                  </a:lnTo>
                  <a:lnTo>
                    <a:pt x="127" y="571"/>
                  </a:lnTo>
                  <a:lnTo>
                    <a:pt x="84" y="586"/>
                  </a:lnTo>
                  <a:lnTo>
                    <a:pt x="56" y="571"/>
                  </a:lnTo>
                  <a:lnTo>
                    <a:pt x="42" y="558"/>
                  </a:lnTo>
                  <a:lnTo>
                    <a:pt x="11" y="542"/>
                  </a:lnTo>
                  <a:lnTo>
                    <a:pt x="27" y="542"/>
                  </a:lnTo>
                  <a:lnTo>
                    <a:pt x="27" y="498"/>
                  </a:lnTo>
                  <a:lnTo>
                    <a:pt x="0" y="498"/>
                  </a:lnTo>
                  <a:lnTo>
                    <a:pt x="0" y="452"/>
                  </a:lnTo>
                  <a:lnTo>
                    <a:pt x="27" y="441"/>
                  </a:lnTo>
                  <a:lnTo>
                    <a:pt x="56" y="441"/>
                  </a:lnTo>
                  <a:lnTo>
                    <a:pt x="71" y="424"/>
                  </a:lnTo>
                  <a:lnTo>
                    <a:pt x="100" y="424"/>
                  </a:lnTo>
                  <a:lnTo>
                    <a:pt x="142" y="395"/>
                  </a:lnTo>
                  <a:lnTo>
                    <a:pt x="155" y="366"/>
                  </a:lnTo>
                  <a:lnTo>
                    <a:pt x="142" y="307"/>
                  </a:lnTo>
                  <a:lnTo>
                    <a:pt x="142" y="293"/>
                  </a:lnTo>
                  <a:lnTo>
                    <a:pt x="186" y="293"/>
                  </a:lnTo>
                  <a:lnTo>
                    <a:pt x="199" y="232"/>
                  </a:lnTo>
                  <a:lnTo>
                    <a:pt x="259" y="232"/>
                  </a:lnTo>
                  <a:lnTo>
                    <a:pt x="270" y="188"/>
                  </a:lnTo>
                  <a:lnTo>
                    <a:pt x="286" y="175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48240" y="3890880"/>
              <a:ext cx="282600" cy="28116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48240" y="3890880"/>
              <a:ext cx="282600" cy="28116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8520" y="3859200"/>
              <a:ext cx="249480" cy="19836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38520" y="3859200"/>
              <a:ext cx="249480" cy="19836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54480" y="3822840"/>
              <a:ext cx="325440" cy="31248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54480" y="3822840"/>
              <a:ext cx="325440" cy="31248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57680" y="3800520"/>
              <a:ext cx="130320" cy="10152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57680" y="3800520"/>
              <a:ext cx="130320" cy="10152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92600" y="3746520"/>
              <a:ext cx="182520" cy="8892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92600" y="3746520"/>
              <a:ext cx="182520" cy="8892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5960" y="3759120"/>
              <a:ext cx="250560" cy="16524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95960" y="3759120"/>
              <a:ext cx="250560" cy="16524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2560" y="3689280"/>
              <a:ext cx="293760" cy="20160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62560" y="3689280"/>
              <a:ext cx="293760" cy="20160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95880" y="3422520"/>
              <a:ext cx="711000" cy="37800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95880" y="3422520"/>
              <a:ext cx="711000" cy="37800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16440" y="4002120"/>
              <a:ext cx="193680" cy="20160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16440" y="4002120"/>
              <a:ext cx="193680" cy="20160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54360" y="3979800"/>
              <a:ext cx="273240" cy="26532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54360" y="3979800"/>
              <a:ext cx="273240" cy="26532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48000" y="3890880"/>
              <a:ext cx="351000" cy="35424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48000" y="3890880"/>
              <a:ext cx="351000" cy="35424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84640" y="4135320"/>
              <a:ext cx="284040" cy="27648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84640" y="4135320"/>
              <a:ext cx="284040" cy="27648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48000" y="4403880"/>
              <a:ext cx="111240" cy="10944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4403880"/>
              <a:ext cx="111240" cy="10944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46640" y="4392720"/>
              <a:ext cx="66600" cy="11268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46640" y="4392720"/>
              <a:ext cx="66600" cy="11268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43200" y="4549680"/>
              <a:ext cx="96840" cy="11124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43200" y="4549680"/>
              <a:ext cx="96840" cy="11124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43200" y="4357800"/>
              <a:ext cx="131760" cy="20160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43200" y="4357800"/>
              <a:ext cx="131760" cy="20160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43480" y="4346640"/>
              <a:ext cx="196560" cy="16668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43480" y="4346640"/>
              <a:ext cx="196560" cy="16668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3520" y="4172040"/>
              <a:ext cx="271440" cy="20772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3520" y="4172040"/>
              <a:ext cx="271440" cy="20772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28880" y="4172040"/>
              <a:ext cx="174960" cy="28728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28880" y="4172040"/>
              <a:ext cx="174960" cy="28728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73600" y="4181400"/>
              <a:ext cx="282600" cy="34452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73600" y="4181400"/>
              <a:ext cx="282600" cy="34452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40040" y="4392720"/>
              <a:ext cx="228600" cy="14436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40040" y="4392720"/>
              <a:ext cx="228600" cy="14436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76640" y="4513320"/>
              <a:ext cx="142920" cy="15696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6640" y="4513320"/>
              <a:ext cx="142920" cy="15696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0680" y="4513320"/>
              <a:ext cx="104760" cy="10152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00680" y="4513320"/>
              <a:ext cx="104760" cy="10152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00680" y="4606920"/>
              <a:ext cx="185400" cy="18720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00680" y="4606920"/>
              <a:ext cx="185400" cy="18720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10160" y="4505400"/>
              <a:ext cx="326880" cy="32076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10160" y="4505400"/>
              <a:ext cx="326880" cy="32076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73600" y="4737240"/>
              <a:ext cx="203040" cy="16668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73600" y="4737240"/>
              <a:ext cx="203040" cy="16668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57560" y="4759200"/>
              <a:ext cx="52560" cy="13176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57560" y="4759200"/>
              <a:ext cx="52560" cy="13176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18080" y="4338720"/>
              <a:ext cx="4572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18080" y="4338720"/>
              <a:ext cx="4572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48120" y="3859200"/>
              <a:ext cx="1440" cy="93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8640" y="3648240"/>
              <a:ext cx="246240" cy="15228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8640" y="3648240"/>
              <a:ext cx="246240" cy="15228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81560" y="3413160"/>
              <a:ext cx="109440" cy="13320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81560" y="3413160"/>
              <a:ext cx="109440" cy="13320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14720" y="3211560"/>
              <a:ext cx="42840" cy="680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14720" y="3211560"/>
              <a:ext cx="42840" cy="680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91040" y="3168720"/>
              <a:ext cx="31680" cy="6516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91040" y="3168720"/>
              <a:ext cx="31680" cy="6516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86120" y="3591000"/>
              <a:ext cx="95400" cy="4284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6120" y="3591000"/>
              <a:ext cx="95400" cy="4284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0720" y="2354400"/>
              <a:ext cx="2814840" cy="1434960"/>
            </a:xfrm>
            <a:custGeom>
              <a:avLst/>
              <a:gdLst/>
              <a:ahLst/>
              <a:rect l="l" t="t" r="r" b="b"/>
              <a:pathLst>
                <a:path w="3710" h="1892">
                  <a:moveTo>
                    <a:pt x="1884" y="350"/>
                  </a:moveTo>
                  <a:lnTo>
                    <a:pt x="1869" y="364"/>
                  </a:lnTo>
                  <a:lnTo>
                    <a:pt x="1884" y="395"/>
                  </a:lnTo>
                  <a:lnTo>
                    <a:pt x="1825" y="423"/>
                  </a:lnTo>
                  <a:lnTo>
                    <a:pt x="1813" y="423"/>
                  </a:lnTo>
                  <a:lnTo>
                    <a:pt x="1825" y="379"/>
                  </a:lnTo>
                  <a:lnTo>
                    <a:pt x="1968" y="249"/>
                  </a:lnTo>
                  <a:lnTo>
                    <a:pt x="1968" y="159"/>
                  </a:lnTo>
                  <a:lnTo>
                    <a:pt x="1913" y="101"/>
                  </a:lnTo>
                  <a:lnTo>
                    <a:pt x="1842" y="101"/>
                  </a:lnTo>
                  <a:lnTo>
                    <a:pt x="1842" y="130"/>
                  </a:lnTo>
                  <a:lnTo>
                    <a:pt x="1798" y="130"/>
                  </a:lnTo>
                  <a:lnTo>
                    <a:pt x="1825" y="73"/>
                  </a:lnTo>
                  <a:lnTo>
                    <a:pt x="1754" y="57"/>
                  </a:lnTo>
                  <a:lnTo>
                    <a:pt x="1798" y="29"/>
                  </a:lnTo>
                  <a:lnTo>
                    <a:pt x="1754" y="0"/>
                  </a:lnTo>
                  <a:lnTo>
                    <a:pt x="1683" y="73"/>
                  </a:lnTo>
                  <a:lnTo>
                    <a:pt x="1683" y="130"/>
                  </a:lnTo>
                  <a:lnTo>
                    <a:pt x="1638" y="130"/>
                  </a:lnTo>
                  <a:lnTo>
                    <a:pt x="1510" y="159"/>
                  </a:lnTo>
                  <a:lnTo>
                    <a:pt x="1395" y="232"/>
                  </a:lnTo>
                  <a:lnTo>
                    <a:pt x="1351" y="293"/>
                  </a:lnTo>
                  <a:lnTo>
                    <a:pt x="1364" y="364"/>
                  </a:lnTo>
                  <a:lnTo>
                    <a:pt x="1207" y="395"/>
                  </a:lnTo>
                  <a:lnTo>
                    <a:pt x="1220" y="481"/>
                  </a:lnTo>
                  <a:lnTo>
                    <a:pt x="1264" y="527"/>
                  </a:lnTo>
                  <a:lnTo>
                    <a:pt x="1236" y="542"/>
                  </a:lnTo>
                  <a:lnTo>
                    <a:pt x="1192" y="481"/>
                  </a:lnTo>
                  <a:lnTo>
                    <a:pt x="1149" y="469"/>
                  </a:lnTo>
                  <a:lnTo>
                    <a:pt x="1136" y="481"/>
                  </a:lnTo>
                  <a:lnTo>
                    <a:pt x="1107" y="452"/>
                  </a:lnTo>
                  <a:lnTo>
                    <a:pt x="1076" y="423"/>
                  </a:lnTo>
                  <a:lnTo>
                    <a:pt x="1076" y="440"/>
                  </a:lnTo>
                  <a:lnTo>
                    <a:pt x="1092" y="481"/>
                  </a:lnTo>
                  <a:lnTo>
                    <a:pt x="1050" y="555"/>
                  </a:lnTo>
                  <a:lnTo>
                    <a:pt x="1076" y="615"/>
                  </a:lnTo>
                  <a:lnTo>
                    <a:pt x="1065" y="672"/>
                  </a:lnTo>
                  <a:lnTo>
                    <a:pt x="1065" y="718"/>
                  </a:lnTo>
                  <a:lnTo>
                    <a:pt x="1076" y="734"/>
                  </a:lnTo>
                  <a:lnTo>
                    <a:pt x="1092" y="806"/>
                  </a:lnTo>
                  <a:lnTo>
                    <a:pt x="1005" y="881"/>
                  </a:lnTo>
                  <a:lnTo>
                    <a:pt x="992" y="864"/>
                  </a:lnTo>
                  <a:lnTo>
                    <a:pt x="1050" y="791"/>
                  </a:lnTo>
                  <a:lnTo>
                    <a:pt x="1065" y="747"/>
                  </a:lnTo>
                  <a:lnTo>
                    <a:pt x="1036" y="718"/>
                  </a:lnTo>
                  <a:lnTo>
                    <a:pt x="1036" y="571"/>
                  </a:lnTo>
                  <a:lnTo>
                    <a:pt x="1021" y="542"/>
                  </a:lnTo>
                  <a:lnTo>
                    <a:pt x="1036" y="452"/>
                  </a:lnTo>
                  <a:lnTo>
                    <a:pt x="1005" y="440"/>
                  </a:lnTo>
                  <a:lnTo>
                    <a:pt x="1021" y="423"/>
                  </a:lnTo>
                  <a:lnTo>
                    <a:pt x="1005" y="395"/>
                  </a:lnTo>
                  <a:lnTo>
                    <a:pt x="977" y="408"/>
                  </a:lnTo>
                  <a:lnTo>
                    <a:pt x="906" y="599"/>
                  </a:lnTo>
                  <a:lnTo>
                    <a:pt x="906" y="672"/>
                  </a:lnTo>
                  <a:lnTo>
                    <a:pt x="948" y="734"/>
                  </a:lnTo>
                  <a:lnTo>
                    <a:pt x="948" y="762"/>
                  </a:lnTo>
                  <a:lnTo>
                    <a:pt x="906" y="734"/>
                  </a:lnTo>
                  <a:lnTo>
                    <a:pt x="733" y="615"/>
                  </a:lnTo>
                  <a:lnTo>
                    <a:pt x="718" y="644"/>
                  </a:lnTo>
                  <a:lnTo>
                    <a:pt x="777" y="718"/>
                  </a:lnTo>
                  <a:lnTo>
                    <a:pt x="747" y="734"/>
                  </a:lnTo>
                  <a:lnTo>
                    <a:pt x="733" y="718"/>
                  </a:lnTo>
                  <a:lnTo>
                    <a:pt x="647" y="747"/>
                  </a:lnTo>
                  <a:lnTo>
                    <a:pt x="631" y="776"/>
                  </a:lnTo>
                  <a:lnTo>
                    <a:pt x="618" y="747"/>
                  </a:lnTo>
                  <a:lnTo>
                    <a:pt x="618" y="718"/>
                  </a:lnTo>
                  <a:lnTo>
                    <a:pt x="474" y="806"/>
                  </a:lnTo>
                  <a:lnTo>
                    <a:pt x="474" y="835"/>
                  </a:lnTo>
                  <a:lnTo>
                    <a:pt x="443" y="848"/>
                  </a:lnTo>
                  <a:lnTo>
                    <a:pt x="403" y="820"/>
                  </a:lnTo>
                  <a:lnTo>
                    <a:pt x="443" y="791"/>
                  </a:lnTo>
                  <a:lnTo>
                    <a:pt x="432" y="747"/>
                  </a:lnTo>
                  <a:lnTo>
                    <a:pt x="372" y="734"/>
                  </a:lnTo>
                  <a:lnTo>
                    <a:pt x="388" y="762"/>
                  </a:lnTo>
                  <a:lnTo>
                    <a:pt x="388" y="835"/>
                  </a:lnTo>
                  <a:lnTo>
                    <a:pt x="403" y="864"/>
                  </a:lnTo>
                  <a:lnTo>
                    <a:pt x="388" y="892"/>
                  </a:lnTo>
                  <a:lnTo>
                    <a:pt x="344" y="881"/>
                  </a:lnTo>
                  <a:lnTo>
                    <a:pt x="288" y="921"/>
                  </a:lnTo>
                  <a:lnTo>
                    <a:pt x="315" y="982"/>
                  </a:lnTo>
                  <a:lnTo>
                    <a:pt x="229" y="954"/>
                  </a:lnTo>
                  <a:lnTo>
                    <a:pt x="215" y="967"/>
                  </a:lnTo>
                  <a:lnTo>
                    <a:pt x="244" y="1011"/>
                  </a:lnTo>
                  <a:lnTo>
                    <a:pt x="215" y="1011"/>
                  </a:lnTo>
                  <a:lnTo>
                    <a:pt x="173" y="982"/>
                  </a:lnTo>
                  <a:lnTo>
                    <a:pt x="173" y="892"/>
                  </a:lnTo>
                  <a:lnTo>
                    <a:pt x="129" y="864"/>
                  </a:lnTo>
                  <a:lnTo>
                    <a:pt x="114" y="835"/>
                  </a:lnTo>
                  <a:lnTo>
                    <a:pt x="144" y="848"/>
                  </a:lnTo>
                  <a:lnTo>
                    <a:pt x="259" y="892"/>
                  </a:lnTo>
                  <a:lnTo>
                    <a:pt x="332" y="848"/>
                  </a:lnTo>
                  <a:lnTo>
                    <a:pt x="315" y="806"/>
                  </a:lnTo>
                  <a:lnTo>
                    <a:pt x="229" y="718"/>
                  </a:lnTo>
                  <a:lnTo>
                    <a:pt x="144" y="689"/>
                  </a:lnTo>
                  <a:lnTo>
                    <a:pt x="144" y="672"/>
                  </a:lnTo>
                  <a:lnTo>
                    <a:pt x="114" y="661"/>
                  </a:lnTo>
                  <a:lnTo>
                    <a:pt x="85" y="672"/>
                  </a:lnTo>
                  <a:lnTo>
                    <a:pt x="41" y="718"/>
                  </a:lnTo>
                  <a:lnTo>
                    <a:pt x="41" y="762"/>
                  </a:lnTo>
                  <a:lnTo>
                    <a:pt x="73" y="791"/>
                  </a:lnTo>
                  <a:lnTo>
                    <a:pt x="56" y="835"/>
                  </a:lnTo>
                  <a:lnTo>
                    <a:pt x="73" y="910"/>
                  </a:lnTo>
                  <a:lnTo>
                    <a:pt x="56" y="954"/>
                  </a:lnTo>
                  <a:lnTo>
                    <a:pt x="85" y="998"/>
                  </a:lnTo>
                  <a:lnTo>
                    <a:pt x="73" y="1027"/>
                  </a:lnTo>
                  <a:lnTo>
                    <a:pt x="100" y="1055"/>
                  </a:lnTo>
                  <a:lnTo>
                    <a:pt x="100" y="1073"/>
                  </a:lnTo>
                  <a:lnTo>
                    <a:pt x="56" y="1145"/>
                  </a:lnTo>
                  <a:lnTo>
                    <a:pt x="14" y="1174"/>
                  </a:lnTo>
                  <a:lnTo>
                    <a:pt x="29" y="1174"/>
                  </a:lnTo>
                  <a:lnTo>
                    <a:pt x="56" y="1203"/>
                  </a:lnTo>
                  <a:lnTo>
                    <a:pt x="14" y="1247"/>
                  </a:lnTo>
                  <a:lnTo>
                    <a:pt x="0" y="1247"/>
                  </a:lnTo>
                  <a:lnTo>
                    <a:pt x="14" y="1293"/>
                  </a:lnTo>
                  <a:lnTo>
                    <a:pt x="14" y="1333"/>
                  </a:lnTo>
                  <a:lnTo>
                    <a:pt x="29" y="1366"/>
                  </a:lnTo>
                  <a:lnTo>
                    <a:pt x="73" y="1379"/>
                  </a:lnTo>
                  <a:lnTo>
                    <a:pt x="85" y="1394"/>
                  </a:lnTo>
                  <a:lnTo>
                    <a:pt x="85" y="1423"/>
                  </a:lnTo>
                  <a:lnTo>
                    <a:pt x="114" y="1467"/>
                  </a:lnTo>
                  <a:lnTo>
                    <a:pt x="129" y="1467"/>
                  </a:lnTo>
                  <a:lnTo>
                    <a:pt x="114" y="1496"/>
                  </a:lnTo>
                  <a:lnTo>
                    <a:pt x="100" y="1484"/>
                  </a:lnTo>
                  <a:lnTo>
                    <a:pt x="100" y="1496"/>
                  </a:lnTo>
                  <a:lnTo>
                    <a:pt x="114" y="1525"/>
                  </a:lnTo>
                  <a:lnTo>
                    <a:pt x="156" y="1525"/>
                  </a:lnTo>
                  <a:lnTo>
                    <a:pt x="173" y="1542"/>
                  </a:lnTo>
                  <a:lnTo>
                    <a:pt x="156" y="1542"/>
                  </a:lnTo>
                  <a:lnTo>
                    <a:pt x="173" y="1557"/>
                  </a:lnTo>
                  <a:lnTo>
                    <a:pt x="188" y="1557"/>
                  </a:lnTo>
                  <a:lnTo>
                    <a:pt x="200" y="1586"/>
                  </a:lnTo>
                  <a:lnTo>
                    <a:pt x="215" y="1599"/>
                  </a:lnTo>
                  <a:lnTo>
                    <a:pt x="229" y="1586"/>
                  </a:lnTo>
                  <a:lnTo>
                    <a:pt x="300" y="1630"/>
                  </a:lnTo>
                  <a:lnTo>
                    <a:pt x="288" y="1687"/>
                  </a:lnTo>
                  <a:lnTo>
                    <a:pt x="273" y="1672"/>
                  </a:lnTo>
                  <a:lnTo>
                    <a:pt x="259" y="1687"/>
                  </a:lnTo>
                  <a:lnTo>
                    <a:pt x="259" y="1716"/>
                  </a:lnTo>
                  <a:lnTo>
                    <a:pt x="273" y="1705"/>
                  </a:lnTo>
                  <a:lnTo>
                    <a:pt x="288" y="1716"/>
                  </a:lnTo>
                  <a:lnTo>
                    <a:pt x="244" y="1733"/>
                  </a:lnTo>
                  <a:lnTo>
                    <a:pt x="259" y="1745"/>
                  </a:lnTo>
                  <a:lnTo>
                    <a:pt x="229" y="1777"/>
                  </a:lnTo>
                  <a:lnTo>
                    <a:pt x="215" y="1777"/>
                  </a:lnTo>
                  <a:lnTo>
                    <a:pt x="229" y="1777"/>
                  </a:lnTo>
                  <a:lnTo>
                    <a:pt x="288" y="1835"/>
                  </a:lnTo>
                  <a:lnTo>
                    <a:pt x="359" y="1835"/>
                  </a:lnTo>
                  <a:lnTo>
                    <a:pt x="388" y="1850"/>
                  </a:lnTo>
                  <a:lnTo>
                    <a:pt x="415" y="1850"/>
                  </a:lnTo>
                  <a:lnTo>
                    <a:pt x="443" y="1879"/>
                  </a:lnTo>
                  <a:lnTo>
                    <a:pt x="459" y="1892"/>
                  </a:lnTo>
                  <a:lnTo>
                    <a:pt x="474" y="1892"/>
                  </a:lnTo>
                  <a:lnTo>
                    <a:pt x="488" y="1879"/>
                  </a:lnTo>
                  <a:lnTo>
                    <a:pt x="459" y="1850"/>
                  </a:lnTo>
                  <a:lnTo>
                    <a:pt x="459" y="1819"/>
                  </a:lnTo>
                  <a:lnTo>
                    <a:pt x="443" y="1791"/>
                  </a:lnTo>
                  <a:lnTo>
                    <a:pt x="474" y="1745"/>
                  </a:lnTo>
                  <a:lnTo>
                    <a:pt x="488" y="1762"/>
                  </a:lnTo>
                  <a:lnTo>
                    <a:pt x="503" y="1745"/>
                  </a:lnTo>
                  <a:lnTo>
                    <a:pt x="503" y="1733"/>
                  </a:lnTo>
                  <a:lnTo>
                    <a:pt x="488" y="1733"/>
                  </a:lnTo>
                  <a:lnTo>
                    <a:pt x="503" y="1716"/>
                  </a:lnTo>
                  <a:lnTo>
                    <a:pt x="488" y="1687"/>
                  </a:lnTo>
                  <a:lnTo>
                    <a:pt x="459" y="1687"/>
                  </a:lnTo>
                  <a:lnTo>
                    <a:pt x="443" y="1659"/>
                  </a:lnTo>
                  <a:lnTo>
                    <a:pt x="459" y="1586"/>
                  </a:lnTo>
                  <a:lnTo>
                    <a:pt x="488" y="1615"/>
                  </a:lnTo>
                  <a:lnTo>
                    <a:pt x="503" y="1615"/>
                  </a:lnTo>
                  <a:lnTo>
                    <a:pt x="488" y="1586"/>
                  </a:lnTo>
                  <a:lnTo>
                    <a:pt x="532" y="1542"/>
                  </a:lnTo>
                  <a:lnTo>
                    <a:pt x="559" y="1557"/>
                  </a:lnTo>
                  <a:lnTo>
                    <a:pt x="574" y="1542"/>
                  </a:lnTo>
                  <a:lnTo>
                    <a:pt x="603" y="1557"/>
                  </a:lnTo>
                  <a:lnTo>
                    <a:pt x="647" y="1586"/>
                  </a:lnTo>
                  <a:lnTo>
                    <a:pt x="674" y="1570"/>
                  </a:lnTo>
                  <a:lnTo>
                    <a:pt x="706" y="1570"/>
                  </a:lnTo>
                  <a:lnTo>
                    <a:pt x="718" y="1586"/>
                  </a:lnTo>
                  <a:lnTo>
                    <a:pt x="777" y="1586"/>
                  </a:lnTo>
                  <a:lnTo>
                    <a:pt x="791" y="1557"/>
                  </a:lnTo>
                  <a:lnTo>
                    <a:pt x="747" y="1542"/>
                  </a:lnTo>
                  <a:lnTo>
                    <a:pt x="777" y="1525"/>
                  </a:lnTo>
                  <a:lnTo>
                    <a:pt x="762" y="1513"/>
                  </a:lnTo>
                  <a:lnTo>
                    <a:pt x="777" y="1496"/>
                  </a:lnTo>
                  <a:lnTo>
                    <a:pt x="777" y="1452"/>
                  </a:lnTo>
                  <a:lnTo>
                    <a:pt x="806" y="1467"/>
                  </a:lnTo>
                  <a:lnTo>
                    <a:pt x="933" y="1423"/>
                  </a:lnTo>
                  <a:lnTo>
                    <a:pt x="933" y="1410"/>
                  </a:lnTo>
                  <a:lnTo>
                    <a:pt x="992" y="1410"/>
                  </a:lnTo>
                  <a:lnTo>
                    <a:pt x="1005" y="1438"/>
                  </a:lnTo>
                  <a:lnTo>
                    <a:pt x="1005" y="1452"/>
                  </a:lnTo>
                  <a:lnTo>
                    <a:pt x="1021" y="1452"/>
                  </a:lnTo>
                  <a:lnTo>
                    <a:pt x="1050" y="1467"/>
                  </a:lnTo>
                  <a:lnTo>
                    <a:pt x="1050" y="1484"/>
                  </a:lnTo>
                  <a:lnTo>
                    <a:pt x="1076" y="1484"/>
                  </a:lnTo>
                  <a:lnTo>
                    <a:pt x="1107" y="1452"/>
                  </a:lnTo>
                  <a:lnTo>
                    <a:pt x="1136" y="1438"/>
                  </a:lnTo>
                  <a:lnTo>
                    <a:pt x="1149" y="1484"/>
                  </a:lnTo>
                  <a:lnTo>
                    <a:pt x="1207" y="1586"/>
                  </a:lnTo>
                  <a:lnTo>
                    <a:pt x="1220" y="1557"/>
                  </a:lnTo>
                  <a:lnTo>
                    <a:pt x="1236" y="1586"/>
                  </a:lnTo>
                  <a:lnTo>
                    <a:pt x="1280" y="1570"/>
                  </a:lnTo>
                  <a:lnTo>
                    <a:pt x="1324" y="1615"/>
                  </a:lnTo>
                  <a:lnTo>
                    <a:pt x="1351" y="1630"/>
                  </a:lnTo>
                  <a:lnTo>
                    <a:pt x="1351" y="1615"/>
                  </a:lnTo>
                  <a:lnTo>
                    <a:pt x="1380" y="1643"/>
                  </a:lnTo>
                  <a:lnTo>
                    <a:pt x="1395" y="1630"/>
                  </a:lnTo>
                  <a:lnTo>
                    <a:pt x="1466" y="1586"/>
                  </a:lnTo>
                  <a:lnTo>
                    <a:pt x="1523" y="1599"/>
                  </a:lnTo>
                  <a:lnTo>
                    <a:pt x="1550" y="1615"/>
                  </a:lnTo>
                  <a:lnTo>
                    <a:pt x="1610" y="1615"/>
                  </a:lnTo>
                  <a:lnTo>
                    <a:pt x="1610" y="1557"/>
                  </a:lnTo>
                  <a:lnTo>
                    <a:pt x="1638" y="1542"/>
                  </a:lnTo>
                  <a:lnTo>
                    <a:pt x="1698" y="1557"/>
                  </a:lnTo>
                  <a:lnTo>
                    <a:pt x="1725" y="1599"/>
                  </a:lnTo>
                  <a:lnTo>
                    <a:pt x="1740" y="1599"/>
                  </a:lnTo>
                  <a:lnTo>
                    <a:pt x="1769" y="1586"/>
                  </a:lnTo>
                  <a:lnTo>
                    <a:pt x="1853" y="1630"/>
                  </a:lnTo>
                  <a:lnTo>
                    <a:pt x="1897" y="1643"/>
                  </a:lnTo>
                  <a:lnTo>
                    <a:pt x="1957" y="1630"/>
                  </a:lnTo>
                  <a:lnTo>
                    <a:pt x="1984" y="1599"/>
                  </a:lnTo>
                  <a:lnTo>
                    <a:pt x="2028" y="1615"/>
                  </a:lnTo>
                  <a:lnTo>
                    <a:pt x="2057" y="1630"/>
                  </a:lnTo>
                  <a:lnTo>
                    <a:pt x="2099" y="1615"/>
                  </a:lnTo>
                  <a:lnTo>
                    <a:pt x="2112" y="1557"/>
                  </a:lnTo>
                  <a:lnTo>
                    <a:pt x="2128" y="1542"/>
                  </a:lnTo>
                  <a:lnTo>
                    <a:pt x="2128" y="1525"/>
                  </a:lnTo>
                  <a:lnTo>
                    <a:pt x="2112" y="1525"/>
                  </a:lnTo>
                  <a:lnTo>
                    <a:pt x="2128" y="1496"/>
                  </a:lnTo>
                  <a:lnTo>
                    <a:pt x="2183" y="1484"/>
                  </a:lnTo>
                  <a:lnTo>
                    <a:pt x="2227" y="1496"/>
                  </a:lnTo>
                  <a:lnTo>
                    <a:pt x="2256" y="1525"/>
                  </a:lnTo>
                  <a:lnTo>
                    <a:pt x="2287" y="1630"/>
                  </a:lnTo>
                  <a:lnTo>
                    <a:pt x="2316" y="1630"/>
                  </a:lnTo>
                  <a:lnTo>
                    <a:pt x="2358" y="1659"/>
                  </a:lnTo>
                  <a:lnTo>
                    <a:pt x="2358" y="1687"/>
                  </a:lnTo>
                  <a:lnTo>
                    <a:pt x="2387" y="1687"/>
                  </a:lnTo>
                  <a:lnTo>
                    <a:pt x="2442" y="1672"/>
                  </a:lnTo>
                  <a:lnTo>
                    <a:pt x="2442" y="1705"/>
                  </a:lnTo>
                  <a:lnTo>
                    <a:pt x="2402" y="1791"/>
                  </a:lnTo>
                  <a:lnTo>
                    <a:pt x="2387" y="1777"/>
                  </a:lnTo>
                  <a:lnTo>
                    <a:pt x="2358" y="1791"/>
                  </a:lnTo>
                  <a:lnTo>
                    <a:pt x="2358" y="1864"/>
                  </a:lnTo>
                  <a:lnTo>
                    <a:pt x="2371" y="1835"/>
                  </a:lnTo>
                  <a:lnTo>
                    <a:pt x="2387" y="1835"/>
                  </a:lnTo>
                  <a:lnTo>
                    <a:pt x="2387" y="1850"/>
                  </a:lnTo>
                  <a:lnTo>
                    <a:pt x="2402" y="1864"/>
                  </a:lnTo>
                  <a:lnTo>
                    <a:pt x="2442" y="1835"/>
                  </a:lnTo>
                  <a:lnTo>
                    <a:pt x="2575" y="1672"/>
                  </a:lnTo>
                  <a:lnTo>
                    <a:pt x="2575" y="1570"/>
                  </a:lnTo>
                  <a:lnTo>
                    <a:pt x="2590" y="1542"/>
                  </a:lnTo>
                  <a:lnTo>
                    <a:pt x="2590" y="1496"/>
                  </a:lnTo>
                  <a:lnTo>
                    <a:pt x="2559" y="1452"/>
                  </a:lnTo>
                  <a:lnTo>
                    <a:pt x="2546" y="1452"/>
                  </a:lnTo>
                  <a:lnTo>
                    <a:pt x="2530" y="1484"/>
                  </a:lnTo>
                  <a:lnTo>
                    <a:pt x="2502" y="1484"/>
                  </a:lnTo>
                  <a:lnTo>
                    <a:pt x="2515" y="1452"/>
                  </a:lnTo>
                  <a:lnTo>
                    <a:pt x="2502" y="1452"/>
                  </a:lnTo>
                  <a:lnTo>
                    <a:pt x="2486" y="1438"/>
                  </a:lnTo>
                  <a:lnTo>
                    <a:pt x="2458" y="1438"/>
                  </a:lnTo>
                  <a:lnTo>
                    <a:pt x="2458" y="1423"/>
                  </a:lnTo>
                  <a:lnTo>
                    <a:pt x="2630" y="1247"/>
                  </a:lnTo>
                  <a:lnTo>
                    <a:pt x="2690" y="1231"/>
                  </a:lnTo>
                  <a:lnTo>
                    <a:pt x="2701" y="1247"/>
                  </a:lnTo>
                  <a:lnTo>
                    <a:pt x="2717" y="1231"/>
                  </a:lnTo>
                  <a:lnTo>
                    <a:pt x="2761" y="1247"/>
                  </a:lnTo>
                  <a:lnTo>
                    <a:pt x="2774" y="1218"/>
                  </a:lnTo>
                  <a:lnTo>
                    <a:pt x="2816" y="1231"/>
                  </a:lnTo>
                  <a:lnTo>
                    <a:pt x="2834" y="1231"/>
                  </a:lnTo>
                  <a:lnTo>
                    <a:pt x="2816" y="1247"/>
                  </a:lnTo>
                  <a:lnTo>
                    <a:pt x="2816" y="1260"/>
                  </a:lnTo>
                  <a:lnTo>
                    <a:pt x="2905" y="1247"/>
                  </a:lnTo>
                  <a:lnTo>
                    <a:pt x="2889" y="1231"/>
                  </a:lnTo>
                  <a:lnTo>
                    <a:pt x="2949" y="1130"/>
                  </a:lnTo>
                  <a:lnTo>
                    <a:pt x="3020" y="1113"/>
                  </a:lnTo>
                  <a:lnTo>
                    <a:pt x="3020" y="1174"/>
                  </a:lnTo>
                  <a:lnTo>
                    <a:pt x="3092" y="1130"/>
                  </a:lnTo>
                  <a:lnTo>
                    <a:pt x="3092" y="1084"/>
                  </a:lnTo>
                  <a:lnTo>
                    <a:pt x="3119" y="1084"/>
                  </a:lnTo>
                  <a:lnTo>
                    <a:pt x="3108" y="1101"/>
                  </a:lnTo>
                  <a:lnTo>
                    <a:pt x="3092" y="1174"/>
                  </a:lnTo>
                  <a:lnTo>
                    <a:pt x="3064" y="1187"/>
                  </a:lnTo>
                  <a:lnTo>
                    <a:pt x="2975" y="1293"/>
                  </a:lnTo>
                  <a:lnTo>
                    <a:pt x="2949" y="1304"/>
                  </a:lnTo>
                  <a:lnTo>
                    <a:pt x="2918" y="1410"/>
                  </a:lnTo>
                  <a:lnTo>
                    <a:pt x="2949" y="1586"/>
                  </a:lnTo>
                  <a:lnTo>
                    <a:pt x="2975" y="1557"/>
                  </a:lnTo>
                  <a:lnTo>
                    <a:pt x="3020" y="1496"/>
                  </a:lnTo>
                  <a:lnTo>
                    <a:pt x="3020" y="1452"/>
                  </a:lnTo>
                  <a:lnTo>
                    <a:pt x="3033" y="1452"/>
                  </a:lnTo>
                  <a:lnTo>
                    <a:pt x="3064" y="1438"/>
                  </a:lnTo>
                  <a:lnTo>
                    <a:pt x="3064" y="1394"/>
                  </a:lnTo>
                  <a:lnTo>
                    <a:pt x="3075" y="1379"/>
                  </a:lnTo>
                  <a:lnTo>
                    <a:pt x="3092" y="1379"/>
                  </a:lnTo>
                  <a:lnTo>
                    <a:pt x="3092" y="1321"/>
                  </a:lnTo>
                  <a:lnTo>
                    <a:pt x="3064" y="1293"/>
                  </a:lnTo>
                  <a:lnTo>
                    <a:pt x="3092" y="1247"/>
                  </a:lnTo>
                  <a:lnTo>
                    <a:pt x="3092" y="1218"/>
                  </a:lnTo>
                  <a:lnTo>
                    <a:pt x="3119" y="1218"/>
                  </a:lnTo>
                  <a:lnTo>
                    <a:pt x="3163" y="1187"/>
                  </a:lnTo>
                  <a:lnTo>
                    <a:pt x="3163" y="1218"/>
                  </a:lnTo>
                  <a:lnTo>
                    <a:pt x="3179" y="1203"/>
                  </a:lnTo>
                  <a:lnTo>
                    <a:pt x="3219" y="1187"/>
                  </a:lnTo>
                  <a:lnTo>
                    <a:pt x="3250" y="1218"/>
                  </a:lnTo>
                  <a:lnTo>
                    <a:pt x="3263" y="1187"/>
                  </a:lnTo>
                  <a:lnTo>
                    <a:pt x="3407" y="1084"/>
                  </a:lnTo>
                  <a:lnTo>
                    <a:pt x="3451" y="1101"/>
                  </a:lnTo>
                  <a:lnTo>
                    <a:pt x="3467" y="1084"/>
                  </a:lnTo>
                  <a:lnTo>
                    <a:pt x="3434" y="998"/>
                  </a:lnTo>
                  <a:lnTo>
                    <a:pt x="3422" y="998"/>
                  </a:lnTo>
                  <a:lnTo>
                    <a:pt x="3422" y="967"/>
                  </a:lnTo>
                  <a:lnTo>
                    <a:pt x="3434" y="967"/>
                  </a:lnTo>
                  <a:lnTo>
                    <a:pt x="3467" y="954"/>
                  </a:lnTo>
                  <a:lnTo>
                    <a:pt x="3493" y="921"/>
                  </a:lnTo>
                  <a:lnTo>
                    <a:pt x="3478" y="892"/>
                  </a:lnTo>
                  <a:lnTo>
                    <a:pt x="3493" y="881"/>
                  </a:lnTo>
                  <a:lnTo>
                    <a:pt x="3509" y="921"/>
                  </a:lnTo>
                  <a:lnTo>
                    <a:pt x="3538" y="921"/>
                  </a:lnTo>
                  <a:lnTo>
                    <a:pt x="3566" y="954"/>
                  </a:lnTo>
                  <a:lnTo>
                    <a:pt x="3637" y="998"/>
                  </a:lnTo>
                  <a:lnTo>
                    <a:pt x="3653" y="954"/>
                  </a:lnTo>
                  <a:lnTo>
                    <a:pt x="3653" y="921"/>
                  </a:lnTo>
                  <a:lnTo>
                    <a:pt x="3681" y="921"/>
                  </a:lnTo>
                  <a:lnTo>
                    <a:pt x="3710" y="892"/>
                  </a:lnTo>
                  <a:lnTo>
                    <a:pt x="3666" y="848"/>
                  </a:lnTo>
                  <a:lnTo>
                    <a:pt x="3593" y="835"/>
                  </a:lnTo>
                  <a:lnTo>
                    <a:pt x="3467" y="718"/>
                  </a:lnTo>
                  <a:lnTo>
                    <a:pt x="3378" y="661"/>
                  </a:lnTo>
                  <a:lnTo>
                    <a:pt x="3263" y="644"/>
                  </a:lnTo>
                  <a:lnTo>
                    <a:pt x="3263" y="718"/>
                  </a:lnTo>
                  <a:lnTo>
                    <a:pt x="3234" y="734"/>
                  </a:lnTo>
                  <a:lnTo>
                    <a:pt x="3208" y="701"/>
                  </a:lnTo>
                  <a:lnTo>
                    <a:pt x="3208" y="672"/>
                  </a:lnTo>
                  <a:lnTo>
                    <a:pt x="3219" y="672"/>
                  </a:lnTo>
                  <a:lnTo>
                    <a:pt x="3234" y="661"/>
                  </a:lnTo>
                  <a:lnTo>
                    <a:pt x="3208" y="661"/>
                  </a:lnTo>
                  <a:lnTo>
                    <a:pt x="3179" y="689"/>
                  </a:lnTo>
                  <a:lnTo>
                    <a:pt x="3108" y="672"/>
                  </a:lnTo>
                  <a:lnTo>
                    <a:pt x="3033" y="672"/>
                  </a:lnTo>
                  <a:lnTo>
                    <a:pt x="3004" y="661"/>
                  </a:lnTo>
                  <a:lnTo>
                    <a:pt x="3020" y="632"/>
                  </a:lnTo>
                  <a:lnTo>
                    <a:pt x="2993" y="586"/>
                  </a:lnTo>
                  <a:lnTo>
                    <a:pt x="2933" y="571"/>
                  </a:lnTo>
                  <a:lnTo>
                    <a:pt x="2845" y="599"/>
                  </a:lnTo>
                  <a:lnTo>
                    <a:pt x="2834" y="555"/>
                  </a:lnTo>
                  <a:lnTo>
                    <a:pt x="2805" y="555"/>
                  </a:lnTo>
                  <a:lnTo>
                    <a:pt x="2789" y="542"/>
                  </a:lnTo>
                  <a:lnTo>
                    <a:pt x="2789" y="498"/>
                  </a:lnTo>
                  <a:lnTo>
                    <a:pt x="2690" y="469"/>
                  </a:lnTo>
                  <a:lnTo>
                    <a:pt x="2575" y="440"/>
                  </a:lnTo>
                  <a:lnTo>
                    <a:pt x="2546" y="498"/>
                  </a:lnTo>
                  <a:lnTo>
                    <a:pt x="2575" y="542"/>
                  </a:lnTo>
                  <a:lnTo>
                    <a:pt x="2475" y="542"/>
                  </a:lnTo>
                  <a:lnTo>
                    <a:pt x="2442" y="555"/>
                  </a:lnTo>
                  <a:lnTo>
                    <a:pt x="2402" y="513"/>
                  </a:lnTo>
                  <a:lnTo>
                    <a:pt x="2371" y="599"/>
                  </a:lnTo>
                  <a:lnTo>
                    <a:pt x="2342" y="586"/>
                  </a:lnTo>
                  <a:lnTo>
                    <a:pt x="2316" y="527"/>
                  </a:lnTo>
                  <a:lnTo>
                    <a:pt x="2331" y="452"/>
                  </a:lnTo>
                  <a:lnTo>
                    <a:pt x="2300" y="408"/>
                  </a:lnTo>
                  <a:lnTo>
                    <a:pt x="2216" y="379"/>
                  </a:lnTo>
                  <a:lnTo>
                    <a:pt x="2183" y="379"/>
                  </a:lnTo>
                  <a:lnTo>
                    <a:pt x="2172" y="408"/>
                  </a:lnTo>
                  <a:lnTo>
                    <a:pt x="2183" y="440"/>
                  </a:lnTo>
                  <a:lnTo>
                    <a:pt x="2068" y="423"/>
                  </a:lnTo>
                  <a:lnTo>
                    <a:pt x="2084" y="379"/>
                  </a:lnTo>
                  <a:lnTo>
                    <a:pt x="2013" y="364"/>
                  </a:lnTo>
                  <a:lnTo>
                    <a:pt x="1968" y="395"/>
                  </a:lnTo>
                  <a:lnTo>
                    <a:pt x="1884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76600" y="2787480"/>
              <a:ext cx="460440" cy="54792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76600" y="2787480"/>
              <a:ext cx="460440" cy="54792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6960" y="3780000"/>
              <a:ext cx="328680" cy="13320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6960" y="3780000"/>
              <a:ext cx="328680" cy="13320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25960" y="4079880"/>
              <a:ext cx="55800" cy="2232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25960" y="4079880"/>
              <a:ext cx="55800" cy="2232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67400" y="3913200"/>
              <a:ext cx="502920" cy="53496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67400" y="3913200"/>
              <a:ext cx="502920" cy="53496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06880" y="3522600"/>
              <a:ext cx="546120" cy="26676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06880" y="3522600"/>
              <a:ext cx="546120" cy="26676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49840" y="2843280"/>
              <a:ext cx="187200" cy="42372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49840" y="2843280"/>
              <a:ext cx="187200" cy="42372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95560" y="3390840"/>
              <a:ext cx="162000" cy="14616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95560" y="3390840"/>
              <a:ext cx="162000" cy="14616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3600" y="3510000"/>
              <a:ext cx="312480" cy="21420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73600" y="3510000"/>
              <a:ext cx="312480" cy="21420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60640" y="3335400"/>
              <a:ext cx="122400" cy="7776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60640" y="3335400"/>
              <a:ext cx="122400" cy="7776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60640" y="3390840"/>
              <a:ext cx="100080" cy="7632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60640" y="3390840"/>
              <a:ext cx="100080" cy="7632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03840" y="3287880"/>
              <a:ext cx="79200" cy="5544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03840" y="3287880"/>
              <a:ext cx="79200" cy="5544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27520" y="3422520"/>
              <a:ext cx="54000" cy="3204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27520" y="3422520"/>
              <a:ext cx="54000" cy="3204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8160" y="3746520"/>
              <a:ext cx="117720" cy="428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8160" y="3746520"/>
              <a:ext cx="117720" cy="428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48120" y="3611520"/>
              <a:ext cx="66600" cy="7776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8120" y="3611520"/>
              <a:ext cx="66600" cy="7776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43320" y="3789360"/>
              <a:ext cx="52560" cy="554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43320" y="3789360"/>
              <a:ext cx="52560" cy="554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5640" y="3822840"/>
              <a:ext cx="20520" cy="21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5640" y="3822840"/>
              <a:ext cx="20520" cy="21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5640" y="3780000"/>
              <a:ext cx="98280" cy="7920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3780000"/>
              <a:ext cx="98280" cy="7920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86040" y="2900520"/>
              <a:ext cx="217800" cy="52200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86040" y="2900520"/>
              <a:ext cx="217800" cy="52200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59160" y="3422520"/>
              <a:ext cx="44280" cy="4464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3422520"/>
              <a:ext cx="44280" cy="4464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14880" y="3422520"/>
              <a:ext cx="79200" cy="11448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14880" y="3422520"/>
              <a:ext cx="79200" cy="11448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30600" y="3355920"/>
              <a:ext cx="55440" cy="7956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30600" y="3355920"/>
              <a:ext cx="55440" cy="7956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56080" y="3481560"/>
              <a:ext cx="65160" cy="7452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56080" y="3481560"/>
              <a:ext cx="65160" cy="7452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43480" y="3546360"/>
              <a:ext cx="58680" cy="4464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43480" y="3546360"/>
              <a:ext cx="58680" cy="4464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9200" y="3579840"/>
              <a:ext cx="12960" cy="11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89200" y="3579840"/>
              <a:ext cx="12960" cy="1116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40040" y="3435480"/>
              <a:ext cx="163800" cy="1666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40040" y="3435480"/>
              <a:ext cx="163800" cy="1666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02160" y="3435480"/>
              <a:ext cx="150840" cy="2127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02160" y="3435480"/>
              <a:ext cx="150840" cy="2127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4360" y="3602160"/>
              <a:ext cx="131760" cy="6480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4360" y="3602160"/>
              <a:ext cx="131760" cy="6480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4360" y="364824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54360" y="364824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54360" y="364824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4360" y="364824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02160" y="3648240"/>
              <a:ext cx="74520" cy="4104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02160" y="3648240"/>
              <a:ext cx="74520" cy="4104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14600" y="3546360"/>
              <a:ext cx="216000" cy="22068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14600" y="3546360"/>
              <a:ext cx="216000" cy="22068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38640" y="3733920"/>
              <a:ext cx="204840" cy="17928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38640" y="3733920"/>
              <a:ext cx="204840" cy="17928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38640" y="3780000"/>
              <a:ext cx="55440" cy="1108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8640" y="3780000"/>
              <a:ext cx="55440" cy="1108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11520" y="3656160"/>
              <a:ext cx="208080" cy="21240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11520" y="3656160"/>
              <a:ext cx="208080" cy="21240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38680" y="3622680"/>
              <a:ext cx="162000" cy="12384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38680" y="3622680"/>
              <a:ext cx="162000" cy="12384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38680" y="3789360"/>
              <a:ext cx="109440" cy="8892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38680" y="3789360"/>
              <a:ext cx="109440" cy="8892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05440" y="3890880"/>
              <a:ext cx="126720" cy="9864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05440" y="3890880"/>
              <a:ext cx="126720" cy="9864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91040" y="3968640"/>
              <a:ext cx="76320" cy="8892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91040" y="3968640"/>
              <a:ext cx="76320" cy="8892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05440" y="3946680"/>
              <a:ext cx="17280" cy="3312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05440" y="3946680"/>
              <a:ext cx="17280" cy="3312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76640" y="3979800"/>
              <a:ext cx="33480" cy="7776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76640" y="3979800"/>
              <a:ext cx="33480" cy="7776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67360" y="3878280"/>
              <a:ext cx="161640" cy="17928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67360" y="3878280"/>
              <a:ext cx="161640" cy="17928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65640" y="4046400"/>
              <a:ext cx="30240" cy="208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5640" y="4046400"/>
              <a:ext cx="30240" cy="208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95880" y="4046400"/>
              <a:ext cx="33120" cy="208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95880" y="4046400"/>
              <a:ext cx="33120" cy="208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91040" y="3989520"/>
              <a:ext cx="379440" cy="35712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91040" y="3989520"/>
              <a:ext cx="379440" cy="35712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63920" y="4124160"/>
              <a:ext cx="19080" cy="334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63920" y="4124160"/>
              <a:ext cx="19080" cy="334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63920" y="4124160"/>
              <a:ext cx="106560" cy="5724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63920" y="4124160"/>
              <a:ext cx="106560" cy="5724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62560" y="4113360"/>
              <a:ext cx="7920" cy="2196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62560" y="4113360"/>
              <a:ext cx="7920" cy="2196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06760" y="4148280"/>
              <a:ext cx="120960" cy="14580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06760" y="4148280"/>
              <a:ext cx="120960" cy="14580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32160" y="4280040"/>
              <a:ext cx="174600" cy="903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32160" y="4280040"/>
              <a:ext cx="174600" cy="903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75120" y="4035600"/>
              <a:ext cx="131760" cy="7776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5120" y="4035600"/>
              <a:ext cx="131760" cy="7776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06880" y="4113360"/>
              <a:ext cx="87480" cy="9972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06880" y="4113360"/>
              <a:ext cx="87480" cy="9972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81760" y="4079880"/>
              <a:ext cx="155520" cy="34596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81760" y="4079880"/>
              <a:ext cx="155520" cy="34596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81480" y="4224240"/>
              <a:ext cx="131760" cy="27000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1480" y="4224240"/>
              <a:ext cx="131760" cy="27000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22880" y="4191120"/>
              <a:ext cx="122400" cy="15552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22880" y="4191120"/>
              <a:ext cx="122400" cy="15552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6360" y="4181400"/>
              <a:ext cx="122040" cy="25416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6360" y="4181400"/>
              <a:ext cx="122040" cy="25416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6360" y="4338720"/>
              <a:ext cx="88920" cy="6516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56360" y="4338720"/>
              <a:ext cx="88920" cy="6516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22880" y="4470480"/>
              <a:ext cx="68400" cy="10008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22880" y="4470480"/>
              <a:ext cx="68400" cy="10008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78400" y="4470480"/>
              <a:ext cx="174600" cy="10008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78400" y="4470480"/>
              <a:ext cx="174600" cy="10008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54720" y="4505400"/>
              <a:ext cx="33120" cy="792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54720" y="4505400"/>
              <a:ext cx="33120" cy="792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65800" y="4513320"/>
              <a:ext cx="174600" cy="14760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65800" y="4513320"/>
              <a:ext cx="174600" cy="14760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48480" y="4592520"/>
              <a:ext cx="176040" cy="15552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48480" y="4592520"/>
              <a:ext cx="176040" cy="15552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24520" y="4635360"/>
              <a:ext cx="163440" cy="14616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24520" y="4635360"/>
              <a:ext cx="163440" cy="14616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70720" y="3859200"/>
              <a:ext cx="58680" cy="8748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70720" y="3859200"/>
              <a:ext cx="58680" cy="8748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40480" y="3767040"/>
              <a:ext cx="108000" cy="11124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40480" y="3767040"/>
              <a:ext cx="108000" cy="11124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73480" y="3924360"/>
              <a:ext cx="206280" cy="16668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73480" y="3924360"/>
              <a:ext cx="206280" cy="16668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21240" y="3890880"/>
              <a:ext cx="64800" cy="14472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22680" y="3890880"/>
              <a:ext cx="63360" cy="14472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70520" y="4268880"/>
              <a:ext cx="250560" cy="25704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70520" y="4268880"/>
              <a:ext cx="250560" cy="25704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21000" y="4370400"/>
              <a:ext cx="22320" cy="3492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1000" y="4370400"/>
              <a:ext cx="22320" cy="3492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00480" y="4379760"/>
              <a:ext cx="174600" cy="2350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00480" y="4379760"/>
              <a:ext cx="174600" cy="2350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6880" y="4094280"/>
              <a:ext cx="209520" cy="23004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06880" y="4094280"/>
              <a:ext cx="209520" cy="23004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06880" y="4079880"/>
              <a:ext cx="141120" cy="13320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06880" y="4079880"/>
              <a:ext cx="141120" cy="13320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97160" y="4294080"/>
              <a:ext cx="109440" cy="7632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97160" y="4294080"/>
              <a:ext cx="109440" cy="7632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06880" y="4348080"/>
              <a:ext cx="54000" cy="1296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06880" y="4348080"/>
              <a:ext cx="54000" cy="1296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06880" y="4370400"/>
              <a:ext cx="54000" cy="349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06880" y="4370400"/>
              <a:ext cx="54000" cy="349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38560" y="4370400"/>
              <a:ext cx="122040" cy="9216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38560" y="4370400"/>
              <a:ext cx="122040" cy="9216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73480" y="4414680"/>
              <a:ext cx="42840" cy="5580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73480" y="4414680"/>
              <a:ext cx="42840" cy="5580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94000" y="4435560"/>
              <a:ext cx="77760" cy="7920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94000" y="4435560"/>
              <a:ext cx="77760" cy="7920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03440" y="4324320"/>
              <a:ext cx="130320" cy="10152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03440" y="4324320"/>
              <a:ext cx="130320" cy="10152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89480" y="4392720"/>
              <a:ext cx="34920" cy="8892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89480" y="4392720"/>
              <a:ext cx="34920" cy="8892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13240" y="4370400"/>
              <a:ext cx="42840" cy="11124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3240" y="4370400"/>
              <a:ext cx="42840" cy="11124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54360" y="4549680"/>
              <a:ext cx="31680" cy="223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4360" y="4549680"/>
              <a:ext cx="31680" cy="223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86040" y="4525920"/>
              <a:ext cx="133560" cy="15876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86040" y="4525920"/>
              <a:ext cx="133560" cy="15876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90960" y="4606920"/>
              <a:ext cx="33480" cy="2844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90960" y="4606920"/>
              <a:ext cx="33480" cy="2844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03560" y="4635360"/>
              <a:ext cx="20880" cy="3672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03560" y="4635360"/>
              <a:ext cx="20880" cy="3672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99000" y="4894200"/>
              <a:ext cx="228600" cy="22068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99000" y="4894200"/>
              <a:ext cx="228600" cy="22068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99000" y="4692600"/>
              <a:ext cx="217440" cy="22248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99000" y="4692600"/>
              <a:ext cx="217440" cy="22248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10160" y="4672080"/>
              <a:ext cx="7920" cy="2052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10160" y="4672080"/>
              <a:ext cx="7920" cy="2052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74960" y="4983120"/>
              <a:ext cx="284400" cy="25560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74960" y="4983120"/>
              <a:ext cx="284400" cy="25560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0120" y="4903920"/>
              <a:ext cx="163440" cy="1666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0120" y="4903920"/>
              <a:ext cx="163440" cy="1666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27600" y="4871880"/>
              <a:ext cx="142920" cy="12384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7600" y="4871880"/>
              <a:ext cx="142920" cy="12384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14720" y="4773600"/>
              <a:ext cx="185760" cy="29700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14720" y="4773600"/>
              <a:ext cx="185760" cy="29700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24440" y="5062680"/>
              <a:ext cx="21960" cy="219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24440" y="5062680"/>
              <a:ext cx="21960" cy="219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76560" y="3009960"/>
              <a:ext cx="184320" cy="13176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76560" y="3009960"/>
              <a:ext cx="184320" cy="13176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43320" y="4802040"/>
              <a:ext cx="120600" cy="24948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43320" y="4802040"/>
              <a:ext cx="120600" cy="24948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70320" y="4559400"/>
              <a:ext cx="11160" cy="219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70320" y="4559400"/>
              <a:ext cx="11160" cy="219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92640" y="4606920"/>
              <a:ext cx="1116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92640" y="4606920"/>
              <a:ext cx="1116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63960" y="4414680"/>
              <a:ext cx="46080" cy="6696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63960" y="4414680"/>
              <a:ext cx="46080" cy="6696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65800" y="4238640"/>
              <a:ext cx="44280" cy="3024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65800" y="4238640"/>
              <a:ext cx="44280" cy="3024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64160" y="4137120"/>
              <a:ext cx="33480" cy="5544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4160" y="4137120"/>
              <a:ext cx="33480" cy="5544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29400" y="3960720"/>
              <a:ext cx="42840" cy="6516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29400" y="3960720"/>
              <a:ext cx="42840" cy="6516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72240" y="3960720"/>
              <a:ext cx="41040" cy="208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72240" y="3960720"/>
              <a:ext cx="41040" cy="208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8480" y="3789360"/>
              <a:ext cx="185760" cy="17928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48480" y="3789360"/>
              <a:ext cx="185760" cy="17928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02200" y="3689280"/>
              <a:ext cx="106560" cy="10008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02200" y="3689280"/>
              <a:ext cx="106560" cy="10008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62840" y="355752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62840" y="355752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07200" y="3300480"/>
              <a:ext cx="19080" cy="205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07200" y="3300480"/>
              <a:ext cx="19080" cy="205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34240" y="3454560"/>
              <a:ext cx="45720" cy="23472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34240" y="3454560"/>
              <a:ext cx="45720" cy="23472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84800" y="2409840"/>
              <a:ext cx="293400" cy="41112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84800" y="2409840"/>
              <a:ext cx="293400" cy="41112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30800" y="2863800"/>
              <a:ext cx="33120" cy="4752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30800" y="2863800"/>
              <a:ext cx="33120" cy="4752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71760" y="3321000"/>
              <a:ext cx="22320" cy="349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71760" y="3321000"/>
              <a:ext cx="22320" cy="349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65520" y="341316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65520" y="341316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86040" y="3398760"/>
              <a:ext cx="24120" cy="237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86040" y="3398760"/>
              <a:ext cx="24120" cy="237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86040" y="3435480"/>
              <a:ext cx="24120" cy="111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86040" y="3435480"/>
              <a:ext cx="24120" cy="111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81480" y="3321000"/>
              <a:ext cx="142920" cy="25884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81480" y="3321000"/>
              <a:ext cx="142920" cy="25884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43200" y="3759120"/>
              <a:ext cx="11160" cy="414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43200" y="3759120"/>
              <a:ext cx="11160" cy="414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33840" y="3800520"/>
              <a:ext cx="31680" cy="586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33840" y="3800520"/>
              <a:ext cx="31680" cy="586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10160" y="3868560"/>
              <a:ext cx="53640" cy="334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10160" y="3868560"/>
              <a:ext cx="53640" cy="334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60640" y="3868560"/>
              <a:ext cx="34920" cy="334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60640" y="3868560"/>
              <a:ext cx="34920" cy="334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6400" y="3925800"/>
              <a:ext cx="44640" cy="208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46400" y="3925800"/>
              <a:ext cx="44640" cy="208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33760" y="3824280"/>
              <a:ext cx="22320" cy="205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33760" y="3824280"/>
              <a:ext cx="22320" cy="205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45000" y="4781520"/>
              <a:ext cx="696960" cy="555480"/>
            </a:xfrm>
            <a:custGeom>
              <a:avLst/>
              <a:gdLst/>
              <a:ahLst/>
              <a:rect l="l" t="t" r="r" b="b"/>
              <a:pathLst>
                <a:path w="919" h="736">
                  <a:moveTo>
                    <a:pt x="40" y="588"/>
                  </a:moveTo>
                  <a:lnTo>
                    <a:pt x="84" y="621"/>
                  </a:lnTo>
                  <a:lnTo>
                    <a:pt x="111" y="621"/>
                  </a:lnTo>
                  <a:lnTo>
                    <a:pt x="155" y="575"/>
                  </a:lnTo>
                  <a:lnTo>
                    <a:pt x="226" y="575"/>
                  </a:lnTo>
                  <a:lnTo>
                    <a:pt x="244" y="560"/>
                  </a:lnTo>
                  <a:lnTo>
                    <a:pt x="299" y="531"/>
                  </a:lnTo>
                  <a:lnTo>
                    <a:pt x="414" y="516"/>
                  </a:lnTo>
                  <a:lnTo>
                    <a:pt x="474" y="544"/>
                  </a:lnTo>
                  <a:lnTo>
                    <a:pt x="474" y="560"/>
                  </a:lnTo>
                  <a:lnTo>
                    <a:pt x="485" y="560"/>
                  </a:lnTo>
                  <a:lnTo>
                    <a:pt x="518" y="621"/>
                  </a:lnTo>
                  <a:lnTo>
                    <a:pt x="558" y="544"/>
                  </a:lnTo>
                  <a:lnTo>
                    <a:pt x="558" y="575"/>
                  </a:lnTo>
                  <a:lnTo>
                    <a:pt x="545" y="621"/>
                  </a:lnTo>
                  <a:lnTo>
                    <a:pt x="558" y="621"/>
                  </a:lnTo>
                  <a:lnTo>
                    <a:pt x="558" y="588"/>
                  </a:lnTo>
                  <a:lnTo>
                    <a:pt x="573" y="621"/>
                  </a:lnTo>
                  <a:lnTo>
                    <a:pt x="558" y="632"/>
                  </a:lnTo>
                  <a:lnTo>
                    <a:pt x="589" y="632"/>
                  </a:lnTo>
                  <a:lnTo>
                    <a:pt x="602" y="661"/>
                  </a:lnTo>
                  <a:lnTo>
                    <a:pt x="602" y="678"/>
                  </a:lnTo>
                  <a:lnTo>
                    <a:pt x="618" y="694"/>
                  </a:lnTo>
                  <a:lnTo>
                    <a:pt x="644" y="707"/>
                  </a:lnTo>
                  <a:lnTo>
                    <a:pt x="673" y="707"/>
                  </a:lnTo>
                  <a:lnTo>
                    <a:pt x="689" y="722"/>
                  </a:lnTo>
                  <a:lnTo>
                    <a:pt x="717" y="694"/>
                  </a:lnTo>
                  <a:lnTo>
                    <a:pt x="717" y="707"/>
                  </a:lnTo>
                  <a:lnTo>
                    <a:pt x="733" y="707"/>
                  </a:lnTo>
                  <a:lnTo>
                    <a:pt x="733" y="722"/>
                  </a:lnTo>
                  <a:lnTo>
                    <a:pt x="760" y="736"/>
                  </a:lnTo>
                  <a:lnTo>
                    <a:pt x="788" y="694"/>
                  </a:lnTo>
                  <a:lnTo>
                    <a:pt x="832" y="694"/>
                  </a:lnTo>
                  <a:lnTo>
                    <a:pt x="848" y="632"/>
                  </a:lnTo>
                  <a:lnTo>
                    <a:pt x="903" y="502"/>
                  </a:lnTo>
                  <a:lnTo>
                    <a:pt x="919" y="441"/>
                  </a:lnTo>
                  <a:lnTo>
                    <a:pt x="903" y="368"/>
                  </a:lnTo>
                  <a:lnTo>
                    <a:pt x="877" y="326"/>
                  </a:lnTo>
                  <a:lnTo>
                    <a:pt x="859" y="311"/>
                  </a:lnTo>
                  <a:lnTo>
                    <a:pt x="848" y="282"/>
                  </a:lnTo>
                  <a:lnTo>
                    <a:pt x="832" y="267"/>
                  </a:lnTo>
                  <a:lnTo>
                    <a:pt x="832" y="282"/>
                  </a:lnTo>
                  <a:lnTo>
                    <a:pt x="804" y="238"/>
                  </a:lnTo>
                  <a:lnTo>
                    <a:pt x="760" y="192"/>
                  </a:lnTo>
                  <a:lnTo>
                    <a:pt x="744" y="148"/>
                  </a:lnTo>
                  <a:lnTo>
                    <a:pt x="733" y="134"/>
                  </a:lnTo>
                  <a:lnTo>
                    <a:pt x="733" y="104"/>
                  </a:lnTo>
                  <a:lnTo>
                    <a:pt x="717" y="90"/>
                  </a:lnTo>
                  <a:lnTo>
                    <a:pt x="689" y="90"/>
                  </a:lnTo>
                  <a:lnTo>
                    <a:pt x="673" y="0"/>
                  </a:lnTo>
                  <a:lnTo>
                    <a:pt x="660" y="0"/>
                  </a:lnTo>
                  <a:lnTo>
                    <a:pt x="644" y="29"/>
                  </a:lnTo>
                  <a:lnTo>
                    <a:pt x="644" y="104"/>
                  </a:lnTo>
                  <a:lnTo>
                    <a:pt x="633" y="163"/>
                  </a:lnTo>
                  <a:lnTo>
                    <a:pt x="602" y="163"/>
                  </a:lnTo>
                  <a:lnTo>
                    <a:pt x="545" y="119"/>
                  </a:lnTo>
                  <a:lnTo>
                    <a:pt x="529" y="119"/>
                  </a:lnTo>
                  <a:lnTo>
                    <a:pt x="529" y="104"/>
                  </a:lnTo>
                  <a:lnTo>
                    <a:pt x="501" y="104"/>
                  </a:lnTo>
                  <a:lnTo>
                    <a:pt x="518" y="62"/>
                  </a:lnTo>
                  <a:lnTo>
                    <a:pt x="529" y="62"/>
                  </a:lnTo>
                  <a:lnTo>
                    <a:pt x="545" y="29"/>
                  </a:lnTo>
                  <a:lnTo>
                    <a:pt x="529" y="29"/>
                  </a:lnTo>
                  <a:lnTo>
                    <a:pt x="518" y="46"/>
                  </a:lnTo>
                  <a:lnTo>
                    <a:pt x="518" y="29"/>
                  </a:lnTo>
                  <a:lnTo>
                    <a:pt x="501" y="29"/>
                  </a:lnTo>
                  <a:lnTo>
                    <a:pt x="430" y="18"/>
                  </a:lnTo>
                  <a:lnTo>
                    <a:pt x="445" y="29"/>
                  </a:lnTo>
                  <a:lnTo>
                    <a:pt x="401" y="29"/>
                  </a:lnTo>
                  <a:lnTo>
                    <a:pt x="385" y="46"/>
                  </a:lnTo>
                  <a:lnTo>
                    <a:pt x="385" y="62"/>
                  </a:lnTo>
                  <a:lnTo>
                    <a:pt x="374" y="62"/>
                  </a:lnTo>
                  <a:lnTo>
                    <a:pt x="374" y="104"/>
                  </a:lnTo>
                  <a:lnTo>
                    <a:pt x="343" y="90"/>
                  </a:lnTo>
                  <a:lnTo>
                    <a:pt x="343" y="104"/>
                  </a:lnTo>
                  <a:lnTo>
                    <a:pt x="343" y="90"/>
                  </a:lnTo>
                  <a:lnTo>
                    <a:pt x="330" y="75"/>
                  </a:lnTo>
                  <a:lnTo>
                    <a:pt x="315" y="75"/>
                  </a:lnTo>
                  <a:lnTo>
                    <a:pt x="286" y="90"/>
                  </a:lnTo>
                  <a:lnTo>
                    <a:pt x="270" y="90"/>
                  </a:lnTo>
                  <a:lnTo>
                    <a:pt x="259" y="134"/>
                  </a:lnTo>
                  <a:lnTo>
                    <a:pt x="226" y="134"/>
                  </a:lnTo>
                  <a:lnTo>
                    <a:pt x="244" y="148"/>
                  </a:lnTo>
                  <a:lnTo>
                    <a:pt x="226" y="163"/>
                  </a:lnTo>
                  <a:lnTo>
                    <a:pt x="226" y="134"/>
                  </a:lnTo>
                  <a:lnTo>
                    <a:pt x="199" y="163"/>
                  </a:lnTo>
                  <a:lnTo>
                    <a:pt x="215" y="177"/>
                  </a:lnTo>
                  <a:lnTo>
                    <a:pt x="171" y="209"/>
                  </a:lnTo>
                  <a:lnTo>
                    <a:pt x="71" y="238"/>
                  </a:lnTo>
                  <a:lnTo>
                    <a:pt x="27" y="282"/>
                  </a:lnTo>
                  <a:lnTo>
                    <a:pt x="11" y="267"/>
                  </a:lnTo>
                  <a:lnTo>
                    <a:pt x="11" y="311"/>
                  </a:lnTo>
                  <a:lnTo>
                    <a:pt x="0" y="311"/>
                  </a:lnTo>
                  <a:lnTo>
                    <a:pt x="27" y="383"/>
                  </a:lnTo>
                  <a:lnTo>
                    <a:pt x="11" y="355"/>
                  </a:lnTo>
                  <a:lnTo>
                    <a:pt x="11" y="383"/>
                  </a:lnTo>
                  <a:lnTo>
                    <a:pt x="0" y="368"/>
                  </a:lnTo>
                  <a:lnTo>
                    <a:pt x="40" y="458"/>
                  </a:lnTo>
                  <a:lnTo>
                    <a:pt x="56" y="516"/>
                  </a:lnTo>
                  <a:lnTo>
                    <a:pt x="56" y="560"/>
                  </a:lnTo>
                  <a:lnTo>
                    <a:pt x="40" y="575"/>
                  </a:lnTo>
                  <a:lnTo>
                    <a:pt x="40" y="5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37320" y="4794120"/>
              <a:ext cx="20520" cy="792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37320" y="4794120"/>
              <a:ext cx="20520" cy="792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46760" y="5262480"/>
              <a:ext cx="20520" cy="111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46760" y="5262480"/>
              <a:ext cx="20520" cy="111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89680" y="5373720"/>
              <a:ext cx="65160" cy="651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89680" y="5373720"/>
              <a:ext cx="65160" cy="651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69200" y="5238720"/>
              <a:ext cx="95040" cy="15876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69200" y="5238720"/>
              <a:ext cx="95040" cy="15876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59400" y="5373720"/>
              <a:ext cx="142920" cy="14436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59400" y="5373720"/>
              <a:ext cx="142920" cy="14436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37200" y="4494240"/>
              <a:ext cx="185760" cy="19836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7200" y="4494240"/>
              <a:ext cx="185760" cy="19836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13240" y="4692600"/>
              <a:ext cx="150840" cy="4608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13240" y="4692600"/>
              <a:ext cx="150840" cy="4608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64080" y="4738680"/>
              <a:ext cx="23760" cy="144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64080" y="4738680"/>
              <a:ext cx="23760" cy="144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97560" y="4738680"/>
              <a:ext cx="131760" cy="936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97560" y="4738680"/>
              <a:ext cx="131760" cy="936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40400" y="4759200"/>
              <a:ext cx="33480" cy="144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40400" y="4759200"/>
              <a:ext cx="33480" cy="144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16720" y="4738680"/>
              <a:ext cx="66600" cy="3492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16720" y="4738680"/>
              <a:ext cx="66600" cy="3492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03920" y="4684680"/>
              <a:ext cx="9360" cy="3168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03920" y="4684680"/>
              <a:ext cx="9360" cy="3168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13240" y="4614840"/>
              <a:ext cx="23760" cy="363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13240" y="4614840"/>
              <a:ext cx="23760" cy="363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45280" y="4635360"/>
              <a:ext cx="10800" cy="1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45280" y="4635360"/>
              <a:ext cx="10800" cy="15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40400" y="4559400"/>
              <a:ext cx="109440" cy="13320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40400" y="4559400"/>
              <a:ext cx="109440" cy="13320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83320" y="4549680"/>
              <a:ext cx="23760" cy="5724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83320" y="4549680"/>
              <a:ext cx="23760" cy="5724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62440" y="4651200"/>
              <a:ext cx="20880" cy="972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62440" y="4651200"/>
              <a:ext cx="20880" cy="972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94480" y="4635360"/>
              <a:ext cx="54000" cy="2556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94480" y="4635360"/>
              <a:ext cx="54000" cy="2556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64160" y="4259160"/>
              <a:ext cx="65160" cy="10188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4160" y="4259160"/>
              <a:ext cx="65160" cy="10188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10160" y="4392720"/>
              <a:ext cx="42840" cy="5544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10160" y="4392720"/>
              <a:ext cx="42840" cy="5544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64160" y="4361040"/>
              <a:ext cx="20520" cy="187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64160" y="4361040"/>
              <a:ext cx="20520" cy="187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40480" y="4370400"/>
              <a:ext cx="21960" cy="4428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40480" y="4370400"/>
              <a:ext cx="21960" cy="4428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97640" y="4379760"/>
              <a:ext cx="42840" cy="5580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97640" y="4379760"/>
              <a:ext cx="42840" cy="5580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97640" y="4414680"/>
              <a:ext cx="75960" cy="7956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97640" y="4414680"/>
              <a:ext cx="75960" cy="7956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0720" y="5106960"/>
              <a:ext cx="42840" cy="4284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0720" y="5106960"/>
              <a:ext cx="42840" cy="4284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54720" y="4192560"/>
              <a:ext cx="9360" cy="32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27520" y="3768840"/>
              <a:ext cx="33120" cy="6660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27520" y="3768840"/>
              <a:ext cx="33120" cy="6660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81520" y="3724200"/>
              <a:ext cx="109440" cy="7632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81520" y="3724200"/>
              <a:ext cx="109440" cy="7632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74960" y="3614760"/>
              <a:ext cx="106560" cy="7452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74960" y="3614760"/>
              <a:ext cx="106560" cy="7452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30680" y="3657600"/>
              <a:ext cx="44280" cy="3168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30680" y="3657600"/>
              <a:ext cx="44280" cy="3168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30680" y="3666960"/>
              <a:ext cx="96840" cy="10188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30680" y="3666960"/>
              <a:ext cx="96840" cy="10188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07000" y="3746520"/>
              <a:ext cx="33120" cy="334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07000" y="3746520"/>
              <a:ext cx="33120" cy="334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19600" y="3678120"/>
              <a:ext cx="75960" cy="10188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19600" y="3678120"/>
              <a:ext cx="75960" cy="10188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51280" y="3768840"/>
              <a:ext cx="4428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51280" y="3768840"/>
              <a:ext cx="4428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63800" y="3689280"/>
              <a:ext cx="63720" cy="6984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63800" y="3689280"/>
              <a:ext cx="63720" cy="6984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99000" y="3546360"/>
              <a:ext cx="120600" cy="6840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99000" y="3546360"/>
              <a:ext cx="120600" cy="6840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90680" y="2641680"/>
              <a:ext cx="317520" cy="27936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90680" y="2641680"/>
              <a:ext cx="317520" cy="27936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13040" y="2654280"/>
              <a:ext cx="473040" cy="544680"/>
            </a:xfrm>
            <a:custGeom>
              <a:avLst/>
              <a:gdLst/>
              <a:ahLst/>
              <a:rect l="l" t="t" r="r" b="b"/>
              <a:pathLst>
                <a:path w="622" h="717">
                  <a:moveTo>
                    <a:pt x="0" y="156"/>
                  </a:moveTo>
                  <a:lnTo>
                    <a:pt x="58" y="257"/>
                  </a:lnTo>
                  <a:lnTo>
                    <a:pt x="85" y="269"/>
                  </a:lnTo>
                  <a:lnTo>
                    <a:pt x="167" y="284"/>
                  </a:lnTo>
                  <a:lnTo>
                    <a:pt x="181" y="284"/>
                  </a:lnTo>
                  <a:lnTo>
                    <a:pt x="221" y="295"/>
                  </a:lnTo>
                  <a:lnTo>
                    <a:pt x="236" y="295"/>
                  </a:lnTo>
                  <a:lnTo>
                    <a:pt x="248" y="257"/>
                  </a:lnTo>
                  <a:lnTo>
                    <a:pt x="263" y="284"/>
                  </a:lnTo>
                  <a:lnTo>
                    <a:pt x="305" y="324"/>
                  </a:lnTo>
                  <a:lnTo>
                    <a:pt x="290" y="355"/>
                  </a:lnTo>
                  <a:lnTo>
                    <a:pt x="317" y="339"/>
                  </a:lnTo>
                  <a:lnTo>
                    <a:pt x="332" y="366"/>
                  </a:lnTo>
                  <a:lnTo>
                    <a:pt x="359" y="393"/>
                  </a:lnTo>
                  <a:lnTo>
                    <a:pt x="374" y="437"/>
                  </a:lnTo>
                  <a:lnTo>
                    <a:pt x="332" y="506"/>
                  </a:lnTo>
                  <a:lnTo>
                    <a:pt x="344" y="535"/>
                  </a:lnTo>
                  <a:lnTo>
                    <a:pt x="332" y="550"/>
                  </a:lnTo>
                  <a:lnTo>
                    <a:pt x="263" y="535"/>
                  </a:lnTo>
                  <a:lnTo>
                    <a:pt x="263" y="565"/>
                  </a:lnTo>
                  <a:lnTo>
                    <a:pt x="248" y="565"/>
                  </a:lnTo>
                  <a:lnTo>
                    <a:pt x="248" y="608"/>
                  </a:lnTo>
                  <a:lnTo>
                    <a:pt x="290" y="608"/>
                  </a:lnTo>
                  <a:lnTo>
                    <a:pt x="305" y="592"/>
                  </a:lnTo>
                  <a:lnTo>
                    <a:pt x="332" y="592"/>
                  </a:lnTo>
                  <a:lnTo>
                    <a:pt x="386" y="634"/>
                  </a:lnTo>
                  <a:lnTo>
                    <a:pt x="386" y="648"/>
                  </a:lnTo>
                  <a:lnTo>
                    <a:pt x="444" y="690"/>
                  </a:lnTo>
                  <a:lnTo>
                    <a:pt x="468" y="705"/>
                  </a:lnTo>
                  <a:lnTo>
                    <a:pt x="511" y="717"/>
                  </a:lnTo>
                  <a:lnTo>
                    <a:pt x="511" y="705"/>
                  </a:lnTo>
                  <a:lnTo>
                    <a:pt x="455" y="648"/>
                  </a:lnTo>
                  <a:lnTo>
                    <a:pt x="455" y="619"/>
                  </a:lnTo>
                  <a:lnTo>
                    <a:pt x="526" y="678"/>
                  </a:lnTo>
                  <a:lnTo>
                    <a:pt x="553" y="678"/>
                  </a:lnTo>
                  <a:lnTo>
                    <a:pt x="553" y="634"/>
                  </a:lnTo>
                  <a:lnTo>
                    <a:pt x="538" y="619"/>
                  </a:lnTo>
                  <a:lnTo>
                    <a:pt x="538" y="592"/>
                  </a:lnTo>
                  <a:lnTo>
                    <a:pt x="495" y="550"/>
                  </a:lnTo>
                  <a:lnTo>
                    <a:pt x="484" y="521"/>
                  </a:lnTo>
                  <a:lnTo>
                    <a:pt x="495" y="495"/>
                  </a:lnTo>
                  <a:lnTo>
                    <a:pt x="526" y="521"/>
                  </a:lnTo>
                  <a:lnTo>
                    <a:pt x="538" y="550"/>
                  </a:lnTo>
                  <a:lnTo>
                    <a:pt x="564" y="565"/>
                  </a:lnTo>
                  <a:lnTo>
                    <a:pt x="564" y="535"/>
                  </a:lnTo>
                  <a:lnTo>
                    <a:pt x="595" y="535"/>
                  </a:lnTo>
                  <a:lnTo>
                    <a:pt x="622" y="479"/>
                  </a:lnTo>
                  <a:lnTo>
                    <a:pt x="538" y="393"/>
                  </a:lnTo>
                  <a:lnTo>
                    <a:pt x="495" y="393"/>
                  </a:lnTo>
                  <a:lnTo>
                    <a:pt x="468" y="366"/>
                  </a:lnTo>
                  <a:lnTo>
                    <a:pt x="468" y="339"/>
                  </a:lnTo>
                  <a:lnTo>
                    <a:pt x="495" y="324"/>
                  </a:lnTo>
                  <a:lnTo>
                    <a:pt x="468" y="295"/>
                  </a:lnTo>
                  <a:lnTo>
                    <a:pt x="484" y="284"/>
                  </a:lnTo>
                  <a:lnTo>
                    <a:pt x="468" y="242"/>
                  </a:lnTo>
                  <a:lnTo>
                    <a:pt x="428" y="226"/>
                  </a:lnTo>
                  <a:lnTo>
                    <a:pt x="401" y="182"/>
                  </a:lnTo>
                  <a:lnTo>
                    <a:pt x="374" y="171"/>
                  </a:lnTo>
                  <a:lnTo>
                    <a:pt x="344" y="156"/>
                  </a:lnTo>
                  <a:lnTo>
                    <a:pt x="332" y="100"/>
                  </a:lnTo>
                  <a:lnTo>
                    <a:pt x="305" y="100"/>
                  </a:lnTo>
                  <a:lnTo>
                    <a:pt x="263" y="85"/>
                  </a:lnTo>
                  <a:lnTo>
                    <a:pt x="236" y="100"/>
                  </a:lnTo>
                  <a:lnTo>
                    <a:pt x="208" y="100"/>
                  </a:lnTo>
                  <a:lnTo>
                    <a:pt x="181" y="129"/>
                  </a:lnTo>
                  <a:lnTo>
                    <a:pt x="194" y="85"/>
                  </a:lnTo>
                  <a:lnTo>
                    <a:pt x="181" y="58"/>
                  </a:lnTo>
                  <a:lnTo>
                    <a:pt x="181" y="0"/>
                  </a:lnTo>
                  <a:lnTo>
                    <a:pt x="154" y="0"/>
                  </a:lnTo>
                  <a:lnTo>
                    <a:pt x="100" y="73"/>
                  </a:lnTo>
                  <a:lnTo>
                    <a:pt x="85" y="129"/>
                  </a:lnTo>
                  <a:lnTo>
                    <a:pt x="100" y="171"/>
                  </a:lnTo>
                  <a:lnTo>
                    <a:pt x="69" y="144"/>
                  </a:lnTo>
                  <a:lnTo>
                    <a:pt x="69" y="73"/>
                  </a:lnTo>
                  <a:lnTo>
                    <a:pt x="100" y="31"/>
                  </a:lnTo>
                  <a:lnTo>
                    <a:pt x="127" y="0"/>
                  </a:lnTo>
                  <a:lnTo>
                    <a:pt x="58" y="0"/>
                  </a:lnTo>
                  <a:lnTo>
                    <a:pt x="16" y="58"/>
                  </a:lnTo>
                  <a:lnTo>
                    <a:pt x="0" y="113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93840" y="3591000"/>
              <a:ext cx="992160" cy="546120"/>
            </a:xfrm>
            <a:custGeom>
              <a:avLst/>
              <a:gdLst/>
              <a:ahLst/>
              <a:rect l="l" t="t" r="r" b="b"/>
              <a:pathLst>
                <a:path w="1308" h="718">
                  <a:moveTo>
                    <a:pt x="44" y="13"/>
                  </a:moveTo>
                  <a:lnTo>
                    <a:pt x="662" y="13"/>
                  </a:lnTo>
                  <a:lnTo>
                    <a:pt x="674" y="0"/>
                  </a:lnTo>
                  <a:lnTo>
                    <a:pt x="691" y="29"/>
                  </a:lnTo>
                  <a:lnTo>
                    <a:pt x="718" y="29"/>
                  </a:lnTo>
                  <a:lnTo>
                    <a:pt x="746" y="57"/>
                  </a:lnTo>
                  <a:lnTo>
                    <a:pt x="791" y="57"/>
                  </a:lnTo>
                  <a:lnTo>
                    <a:pt x="733" y="103"/>
                  </a:lnTo>
                  <a:lnTo>
                    <a:pt x="762" y="86"/>
                  </a:lnTo>
                  <a:lnTo>
                    <a:pt x="777" y="103"/>
                  </a:lnTo>
                  <a:lnTo>
                    <a:pt x="817" y="86"/>
                  </a:lnTo>
                  <a:lnTo>
                    <a:pt x="817" y="103"/>
                  </a:lnTo>
                  <a:lnTo>
                    <a:pt x="833" y="86"/>
                  </a:lnTo>
                  <a:lnTo>
                    <a:pt x="848" y="103"/>
                  </a:lnTo>
                  <a:lnTo>
                    <a:pt x="906" y="103"/>
                  </a:lnTo>
                  <a:lnTo>
                    <a:pt x="921" y="115"/>
                  </a:lnTo>
                  <a:lnTo>
                    <a:pt x="921" y="132"/>
                  </a:lnTo>
                  <a:lnTo>
                    <a:pt x="848" y="132"/>
                  </a:lnTo>
                  <a:lnTo>
                    <a:pt x="833" y="176"/>
                  </a:lnTo>
                  <a:lnTo>
                    <a:pt x="848" y="161"/>
                  </a:lnTo>
                  <a:lnTo>
                    <a:pt x="833" y="220"/>
                  </a:lnTo>
                  <a:lnTo>
                    <a:pt x="833" y="262"/>
                  </a:lnTo>
                  <a:lnTo>
                    <a:pt x="848" y="262"/>
                  </a:lnTo>
                  <a:lnTo>
                    <a:pt x="862" y="249"/>
                  </a:lnTo>
                  <a:lnTo>
                    <a:pt x="862" y="189"/>
                  </a:lnTo>
                  <a:lnTo>
                    <a:pt x="877" y="161"/>
                  </a:lnTo>
                  <a:lnTo>
                    <a:pt x="892" y="147"/>
                  </a:lnTo>
                  <a:lnTo>
                    <a:pt x="892" y="132"/>
                  </a:lnTo>
                  <a:lnTo>
                    <a:pt x="933" y="147"/>
                  </a:lnTo>
                  <a:lnTo>
                    <a:pt x="933" y="176"/>
                  </a:lnTo>
                  <a:lnTo>
                    <a:pt x="921" y="205"/>
                  </a:lnTo>
                  <a:lnTo>
                    <a:pt x="950" y="189"/>
                  </a:lnTo>
                  <a:lnTo>
                    <a:pt x="950" y="220"/>
                  </a:lnTo>
                  <a:lnTo>
                    <a:pt x="965" y="220"/>
                  </a:lnTo>
                  <a:lnTo>
                    <a:pt x="933" y="262"/>
                  </a:lnTo>
                  <a:lnTo>
                    <a:pt x="977" y="262"/>
                  </a:lnTo>
                  <a:lnTo>
                    <a:pt x="1036" y="220"/>
                  </a:lnTo>
                  <a:lnTo>
                    <a:pt x="1036" y="205"/>
                  </a:lnTo>
                  <a:lnTo>
                    <a:pt x="1092" y="205"/>
                  </a:lnTo>
                  <a:lnTo>
                    <a:pt x="1092" y="176"/>
                  </a:lnTo>
                  <a:lnTo>
                    <a:pt x="1120" y="161"/>
                  </a:lnTo>
                  <a:lnTo>
                    <a:pt x="1191" y="161"/>
                  </a:lnTo>
                  <a:lnTo>
                    <a:pt x="1224" y="147"/>
                  </a:lnTo>
                  <a:lnTo>
                    <a:pt x="1251" y="75"/>
                  </a:lnTo>
                  <a:lnTo>
                    <a:pt x="1264" y="86"/>
                  </a:lnTo>
                  <a:lnTo>
                    <a:pt x="1280" y="75"/>
                  </a:lnTo>
                  <a:lnTo>
                    <a:pt x="1280" y="86"/>
                  </a:lnTo>
                  <a:lnTo>
                    <a:pt x="1295" y="132"/>
                  </a:lnTo>
                  <a:lnTo>
                    <a:pt x="1308" y="147"/>
                  </a:lnTo>
                  <a:lnTo>
                    <a:pt x="1308" y="161"/>
                  </a:lnTo>
                  <a:lnTo>
                    <a:pt x="1295" y="176"/>
                  </a:lnTo>
                  <a:lnTo>
                    <a:pt x="1264" y="176"/>
                  </a:lnTo>
                  <a:lnTo>
                    <a:pt x="1207" y="234"/>
                  </a:lnTo>
                  <a:lnTo>
                    <a:pt x="1224" y="262"/>
                  </a:lnTo>
                  <a:lnTo>
                    <a:pt x="1236" y="249"/>
                  </a:lnTo>
                  <a:lnTo>
                    <a:pt x="1236" y="278"/>
                  </a:lnTo>
                  <a:lnTo>
                    <a:pt x="1191" y="262"/>
                  </a:lnTo>
                  <a:lnTo>
                    <a:pt x="1165" y="278"/>
                  </a:lnTo>
                  <a:lnTo>
                    <a:pt x="1149" y="295"/>
                  </a:lnTo>
                  <a:lnTo>
                    <a:pt x="1136" y="352"/>
                  </a:lnTo>
                  <a:lnTo>
                    <a:pt x="1120" y="335"/>
                  </a:lnTo>
                  <a:lnTo>
                    <a:pt x="1120" y="352"/>
                  </a:lnTo>
                  <a:lnTo>
                    <a:pt x="1107" y="396"/>
                  </a:lnTo>
                  <a:lnTo>
                    <a:pt x="1107" y="368"/>
                  </a:lnTo>
                  <a:lnTo>
                    <a:pt x="1092" y="352"/>
                  </a:lnTo>
                  <a:lnTo>
                    <a:pt x="1092" y="324"/>
                  </a:lnTo>
                  <a:lnTo>
                    <a:pt x="1076" y="352"/>
                  </a:lnTo>
                  <a:lnTo>
                    <a:pt x="1107" y="440"/>
                  </a:lnTo>
                  <a:lnTo>
                    <a:pt x="1092" y="469"/>
                  </a:lnTo>
                  <a:lnTo>
                    <a:pt x="1036" y="498"/>
                  </a:lnTo>
                  <a:lnTo>
                    <a:pt x="992" y="544"/>
                  </a:lnTo>
                  <a:lnTo>
                    <a:pt x="977" y="573"/>
                  </a:lnTo>
                  <a:lnTo>
                    <a:pt x="1005" y="674"/>
                  </a:lnTo>
                  <a:lnTo>
                    <a:pt x="1005" y="718"/>
                  </a:lnTo>
                  <a:lnTo>
                    <a:pt x="992" y="718"/>
                  </a:lnTo>
                  <a:lnTo>
                    <a:pt x="950" y="674"/>
                  </a:lnTo>
                  <a:lnTo>
                    <a:pt x="950" y="617"/>
                  </a:lnTo>
                  <a:lnTo>
                    <a:pt x="921" y="588"/>
                  </a:lnTo>
                  <a:lnTo>
                    <a:pt x="892" y="601"/>
                  </a:lnTo>
                  <a:lnTo>
                    <a:pt x="892" y="588"/>
                  </a:lnTo>
                  <a:lnTo>
                    <a:pt x="806" y="588"/>
                  </a:lnTo>
                  <a:lnTo>
                    <a:pt x="791" y="601"/>
                  </a:lnTo>
                  <a:lnTo>
                    <a:pt x="806" y="617"/>
                  </a:lnTo>
                  <a:lnTo>
                    <a:pt x="762" y="617"/>
                  </a:lnTo>
                  <a:lnTo>
                    <a:pt x="746" y="601"/>
                  </a:lnTo>
                  <a:lnTo>
                    <a:pt x="706" y="601"/>
                  </a:lnTo>
                  <a:lnTo>
                    <a:pt x="674" y="617"/>
                  </a:lnTo>
                  <a:lnTo>
                    <a:pt x="618" y="661"/>
                  </a:lnTo>
                  <a:lnTo>
                    <a:pt x="618" y="703"/>
                  </a:lnTo>
                  <a:lnTo>
                    <a:pt x="574" y="689"/>
                  </a:lnTo>
                  <a:lnTo>
                    <a:pt x="518" y="601"/>
                  </a:lnTo>
                  <a:lnTo>
                    <a:pt x="503" y="601"/>
                  </a:lnTo>
                  <a:lnTo>
                    <a:pt x="489" y="617"/>
                  </a:lnTo>
                  <a:lnTo>
                    <a:pt x="474" y="617"/>
                  </a:lnTo>
                  <a:lnTo>
                    <a:pt x="447" y="601"/>
                  </a:lnTo>
                  <a:lnTo>
                    <a:pt x="447" y="573"/>
                  </a:lnTo>
                  <a:lnTo>
                    <a:pt x="415" y="544"/>
                  </a:lnTo>
                  <a:lnTo>
                    <a:pt x="300" y="559"/>
                  </a:lnTo>
                  <a:lnTo>
                    <a:pt x="215" y="527"/>
                  </a:lnTo>
                  <a:lnTo>
                    <a:pt x="173" y="527"/>
                  </a:lnTo>
                  <a:lnTo>
                    <a:pt x="156" y="498"/>
                  </a:lnTo>
                  <a:lnTo>
                    <a:pt x="144" y="498"/>
                  </a:lnTo>
                  <a:lnTo>
                    <a:pt x="144" y="486"/>
                  </a:lnTo>
                  <a:lnTo>
                    <a:pt x="85" y="469"/>
                  </a:lnTo>
                  <a:lnTo>
                    <a:pt x="85" y="454"/>
                  </a:lnTo>
                  <a:lnTo>
                    <a:pt x="56" y="425"/>
                  </a:lnTo>
                  <a:lnTo>
                    <a:pt x="56" y="396"/>
                  </a:lnTo>
                  <a:lnTo>
                    <a:pt x="44" y="396"/>
                  </a:lnTo>
                  <a:lnTo>
                    <a:pt x="44" y="381"/>
                  </a:lnTo>
                  <a:lnTo>
                    <a:pt x="56" y="381"/>
                  </a:lnTo>
                  <a:lnTo>
                    <a:pt x="56" y="368"/>
                  </a:lnTo>
                  <a:lnTo>
                    <a:pt x="29" y="368"/>
                  </a:lnTo>
                  <a:lnTo>
                    <a:pt x="44" y="368"/>
                  </a:lnTo>
                  <a:lnTo>
                    <a:pt x="14" y="335"/>
                  </a:lnTo>
                  <a:lnTo>
                    <a:pt x="14" y="324"/>
                  </a:lnTo>
                  <a:lnTo>
                    <a:pt x="0" y="306"/>
                  </a:lnTo>
                  <a:lnTo>
                    <a:pt x="14" y="262"/>
                  </a:lnTo>
                  <a:lnTo>
                    <a:pt x="0" y="220"/>
                  </a:lnTo>
                  <a:lnTo>
                    <a:pt x="14" y="115"/>
                  </a:lnTo>
                  <a:lnTo>
                    <a:pt x="0" y="42"/>
                  </a:lnTo>
                  <a:lnTo>
                    <a:pt x="29" y="42"/>
                  </a:lnTo>
                  <a:lnTo>
                    <a:pt x="29" y="75"/>
                  </a:lnTo>
                  <a:lnTo>
                    <a:pt x="44" y="75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2600" y="2776680"/>
              <a:ext cx="642960" cy="677880"/>
            </a:xfrm>
            <a:custGeom>
              <a:avLst/>
              <a:gdLst/>
              <a:ahLst/>
              <a:rect l="l" t="t" r="r" b="b"/>
              <a:pathLst>
                <a:path w="848" h="897">
                  <a:moveTo>
                    <a:pt x="848" y="868"/>
                  </a:moveTo>
                  <a:lnTo>
                    <a:pt x="848" y="824"/>
                  </a:lnTo>
                  <a:lnTo>
                    <a:pt x="804" y="795"/>
                  </a:lnTo>
                  <a:lnTo>
                    <a:pt x="763" y="705"/>
                  </a:lnTo>
                  <a:lnTo>
                    <a:pt x="748" y="705"/>
                  </a:lnTo>
                  <a:lnTo>
                    <a:pt x="733" y="663"/>
                  </a:lnTo>
                  <a:lnTo>
                    <a:pt x="704" y="676"/>
                  </a:lnTo>
                  <a:lnTo>
                    <a:pt x="689" y="692"/>
                  </a:lnTo>
                  <a:lnTo>
                    <a:pt x="648" y="648"/>
                  </a:lnTo>
                  <a:lnTo>
                    <a:pt x="648" y="632"/>
                  </a:lnTo>
                  <a:lnTo>
                    <a:pt x="604" y="648"/>
                  </a:lnTo>
                  <a:lnTo>
                    <a:pt x="604" y="117"/>
                  </a:lnTo>
                  <a:lnTo>
                    <a:pt x="560" y="89"/>
                  </a:lnTo>
                  <a:lnTo>
                    <a:pt x="518" y="106"/>
                  </a:lnTo>
                  <a:lnTo>
                    <a:pt x="489" y="89"/>
                  </a:lnTo>
                  <a:lnTo>
                    <a:pt x="460" y="89"/>
                  </a:lnTo>
                  <a:lnTo>
                    <a:pt x="416" y="60"/>
                  </a:lnTo>
                  <a:lnTo>
                    <a:pt x="359" y="60"/>
                  </a:lnTo>
                  <a:lnTo>
                    <a:pt x="345" y="31"/>
                  </a:lnTo>
                  <a:lnTo>
                    <a:pt x="301" y="31"/>
                  </a:lnTo>
                  <a:lnTo>
                    <a:pt x="286" y="16"/>
                  </a:lnTo>
                  <a:lnTo>
                    <a:pt x="259" y="0"/>
                  </a:lnTo>
                  <a:lnTo>
                    <a:pt x="230" y="31"/>
                  </a:lnTo>
                  <a:lnTo>
                    <a:pt x="201" y="44"/>
                  </a:lnTo>
                  <a:lnTo>
                    <a:pt x="159" y="77"/>
                  </a:lnTo>
                  <a:lnTo>
                    <a:pt x="142" y="77"/>
                  </a:lnTo>
                  <a:lnTo>
                    <a:pt x="115" y="106"/>
                  </a:lnTo>
                  <a:lnTo>
                    <a:pt x="102" y="163"/>
                  </a:lnTo>
                  <a:lnTo>
                    <a:pt x="42" y="179"/>
                  </a:lnTo>
                  <a:lnTo>
                    <a:pt x="31" y="207"/>
                  </a:lnTo>
                  <a:lnTo>
                    <a:pt x="86" y="251"/>
                  </a:lnTo>
                  <a:lnTo>
                    <a:pt x="102" y="280"/>
                  </a:lnTo>
                  <a:lnTo>
                    <a:pt x="130" y="326"/>
                  </a:lnTo>
                  <a:lnTo>
                    <a:pt x="130" y="337"/>
                  </a:lnTo>
                  <a:lnTo>
                    <a:pt x="86" y="337"/>
                  </a:lnTo>
                  <a:lnTo>
                    <a:pt x="86" y="309"/>
                  </a:lnTo>
                  <a:lnTo>
                    <a:pt x="71" y="309"/>
                  </a:lnTo>
                  <a:lnTo>
                    <a:pt x="15" y="337"/>
                  </a:lnTo>
                  <a:lnTo>
                    <a:pt x="0" y="366"/>
                  </a:lnTo>
                  <a:lnTo>
                    <a:pt x="31" y="383"/>
                  </a:lnTo>
                  <a:lnTo>
                    <a:pt x="31" y="412"/>
                  </a:lnTo>
                  <a:lnTo>
                    <a:pt x="58" y="427"/>
                  </a:lnTo>
                  <a:lnTo>
                    <a:pt x="115" y="427"/>
                  </a:lnTo>
                  <a:lnTo>
                    <a:pt x="142" y="412"/>
                  </a:lnTo>
                  <a:lnTo>
                    <a:pt x="142" y="427"/>
                  </a:lnTo>
                  <a:lnTo>
                    <a:pt x="159" y="456"/>
                  </a:lnTo>
                  <a:lnTo>
                    <a:pt x="142" y="485"/>
                  </a:lnTo>
                  <a:lnTo>
                    <a:pt x="115" y="485"/>
                  </a:lnTo>
                  <a:lnTo>
                    <a:pt x="102" y="500"/>
                  </a:lnTo>
                  <a:lnTo>
                    <a:pt x="71" y="500"/>
                  </a:lnTo>
                  <a:lnTo>
                    <a:pt x="42" y="575"/>
                  </a:lnTo>
                  <a:lnTo>
                    <a:pt x="86" y="663"/>
                  </a:lnTo>
                  <a:lnTo>
                    <a:pt x="102" y="663"/>
                  </a:lnTo>
                  <a:lnTo>
                    <a:pt x="130" y="648"/>
                  </a:lnTo>
                  <a:lnTo>
                    <a:pt x="130" y="692"/>
                  </a:lnTo>
                  <a:lnTo>
                    <a:pt x="142" y="705"/>
                  </a:lnTo>
                  <a:lnTo>
                    <a:pt x="186" y="705"/>
                  </a:lnTo>
                  <a:lnTo>
                    <a:pt x="201" y="721"/>
                  </a:lnTo>
                  <a:lnTo>
                    <a:pt x="201" y="705"/>
                  </a:lnTo>
                  <a:lnTo>
                    <a:pt x="230" y="705"/>
                  </a:lnTo>
                  <a:lnTo>
                    <a:pt x="230" y="766"/>
                  </a:lnTo>
                  <a:lnTo>
                    <a:pt x="159" y="824"/>
                  </a:lnTo>
                  <a:lnTo>
                    <a:pt x="115" y="839"/>
                  </a:lnTo>
                  <a:lnTo>
                    <a:pt x="102" y="855"/>
                  </a:lnTo>
                  <a:lnTo>
                    <a:pt x="58" y="883"/>
                  </a:lnTo>
                  <a:lnTo>
                    <a:pt x="71" y="897"/>
                  </a:lnTo>
                  <a:lnTo>
                    <a:pt x="142" y="855"/>
                  </a:lnTo>
                  <a:lnTo>
                    <a:pt x="201" y="824"/>
                  </a:lnTo>
                  <a:lnTo>
                    <a:pt x="246" y="778"/>
                  </a:lnTo>
                  <a:lnTo>
                    <a:pt x="316" y="721"/>
                  </a:lnTo>
                  <a:lnTo>
                    <a:pt x="330" y="705"/>
                  </a:lnTo>
                  <a:lnTo>
                    <a:pt x="301" y="692"/>
                  </a:lnTo>
                  <a:lnTo>
                    <a:pt x="345" y="648"/>
                  </a:lnTo>
                  <a:lnTo>
                    <a:pt x="345" y="619"/>
                  </a:lnTo>
                  <a:lnTo>
                    <a:pt x="389" y="590"/>
                  </a:lnTo>
                  <a:lnTo>
                    <a:pt x="401" y="590"/>
                  </a:lnTo>
                  <a:lnTo>
                    <a:pt x="374" y="619"/>
                  </a:lnTo>
                  <a:lnTo>
                    <a:pt x="359" y="663"/>
                  </a:lnTo>
                  <a:lnTo>
                    <a:pt x="374" y="676"/>
                  </a:lnTo>
                  <a:lnTo>
                    <a:pt x="359" y="692"/>
                  </a:lnTo>
                  <a:lnTo>
                    <a:pt x="374" y="692"/>
                  </a:lnTo>
                  <a:lnTo>
                    <a:pt x="416" y="663"/>
                  </a:lnTo>
                  <a:lnTo>
                    <a:pt x="430" y="663"/>
                  </a:lnTo>
                  <a:lnTo>
                    <a:pt x="445" y="632"/>
                  </a:lnTo>
                  <a:lnTo>
                    <a:pt x="430" y="604"/>
                  </a:lnTo>
                  <a:lnTo>
                    <a:pt x="474" y="619"/>
                  </a:lnTo>
                  <a:lnTo>
                    <a:pt x="533" y="648"/>
                  </a:lnTo>
                  <a:lnTo>
                    <a:pt x="574" y="648"/>
                  </a:lnTo>
                  <a:lnTo>
                    <a:pt x="618" y="663"/>
                  </a:lnTo>
                  <a:lnTo>
                    <a:pt x="633" y="663"/>
                  </a:lnTo>
                  <a:lnTo>
                    <a:pt x="633" y="676"/>
                  </a:lnTo>
                  <a:lnTo>
                    <a:pt x="704" y="738"/>
                  </a:lnTo>
                  <a:lnTo>
                    <a:pt x="748" y="824"/>
                  </a:lnTo>
                  <a:lnTo>
                    <a:pt x="733" y="749"/>
                  </a:lnTo>
                  <a:lnTo>
                    <a:pt x="719" y="738"/>
                  </a:lnTo>
                  <a:lnTo>
                    <a:pt x="733" y="738"/>
                  </a:lnTo>
                  <a:lnTo>
                    <a:pt x="733" y="705"/>
                  </a:lnTo>
                  <a:lnTo>
                    <a:pt x="748" y="778"/>
                  </a:lnTo>
                  <a:lnTo>
                    <a:pt x="763" y="766"/>
                  </a:lnTo>
                  <a:lnTo>
                    <a:pt x="792" y="795"/>
                  </a:lnTo>
                  <a:lnTo>
                    <a:pt x="763" y="778"/>
                  </a:lnTo>
                  <a:lnTo>
                    <a:pt x="763" y="824"/>
                  </a:lnTo>
                  <a:lnTo>
                    <a:pt x="775" y="811"/>
                  </a:lnTo>
                  <a:lnTo>
                    <a:pt x="775" y="839"/>
                  </a:lnTo>
                  <a:lnTo>
                    <a:pt x="804" y="883"/>
                  </a:lnTo>
                  <a:lnTo>
                    <a:pt x="804" y="855"/>
                  </a:lnTo>
                  <a:lnTo>
                    <a:pt x="792" y="824"/>
                  </a:lnTo>
                  <a:lnTo>
                    <a:pt x="804" y="824"/>
                  </a:lnTo>
                  <a:lnTo>
                    <a:pt x="804" y="839"/>
                  </a:lnTo>
                  <a:lnTo>
                    <a:pt x="819" y="868"/>
                  </a:lnTo>
                  <a:lnTo>
                    <a:pt x="834" y="883"/>
                  </a:lnTo>
                  <a:lnTo>
                    <a:pt x="848" y="8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9800" y="2608200"/>
              <a:ext cx="1473120" cy="1181160"/>
            </a:xfrm>
            <a:custGeom>
              <a:avLst/>
              <a:gdLst/>
              <a:ahLst/>
              <a:rect l="l" t="t" r="r" b="b"/>
              <a:pathLst>
                <a:path w="1940" h="1557">
                  <a:moveTo>
                    <a:pt x="1410" y="1484"/>
                  </a:moveTo>
                  <a:lnTo>
                    <a:pt x="1410" y="1515"/>
                  </a:lnTo>
                  <a:lnTo>
                    <a:pt x="1351" y="1529"/>
                  </a:lnTo>
                  <a:lnTo>
                    <a:pt x="1339" y="1544"/>
                  </a:lnTo>
                  <a:lnTo>
                    <a:pt x="1307" y="1557"/>
                  </a:lnTo>
                  <a:lnTo>
                    <a:pt x="1339" y="1515"/>
                  </a:lnTo>
                  <a:lnTo>
                    <a:pt x="1324" y="1515"/>
                  </a:lnTo>
                  <a:lnTo>
                    <a:pt x="1351" y="1500"/>
                  </a:lnTo>
                  <a:lnTo>
                    <a:pt x="1351" y="1442"/>
                  </a:lnTo>
                  <a:lnTo>
                    <a:pt x="1379" y="1471"/>
                  </a:lnTo>
                  <a:lnTo>
                    <a:pt x="1395" y="1456"/>
                  </a:lnTo>
                  <a:lnTo>
                    <a:pt x="1366" y="1427"/>
                  </a:lnTo>
                  <a:lnTo>
                    <a:pt x="1295" y="1410"/>
                  </a:lnTo>
                  <a:lnTo>
                    <a:pt x="1280" y="1398"/>
                  </a:lnTo>
                  <a:lnTo>
                    <a:pt x="1266" y="1352"/>
                  </a:lnTo>
                  <a:lnTo>
                    <a:pt x="1251" y="1352"/>
                  </a:lnTo>
                  <a:lnTo>
                    <a:pt x="1236" y="1324"/>
                  </a:lnTo>
                  <a:lnTo>
                    <a:pt x="1207" y="1308"/>
                  </a:lnTo>
                  <a:lnTo>
                    <a:pt x="1165" y="1352"/>
                  </a:lnTo>
                  <a:lnTo>
                    <a:pt x="1120" y="1352"/>
                  </a:lnTo>
                  <a:lnTo>
                    <a:pt x="1092" y="1324"/>
                  </a:lnTo>
                  <a:lnTo>
                    <a:pt x="1065" y="1324"/>
                  </a:lnTo>
                  <a:lnTo>
                    <a:pt x="1048" y="1295"/>
                  </a:lnTo>
                  <a:lnTo>
                    <a:pt x="1036" y="1308"/>
                  </a:lnTo>
                  <a:lnTo>
                    <a:pt x="403" y="1308"/>
                  </a:lnTo>
                  <a:lnTo>
                    <a:pt x="388" y="1295"/>
                  </a:lnTo>
                  <a:lnTo>
                    <a:pt x="303" y="1235"/>
                  </a:lnTo>
                  <a:lnTo>
                    <a:pt x="288" y="1190"/>
                  </a:lnTo>
                  <a:lnTo>
                    <a:pt x="273" y="1178"/>
                  </a:lnTo>
                  <a:lnTo>
                    <a:pt x="230" y="1132"/>
                  </a:lnTo>
                  <a:lnTo>
                    <a:pt x="244" y="1117"/>
                  </a:lnTo>
                  <a:lnTo>
                    <a:pt x="244" y="1044"/>
                  </a:lnTo>
                  <a:lnTo>
                    <a:pt x="200" y="1015"/>
                  </a:lnTo>
                  <a:lnTo>
                    <a:pt x="159" y="925"/>
                  </a:lnTo>
                  <a:lnTo>
                    <a:pt x="144" y="925"/>
                  </a:lnTo>
                  <a:lnTo>
                    <a:pt x="129" y="883"/>
                  </a:lnTo>
                  <a:lnTo>
                    <a:pt x="100" y="896"/>
                  </a:lnTo>
                  <a:lnTo>
                    <a:pt x="85" y="912"/>
                  </a:lnTo>
                  <a:lnTo>
                    <a:pt x="44" y="868"/>
                  </a:lnTo>
                  <a:lnTo>
                    <a:pt x="44" y="852"/>
                  </a:lnTo>
                  <a:lnTo>
                    <a:pt x="0" y="868"/>
                  </a:lnTo>
                  <a:lnTo>
                    <a:pt x="0" y="337"/>
                  </a:lnTo>
                  <a:lnTo>
                    <a:pt x="29" y="337"/>
                  </a:lnTo>
                  <a:lnTo>
                    <a:pt x="115" y="399"/>
                  </a:lnTo>
                  <a:lnTo>
                    <a:pt x="115" y="366"/>
                  </a:lnTo>
                  <a:lnTo>
                    <a:pt x="129" y="354"/>
                  </a:lnTo>
                  <a:lnTo>
                    <a:pt x="159" y="337"/>
                  </a:lnTo>
                  <a:lnTo>
                    <a:pt x="171" y="354"/>
                  </a:lnTo>
                  <a:lnTo>
                    <a:pt x="259" y="297"/>
                  </a:lnTo>
                  <a:lnTo>
                    <a:pt x="259" y="326"/>
                  </a:lnTo>
                  <a:lnTo>
                    <a:pt x="288" y="326"/>
                  </a:lnTo>
                  <a:lnTo>
                    <a:pt x="303" y="280"/>
                  </a:lnTo>
                  <a:lnTo>
                    <a:pt x="330" y="309"/>
                  </a:lnTo>
                  <a:lnTo>
                    <a:pt x="330" y="337"/>
                  </a:lnTo>
                  <a:lnTo>
                    <a:pt x="359" y="354"/>
                  </a:lnTo>
                  <a:lnTo>
                    <a:pt x="374" y="326"/>
                  </a:lnTo>
                  <a:lnTo>
                    <a:pt x="374" y="354"/>
                  </a:lnTo>
                  <a:lnTo>
                    <a:pt x="403" y="354"/>
                  </a:lnTo>
                  <a:lnTo>
                    <a:pt x="403" y="326"/>
                  </a:lnTo>
                  <a:lnTo>
                    <a:pt x="447" y="326"/>
                  </a:lnTo>
                  <a:lnTo>
                    <a:pt x="474" y="354"/>
                  </a:lnTo>
                  <a:lnTo>
                    <a:pt x="503" y="366"/>
                  </a:lnTo>
                  <a:lnTo>
                    <a:pt x="530" y="383"/>
                  </a:lnTo>
                  <a:lnTo>
                    <a:pt x="562" y="383"/>
                  </a:lnTo>
                  <a:lnTo>
                    <a:pt x="603" y="399"/>
                  </a:lnTo>
                  <a:lnTo>
                    <a:pt x="603" y="427"/>
                  </a:lnTo>
                  <a:lnTo>
                    <a:pt x="589" y="441"/>
                  </a:lnTo>
                  <a:lnTo>
                    <a:pt x="589" y="456"/>
                  </a:lnTo>
                  <a:lnTo>
                    <a:pt x="633" y="471"/>
                  </a:lnTo>
                  <a:lnTo>
                    <a:pt x="706" y="441"/>
                  </a:lnTo>
                  <a:lnTo>
                    <a:pt x="748" y="471"/>
                  </a:lnTo>
                  <a:lnTo>
                    <a:pt x="748" y="441"/>
                  </a:lnTo>
                  <a:lnTo>
                    <a:pt x="733" y="427"/>
                  </a:lnTo>
                  <a:lnTo>
                    <a:pt x="748" y="412"/>
                  </a:lnTo>
                  <a:lnTo>
                    <a:pt x="806" y="383"/>
                  </a:lnTo>
                  <a:lnTo>
                    <a:pt x="821" y="427"/>
                  </a:lnTo>
                  <a:lnTo>
                    <a:pt x="892" y="456"/>
                  </a:lnTo>
                  <a:lnTo>
                    <a:pt x="936" y="471"/>
                  </a:lnTo>
                  <a:lnTo>
                    <a:pt x="965" y="471"/>
                  </a:lnTo>
                  <a:lnTo>
                    <a:pt x="965" y="427"/>
                  </a:lnTo>
                  <a:lnTo>
                    <a:pt x="977" y="412"/>
                  </a:lnTo>
                  <a:lnTo>
                    <a:pt x="936" y="383"/>
                  </a:lnTo>
                  <a:lnTo>
                    <a:pt x="965" y="366"/>
                  </a:lnTo>
                  <a:lnTo>
                    <a:pt x="977" y="326"/>
                  </a:lnTo>
                  <a:lnTo>
                    <a:pt x="1007" y="366"/>
                  </a:lnTo>
                  <a:lnTo>
                    <a:pt x="1036" y="399"/>
                  </a:lnTo>
                  <a:lnTo>
                    <a:pt x="1007" y="427"/>
                  </a:lnTo>
                  <a:lnTo>
                    <a:pt x="1007" y="456"/>
                  </a:lnTo>
                  <a:lnTo>
                    <a:pt x="1021" y="471"/>
                  </a:lnTo>
                  <a:lnTo>
                    <a:pt x="1036" y="441"/>
                  </a:lnTo>
                  <a:lnTo>
                    <a:pt x="1065" y="412"/>
                  </a:lnTo>
                  <a:lnTo>
                    <a:pt x="1048" y="383"/>
                  </a:lnTo>
                  <a:lnTo>
                    <a:pt x="1065" y="354"/>
                  </a:lnTo>
                  <a:lnTo>
                    <a:pt x="1007" y="297"/>
                  </a:lnTo>
                  <a:lnTo>
                    <a:pt x="1021" y="207"/>
                  </a:lnTo>
                  <a:lnTo>
                    <a:pt x="1048" y="192"/>
                  </a:lnTo>
                  <a:lnTo>
                    <a:pt x="1048" y="117"/>
                  </a:lnTo>
                  <a:lnTo>
                    <a:pt x="1036" y="44"/>
                  </a:lnTo>
                  <a:lnTo>
                    <a:pt x="1036" y="15"/>
                  </a:lnTo>
                  <a:lnTo>
                    <a:pt x="1092" y="0"/>
                  </a:lnTo>
                  <a:lnTo>
                    <a:pt x="1136" y="15"/>
                  </a:lnTo>
                  <a:lnTo>
                    <a:pt x="1151" y="29"/>
                  </a:lnTo>
                  <a:lnTo>
                    <a:pt x="1107" y="117"/>
                  </a:lnTo>
                  <a:lnTo>
                    <a:pt x="1092" y="117"/>
                  </a:lnTo>
                  <a:lnTo>
                    <a:pt x="1065" y="134"/>
                  </a:lnTo>
                  <a:lnTo>
                    <a:pt x="1080" y="163"/>
                  </a:lnTo>
                  <a:lnTo>
                    <a:pt x="1065" y="178"/>
                  </a:lnTo>
                  <a:lnTo>
                    <a:pt x="1120" y="309"/>
                  </a:lnTo>
                  <a:lnTo>
                    <a:pt x="1107" y="337"/>
                  </a:lnTo>
                  <a:lnTo>
                    <a:pt x="1120" y="354"/>
                  </a:lnTo>
                  <a:lnTo>
                    <a:pt x="1165" y="412"/>
                  </a:lnTo>
                  <a:lnTo>
                    <a:pt x="1180" y="366"/>
                  </a:lnTo>
                  <a:lnTo>
                    <a:pt x="1207" y="399"/>
                  </a:lnTo>
                  <a:lnTo>
                    <a:pt x="1191" y="456"/>
                  </a:lnTo>
                  <a:lnTo>
                    <a:pt x="1222" y="485"/>
                  </a:lnTo>
                  <a:lnTo>
                    <a:pt x="1236" y="485"/>
                  </a:lnTo>
                  <a:lnTo>
                    <a:pt x="1236" y="456"/>
                  </a:lnTo>
                  <a:lnTo>
                    <a:pt x="1266" y="441"/>
                  </a:lnTo>
                  <a:lnTo>
                    <a:pt x="1266" y="326"/>
                  </a:lnTo>
                  <a:lnTo>
                    <a:pt x="1295" y="326"/>
                  </a:lnTo>
                  <a:lnTo>
                    <a:pt x="1324" y="337"/>
                  </a:lnTo>
                  <a:lnTo>
                    <a:pt x="1324" y="366"/>
                  </a:lnTo>
                  <a:lnTo>
                    <a:pt x="1351" y="366"/>
                  </a:lnTo>
                  <a:lnTo>
                    <a:pt x="1351" y="412"/>
                  </a:lnTo>
                  <a:lnTo>
                    <a:pt x="1324" y="427"/>
                  </a:lnTo>
                  <a:lnTo>
                    <a:pt x="1324" y="456"/>
                  </a:lnTo>
                  <a:lnTo>
                    <a:pt x="1351" y="471"/>
                  </a:lnTo>
                  <a:lnTo>
                    <a:pt x="1351" y="500"/>
                  </a:lnTo>
                  <a:lnTo>
                    <a:pt x="1295" y="557"/>
                  </a:lnTo>
                  <a:lnTo>
                    <a:pt x="1266" y="546"/>
                  </a:lnTo>
                  <a:lnTo>
                    <a:pt x="1266" y="529"/>
                  </a:lnTo>
                  <a:lnTo>
                    <a:pt x="1236" y="529"/>
                  </a:lnTo>
                  <a:lnTo>
                    <a:pt x="1251" y="557"/>
                  </a:lnTo>
                  <a:lnTo>
                    <a:pt x="1222" y="586"/>
                  </a:lnTo>
                  <a:lnTo>
                    <a:pt x="1222" y="619"/>
                  </a:lnTo>
                  <a:lnTo>
                    <a:pt x="1191" y="676"/>
                  </a:lnTo>
                  <a:lnTo>
                    <a:pt x="1165" y="676"/>
                  </a:lnTo>
                  <a:lnTo>
                    <a:pt x="1136" y="705"/>
                  </a:lnTo>
                  <a:lnTo>
                    <a:pt x="1151" y="738"/>
                  </a:lnTo>
                  <a:lnTo>
                    <a:pt x="1107" y="749"/>
                  </a:lnTo>
                  <a:lnTo>
                    <a:pt x="1107" y="778"/>
                  </a:lnTo>
                  <a:lnTo>
                    <a:pt x="1092" y="778"/>
                  </a:lnTo>
                  <a:lnTo>
                    <a:pt x="1080" y="795"/>
                  </a:lnTo>
                  <a:lnTo>
                    <a:pt x="1048" y="868"/>
                  </a:lnTo>
                  <a:lnTo>
                    <a:pt x="1048" y="912"/>
                  </a:lnTo>
                  <a:lnTo>
                    <a:pt x="1065" y="925"/>
                  </a:lnTo>
                  <a:lnTo>
                    <a:pt x="1092" y="925"/>
                  </a:lnTo>
                  <a:lnTo>
                    <a:pt x="1107" y="1015"/>
                  </a:lnTo>
                  <a:lnTo>
                    <a:pt x="1136" y="998"/>
                  </a:lnTo>
                  <a:lnTo>
                    <a:pt x="1180" y="1015"/>
                  </a:lnTo>
                  <a:lnTo>
                    <a:pt x="1207" y="1044"/>
                  </a:lnTo>
                  <a:lnTo>
                    <a:pt x="1266" y="1075"/>
                  </a:lnTo>
                  <a:lnTo>
                    <a:pt x="1324" y="1075"/>
                  </a:lnTo>
                  <a:lnTo>
                    <a:pt x="1339" y="1088"/>
                  </a:lnTo>
                  <a:lnTo>
                    <a:pt x="1339" y="1178"/>
                  </a:lnTo>
                  <a:lnTo>
                    <a:pt x="1395" y="1235"/>
                  </a:lnTo>
                  <a:lnTo>
                    <a:pt x="1424" y="1207"/>
                  </a:lnTo>
                  <a:lnTo>
                    <a:pt x="1395" y="1103"/>
                  </a:lnTo>
                  <a:lnTo>
                    <a:pt x="1424" y="1088"/>
                  </a:lnTo>
                  <a:lnTo>
                    <a:pt x="1450" y="1044"/>
                  </a:lnTo>
                  <a:lnTo>
                    <a:pt x="1439" y="958"/>
                  </a:lnTo>
                  <a:lnTo>
                    <a:pt x="1410" y="925"/>
                  </a:lnTo>
                  <a:lnTo>
                    <a:pt x="1424" y="912"/>
                  </a:lnTo>
                  <a:lnTo>
                    <a:pt x="1439" y="912"/>
                  </a:lnTo>
                  <a:lnTo>
                    <a:pt x="1439" y="852"/>
                  </a:lnTo>
                  <a:lnTo>
                    <a:pt x="1424" y="839"/>
                  </a:lnTo>
                  <a:lnTo>
                    <a:pt x="1439" y="795"/>
                  </a:lnTo>
                  <a:lnTo>
                    <a:pt x="1424" y="778"/>
                  </a:lnTo>
                  <a:lnTo>
                    <a:pt x="1424" y="766"/>
                  </a:lnTo>
                  <a:lnTo>
                    <a:pt x="1439" y="749"/>
                  </a:lnTo>
                  <a:lnTo>
                    <a:pt x="1481" y="766"/>
                  </a:lnTo>
                  <a:lnTo>
                    <a:pt x="1523" y="749"/>
                  </a:lnTo>
                  <a:lnTo>
                    <a:pt x="1581" y="795"/>
                  </a:lnTo>
                  <a:lnTo>
                    <a:pt x="1565" y="810"/>
                  </a:lnTo>
                  <a:lnTo>
                    <a:pt x="1581" y="824"/>
                  </a:lnTo>
                  <a:lnTo>
                    <a:pt x="1625" y="824"/>
                  </a:lnTo>
                  <a:lnTo>
                    <a:pt x="1625" y="912"/>
                  </a:lnTo>
                  <a:lnTo>
                    <a:pt x="1669" y="958"/>
                  </a:lnTo>
                  <a:lnTo>
                    <a:pt x="1725" y="896"/>
                  </a:lnTo>
                  <a:lnTo>
                    <a:pt x="1713" y="883"/>
                  </a:lnTo>
                  <a:lnTo>
                    <a:pt x="1725" y="852"/>
                  </a:lnTo>
                  <a:lnTo>
                    <a:pt x="1813" y="998"/>
                  </a:lnTo>
                  <a:lnTo>
                    <a:pt x="1798" y="1015"/>
                  </a:lnTo>
                  <a:lnTo>
                    <a:pt x="1798" y="1044"/>
                  </a:lnTo>
                  <a:lnTo>
                    <a:pt x="1824" y="1059"/>
                  </a:lnTo>
                  <a:lnTo>
                    <a:pt x="1824" y="1075"/>
                  </a:lnTo>
                  <a:lnTo>
                    <a:pt x="1857" y="1088"/>
                  </a:lnTo>
                  <a:lnTo>
                    <a:pt x="1869" y="1088"/>
                  </a:lnTo>
                  <a:lnTo>
                    <a:pt x="1897" y="1103"/>
                  </a:lnTo>
                  <a:lnTo>
                    <a:pt x="1869" y="1117"/>
                  </a:lnTo>
                  <a:lnTo>
                    <a:pt x="1897" y="1117"/>
                  </a:lnTo>
                  <a:lnTo>
                    <a:pt x="1897" y="1149"/>
                  </a:lnTo>
                  <a:lnTo>
                    <a:pt x="1913" y="1149"/>
                  </a:lnTo>
                  <a:lnTo>
                    <a:pt x="1928" y="1161"/>
                  </a:lnTo>
                  <a:lnTo>
                    <a:pt x="1928" y="1178"/>
                  </a:lnTo>
                  <a:lnTo>
                    <a:pt x="1940" y="1207"/>
                  </a:lnTo>
                  <a:lnTo>
                    <a:pt x="1913" y="1222"/>
                  </a:lnTo>
                  <a:lnTo>
                    <a:pt x="1869" y="1235"/>
                  </a:lnTo>
                  <a:lnTo>
                    <a:pt x="1840" y="1280"/>
                  </a:lnTo>
                  <a:lnTo>
                    <a:pt x="1798" y="1280"/>
                  </a:lnTo>
                  <a:lnTo>
                    <a:pt x="1753" y="1264"/>
                  </a:lnTo>
                  <a:lnTo>
                    <a:pt x="1682" y="1280"/>
                  </a:lnTo>
                  <a:lnTo>
                    <a:pt x="1669" y="1308"/>
                  </a:lnTo>
                  <a:lnTo>
                    <a:pt x="1654" y="1308"/>
                  </a:lnTo>
                  <a:lnTo>
                    <a:pt x="1625" y="1324"/>
                  </a:lnTo>
                  <a:lnTo>
                    <a:pt x="1581" y="1381"/>
                  </a:lnTo>
                  <a:lnTo>
                    <a:pt x="1598" y="1381"/>
                  </a:lnTo>
                  <a:lnTo>
                    <a:pt x="1638" y="1337"/>
                  </a:lnTo>
                  <a:lnTo>
                    <a:pt x="1682" y="1308"/>
                  </a:lnTo>
                  <a:lnTo>
                    <a:pt x="1740" y="1308"/>
                  </a:lnTo>
                  <a:lnTo>
                    <a:pt x="1740" y="1337"/>
                  </a:lnTo>
                  <a:lnTo>
                    <a:pt x="1713" y="1352"/>
                  </a:lnTo>
                  <a:lnTo>
                    <a:pt x="1698" y="1352"/>
                  </a:lnTo>
                  <a:lnTo>
                    <a:pt x="1713" y="1370"/>
                  </a:lnTo>
                  <a:lnTo>
                    <a:pt x="1725" y="1352"/>
                  </a:lnTo>
                  <a:lnTo>
                    <a:pt x="1725" y="1398"/>
                  </a:lnTo>
                  <a:lnTo>
                    <a:pt x="1740" y="1410"/>
                  </a:lnTo>
                  <a:lnTo>
                    <a:pt x="1769" y="1427"/>
                  </a:lnTo>
                  <a:lnTo>
                    <a:pt x="1798" y="1427"/>
                  </a:lnTo>
                  <a:lnTo>
                    <a:pt x="1798" y="1410"/>
                  </a:lnTo>
                  <a:lnTo>
                    <a:pt x="1824" y="1381"/>
                  </a:lnTo>
                  <a:lnTo>
                    <a:pt x="1824" y="1410"/>
                  </a:lnTo>
                  <a:lnTo>
                    <a:pt x="1840" y="1410"/>
                  </a:lnTo>
                  <a:lnTo>
                    <a:pt x="1824" y="1427"/>
                  </a:lnTo>
                  <a:lnTo>
                    <a:pt x="1813" y="1442"/>
                  </a:lnTo>
                  <a:lnTo>
                    <a:pt x="1740" y="1471"/>
                  </a:lnTo>
                  <a:lnTo>
                    <a:pt x="1713" y="1500"/>
                  </a:lnTo>
                  <a:lnTo>
                    <a:pt x="1698" y="1471"/>
                  </a:lnTo>
                  <a:lnTo>
                    <a:pt x="1740" y="1442"/>
                  </a:lnTo>
                  <a:lnTo>
                    <a:pt x="1725" y="1442"/>
                  </a:lnTo>
                  <a:lnTo>
                    <a:pt x="1725" y="1427"/>
                  </a:lnTo>
                  <a:lnTo>
                    <a:pt x="1698" y="1442"/>
                  </a:lnTo>
                  <a:lnTo>
                    <a:pt x="1682" y="1442"/>
                  </a:lnTo>
                  <a:lnTo>
                    <a:pt x="1669" y="1427"/>
                  </a:lnTo>
                  <a:lnTo>
                    <a:pt x="1654" y="1381"/>
                  </a:lnTo>
                  <a:lnTo>
                    <a:pt x="1654" y="1370"/>
                  </a:lnTo>
                  <a:lnTo>
                    <a:pt x="1638" y="1381"/>
                  </a:lnTo>
                  <a:lnTo>
                    <a:pt x="1625" y="1370"/>
                  </a:lnTo>
                  <a:lnTo>
                    <a:pt x="1598" y="1442"/>
                  </a:lnTo>
                  <a:lnTo>
                    <a:pt x="1565" y="1456"/>
                  </a:lnTo>
                  <a:lnTo>
                    <a:pt x="1494" y="1456"/>
                  </a:lnTo>
                  <a:lnTo>
                    <a:pt x="1466" y="1471"/>
                  </a:lnTo>
                  <a:lnTo>
                    <a:pt x="1450" y="1484"/>
                  </a:lnTo>
                  <a:lnTo>
                    <a:pt x="1410" y="1484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7200" y="4213080"/>
              <a:ext cx="11160" cy="18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135160" y="3924360"/>
              <a:ext cx="7920" cy="93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25640" y="3678120"/>
              <a:ext cx="142920" cy="11124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25640" y="3678120"/>
              <a:ext cx="142920" cy="11124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52560" y="3602160"/>
              <a:ext cx="128520" cy="648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52560" y="3602160"/>
              <a:ext cx="128520" cy="648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01960" y="3759120"/>
              <a:ext cx="77760" cy="3024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01960" y="3759120"/>
              <a:ext cx="77760" cy="3024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79720" y="3724200"/>
              <a:ext cx="42840" cy="223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79720" y="3724200"/>
              <a:ext cx="42840" cy="223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35160" y="4903920"/>
              <a:ext cx="142920" cy="80316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5160" y="4903920"/>
              <a:ext cx="142920" cy="80316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66840" y="5675400"/>
              <a:ext cx="85680" cy="856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66840" y="5675400"/>
              <a:ext cx="85680" cy="856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52520" y="5675400"/>
              <a:ext cx="65160" cy="10008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52520" y="5675400"/>
              <a:ext cx="65160" cy="10008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78000" y="4983120"/>
              <a:ext cx="336600" cy="67932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78000" y="4983120"/>
              <a:ext cx="336600" cy="67932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86080" y="5641920"/>
              <a:ext cx="54000" cy="334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86080" y="5641920"/>
              <a:ext cx="54000" cy="334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78000" y="3800520"/>
              <a:ext cx="30240" cy="144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78000" y="3800520"/>
              <a:ext cx="30240" cy="144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30280" y="3579840"/>
              <a:ext cx="44640" cy="2232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30280" y="3579840"/>
              <a:ext cx="44640" cy="2232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3656160"/>
              <a:ext cx="44640" cy="331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30280" y="3656160"/>
              <a:ext cx="44640" cy="331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19200" y="3537000"/>
              <a:ext cx="106560" cy="12996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19200" y="3537000"/>
              <a:ext cx="106560" cy="12996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25600" y="3989520"/>
              <a:ext cx="511200" cy="349200"/>
            </a:xfrm>
            <a:custGeom>
              <a:avLst/>
              <a:gdLst/>
              <a:ahLst/>
              <a:rect l="l" t="t" r="r" b="b"/>
              <a:pathLst>
                <a:path w="675" h="457">
                  <a:moveTo>
                    <a:pt x="445" y="176"/>
                  </a:moveTo>
                  <a:lnTo>
                    <a:pt x="430" y="208"/>
                  </a:lnTo>
                  <a:lnTo>
                    <a:pt x="430" y="266"/>
                  </a:lnTo>
                  <a:lnTo>
                    <a:pt x="445" y="281"/>
                  </a:lnTo>
                  <a:lnTo>
                    <a:pt x="445" y="294"/>
                  </a:lnTo>
                  <a:lnTo>
                    <a:pt x="474" y="354"/>
                  </a:lnTo>
                  <a:lnTo>
                    <a:pt x="518" y="367"/>
                  </a:lnTo>
                  <a:lnTo>
                    <a:pt x="560" y="354"/>
                  </a:lnTo>
                  <a:lnTo>
                    <a:pt x="589" y="354"/>
                  </a:lnTo>
                  <a:lnTo>
                    <a:pt x="573" y="354"/>
                  </a:lnTo>
                  <a:lnTo>
                    <a:pt x="589" y="339"/>
                  </a:lnTo>
                  <a:lnTo>
                    <a:pt x="604" y="294"/>
                  </a:lnTo>
                  <a:lnTo>
                    <a:pt x="618" y="294"/>
                  </a:lnTo>
                  <a:lnTo>
                    <a:pt x="660" y="281"/>
                  </a:lnTo>
                  <a:lnTo>
                    <a:pt x="675" y="294"/>
                  </a:lnTo>
                  <a:lnTo>
                    <a:pt x="660" y="354"/>
                  </a:lnTo>
                  <a:lnTo>
                    <a:pt x="660" y="367"/>
                  </a:lnTo>
                  <a:lnTo>
                    <a:pt x="644" y="354"/>
                  </a:lnTo>
                  <a:lnTo>
                    <a:pt x="633" y="367"/>
                  </a:lnTo>
                  <a:lnTo>
                    <a:pt x="589" y="367"/>
                  </a:lnTo>
                  <a:lnTo>
                    <a:pt x="573" y="383"/>
                  </a:lnTo>
                  <a:lnTo>
                    <a:pt x="604" y="411"/>
                  </a:lnTo>
                  <a:lnTo>
                    <a:pt x="573" y="411"/>
                  </a:lnTo>
                  <a:lnTo>
                    <a:pt x="560" y="457"/>
                  </a:lnTo>
                  <a:lnTo>
                    <a:pt x="518" y="411"/>
                  </a:lnTo>
                  <a:lnTo>
                    <a:pt x="489" y="411"/>
                  </a:lnTo>
                  <a:lnTo>
                    <a:pt x="474" y="429"/>
                  </a:lnTo>
                  <a:lnTo>
                    <a:pt x="430" y="411"/>
                  </a:lnTo>
                  <a:lnTo>
                    <a:pt x="359" y="383"/>
                  </a:lnTo>
                  <a:lnTo>
                    <a:pt x="345" y="367"/>
                  </a:lnTo>
                  <a:lnTo>
                    <a:pt x="301" y="367"/>
                  </a:lnTo>
                  <a:lnTo>
                    <a:pt x="274" y="339"/>
                  </a:lnTo>
                  <a:lnTo>
                    <a:pt x="259" y="310"/>
                  </a:lnTo>
                  <a:lnTo>
                    <a:pt x="274" y="294"/>
                  </a:lnTo>
                  <a:lnTo>
                    <a:pt x="259" y="266"/>
                  </a:lnTo>
                  <a:lnTo>
                    <a:pt x="201" y="191"/>
                  </a:lnTo>
                  <a:lnTo>
                    <a:pt x="171" y="176"/>
                  </a:lnTo>
                  <a:lnTo>
                    <a:pt x="171" y="162"/>
                  </a:lnTo>
                  <a:lnTo>
                    <a:pt x="142" y="134"/>
                  </a:lnTo>
                  <a:lnTo>
                    <a:pt x="142" y="118"/>
                  </a:lnTo>
                  <a:lnTo>
                    <a:pt x="127" y="118"/>
                  </a:lnTo>
                  <a:lnTo>
                    <a:pt x="115" y="90"/>
                  </a:lnTo>
                  <a:lnTo>
                    <a:pt x="86" y="32"/>
                  </a:lnTo>
                  <a:lnTo>
                    <a:pt x="71" y="32"/>
                  </a:lnTo>
                  <a:lnTo>
                    <a:pt x="42" y="17"/>
                  </a:lnTo>
                  <a:lnTo>
                    <a:pt x="56" y="61"/>
                  </a:lnTo>
                  <a:lnTo>
                    <a:pt x="127" y="162"/>
                  </a:lnTo>
                  <a:lnTo>
                    <a:pt x="142" y="220"/>
                  </a:lnTo>
                  <a:lnTo>
                    <a:pt x="159" y="220"/>
                  </a:lnTo>
                  <a:lnTo>
                    <a:pt x="171" y="237"/>
                  </a:lnTo>
                  <a:lnTo>
                    <a:pt x="159" y="252"/>
                  </a:lnTo>
                  <a:lnTo>
                    <a:pt x="142" y="237"/>
                  </a:lnTo>
                  <a:lnTo>
                    <a:pt x="100" y="208"/>
                  </a:lnTo>
                  <a:lnTo>
                    <a:pt x="115" y="191"/>
                  </a:lnTo>
                  <a:lnTo>
                    <a:pt x="100" y="162"/>
                  </a:lnTo>
                  <a:lnTo>
                    <a:pt x="56" y="147"/>
                  </a:lnTo>
                  <a:lnTo>
                    <a:pt x="42" y="118"/>
                  </a:lnTo>
                  <a:lnTo>
                    <a:pt x="56" y="134"/>
                  </a:lnTo>
                  <a:lnTo>
                    <a:pt x="71" y="103"/>
                  </a:lnTo>
                  <a:lnTo>
                    <a:pt x="27" y="7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127" y="32"/>
                  </a:lnTo>
                  <a:lnTo>
                    <a:pt x="242" y="17"/>
                  </a:lnTo>
                  <a:lnTo>
                    <a:pt x="274" y="46"/>
                  </a:lnTo>
                  <a:lnTo>
                    <a:pt x="274" y="74"/>
                  </a:lnTo>
                  <a:lnTo>
                    <a:pt x="301" y="90"/>
                  </a:lnTo>
                  <a:lnTo>
                    <a:pt x="316" y="90"/>
                  </a:lnTo>
                  <a:lnTo>
                    <a:pt x="330" y="74"/>
                  </a:lnTo>
                  <a:lnTo>
                    <a:pt x="345" y="74"/>
                  </a:lnTo>
                  <a:lnTo>
                    <a:pt x="401" y="162"/>
                  </a:lnTo>
                  <a:lnTo>
                    <a:pt x="445" y="176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05120" y="4259160"/>
              <a:ext cx="7920" cy="4284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5120" y="4259160"/>
              <a:ext cx="7920" cy="4284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52560" y="4268880"/>
              <a:ext cx="60480" cy="7920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52560" y="4268880"/>
              <a:ext cx="60480" cy="7920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93960" y="4314960"/>
              <a:ext cx="108000" cy="4284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93960" y="4314960"/>
              <a:ext cx="108000" cy="4284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84240" y="4338720"/>
              <a:ext cx="41400" cy="190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84240" y="4338720"/>
              <a:ext cx="41400" cy="190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36800" y="4324320"/>
              <a:ext cx="65160" cy="8100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36800" y="4324320"/>
              <a:ext cx="65160" cy="8100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59120" y="4392720"/>
              <a:ext cx="55440" cy="5544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59120" y="4392720"/>
              <a:ext cx="55440" cy="5544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14560" y="4425840"/>
              <a:ext cx="54000" cy="4464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14560" y="4425840"/>
              <a:ext cx="54000" cy="4464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68560" y="4425840"/>
              <a:ext cx="42840" cy="4464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68560" y="4425840"/>
              <a:ext cx="42840" cy="4464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57400" y="4425840"/>
              <a:ext cx="11160" cy="97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57400" y="4425840"/>
              <a:ext cx="11160" cy="97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98520" y="4238640"/>
              <a:ext cx="66960" cy="4140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8520" y="4238640"/>
              <a:ext cx="66960" cy="4140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55680" y="4238640"/>
              <a:ext cx="42840" cy="3024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55680" y="4238640"/>
              <a:ext cx="42840" cy="3024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79720" y="4370400"/>
              <a:ext cx="198360" cy="29052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79720" y="4370400"/>
              <a:ext cx="198360" cy="29052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46240" y="4570560"/>
              <a:ext cx="96840" cy="11268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46240" y="4570560"/>
              <a:ext cx="96840" cy="11268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33640" y="4592520"/>
              <a:ext cx="218880" cy="32256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33640" y="4592520"/>
              <a:ext cx="218880" cy="32256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41720" y="4759200"/>
              <a:ext cx="198360" cy="24624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41720" y="4759200"/>
              <a:ext cx="198360" cy="24624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63760" y="4940280"/>
              <a:ext cx="138240" cy="15408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3760" y="4940280"/>
              <a:ext cx="138240" cy="15408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27120" y="5149800"/>
              <a:ext cx="98640" cy="8892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27120" y="5149800"/>
              <a:ext cx="98640" cy="8892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66840" y="4505400"/>
              <a:ext cx="676440" cy="711000"/>
            </a:xfrm>
            <a:custGeom>
              <a:avLst/>
              <a:gdLst/>
              <a:ahLst/>
              <a:rect l="l" t="t" r="r" b="b"/>
              <a:pathLst>
                <a:path w="892" h="940">
                  <a:moveTo>
                    <a:pt x="516" y="28"/>
                  </a:moveTo>
                  <a:lnTo>
                    <a:pt x="505" y="28"/>
                  </a:lnTo>
                  <a:lnTo>
                    <a:pt x="476" y="59"/>
                  </a:lnTo>
                  <a:lnTo>
                    <a:pt x="461" y="72"/>
                  </a:lnTo>
                  <a:lnTo>
                    <a:pt x="445" y="59"/>
                  </a:lnTo>
                  <a:lnTo>
                    <a:pt x="417" y="59"/>
                  </a:lnTo>
                  <a:lnTo>
                    <a:pt x="405" y="72"/>
                  </a:lnTo>
                  <a:lnTo>
                    <a:pt x="390" y="72"/>
                  </a:lnTo>
                  <a:lnTo>
                    <a:pt x="346" y="88"/>
                  </a:lnTo>
                  <a:lnTo>
                    <a:pt x="334" y="88"/>
                  </a:lnTo>
                  <a:lnTo>
                    <a:pt x="317" y="59"/>
                  </a:lnTo>
                  <a:lnTo>
                    <a:pt x="317" y="0"/>
                  </a:lnTo>
                  <a:lnTo>
                    <a:pt x="301" y="0"/>
                  </a:lnTo>
                  <a:lnTo>
                    <a:pt x="290" y="15"/>
                  </a:lnTo>
                  <a:lnTo>
                    <a:pt x="246" y="28"/>
                  </a:lnTo>
                  <a:lnTo>
                    <a:pt x="202" y="15"/>
                  </a:lnTo>
                  <a:lnTo>
                    <a:pt x="217" y="28"/>
                  </a:lnTo>
                  <a:lnTo>
                    <a:pt x="217" y="59"/>
                  </a:lnTo>
                  <a:lnTo>
                    <a:pt x="230" y="72"/>
                  </a:lnTo>
                  <a:lnTo>
                    <a:pt x="190" y="101"/>
                  </a:lnTo>
                  <a:lnTo>
                    <a:pt x="175" y="101"/>
                  </a:lnTo>
                  <a:lnTo>
                    <a:pt x="159" y="88"/>
                  </a:lnTo>
                  <a:lnTo>
                    <a:pt x="146" y="72"/>
                  </a:lnTo>
                  <a:lnTo>
                    <a:pt x="87" y="72"/>
                  </a:lnTo>
                  <a:lnTo>
                    <a:pt x="87" y="88"/>
                  </a:lnTo>
                  <a:lnTo>
                    <a:pt x="102" y="101"/>
                  </a:lnTo>
                  <a:lnTo>
                    <a:pt x="87" y="101"/>
                  </a:lnTo>
                  <a:lnTo>
                    <a:pt x="102" y="145"/>
                  </a:lnTo>
                  <a:lnTo>
                    <a:pt x="87" y="206"/>
                  </a:lnTo>
                  <a:lnTo>
                    <a:pt x="31" y="235"/>
                  </a:lnTo>
                  <a:lnTo>
                    <a:pt x="0" y="293"/>
                  </a:lnTo>
                  <a:lnTo>
                    <a:pt x="16" y="337"/>
                  </a:lnTo>
                  <a:lnTo>
                    <a:pt x="42" y="354"/>
                  </a:lnTo>
                  <a:lnTo>
                    <a:pt x="75" y="337"/>
                  </a:lnTo>
                  <a:lnTo>
                    <a:pt x="75" y="365"/>
                  </a:lnTo>
                  <a:lnTo>
                    <a:pt x="131" y="365"/>
                  </a:lnTo>
                  <a:lnTo>
                    <a:pt x="159" y="337"/>
                  </a:lnTo>
                  <a:lnTo>
                    <a:pt x="190" y="337"/>
                  </a:lnTo>
                  <a:lnTo>
                    <a:pt x="190" y="383"/>
                  </a:lnTo>
                  <a:lnTo>
                    <a:pt x="202" y="394"/>
                  </a:lnTo>
                  <a:lnTo>
                    <a:pt x="290" y="427"/>
                  </a:lnTo>
                  <a:lnTo>
                    <a:pt x="301" y="455"/>
                  </a:lnTo>
                  <a:lnTo>
                    <a:pt x="301" y="469"/>
                  </a:lnTo>
                  <a:lnTo>
                    <a:pt x="317" y="499"/>
                  </a:lnTo>
                  <a:lnTo>
                    <a:pt x="346" y="499"/>
                  </a:lnTo>
                  <a:lnTo>
                    <a:pt x="346" y="513"/>
                  </a:lnTo>
                  <a:lnTo>
                    <a:pt x="361" y="542"/>
                  </a:lnTo>
                  <a:lnTo>
                    <a:pt x="361" y="632"/>
                  </a:lnTo>
                  <a:lnTo>
                    <a:pt x="405" y="647"/>
                  </a:lnTo>
                  <a:lnTo>
                    <a:pt x="417" y="647"/>
                  </a:lnTo>
                  <a:lnTo>
                    <a:pt x="417" y="676"/>
                  </a:lnTo>
                  <a:lnTo>
                    <a:pt x="445" y="691"/>
                  </a:lnTo>
                  <a:lnTo>
                    <a:pt x="434" y="720"/>
                  </a:lnTo>
                  <a:lnTo>
                    <a:pt x="445" y="720"/>
                  </a:lnTo>
                  <a:lnTo>
                    <a:pt x="461" y="766"/>
                  </a:lnTo>
                  <a:lnTo>
                    <a:pt x="434" y="777"/>
                  </a:lnTo>
                  <a:lnTo>
                    <a:pt x="374" y="852"/>
                  </a:lnTo>
                  <a:lnTo>
                    <a:pt x="390" y="852"/>
                  </a:lnTo>
                  <a:lnTo>
                    <a:pt x="405" y="867"/>
                  </a:lnTo>
                  <a:lnTo>
                    <a:pt x="417" y="867"/>
                  </a:lnTo>
                  <a:lnTo>
                    <a:pt x="461" y="896"/>
                  </a:lnTo>
                  <a:lnTo>
                    <a:pt x="476" y="909"/>
                  </a:lnTo>
                  <a:lnTo>
                    <a:pt x="461" y="940"/>
                  </a:lnTo>
                  <a:lnTo>
                    <a:pt x="489" y="909"/>
                  </a:lnTo>
                  <a:lnTo>
                    <a:pt x="516" y="881"/>
                  </a:lnTo>
                  <a:lnTo>
                    <a:pt x="549" y="823"/>
                  </a:lnTo>
                  <a:lnTo>
                    <a:pt x="576" y="794"/>
                  </a:lnTo>
                  <a:lnTo>
                    <a:pt x="576" y="733"/>
                  </a:lnTo>
                  <a:lnTo>
                    <a:pt x="589" y="704"/>
                  </a:lnTo>
                  <a:lnTo>
                    <a:pt x="620" y="691"/>
                  </a:lnTo>
                  <a:lnTo>
                    <a:pt x="664" y="660"/>
                  </a:lnTo>
                  <a:lnTo>
                    <a:pt x="720" y="660"/>
                  </a:lnTo>
                  <a:lnTo>
                    <a:pt x="720" y="647"/>
                  </a:lnTo>
                  <a:lnTo>
                    <a:pt x="748" y="632"/>
                  </a:lnTo>
                  <a:lnTo>
                    <a:pt x="748" y="618"/>
                  </a:lnTo>
                  <a:lnTo>
                    <a:pt x="775" y="574"/>
                  </a:lnTo>
                  <a:lnTo>
                    <a:pt x="775" y="542"/>
                  </a:lnTo>
                  <a:lnTo>
                    <a:pt x="792" y="528"/>
                  </a:lnTo>
                  <a:lnTo>
                    <a:pt x="792" y="427"/>
                  </a:lnTo>
                  <a:lnTo>
                    <a:pt x="863" y="337"/>
                  </a:lnTo>
                  <a:lnTo>
                    <a:pt x="892" y="293"/>
                  </a:lnTo>
                  <a:lnTo>
                    <a:pt x="879" y="235"/>
                  </a:lnTo>
                  <a:lnTo>
                    <a:pt x="835" y="235"/>
                  </a:lnTo>
                  <a:lnTo>
                    <a:pt x="764" y="174"/>
                  </a:lnTo>
                  <a:lnTo>
                    <a:pt x="735" y="191"/>
                  </a:lnTo>
                  <a:lnTo>
                    <a:pt x="693" y="174"/>
                  </a:lnTo>
                  <a:lnTo>
                    <a:pt x="664" y="174"/>
                  </a:lnTo>
                  <a:lnTo>
                    <a:pt x="664" y="145"/>
                  </a:lnTo>
                  <a:lnTo>
                    <a:pt x="649" y="145"/>
                  </a:lnTo>
                  <a:lnTo>
                    <a:pt x="589" y="134"/>
                  </a:lnTo>
                  <a:lnTo>
                    <a:pt x="576" y="145"/>
                  </a:lnTo>
                  <a:lnTo>
                    <a:pt x="576" y="116"/>
                  </a:lnTo>
                  <a:lnTo>
                    <a:pt x="534" y="116"/>
                  </a:lnTo>
                  <a:lnTo>
                    <a:pt x="534" y="145"/>
                  </a:lnTo>
                  <a:lnTo>
                    <a:pt x="516" y="134"/>
                  </a:lnTo>
                  <a:lnTo>
                    <a:pt x="505" y="145"/>
                  </a:lnTo>
                  <a:lnTo>
                    <a:pt x="516" y="116"/>
                  </a:lnTo>
                  <a:lnTo>
                    <a:pt x="549" y="88"/>
                  </a:lnTo>
                  <a:lnTo>
                    <a:pt x="549" y="72"/>
                  </a:lnTo>
                  <a:lnTo>
                    <a:pt x="534" y="72"/>
                  </a:lnTo>
                  <a:lnTo>
                    <a:pt x="516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02000" y="4494240"/>
              <a:ext cx="46080" cy="651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02000" y="4494240"/>
              <a:ext cx="46080" cy="651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40080" y="4494240"/>
              <a:ext cx="61920" cy="651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40080" y="4494240"/>
              <a:ext cx="61920" cy="651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86080" y="4448160"/>
              <a:ext cx="74520" cy="12240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86080" y="4448160"/>
              <a:ext cx="74520" cy="12240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178000" y="4379760"/>
              <a:ext cx="227160" cy="20160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78000" y="4379760"/>
              <a:ext cx="227160" cy="20160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55680" y="5397480"/>
              <a:ext cx="22320" cy="414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55680" y="5397480"/>
              <a:ext cx="22320" cy="414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90880" y="4259160"/>
              <a:ext cx="31680" cy="2088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90880" y="4259160"/>
              <a:ext cx="31680" cy="2088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81080" y="4172040"/>
              <a:ext cx="174600" cy="6660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080" y="4172040"/>
              <a:ext cx="174600" cy="6660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90880" y="4137120"/>
              <a:ext cx="9360" cy="349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90880" y="4137120"/>
              <a:ext cx="9360" cy="349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36800" y="3030480"/>
              <a:ext cx="120600" cy="123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36800" y="3030480"/>
              <a:ext cx="120600" cy="123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11400" y="2933640"/>
              <a:ext cx="31680" cy="5400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11400" y="2933640"/>
              <a:ext cx="31680" cy="5400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54160" y="3454560"/>
              <a:ext cx="31680" cy="6804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54160" y="3454560"/>
              <a:ext cx="31680" cy="6804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28680" y="3556080"/>
              <a:ext cx="87480" cy="6660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28680" y="3556080"/>
              <a:ext cx="87480" cy="6660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5800" y="41925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5800" y="41925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6040" y="4203720"/>
              <a:ext cx="11160" cy="93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8360" y="4213080"/>
              <a:ext cx="9360" cy="111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7720" y="4224240"/>
              <a:ext cx="22320" cy="349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7720" y="4224240"/>
              <a:ext cx="22320" cy="349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97080" y="2178000"/>
              <a:ext cx="18493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003 Population</a:t>
              </a:r>
              <a:br>
                <a:rPr sz="1600"/>
              </a:b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(Source : EI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7007400" y="2514600"/>
            <a:ext cx="2568240" cy="3700800"/>
            <a:chOff x="7007400" y="2514600"/>
            <a:chExt cx="2568240" cy="3700800"/>
          </a:xfrm>
        </p:grpSpPr>
        <p:grpSp>
          <p:nvGrpSpPr>
            <p:cNvPr id="538" name=""/>
            <p:cNvGrpSpPr/>
            <p:nvPr/>
          </p:nvGrpSpPr>
          <p:grpSpPr>
            <a:xfrm>
              <a:off x="7478640" y="2514600"/>
              <a:ext cx="2097000" cy="635400"/>
              <a:chOff x="7478640" y="2514600"/>
              <a:chExt cx="2097000" cy="63540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7478640" y="2514600"/>
                <a:ext cx="1144440" cy="307080"/>
                <a:chOff x="7478640" y="2514600"/>
                <a:chExt cx="1144440" cy="3070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7478640" y="2620800"/>
                  <a:ext cx="117360" cy="946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596000" y="2514600"/>
                  <a:ext cx="102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i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478640" y="2842920"/>
                <a:ext cx="1144440" cy="307080"/>
                <a:chOff x="7478640" y="2842920"/>
                <a:chExt cx="1144440" cy="30708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478640" y="2950920"/>
                  <a:ext cx="117360" cy="9504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596000" y="2842920"/>
                  <a:ext cx="102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U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8431200" y="2516040"/>
                <a:ext cx="1144440" cy="307080"/>
                <a:chOff x="8431200" y="2516040"/>
                <a:chExt cx="1144440" cy="307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8431200" y="2637720"/>
                  <a:ext cx="117360" cy="950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548560" y="2516040"/>
                  <a:ext cx="102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U 2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8431200" y="2842920"/>
                <a:ext cx="1144440" cy="307080"/>
                <a:chOff x="8431200" y="2842920"/>
                <a:chExt cx="1144440" cy="307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8431200" y="2941200"/>
                  <a:ext cx="117360" cy="946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548560" y="2842920"/>
                  <a:ext cx="102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Japa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1" name=""/>
            <p:cNvGrpSpPr/>
            <p:nvPr/>
          </p:nvGrpSpPr>
          <p:grpSpPr>
            <a:xfrm>
              <a:off x="7007400" y="3360600"/>
              <a:ext cx="2198520" cy="2854800"/>
              <a:chOff x="7007400" y="3360600"/>
              <a:chExt cx="2198520" cy="2854800"/>
            </a:xfrm>
          </p:grpSpPr>
          <p:sp>
            <p:nvSpPr>
              <p:cNvPr id="552" name=""/>
              <p:cNvSpPr/>
              <p:nvPr/>
            </p:nvSpPr>
            <p:spPr>
              <a:xfrm>
                <a:off x="7748640" y="3633840"/>
                <a:ext cx="533520" cy="2158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548560" y="5286240"/>
                <a:ext cx="524160" cy="5065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548560" y="4570560"/>
                <a:ext cx="524160" cy="7077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548560" y="4359240"/>
                <a:ext cx="524160" cy="211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615080" y="3460680"/>
                <a:ext cx="1800" cy="2332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577280" y="5792760"/>
                <a:ext cx="378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577280" y="5457960"/>
                <a:ext cx="378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577280" y="5122800"/>
                <a:ext cx="37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577280" y="4788000"/>
                <a:ext cx="37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577280" y="4465800"/>
                <a:ext cx="37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77280" y="4130640"/>
                <a:ext cx="37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577280" y="3795840"/>
                <a:ext cx="37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577280" y="3460680"/>
                <a:ext cx="37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15080" y="5792760"/>
                <a:ext cx="1590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7615080" y="5792400"/>
                <a:ext cx="180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478280" y="569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342920" y="535932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42920" y="502452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42920" y="468936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42920" y="436572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47160" y="403056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1,0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47160" y="369576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1,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47160" y="336060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1,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6200000">
                <a:off x="6337440" y="4522680"/>
                <a:ext cx="149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3 Population (Million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43640" y="5938920"/>
                <a:ext cx="184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Data Source: EI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544960" y="5407200"/>
                <a:ext cx="538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290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544960" y="4826160"/>
                <a:ext cx="538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425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544960" y="4346640"/>
                <a:ext cx="538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27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93560" y="4556160"/>
                <a:ext cx="65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,295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819000" y="3068640"/>
            <a:ext cx="5932800" cy="1185480"/>
            <a:chOff x="819000" y="3068640"/>
            <a:chExt cx="5932800" cy="1185480"/>
          </a:xfrm>
        </p:grpSpPr>
        <p:sp>
          <p:nvSpPr>
            <p:cNvPr id="582" name=""/>
            <p:cNvSpPr/>
            <p:nvPr/>
          </p:nvSpPr>
          <p:spPr>
            <a:xfrm>
              <a:off x="819000" y="3733920"/>
              <a:ext cx="717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U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90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000680" y="3068640"/>
              <a:ext cx="78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U 25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25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88080" y="3673440"/>
              <a:ext cx="78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hina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,295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65920" y="3573360"/>
              <a:ext cx="78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Japa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27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Dominance of Market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676520"/>
            <a:ext cx="90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osed Economies Open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365760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Demand cre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" y="281952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Resources releas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9244080" cy="51055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457200" y="990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umption increased with increased purchas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7320" y="114480"/>
            <a:ext cx="83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Dominance of Market Economies:  Purchas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1068"/>
          <p:cNvGrpSpPr/>
          <p:nvPr/>
        </p:nvGrpSpPr>
        <p:grpSpPr>
          <a:xfrm>
            <a:off x="2303640" y="2328840"/>
            <a:ext cx="5886360" cy="2852640"/>
            <a:chOff x="2303640" y="2328840"/>
            <a:chExt cx="5886360" cy="2852640"/>
          </a:xfrm>
        </p:grpSpPr>
        <p:grpSp>
          <p:nvGrpSpPr>
            <p:cNvPr id="594" name="Group 1045"/>
            <p:cNvGrpSpPr/>
            <p:nvPr/>
          </p:nvGrpSpPr>
          <p:grpSpPr>
            <a:xfrm>
              <a:off x="4952880" y="2365200"/>
              <a:ext cx="836640" cy="609840"/>
              <a:chOff x="4952880" y="2365200"/>
              <a:chExt cx="836640" cy="609840"/>
            </a:xfrm>
          </p:grpSpPr>
          <p:pic>
            <p:nvPicPr>
              <p:cNvPr id="595" name="Picture 1046" descr=""/>
              <p:cNvPicPr/>
              <p:nvPr/>
            </p:nvPicPr>
            <p:blipFill>
              <a:blip r:embed="rId2"/>
              <a:stretch/>
            </p:blipFill>
            <p:spPr>
              <a:xfrm>
                <a:off x="4960800" y="2374920"/>
                <a:ext cx="817560" cy="58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"/>
              <p:cNvSpPr/>
              <p:nvPr/>
            </p:nvSpPr>
            <p:spPr>
              <a:xfrm>
                <a:off x="4952880" y="2365200"/>
                <a:ext cx="836640" cy="60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1048"/>
            <p:cNvGrpSpPr/>
            <p:nvPr/>
          </p:nvGrpSpPr>
          <p:grpSpPr>
            <a:xfrm>
              <a:off x="6308640" y="2328840"/>
              <a:ext cx="768600" cy="530280"/>
              <a:chOff x="6308640" y="2328840"/>
              <a:chExt cx="768600" cy="530280"/>
            </a:xfrm>
          </p:grpSpPr>
          <p:pic>
            <p:nvPicPr>
              <p:cNvPr id="598" name="Picture 1049" descr=""/>
              <p:cNvPicPr/>
              <p:nvPr/>
            </p:nvPicPr>
            <p:blipFill>
              <a:blip r:embed="rId3"/>
              <a:stretch/>
            </p:blipFill>
            <p:spPr>
              <a:xfrm>
                <a:off x="6318360" y="2335320"/>
                <a:ext cx="7459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9" name=""/>
              <p:cNvSpPr/>
              <p:nvPr/>
            </p:nvSpPr>
            <p:spPr>
              <a:xfrm>
                <a:off x="6308640" y="2328840"/>
                <a:ext cx="768600" cy="53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1051"/>
            <p:cNvGrpSpPr/>
            <p:nvPr/>
          </p:nvGrpSpPr>
          <p:grpSpPr>
            <a:xfrm>
              <a:off x="2303640" y="4267080"/>
              <a:ext cx="820440" cy="533520"/>
              <a:chOff x="2303640" y="4267080"/>
              <a:chExt cx="820440" cy="533520"/>
            </a:xfrm>
          </p:grpSpPr>
          <p:pic>
            <p:nvPicPr>
              <p:cNvPr id="601" name="Picture 1052" descr=""/>
              <p:cNvPicPr/>
              <p:nvPr/>
            </p:nvPicPr>
            <p:blipFill>
              <a:blip r:embed="rId4"/>
              <a:stretch/>
            </p:blipFill>
            <p:spPr>
              <a:xfrm>
                <a:off x="2313000" y="4276800"/>
                <a:ext cx="79848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>
                <a:off x="2303640" y="4267080"/>
                <a:ext cx="82044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Group 1054"/>
            <p:cNvGrpSpPr/>
            <p:nvPr/>
          </p:nvGrpSpPr>
          <p:grpSpPr>
            <a:xfrm>
              <a:off x="6897600" y="3429000"/>
              <a:ext cx="569880" cy="566640"/>
              <a:chOff x="6897600" y="3429000"/>
              <a:chExt cx="569880" cy="566640"/>
            </a:xfrm>
          </p:grpSpPr>
          <p:pic>
            <p:nvPicPr>
              <p:cNvPr id="604" name="Picture 1055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4080" y="3435480"/>
                <a:ext cx="554040" cy="55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"/>
              <p:cNvSpPr/>
              <p:nvPr/>
            </p:nvSpPr>
            <p:spPr>
              <a:xfrm>
                <a:off x="6897600" y="3429000"/>
                <a:ext cx="569880" cy="566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06" name="Object 1057" descr=""/>
            <p:cNvPicPr/>
            <p:nvPr/>
          </p:nvPicPr>
          <p:blipFill>
            <a:blip r:embed="rId6"/>
            <a:stretch/>
          </p:blipFill>
          <p:spPr>
            <a:xfrm>
              <a:off x="5830920" y="2975040"/>
              <a:ext cx="692280" cy="631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607" name="Object 1058" descr=""/>
            <p:cNvPicPr/>
            <p:nvPr/>
          </p:nvPicPr>
          <p:blipFill>
            <a:blip r:embed="rId7"/>
            <a:stretch/>
          </p:blipFill>
          <p:spPr>
            <a:xfrm>
              <a:off x="3213000" y="2328840"/>
              <a:ext cx="63972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Object 1059" descr=""/>
            <p:cNvPicPr/>
            <p:nvPr/>
          </p:nvPicPr>
          <p:blipFill>
            <a:blip r:embed="rId8"/>
            <a:stretch/>
          </p:blipFill>
          <p:spPr>
            <a:xfrm>
              <a:off x="3340080" y="3108240"/>
              <a:ext cx="21448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Object 1060" descr=""/>
            <p:cNvPicPr/>
            <p:nvPr/>
          </p:nvPicPr>
          <p:blipFill>
            <a:blip r:embed="rId9"/>
            <a:stretch/>
          </p:blipFill>
          <p:spPr>
            <a:xfrm>
              <a:off x="5830920" y="3819600"/>
              <a:ext cx="692280" cy="5950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610" name="Object 1061" descr=""/>
            <p:cNvPicPr/>
            <p:nvPr/>
          </p:nvPicPr>
          <p:blipFill>
            <a:blip r:embed="rId10"/>
            <a:stretch/>
          </p:blipFill>
          <p:spPr>
            <a:xfrm>
              <a:off x="3340080" y="4359240"/>
              <a:ext cx="1079640" cy="4413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611" name="Object 1062" descr=""/>
            <p:cNvPicPr/>
            <p:nvPr/>
          </p:nvPicPr>
          <p:blipFill>
            <a:blip r:embed="rId11"/>
            <a:stretch/>
          </p:blipFill>
          <p:spPr>
            <a:xfrm>
              <a:off x="2490840" y="3144960"/>
              <a:ext cx="55404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Object 1063" descr=""/>
            <p:cNvPicPr/>
            <p:nvPr/>
          </p:nvPicPr>
          <p:blipFill>
            <a:blip r:embed="rId12">
              <a:alphaModFix amt="50000"/>
            </a:blip>
            <a:stretch/>
          </p:blipFill>
          <p:spPr>
            <a:xfrm>
              <a:off x="4876920" y="4443480"/>
              <a:ext cx="731880" cy="738000"/>
            </a:xfrm>
            <a:prstGeom prst="rect">
              <a:avLst/>
            </a:prstGeom>
            <a:ln w="15840">
              <a:solidFill>
                <a:srgbClr val="ccccff"/>
              </a:solidFill>
              <a:miter/>
            </a:ln>
          </p:spPr>
        </p:pic>
        <p:pic>
          <p:nvPicPr>
            <p:cNvPr id="613" name="Picture 1064" descr="">
              <a:hlinkClick r:id="rId13"/>
            </p:cNvPr>
            <p:cNvPicPr/>
            <p:nvPr/>
          </p:nvPicPr>
          <p:blipFill>
            <a:blip r:embed="rId14">
              <a:alphaModFix amt="50000"/>
            </a:blip>
            <a:stretch/>
          </p:blipFill>
          <p:spPr>
            <a:xfrm>
              <a:off x="7467480" y="2579760"/>
              <a:ext cx="722520" cy="434880"/>
            </a:xfrm>
            <a:prstGeom prst="rect">
              <a:avLst/>
            </a:prstGeom>
            <a:ln w="15840">
              <a:solidFill>
                <a:srgbClr val="ccccff"/>
              </a:solidFill>
              <a:miter/>
            </a:ln>
          </p:spPr>
        </p:pic>
        <p:pic>
          <p:nvPicPr>
            <p:cNvPr id="614" name="Object 1065" descr=""/>
            <p:cNvPicPr/>
            <p:nvPr/>
          </p:nvPicPr>
          <p:blipFill>
            <a:blip r:embed="rId15">
              <a:alphaModFix amt="50000"/>
            </a:blip>
            <a:stretch/>
          </p:blipFill>
          <p:spPr>
            <a:xfrm>
              <a:off x="4799160" y="3657600"/>
              <a:ext cx="685800" cy="633240"/>
            </a:xfrm>
            <a:prstGeom prst="rect">
              <a:avLst/>
            </a:prstGeom>
            <a:ln w="15840">
              <a:solidFill>
                <a:srgbClr val="ccccff"/>
              </a:solidFill>
              <a:miter/>
            </a:ln>
          </p:spPr>
        </p:pic>
        <p:pic>
          <p:nvPicPr>
            <p:cNvPr id="615" name="Picture 1066" descr=""/>
            <p:cNvPicPr/>
            <p:nvPr/>
          </p:nvPicPr>
          <p:blipFill>
            <a:blip r:embed="rId16"/>
            <a:stretch/>
          </p:blipFill>
          <p:spPr>
            <a:xfrm>
              <a:off x="3581280" y="3583080"/>
              <a:ext cx="622440" cy="608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90720" y="274320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Dominance of Market Econom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3520" y="1981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he Global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90720" y="3489480"/>
            <a:ext cx="769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Globalisation of National Econom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gan</cp:lastModifiedBy>
  <dcterms:modified xsi:type="dcterms:W3CDTF">2004-10-03T08:36:42Z</dcterms:modified>
  <cp:revision>366</cp:revision>
  <dc:subject/>
  <dc:title>PowerPoint Presentation</dc:title>
</cp:coreProperties>
</file>