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C5971-EDE0-490E-B8D1-1F027DE7E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B6B45-617E-4E60-B846-1B6EDF079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440F9-99A5-430C-BF46-697172EE7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95BD0-9D46-4A48-B279-D7E862009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AF9BA-DB01-43C7-93B4-ADDD1AB84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5F789-F617-4440-AD9B-08C6CA031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DE1AE-8A7F-453D-9507-8ED1A4D9A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65004-D9F8-4BEF-B733-D6375581D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08B3A-3398-4267-B5DF-9718233A7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01AF4-ED4D-412A-8008-9F468C1B9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5DBDE-6B8A-4D84-A438-7944788CC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17A89-CAF2-4021-BF82-BB782346F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78DB1-3DFA-44EE-98BE-664DA58F4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3D8D4-72F0-4726-9D8E-89CC10124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6AF1E-206D-44CE-BCD5-A1F2CC483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17BB6-7AA4-4A3D-91D0-23C66BC04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CE2B8-B5A9-4951-A8D8-1D3284C6C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13E3F-0006-48E3-89F0-7E8A537B7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8E6DD-4098-46A2-99FC-B3B198C83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C287-625A-49EE-8D96-0744EF27A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B333B-D5CE-469D-BACF-90367E976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8300E-08B1-4BF4-84FD-AC08BB88E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2EE52-7ED7-43A8-A7CE-07E8F061B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A984-95D0-46CE-86AE-0C904C442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971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0800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1B37-2AFA-40B5-8BFE-99A6489CFAAD}"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12DC-2ACC-4506-8B32-BD8CBCCCFA9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9144000" cy="6858000"/>
          </a:xfrm>
          <a:prstGeom prst="rect">
            <a:avLst/>
          </a:prstGeom>
          <a:ln w="0">
            <a:noFill/>
          </a:ln>
        </p:spPr>
      </p:pic>
      <p:sp>
        <p:nvSpPr>
          <p:cNvPr id="47" name=""/>
          <p:cNvSpPr/>
          <p:nvPr/>
        </p:nvSpPr>
        <p:spPr>
          <a:xfrm>
            <a:off x="2484360" y="2130480"/>
            <a:ext cx="58327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11280" y="2205000"/>
            <a:ext cx="5905800" cy="16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port of the Loss Prevention Committee</a:t>
            </a:r>
            <a:br>
              <a:rPr sz="3600"/>
            </a:br>
            <a:r>
              <a:rPr b="0" lang="en-AU" sz="3000" spc="-1" strike="noStrike">
                <a:solidFill>
                  <a:srgbClr val="000000"/>
                </a:solidFill>
                <a:latin typeface="Arial"/>
              </a:rPr>
              <a:t>Chairman, Claudio Verconi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Telephone Technology</a:t>
            </a:r>
            <a:endParaRPr b="0" lang="en-US" sz="3800" spc="-1" strike="noStrike">
              <a:solidFill>
                <a:srgbClr val="000000"/>
              </a:solidFill>
              <a:latin typeface="Arial"/>
            </a:endParaRPr>
          </a:p>
        </p:txBody>
      </p:sp>
      <p:sp>
        <p:nvSpPr>
          <p:cNvPr id="103"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al benefits in maintaining communication between truck drivers and their dispat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ce can be notified and respond quick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ussia has developed a new monitoring and control system called ZEUS which tracks vehicles and allows for communication with the driv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Technology</a:t>
            </a:r>
            <a:endParaRPr b="0" lang="en-US" sz="3800" spc="-1" strike="noStrike">
              <a:solidFill>
                <a:srgbClr val="000000"/>
              </a:solidFill>
              <a:latin typeface="Arial"/>
            </a:endParaRPr>
          </a:p>
        </p:txBody>
      </p:sp>
      <p:sp>
        <p:nvSpPr>
          <p:cNvPr id="105"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nefit of Equasis and other public web si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wedish Maritime Directorate and the Swedish Shipowners’ Association, with financial support from the Swedish Association of Marine Underwriters, have developed a database named INSJO to capture accidents and occurrences involving Swedish vess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France, a domestic, toll free number provided by a non-profit organization called ARGOS permits the quick reporting of theft inci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FID</a:t>
            </a:r>
            <a:endParaRPr b="0" lang="en-US" sz="3800" spc="-1" strike="noStrike">
              <a:solidFill>
                <a:srgbClr val="000000"/>
              </a:solidFill>
              <a:latin typeface="Arial"/>
            </a:endParaRPr>
          </a:p>
        </p:txBody>
      </p:sp>
      <p:sp>
        <p:nvSpPr>
          <p:cNvPr id="107"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Crimes of opportunity” should dimin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al-Mart RFID initiatives will spread</a:t>
            </a:r>
            <a:r>
              <a:rPr b="0" lang="en-US" sz="2400" spc="-1" strike="noStrike">
                <a:solidFill>
                  <a:srgbClr val="000000"/>
                </a:solidFill>
                <a:latin typeface="Arial"/>
              </a:rPr>
              <a:t> to other indus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A has recently certified a dual frequency RFI device that will track both on land and in the 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tecting the Box</a:t>
            </a:r>
            <a:endParaRPr b="0" lang="en-US" sz="3800" spc="-1" strike="noStrike">
              <a:solidFill>
                <a:srgbClr val="000000"/>
              </a:solidFill>
              <a:latin typeface="Arial"/>
            </a:endParaRPr>
          </a:p>
        </p:txBody>
      </p:sp>
      <p:sp>
        <p:nvSpPr>
          <p:cNvPr id="109"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Holland, the highest level of antitheft measures have been designed to increase the time that a unit is safe from break-in from 5 minutes to 15 minu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ified “Bathtub” rail wagons</a:t>
            </a:r>
            <a:r>
              <a:rPr b="0" lang="en-US" sz="2400" spc="-1" strike="noStrike">
                <a:solidFill>
                  <a:srgbClr val="000000"/>
                </a:solidFill>
                <a:latin typeface="Arial"/>
              </a:rPr>
              <a:t> and </a:t>
            </a:r>
            <a:r>
              <a:rPr b="0" lang="en-US" sz="2400" spc="-1" strike="noStrike">
                <a:solidFill>
                  <a:srgbClr val="000000"/>
                </a:solidFill>
                <a:latin typeface="Arial"/>
                <a:ea typeface="Times New Roman"/>
              </a:rPr>
              <a:t>clamps installed on container doors</a:t>
            </a:r>
            <a:r>
              <a:rPr b="0" lang="en-US" sz="2400" spc="-1" strike="noStrike">
                <a:solidFill>
                  <a:srgbClr val="000000"/>
                </a:solidFill>
                <a:latin typeface="Arial"/>
              </a:rPr>
              <a:t> in South Afr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ST initiative includes the establishment of industry standards on new technology relative to tracking and smart se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dlocks, mesh-reinforced tarpaulins</a:t>
            </a:r>
            <a:r>
              <a:rPr b="0" lang="en-US" sz="2400" spc="-1" strike="noStrike">
                <a:solidFill>
                  <a:srgbClr val="000000"/>
                </a:solidFill>
                <a:latin typeface="Arial"/>
              </a:rPr>
              <a:t> and under carriage wire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Initiatives</a:t>
            </a:r>
            <a:endParaRPr b="0" lang="en-US" sz="3800" spc="-1" strike="noStrike">
              <a:solidFill>
                <a:srgbClr val="000000"/>
              </a:solidFill>
              <a:latin typeface="Arial"/>
            </a:endParaRPr>
          </a:p>
        </p:txBody>
      </p:sp>
      <p:sp>
        <p:nvSpPr>
          <p:cNvPr id="111"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oles of surveys and inspe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fluence of Port State Control, ISPS, ISM, CSI, CTPAT and other similar quality and security initia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rveys and Inspections</a:t>
            </a:r>
            <a:endParaRPr b="0" lang="en-US" sz="3800" spc="-1" strike="noStrike">
              <a:solidFill>
                <a:srgbClr val="000000"/>
              </a:solidFill>
              <a:latin typeface="Arial"/>
            </a:endParaRPr>
          </a:p>
        </p:txBody>
      </p:sp>
      <p:sp>
        <p:nvSpPr>
          <p:cNvPr id="113"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Holland, </a:t>
            </a:r>
            <a:r>
              <a:rPr b="0" lang="en-US" sz="2400" spc="-1" strike="noStrike">
                <a:solidFill>
                  <a:srgbClr val="000000"/>
                </a:solidFill>
                <a:latin typeface="Arial"/>
                <a:ea typeface="Times New Roman"/>
              </a:rPr>
              <a:t>standard loss prevention survey (SPO) has been developed and is now being used on inland vessel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occo insurers insist on Condition and Valuation surveys by professional surveyors on vessels older than 15 years (10 years for fishing vessel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pain no longer content to simply accept class or flag state inspection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ustria advises that inspections are carried out on both the trucks and their load at the borders with the former eastern block countrie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ussian Transport Authority has recently implemented rules dealing with the safe carriage of car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ality and Security</a:t>
            </a:r>
            <a:endParaRPr b="0" lang="en-US" sz="3800" spc="-1" strike="noStrike">
              <a:solidFill>
                <a:srgbClr val="000000"/>
              </a:solidFill>
              <a:latin typeface="Arial"/>
            </a:endParaRPr>
          </a:p>
        </p:txBody>
      </p:sp>
      <p:sp>
        <p:nvSpPr>
          <p:cNvPr id="115"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erman and Portuguese Associations have noted that Port State Control has shown itself to be of benefit to Insurers’ inter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experience with ISPS – who will bear the cost? Will delays lead to more losses? Can ISPS work on smaller vess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ponsible Carrier Program</a:t>
            </a:r>
            <a:r>
              <a:rPr b="0" lang="en-US" sz="2400" spc="-1" strike="noStrike">
                <a:solidFill>
                  <a:srgbClr val="000000"/>
                </a:solidFill>
                <a:latin typeface="Arial"/>
              </a:rPr>
              <a:t> for U.S. tug and barge to become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SM being respected, or are there still “Ships of Sh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oped that </a:t>
            </a:r>
            <a:r>
              <a:rPr b="0" lang="en-US" sz="2400" spc="-1" strike="noStrike">
                <a:solidFill>
                  <a:srgbClr val="000000"/>
                </a:solidFill>
                <a:latin typeface="Arial"/>
                <a:ea typeface="Times New Roman"/>
              </a:rPr>
              <a:t>CTPAT and CSI initiatives will result in fewer lo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orts of Refuge</a:t>
            </a:r>
            <a:endParaRPr b="0" lang="en-US" sz="3800" spc="-1" strike="noStrike">
              <a:solidFill>
                <a:srgbClr val="000000"/>
              </a:solidFill>
              <a:latin typeface="Arial"/>
            </a:endParaRPr>
          </a:p>
        </p:txBody>
      </p:sp>
      <p:sp>
        <p:nvSpPr>
          <p:cNvPr id="117"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bligation to offer a place of refuge to a ship in distr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urance and Financial Secu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ignation of Places of Refu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chanism of Decision Ma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ivil 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etary incentives that can be offered for Ports accepting ships in distr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al 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ception Faciliti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ncouver CMI</a:t>
            </a:r>
            <a:endParaRPr b="0" lang="en-US" sz="3800" spc="-1" strike="noStrike">
              <a:solidFill>
                <a:srgbClr val="000000"/>
              </a:solidFill>
              <a:latin typeface="Arial"/>
            </a:endParaRPr>
          </a:p>
        </p:txBody>
      </p:sp>
      <p:sp>
        <p:nvSpPr>
          <p:cNvPr id="119" name="PlaceHolder 2"/>
          <p:cNvSpPr>
            <a:spLocks noGrp="1"/>
          </p:cNvSpPr>
          <p:nvPr>
            <p:ph/>
          </p:nvPr>
        </p:nvSpPr>
        <p:spPr>
          <a:xfrm>
            <a:off x="1143000" y="1218960"/>
            <a:ext cx="7570800" cy="4924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UMI and IAPH are in favour of the development of an International Convention or instrumen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cern expressed that such an instrument may not be accepted by States if it impacted on their sovereignt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was a general view that if there is a risk that States face liabilities, they should be removed so as to encourage States to grant refug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preferable approach is to require all ships to carry compulsory liability insurance with the right of direct action</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eat concern expressed in relation to the treatment of masters and the adverse effect it has on the willingness of a ship’s master and/or an owner to seek a place of refu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ncouver CMI</a:t>
            </a:r>
            <a:endParaRPr b="0" lang="en-US" sz="3800" spc="-1" strike="noStrike">
              <a:solidFill>
                <a:srgbClr val="000000"/>
              </a:solidFill>
              <a:latin typeface="Arial"/>
            </a:endParaRPr>
          </a:p>
        </p:txBody>
      </p:sp>
      <p:sp>
        <p:nvSpPr>
          <p:cNvPr id="121" name="PlaceHolder 2"/>
          <p:cNvSpPr>
            <a:spLocks noGrp="1"/>
          </p:cNvSpPr>
          <p:nvPr>
            <p:ph/>
          </p:nvPr>
        </p:nvSpPr>
        <p:spPr>
          <a:xfrm>
            <a:off x="1143000" y="1218960"/>
            <a:ext cx="7570800" cy="4924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may not be only ship’s masters who are at risk but also salvors and lawyers;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y move to criminalize polluters is seen as a significant departure from the established philosoph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though ideal, independent decision making may not suit all culture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 countries don’t wish to establish pre-designated places of refuge and/or publicizing their existence in advanc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ggestion that reception facilities such as floating docks be established near busy seaways and funded on a regional basis, with concerns existing regarding its practicali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ittee Members</a:t>
            </a:r>
            <a:endParaRPr b="0" lang="en-US" sz="3800" spc="-1" strike="noStrike">
              <a:solidFill>
                <a:srgbClr val="000000"/>
              </a:solidFill>
              <a:latin typeface="Arial"/>
            </a:endParaRPr>
          </a:p>
        </p:txBody>
      </p:sp>
      <p:sp>
        <p:nvSpPr>
          <p:cNvPr id="87" name="PlaceHolder 2"/>
          <p:cNvSpPr>
            <a:spLocks noGrp="1"/>
          </p:cNvSpPr>
          <p:nvPr>
            <p:ph/>
          </p:nvPr>
        </p:nvSpPr>
        <p:spPr>
          <a:xfrm>
            <a:off x="1143000" y="1218960"/>
            <a:ext cx="7570800" cy="492444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inuing Members</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rancois de Maeyer (Belgium)</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bbe Larsen (Denmark)</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gis Lemarchand (France)</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uentin Prebble (U.K. – IUA)</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egor Vishnevsky (Russia)</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ideki Wake (Japan)</a:t>
            </a:r>
            <a:endParaRPr b="0" lang="en-US" sz="18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parting Members</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eter Goebbels (Germany)</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hamed Elsayad (Egypt)</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rkild Dahl (Norway)</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irdre Littlefield (USA)</a:t>
            </a:r>
            <a:endParaRPr b="0" lang="en-US" sz="18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ew Members</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ich Decker (USA)</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essandro Morelli (Italy)</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r Esten Gjolmesli (Norway)</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brahim Abdul Shahid (Egy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ommendation to IMO</a:t>
            </a:r>
            <a:endParaRPr b="0" lang="en-US" sz="3800" spc="-1" strike="noStrike">
              <a:solidFill>
                <a:srgbClr val="000000"/>
              </a:solidFill>
              <a:latin typeface="Arial"/>
            </a:endParaRPr>
          </a:p>
        </p:txBody>
      </p:sp>
      <p:sp>
        <p:nvSpPr>
          <p:cNvPr id="123"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o create a comprehensive solution by the establishment of an appropriate international instrumen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DV Web Pages</a:t>
            </a:r>
            <a:endParaRPr b="0" lang="en-US" sz="3800" spc="-1" strike="noStrike">
              <a:solidFill>
                <a:srgbClr val="000000"/>
              </a:solidFill>
              <a:latin typeface="Arial"/>
            </a:endParaRPr>
          </a:p>
        </p:txBody>
      </p:sp>
      <p:sp>
        <p:nvSpPr>
          <p:cNvPr id="125"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nsport Information Serv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89,000 Hits in 20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10,000 Hits January to July, 200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60,000 Hits anticipated in total for 2004</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tainer Handboo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50,000 Hits in 20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40,000 Hits January to July, 200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25,000 Hits anticipated in total for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ss Prevention Committee Workshop Presentations</a:t>
            </a:r>
            <a:endParaRPr b="0" lang="en-US" sz="3800" spc="-1" strike="noStrike">
              <a:solidFill>
                <a:srgbClr val="000000"/>
              </a:solidFill>
              <a:latin typeface="Arial"/>
            </a:endParaRPr>
          </a:p>
        </p:txBody>
      </p:sp>
      <p:sp>
        <p:nvSpPr>
          <p:cNvPr id="89"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Consequences of Terroris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Limburg Terrorist Attack</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r. Dirk Olyslager</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tack on an Major Por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r. Justin Priestly</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yber Terrorism</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r. Shawn Carpenter</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Reducing Losses through Vessel Qua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lementation of the ISPS Cod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t. Commander Tom Griffit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ursting of Boilers and Breakage of Shaft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r. John Lilli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rolling the Carrying Vessel</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r. Francois de Mae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estionnaire</a:t>
            </a:r>
            <a:endParaRPr b="0" lang="en-US" sz="3800" spc="-1" strike="noStrike">
              <a:solidFill>
                <a:srgbClr val="000000"/>
              </a:solidFill>
              <a:latin typeface="Arial"/>
            </a:endParaRPr>
          </a:p>
        </p:txBody>
      </p:sp>
      <p:sp>
        <p:nvSpPr>
          <p:cNvPr id="91"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Question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very year, innovations in loss prevention techniques, methods and technology become evident in the marine insurance industry (as examples, RFI technology, Port State Control, ISPS Code, etc.). Please identify any recent innovations which have been, or are expected to shortly be, implemented in your market and the loss prevention improvement (or deterioration) achieved or expected as a result. Please do not limit yourself to cargo only, but include hull and any other marine line you wish to identif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estionnaire</a:t>
            </a:r>
            <a:endParaRPr b="0" lang="en-US" sz="3800" spc="-1" strike="noStrike">
              <a:solidFill>
                <a:srgbClr val="000000"/>
              </a:solidFill>
              <a:latin typeface="Arial"/>
            </a:endParaRPr>
          </a:p>
        </p:txBody>
      </p:sp>
      <p:sp>
        <p:nvSpPr>
          <p:cNvPr id="93" name="PlaceHolder 2"/>
          <p:cNvSpPr>
            <a:spLocks noGrp="1"/>
          </p:cNvSpPr>
          <p:nvPr>
            <p:ph/>
          </p:nvPr>
        </p:nvSpPr>
        <p:spPr>
          <a:xfrm>
            <a:off x="1143000" y="1294920"/>
            <a:ext cx="7570800" cy="4924440"/>
          </a:xfrm>
          <a:prstGeom prst="rect">
            <a:avLst/>
          </a:prstGeom>
          <a:noFill/>
          <a:ln w="0">
            <a:noFill/>
          </a:ln>
        </p:spPr>
        <p:txBody>
          <a:bodyPr lIns="90000" rIns="90000" tIns="46800" bIns="46800"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Question 2</a:t>
            </a:r>
            <a:endParaRPr b="0" lang="en-US" sz="24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cusing on carrier liability:</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ease identify any new safety measures, restricting conditions, deductibles, warranties, or other changes being implemented by Carriers or their Insurers, for:</a:t>
            </a:r>
            <a:endParaRPr b="0" lang="en-US" sz="2000" spc="-1" strike="noStrike">
              <a:solidFill>
                <a:srgbClr val="000000"/>
              </a:solidFill>
              <a:latin typeface="Arial"/>
            </a:endParaRPr>
          </a:p>
          <a:p>
            <a:pPr lvl="2" marL="109728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 Cargo;</a:t>
            </a:r>
            <a:endParaRPr b="0" lang="en-US" sz="2000" spc="-1" strike="noStrike">
              <a:solidFill>
                <a:srgbClr val="000000"/>
              </a:solidFill>
              <a:latin typeface="Arial"/>
            </a:endParaRPr>
          </a:p>
          <a:p>
            <a:pPr lvl="2" marL="109728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 Valued Goods;</a:t>
            </a:r>
            <a:endParaRPr b="0" lang="en-US" sz="2000" spc="-1" strike="noStrike">
              <a:solidFill>
                <a:srgbClr val="000000"/>
              </a:solidFill>
              <a:latin typeface="Arial"/>
            </a:endParaRPr>
          </a:p>
          <a:p>
            <a:pPr lvl="2" marL="109728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zardous Goods;</a:t>
            </a:r>
            <a:endParaRPr b="0" lang="en-US" sz="2000" spc="-1" strike="noStrike">
              <a:solidFill>
                <a:srgbClr val="000000"/>
              </a:solidFill>
              <a:latin typeface="Arial"/>
            </a:endParaRPr>
          </a:p>
          <a:p>
            <a:pPr lvl="2" marL="109728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ishable Good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ease describe the relationship between carrier associations and insurers as regards cooperation on loss prevention activitie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s there a recognized organization in your country which tests and/or certifies mechanical/electronic security measures for trucks and/or warehou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reight Transport Security</a:t>
            </a:r>
            <a:endParaRPr b="0" lang="en-US" sz="3800" spc="-1" strike="noStrike">
              <a:solidFill>
                <a:srgbClr val="000000"/>
              </a:solidFill>
              <a:latin typeface="Arial"/>
            </a:endParaRPr>
          </a:p>
        </p:txBody>
      </p:sp>
      <p:sp>
        <p:nvSpPr>
          <p:cNvPr id="95"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nnual cost to the European economy of theft and the potential for a terrorist incident affecting key transport infrastructure could well be in the billions of Eur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imilar security standards as those applied to the maritime and air mode should be considered for surface transpor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andards and procedures should transcend national borders and apply internation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udits, response coordination, data collection and management would need to be enhanc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novation in Loss Prevention</a:t>
            </a:r>
            <a:endParaRPr b="0" lang="en-US" sz="3800" spc="-1" strike="noStrike">
              <a:solidFill>
                <a:srgbClr val="000000"/>
              </a:solidFill>
              <a:latin typeface="Arial"/>
            </a:endParaRPr>
          </a:p>
        </p:txBody>
      </p:sp>
      <p:sp>
        <p:nvSpPr>
          <p:cNvPr id="97"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ell Phone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formation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F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mproved Security Seals and other theft deterr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oadside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PS</a:t>
            </a:r>
            <a:endParaRPr b="0" lang="en-US" sz="3800" spc="-1" strike="noStrike">
              <a:solidFill>
                <a:srgbClr val="000000"/>
              </a:solidFill>
              <a:latin typeface="Arial"/>
            </a:endParaRPr>
          </a:p>
        </p:txBody>
      </p:sp>
      <p:sp>
        <p:nvSpPr>
          <p:cNvPr id="99"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creased Use for High Valued Goods and Yac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ilot projects in Japan by both government and the private sector in the use of IC/RFID Tags, in combination with GPS, as a tool in tracing hijacked contain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South Africa, new device introduc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omerang and Boeing Multi Modal can both locate as well as determine whether a container or truck has been broken in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Vehicle Track System” in Turkey is GPS based and provides for extensive control of the carrying veh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TAPA</a:t>
            </a:r>
            <a:br>
              <a:rPr sz="3800"/>
            </a:br>
            <a:r>
              <a:rPr b="0" lang="en-AU" sz="3800" spc="-1" strike="noStrike">
                <a:solidFill>
                  <a:srgbClr val="000000"/>
                </a:solidFill>
                <a:latin typeface="Arial"/>
              </a:rPr>
              <a:t>(</a:t>
            </a:r>
            <a:r>
              <a:rPr b="0" lang="en-US" sz="2800" spc="-1" strike="noStrike">
                <a:solidFill>
                  <a:srgbClr val="000000"/>
                </a:solidFill>
                <a:latin typeface="Arial"/>
                <a:ea typeface="Times New Roman"/>
              </a:rPr>
              <a:t>Technology Assets Protection Associ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01"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PS satellite tracking device standards, utilizing third party audi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ort comparing theft activity from 1999 to that of 2003</a:t>
            </a:r>
            <a:r>
              <a:rPr b="0" lang="en-US" sz="2400" spc="-1" strike="noStrike">
                <a:solidFill>
                  <a:srgbClr val="000000"/>
                </a:solidFill>
                <a:latin typeface="Arial"/>
              </a:rPr>
              <a:t> show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PL’s cut their losses from theft in hal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fts from manufacturer’s docks cut in hal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fts of cargo in ground transit increased nearly 5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PA may very well have set the baseline for shippers’ expectations and their program of auditing and certifying some carriers’ fac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09:35:30Z</dcterms:created>
  <dc:creator>EventCo</dc:creator>
  <dc:description/>
  <dc:language>en-US</dc:language>
  <cp:lastModifiedBy>Administrator</cp:lastModifiedBy>
  <dcterms:modified xsi:type="dcterms:W3CDTF">2004-09-13T06:26:02Z</dcterms:modified>
  <cp:revision>30</cp:revision>
  <dc:subject/>
  <dc:title>Speaker’s Name Speaker’s Topic Date</dc:title>
</cp:coreProperties>
</file>