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87A0-7D85-491C-822C-6976E53C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E30D-4CEF-4D9B-936E-79E62894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4C84-854D-4940-953E-975A715B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7C25-E4E5-477E-9F52-4C0946CE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8D7B-F925-4DCC-BA80-5C73876E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833E-18C8-4923-A675-F082990D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9070-2A91-4599-8EE9-10DC3522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9FE6-E1EA-45A0-9815-524207CB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AD38-EDF0-4BD9-AC6B-2AB40146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30E8-1DE6-41B3-9B27-7DEE70D1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09DA-2C66-470F-B5A6-B579E46B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C205-0816-4F99-9601-7761F486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4A50-E549-4F33-8974-2CD9A3C1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EA6E-7C0E-43E3-8D3E-912F9125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ACAA-7335-457F-BEBB-E7C2FCCC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4B20-3CCC-4B5A-9A43-E293F07E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0BC8-DD12-466F-B811-35E9C0FA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B25E-0B24-4B6D-A8D9-BAF0EFBD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A54A-80ED-4D4A-9ECE-8FE6E1F6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9930-DD6F-414F-B669-8C28CAFF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A8A5-B691-4EEE-95B4-9A686A72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E3EF-3BB1-49A5-BDB8-AFF1E06B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FB1E-81A8-43DF-854A-AC838FA4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676B-646C-4A56-82A0-F26C05B2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7164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0800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E437-7387-4A75-8164-DE28FD399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7981-DB52-4664-8851-688FB2E71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84360" y="2130480"/>
            <a:ext cx="5832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2120" y="1828800"/>
            <a:ext cx="87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ing to sustained profitability“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56160" y="35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81200" y="3189240"/>
            <a:ext cx="57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argo Committee Chairman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arlo Franch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UMMARY OF THE CHAIRMAN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2514240"/>
            <a:ext cx="7570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go Committee:  new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go Committee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ents on the topic of the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418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EW CARGO COMMITTEE MEMBER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4674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r. Mike Davie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gional Marine Manager and Senior Underwriter for Asia and Pacific of Axa Corporate Marine Division in Singap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r. 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ert Nelen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rine Manager for Continental Europe at Ac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Belg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r. Keith Auld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Manager for Development and Underwriting Facultative Marine Portfolio at Munich Reinsurance New Zeal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r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mon le Ma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puty Chairman of Joint Cargo Committee,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vestock exports - The Australian Experi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y Phil Grieve, General Manager Corporate and Technical for Associated Marine Insurers Agents Pty Lt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Melbou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 Packaging and Transport of Radioactive Materials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y Trevor Dixon,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pecial Advisor to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orld Nuclear Transport Institute of 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uring goods to China? A surveyors practical                              viewpoint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y Matthew Fenton, Technical Manager for Charles Taylor Consulting in North East As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Singap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5112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96720" y="347760"/>
            <a:ext cx="485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RGO COMMITTE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RGO COMMITTEE PRES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pdate of Marine Cargo Insurance to Iraq”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y Max Zaccar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airman and General Manager, Commercial Insurance - Beirut, M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mber of the Cargo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  and Terrorism : the  need for insurance in an increasingly risky world”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y Andreas Gippert, Senior Underwriter Political Risks  of Inter Hannover - Stockholm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racy and Armed Robbery Against Ships inSouth East Asia”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y Stephen Foster, Director of Asia Pacific Region for Charles Taylor Consulting - Singap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ing to sustained profitability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6000" y="2514240"/>
            <a:ext cx="75708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ents on the topic of the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stion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1828800"/>
            <a:ext cx="87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ing to sustained profitability“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56160" y="35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81200" y="3189240"/>
            <a:ext cx="57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argo Committee Chairman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arlo Franch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09:35:30Z</dcterms:created>
  <dc:creator>EventCo</dc:creator>
  <dc:description/>
  <dc:language>en-US</dc:language>
  <cp:lastModifiedBy>DGSSU</cp:lastModifiedBy>
  <dcterms:modified xsi:type="dcterms:W3CDTF">2004-09-09T10:30:41Z</dcterms:modified>
  <cp:revision>29</cp:revision>
  <dc:subject/>
  <dc:title>Speaker’s Name Speaker’s Topic Date</dc:title>
</cp:coreProperties>
</file>